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9FF2-9F52-4B76-930F-28D6A3D29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F947-68E7-4C9B-AE7C-63D82FC3A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1164-C221-485F-A939-ED0C18ACE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89AA-70CD-4AC2-AC9D-F61914A2E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03FC-7AEE-47C6-8B0F-10A5ABAE9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9103-5E01-4272-AC1B-B3D98872A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42B0-315E-435A-8382-9B3983493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216C-6827-4F7A-9FEA-12EF01F93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14AC-9F2D-49DC-956C-AF23477ED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D6DB-9ABD-4798-9985-D7C386187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F3C5-46B3-49AD-9D03-498E24922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283E-B858-42F1-9EC1-B2043775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24A8A-D791-49E1-A6C8-A1B42D7624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403360" y="4525920"/>
          <a:ext cx="1554120" cy="1557360"/>
        </p:xfrm>
        <a:graphic>
          <a:graphicData uri="http://schemas.openxmlformats.org/drawingml/2006/table">
            <a:tbl>
              <a:tblPr/>
              <a:tblGrid>
                <a:gridCol w="777960"/>
                <a:gridCol w="77616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3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3:53Z</dcterms:modified>
  <cp:revision>2</cp:revision>
  <dc:subject/>
  <dc:title>PowerPoint Presentation</dc:title>
</cp:coreProperties>
</file>