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9A62-1110-4595-BAEE-A74DE7C5E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82D6-3C6A-45DB-85ED-1D5F6B184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FD05-11C4-45EB-9C72-063347B28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EAB3-E7BA-4CB1-8633-65220391F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C29C-5AD1-4165-B82E-730F512D4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DA98-C987-4D68-A9C0-923AE72A1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187C-797D-4635-9348-6975C7B5D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92F4-11AF-46E1-911F-DCD648A2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D66E-D973-420F-A662-FB46E9334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00A3-6138-4A89-A475-F4DAF019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05D8-9D76-416C-A1A5-80BAC979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BC1C-CD35-41CC-9500-06B7AFED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210D7-A49D-4425-A0A7-9C3DCA723D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pilogu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F4C2-04F0-4BCB-800F-C8245DD269C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ill be the future of the fiel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the impact of SE on socie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ethical issues are raised by S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15BD-97D3-4AA6-8E95-B32B8B61D7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ound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requires the application of engineering principles guided by informed manag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s must be rooted in sound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gorous approaches must be combined with experimentation, intuition, and common sen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o “silver bullets”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3F26-10C9-42DF-9E1D-F5F46DB1FCA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ess expec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spec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ization is a sign of maturity of a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-based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domain-specific archite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re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virtual te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716E-1459-47BC-98ED-97280D2C00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cial responsi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fects may cost lives or tremendous business lo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try to prevent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study them when they occur, to avoid failures in the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creates new opportunities for  increasing productivity and services, but also opportunities for criminal fraud and sabotage (e.g., virus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uilding reliable software is not only a technical goal; it has ethical and social implications for the serious profession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0B06-53C4-4F04-9121-531E66E0AD6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M and IEEE Computer Society have developed a “Software engineering code of ethics and professional practices”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“public interest” is central to the code, which emphasizes the professional’s obligation to the public at lar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imary concern for the health, safety, and welfare of th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1D38-3A2A-4838-9A50-E2A457ACA69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consistently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 and Emplo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in a manner that is in the best interests of their client and employer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ensure that their products and related modifications meet the highest professional standards poss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d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maintain integrity and independence in their professional jud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F694-0C9F-4A2E-9864-5FD13A028E7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ing managers and leaders shall subscribe to and promote an ethical approach to the management of software development and mainten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f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dvance the integrity and reputation of the profession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lleag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be fair to, and supportive of, their colleag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participate in lifelong learning regarding the practice of their profession and shall promote an ethical approach to the practice of the prof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9CFF-1A04-47F9-AFCC-9DC5C60FB1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5:27:45Z</dcterms:created>
  <dc:creator>Carlo Ghezzi</dc:creator>
  <dc:description/>
  <dc:language>en-US</dc:language>
  <cp:lastModifiedBy>jazayeri</cp:lastModifiedBy>
  <dcterms:modified xsi:type="dcterms:W3CDTF">2002-02-19T18:44:34Z</dcterms:modified>
  <cp:revision>5</cp:revision>
  <dc:subject/>
  <dc:title>PowerPoint Presentation</dc:title>
</cp:coreProperties>
</file>