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F0AD-7023-4FBA-A618-BACAF24D9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B2F2-F0FC-4205-BB73-3D9BECA7D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0E90-7572-4F8A-BA2C-311CFE2EF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5284-3486-47E3-A7E1-ED1196F83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F64C-737C-4EC7-B08A-977FA285C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4286-853C-4B64-A87B-010E2F922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F960-1CDB-4295-9B9A-458F0600C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F5BA-58F1-4267-9C77-2B2EB587A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E5BE-0E15-46B9-89D6-F4459A8EA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526A-3B05-4E7F-8985-A7625B9A1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0D28-CA00-4104-8590-89DA7DD7F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3D07-94DA-459B-A69E-EBDC5C926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92DC7-A499-4DBB-A19B-82DCD00F06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905120" y="762120"/>
          <a:ext cx="4873680" cy="517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762120"/>
                    <a:ext cx="4873680" cy="517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30:02Z</dcterms:modified>
  <cp:revision>7</cp:revision>
  <dc:subject/>
  <dc:title>PowerPoint Presentation</dc:title>
</cp:coreProperties>
</file>