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F622-1933-4152-99E6-E1C3D6281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46BE-24E5-45FA-944E-D646C4BA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AB7E-DED6-4401-A0A4-41FE8EEDB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2A2F-5C18-4786-8142-06BF04A7D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30A0-025B-4468-B2DE-B1DA012A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CB81-5883-4789-9C9B-19FE2681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A100-E05A-42B9-98D7-2B1294415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C70A-1891-47BC-84ED-F9403FF5F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1D16-75BB-4353-B56E-751521507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E944-CB30-44A3-A51B-237DD154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22D4-E99B-469F-8E13-43B6584B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1722-0581-4616-9B02-56FD958D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32963-68DF-4ED2-B55F-B43B1A09C3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42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59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71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76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89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92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97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3868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111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114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127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130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53359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136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397548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900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503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871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7228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090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2428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610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8812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4220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58Z</dcterms:modified>
  <cp:revision>3</cp:revision>
  <dc:subject/>
  <dc:title>PowerPoint Presentation</dc:title>
</cp:coreProperties>
</file>