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D2E30-31BC-4D5F-9237-8A169F68A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2487D-0802-44F3-A2BB-F3AAD7783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A19DC-6828-483A-BBA9-5A117BF41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367B1-7107-4CB6-90CC-F58CBD76D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B3D02-B72B-4D36-AF86-431B620E4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0C75A-5227-43C4-94E1-3C1E0CD12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FFD4E-9A96-44CE-BDB6-BB8FDFFDA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E9286-28DC-4057-96F3-3C40CE419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98807-7617-46BA-ABE5-3141E6ED2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3BBD6-6293-4A98-804F-41B9FB3EC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C6C71-D583-4A03-80B7-73BDACD4E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73793-53AC-48B3-BF81-3C3B6357E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7304B-27E1-4C27-B817-E74119DE84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324840" cy="48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3:27:41Z</dcterms:created>
  <dc:creator>Spencer Smith</dc:creator>
  <dc:description/>
  <dc:language>en-US</dc:language>
  <cp:lastModifiedBy>Spencer Smith</cp:lastModifiedBy>
  <dcterms:modified xsi:type="dcterms:W3CDTF">2008-03-12T15:09:16Z</dcterms:modified>
  <cp:revision>3</cp:revision>
  <dc:subject/>
  <dc:title>PowerPoint Presentation</dc:title>
</cp:coreProperties>
</file>