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7088188" cy="102235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D5B8E-FDD3-4E66-A677-370ED9C7B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C5D89-0DC7-4EF4-B266-3B1699F40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E5A93-6DA0-4D95-864B-F6642C11C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8535E-5AE8-497C-A4D2-5CB1601C1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0E61B-81DC-4D13-B235-85CD37803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0C1B8-A73E-4D8D-B2CA-2DC428046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25827-CE05-4A64-8B42-471B4D9A8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72BB4-AD07-4611-A3D1-B818DFD54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BC878-481C-47DA-A40A-92FFE4A5C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99815-EFA5-4AC2-AF28-D382926B6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D5F13-5635-4A96-8809-0C0FB9792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EE675-85E9-4053-847C-647D1186E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F214C-5A23-4A6C-B269-D92190E576F3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200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s Nature and Qua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040C8-7955-4F93-8024-25A23699A17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erforma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fficient use of resour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mory, processing time, commun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be ver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lexity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ance evaluation (on a model, via simula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erformance can affect scalabi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olution that works on a small local network may not work on a large intra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62FDB-4826-4733-9491-9A9E35D3C49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pected users find the system easy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ther term: user-friendli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ather subjective, difficult to evalu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ffected mostly by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user interfa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visual vs. textu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DCAA4-E5CF-4020-BDA5-3FAA70B1485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ifi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easy it is to verify proper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an internal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external as well (e.g., security critical applic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9D7F1-473F-4490-9ACC-77C47767DAE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intain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intainability: ease of mainten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intenance: changes after releas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aintenance costs exceed 60% of total cost of softwa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ree main categories of mainten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rrectiv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: removing residual errors (2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daptiv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: adjusting to environment changes (2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erfectiv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: quality improvements (&gt;5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DF715-4E55-4C4C-A054-BB4FB5843A9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intain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be decomposed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air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ility to correct defects in reasonabl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v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ility to adapt sw to environment changes and to improve it in reasonabl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9D488-7BA1-499B-96A7-D263FF1EE54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us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isting product (or components) used (with minor modifications) to build another produ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Similar to evolvabilit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applies to pro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use of standard parts measure of maturity of the fiel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65A43-2A88-41FA-B9D9-EBE8ADC757F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ort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ftware can run on different hw platforms or sw environ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mains relevant as new platforms and environments are introduced (e.g. digital assistant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levant when downloading software in a heterogeneous network environ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8EAFF-5C38-49B8-BC2F-5B21921E29A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nderstand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ase of understanding softwa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gram modification requires program understa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BC90A-4FC4-445D-A72C-29D6ABB7047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roper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bility of a system to coexist and cooperate with other systems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word processor and spreadshe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EA56A-3145-405A-BA6B-A548BD338D0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ypical process qual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ductiv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notes its efficiency an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imeli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bility to deliver a product 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Visibi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ll of its steps and current status are documented clearly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44BC6-96AA-4D65-9C32-E0BEB7326B8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ftware engineer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(SE)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an intellectual activity and thus human-intens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is built to meet a certain functional goal and satisfy certain qua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processes also must meet certain qua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qualities are sometimes referred to as “ilities”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F2246-196C-42D6-BB33-DB5E0D24866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imeliness: issu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ften the development process does not follow the evolution of user require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mismatch occurs between user requirements and status of the produ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16C58-30DD-4B84-878A-FD4E106D64D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imeliness: a visual description of the mismatch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"/>
          <p:cNvSpPr/>
          <p:nvPr/>
        </p:nvSpPr>
        <p:spPr>
          <a:xfrm>
            <a:off x="2408400" y="212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533520" y="1523880"/>
            <a:ext cx="7650000" cy="460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A68B6-401F-40DB-9F9C-4C536CDA157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pplication-specific qual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.g., information 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ata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ata avail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ransaction performance.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AE27A-CB5A-40A3-8605-1EC81E31B85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ality measur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ny qualities are subjecti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 standard metrics defined for most qua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C3590-CAEC-46E2-ABDF-410EF7E65AE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produc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fferent from traditional types of produ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ang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to describe and evalu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lle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uman intens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lves only trivial “manufacturing” pro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35A94-29DF-4925-8C07-2F5E72F7E48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assification of sw qualiti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"ilities"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al vs. exter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visible to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oncern develop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t vs.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r goal is to develop software produc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cess is how we do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al qualities affect external qua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quality affects product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596D2-791C-4CCD-A17A-B4651E16088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076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rrectn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ftware is correct if it satisfies the functional requirements specif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ing that specification exists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specifications are formal, since programs are formal objects, correctness can be defined formal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can be proven as a theorem or disproved by counterexamples (tes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DD07D-6B75-456E-9A3F-F7114ED08E0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limits of correctn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is an absolute (yes/no) qu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is no concept of “degree of correctness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is no concept of severity of dev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f specifications are wro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e.g., they derive from incorrect requirements or errors in domain knowledg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F6D1A-ECE9-4899-8472-5E53924F51F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i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120" y="182844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lly, user can rely on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defined mathematically as “probability of absence of failures for a certain time perio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specs are correct, all correct software is reliable, but not vice-versa (in practice, however, specs can be incorrect …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DFD5D-BCD8-4C97-896D-ABB1DD92E65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dealized situ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are corr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2362320" y="2514600"/>
          <a:ext cx="4952880" cy="4029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2514600"/>
                    <a:ext cx="4952880" cy="402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9FF76-1D58-483C-A5C0-16B10FF9E94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obustn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209320"/>
            <a:ext cx="68580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obust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ftware behaves “reasonably” even in unforeseen circumstances (e.g., incorrect input, hardware failur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"/>
          <p:cNvSpPr/>
          <p:nvPr/>
        </p:nvSpPr>
        <p:spPr>
          <a:xfrm>
            <a:off x="4043520" y="290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B2F5E-635E-474E-B9D2-BD8DF1FF36C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23T09:36:44Z</dcterms:created>
  <dc:creator>Carlo Ghezzi</dc:creator>
  <dc:description/>
  <dc:language>en-US</dc:language>
  <cp:lastModifiedBy>jazayeri</cp:lastModifiedBy>
  <cp:lastPrinted>1999-03-04T17:52:08Z</cp:lastPrinted>
  <dcterms:modified xsi:type="dcterms:W3CDTF">2002-02-19T18:24:53Z</dcterms:modified>
  <cp:revision>36</cp:revision>
  <dc:subject/>
  <dc:title>Software Engineering</dc:title>
</cp:coreProperties>
</file>