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A728-E202-41FB-9B22-D623D2D05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67DA-BEA2-494D-8B41-D7755610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0489-5B0B-46D9-8E9D-A554F5F98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6B2C-F26D-45D4-9669-9956CA258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74F2-61AE-4140-9A60-2645E0C3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2334-293B-4FBB-9CE9-9E74D193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800F-EEF1-41C5-964C-D9E04C1E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5D7C-7890-4DBB-92BB-2027D817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3F2A-E349-43B7-800C-FC7AF69E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533D-5ADF-4211-A285-D5B23348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AD51-9423-4BC3-B46E-310F02C5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6009-0033-4AE0-B22B-848887B1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E6E7-137E-4D11-9707-96B96AB12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8080" y="2836800"/>
            <a:ext cx="158760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92800" y="2836800"/>
            <a:ext cx="156384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65680" y="2836800"/>
            <a:ext cx="2417760" cy="924120"/>
          </a:xfrm>
          <a:prstGeom prst="rect">
            <a:avLst/>
          </a:prstGeom>
          <a:solidFill>
            <a:srgbClr val="ff4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7040" y="3257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O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2680" y="3817800"/>
          <a:ext cx="8216640" cy="30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817800"/>
                    <a:ext cx="821664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78080" y="30718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35290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8400" y="3097080"/>
            <a:ext cx="1138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_signa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48120" y="2782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set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0360" y="31194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hyste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62480" y="35463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5000" y="3132000"/>
            <a:ext cx="0" cy="3254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82000" y="284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8400" y="3546360"/>
            <a:ext cx="18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9120" y="2938320"/>
            <a:ext cx="214200" cy="82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03560" y="3243240"/>
            <a:ext cx="263520" cy="122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840" y="2909880"/>
            <a:ext cx="4934160" cy="782640"/>
          </a:xfrm>
          <a:custGeom>
            <a:avLst/>
            <a:gdLst/>
            <a:ahLst/>
            <a:rect l="l" t="t" r="r" b="b"/>
            <a:pathLst>
              <a:path w="3108" h="493">
                <a:moveTo>
                  <a:pt x="3108" y="248"/>
                </a:moveTo>
                <a:cubicBezTo>
                  <a:pt x="3059" y="261"/>
                  <a:pt x="3011" y="275"/>
                  <a:pt x="2976" y="300"/>
                </a:cubicBezTo>
                <a:cubicBezTo>
                  <a:pt x="2941" y="325"/>
                  <a:pt x="2923" y="366"/>
                  <a:pt x="2896" y="396"/>
                </a:cubicBezTo>
                <a:cubicBezTo>
                  <a:pt x="2869" y="426"/>
                  <a:pt x="2856" y="467"/>
                  <a:pt x="2816" y="480"/>
                </a:cubicBezTo>
                <a:cubicBezTo>
                  <a:pt x="2776" y="493"/>
                  <a:pt x="2711" y="483"/>
                  <a:pt x="2656" y="476"/>
                </a:cubicBezTo>
                <a:cubicBezTo>
                  <a:pt x="2601" y="469"/>
                  <a:pt x="2533" y="451"/>
                  <a:pt x="2484" y="436"/>
                </a:cubicBezTo>
                <a:cubicBezTo>
                  <a:pt x="2435" y="421"/>
                  <a:pt x="2400" y="402"/>
                  <a:pt x="2364" y="384"/>
                </a:cubicBezTo>
                <a:cubicBezTo>
                  <a:pt x="2328" y="366"/>
                  <a:pt x="2301" y="339"/>
                  <a:pt x="2268" y="328"/>
                </a:cubicBezTo>
                <a:cubicBezTo>
                  <a:pt x="2235" y="317"/>
                  <a:pt x="2207" y="348"/>
                  <a:pt x="2164" y="320"/>
                </a:cubicBezTo>
                <a:cubicBezTo>
                  <a:pt x="2121" y="292"/>
                  <a:pt x="2055" y="208"/>
                  <a:pt x="2008" y="160"/>
                </a:cubicBezTo>
                <a:cubicBezTo>
                  <a:pt x="1961" y="112"/>
                  <a:pt x="1939" y="57"/>
                  <a:pt x="1884" y="32"/>
                </a:cubicBezTo>
                <a:cubicBezTo>
                  <a:pt x="1829" y="7"/>
                  <a:pt x="1752" y="13"/>
                  <a:pt x="1676" y="8"/>
                </a:cubicBezTo>
                <a:cubicBezTo>
                  <a:pt x="1600" y="3"/>
                  <a:pt x="1515" y="0"/>
                  <a:pt x="1428" y="0"/>
                </a:cubicBezTo>
                <a:cubicBezTo>
                  <a:pt x="1341" y="0"/>
                  <a:pt x="1227" y="2"/>
                  <a:pt x="1156" y="8"/>
                </a:cubicBezTo>
                <a:cubicBezTo>
                  <a:pt x="1085" y="14"/>
                  <a:pt x="1046" y="25"/>
                  <a:pt x="1004" y="36"/>
                </a:cubicBezTo>
                <a:cubicBezTo>
                  <a:pt x="962" y="47"/>
                  <a:pt x="939" y="53"/>
                  <a:pt x="904" y="76"/>
                </a:cubicBezTo>
                <a:cubicBezTo>
                  <a:pt x="869" y="99"/>
                  <a:pt x="834" y="143"/>
                  <a:pt x="792" y="176"/>
                </a:cubicBezTo>
                <a:cubicBezTo>
                  <a:pt x="750" y="209"/>
                  <a:pt x="702" y="247"/>
                  <a:pt x="652" y="272"/>
                </a:cubicBezTo>
                <a:cubicBezTo>
                  <a:pt x="602" y="297"/>
                  <a:pt x="539" y="321"/>
                  <a:pt x="492" y="328"/>
                </a:cubicBezTo>
                <a:cubicBezTo>
                  <a:pt x="445" y="335"/>
                  <a:pt x="409" y="318"/>
                  <a:pt x="368" y="312"/>
                </a:cubicBezTo>
                <a:cubicBezTo>
                  <a:pt x="327" y="306"/>
                  <a:pt x="283" y="283"/>
                  <a:pt x="244" y="292"/>
                </a:cubicBezTo>
                <a:cubicBezTo>
                  <a:pt x="205" y="301"/>
                  <a:pt x="173" y="339"/>
                  <a:pt x="132" y="364"/>
                </a:cubicBezTo>
                <a:cubicBezTo>
                  <a:pt x="91" y="389"/>
                  <a:pt x="22" y="431"/>
                  <a:pt x="0" y="4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22:48Z</dcterms:modified>
  <cp:revision>3</cp:revision>
  <dc:subject/>
  <dc:title>PowerPoint Presentation</dc:title>
</cp:coreProperties>
</file>