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70DA-A1F2-493C-B46D-D20030287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67F7-36AA-4CE2-AD18-DA9744523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B8DB-E3DA-4744-8ACD-5614B2DA8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2515-6F54-4B53-811B-45DAA4676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00A3-DD65-46DC-ACB0-47030E876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F88C-E630-4A92-8B75-46582802C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88AA-F99B-43A0-B817-B677B6D91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8613-1F1E-44B6-BCF4-C271E156F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6406-A6A5-480F-98ED-266080BC9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A2C4-4432-4501-808C-3F3E3E85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E3CC-C676-4BBA-A587-37F1D390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AABE-CA6C-4BC7-9E0C-69D701C3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2E0D9-E824-4AE6-950C-1CF66F8786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90720" y="1600200"/>
          <a:ext cx="7353360" cy="39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7353360" cy="39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01Z</dcterms:modified>
  <cp:revision>1</cp:revision>
  <dc:subject/>
  <dc:title>PowerPoint Presentation</dc:title>
</cp:coreProperties>
</file>