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0CB0-CB54-4903-ACAC-EA31120F0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C055-2700-4515-B180-6CB3E5B0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D300-E903-49FF-BE87-D3550B964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8FB1-26E9-4EB4-A103-8EE717738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1C56-8D80-408E-A10C-E32408EB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A22E-38C6-4C9B-961D-17405CE6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37C8-72A1-49E8-9F93-E52B3A79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0D42-E9B7-44D3-A4B6-2E6B6A9C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2367-1E15-4858-A455-D942D516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9DB5-0328-48B6-8D43-8E1CBF7B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9892-8D8C-4747-BBD5-0FAF5319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69BE-5292-462C-8AA0-7A824CFA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353A-7340-44CB-B9BD-7D7D25A2F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BEBA-805D-4B47-903E-50D3E9CA759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ing a law off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2226-DA2A-4745-BDAE-2F6C337949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od intuition and technical skills are not enough to guarante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rketing analysis and process organization must be planned carefully before committing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nges in schedules and project sourcing after serious problems are encountered can be difficult and expensive, if not impossible to impl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E375-02ED-42C4-9C36-1EEB001B90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family of compil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3BEA-A30D-4235-A66D-0041D6B5AF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ood engineers are essential to the succes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Use of standard test suites helps obtain objective measures of the completion statu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parency of process helps entire organization i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vising a schedule on the basis of objective data helps the schedule become mo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use of large software components on the basis of clear specifications is possible and advantage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DCF9-A051-48E3-AD27-F7F830A273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90FE-41F4-45C5-8D9C-703E00828A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totyping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may be used by clients to start on their project while they await the final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enables parallel development by clients and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hrow-away prototype may be used to prune an initial set of requirements on the basis of actual usage and need for 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7ECF-A61D-4E22-A644-C54507DD89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ing formal methods in indus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B89F-D78C-4BDE-8F2A-2E86FF4FDE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rmal methods can be effective in practice and their use results in increased reliability and reduced development and verification costs which compensate for the increased effort in the specificati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dustrial environments are reluctant to adopt them, even after successful pilot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y are afraid of the special training required, which causes organizational efforts and economic inves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“lightweight approach” may be possible which exploits the incrementality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53E0-1B01-450D-947F-C7D03241EF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9:53Z</dcterms:created>
  <dc:creator>Carlo Ghezzi</dc:creator>
  <dc:description/>
  <dc:language>en-US</dc:language>
  <cp:lastModifiedBy>jazayeri</cp:lastModifiedBy>
  <dcterms:modified xsi:type="dcterms:W3CDTF">2002-02-20T10:09:00Z</dcterms:modified>
  <cp:revision>4</cp:revision>
  <dc:subject/>
  <dc:title>Case studies</dc:title>
</cp:coreProperties>
</file>