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9CFA7-8E53-4409-ABC5-54F970000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897B3-F7D4-4995-A4A7-398EDB20F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A0DEE-F3CE-4831-B9AD-AD2160286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E1551-B354-41F8-9280-8B01FDCAB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D5EF1-DD2E-4556-A67E-3CA6C5798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F3D4B-D4FA-4339-B6AF-7C81F33FC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24D44-D20F-4780-9933-4AC52026C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3B7E2-4B39-46A7-BC55-D6B838DFC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28987-D32A-405C-923B-37A452337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E8751-F53B-479B-BA9E-2F8650FF0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B6262-2A58-485F-A8BB-C5086C7EC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36E1F-0BF6-4ECB-8C2C-B7BBC880D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26F66-A195-4D6D-BF82-8949818025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Engineering 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998E7-52DD-4476-A33D-13D6148DFA2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: proc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o through phases one after the other (as in waterfall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separation of concerns by separating activities with respect to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F0929-FD03-48D4-ABBA-D585E38F113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: produc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eep product requirements separ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interface and us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D4B9F-62B0-403A-A667-B60C11C0187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ar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 complex system may be divided into simpler pieces called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 system that is composed of modules is called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upports application of separation of concer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ealing with a module we can ignore details of other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92DC2-CFE4-463B-AB62-3AF434B5F75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hesion and coupl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ach module should b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highly cohesi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understandable as a meaningful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s of a module are closely related to one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ules should exhibit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 low coupl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s have low interactions with oth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standable sepa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7D100-F057-4C29-BA99-9152A77DB38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visual represen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"/>
          <p:cNvSpPr/>
          <p:nvPr/>
        </p:nvSpPr>
        <p:spPr>
          <a:xfrm>
            <a:off x="1962000" y="248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990720" y="2362320"/>
            <a:ext cx="7562880" cy="32004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815040" y="55958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coup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568120" y="5638680"/>
            <a:ext cx="200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up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98E51-43A2-400B-B6FF-1C62D9B467C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dentify the important aspects of a phenomenon and ignore its detai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pecial case of separation of concer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type of abstraction to apply depends on purpo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Example : the user interface of a watch (its buttons) abstracts from the watch's internals for the purpose of setting time; other abstractions needed to support repair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5A962-046A-41B4-B8F6-ACBB4C38B65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ion ignores detai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quations describing complex circuit (e.g., amplifier) allows designer to reason about signal amplif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quations may approximate description, ignoring details that yield negligible effects (e.g., connectors assumed to be ideal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B2A24-048B-4E01-97E8-1317EEA3288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ion yields mode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 example, when requirements are analyzed we produce a model of the proposed appl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model can be a formal or semiformal descrip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is then possible to reason about the system by reasoning about the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BFA1E-C3CD-493E-850A-9493916FBC6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gramming language semantics described through an abstract machine that ignores details of the real machines used for imple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ion ignores details such as precision of number representation or addressing mechanis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F7A0D-4C14-460D-9448-85BECDBF0C4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ion in proc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n we do cost estimation we only take some key factors into accou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pply similarity with previous systems, ignoring detail differen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3335A-4692-45E9-B004-18E70A0EA21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Arial"/>
              </a:rPr>
              <a:t>Principles form the basis of methods, techniques, methodologies and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S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Arial"/>
              </a:rPr>
              <a:t>even important principles that may be used in all phases of software develop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arity is the cornerstone principle supporting software desig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se studies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B7DC0-66AB-4CF8-BD59-C96D34E6F2F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ticipation of chang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bility to support software evolution  requires anticipating potential future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is the basis for software evolvabi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et up a configuration management environment for the project (as we will discus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0D3A6-56F0-4CE9-AB65-D7645C1A089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enera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solving a problem, try to discover if it is an instance of a more general problem whose solution can be reused in other ca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arefully balance generality against performance and co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ometimes a general problem is easier to solve than a special case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8EB51-7A51-400E-BA18-B740705D5E9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crementa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ss proceeds in a stepwise fashion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ncrement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 (proces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 subsets of a system early to get early feedback from expected users, then add new features increment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first with functionality, then turn to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 a first prototype and then incrementally add effort to turn prototype into produ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2C4BD-9CDD-4791-AD6B-D1D80FA536E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: compil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construction is an area where systematic (formal) design methods have been develop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BNF for formal description of language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6235D-9C0A-40DD-8B35-52F5BF4B28E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paration of concerns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n designing optimal register allocation algorithms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runtim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efficienc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no need to worry about runtime diagnostic messages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user friendlines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5F6BB-8B05-4E69-95F0-1F8407BF980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ar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ation process decomposed into pha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xical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 analysis (pars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hases can be associated with 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CD863-660B-4496-909A-F12B785BC0A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on of modular stru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"/>
          <p:cNvSpPr/>
          <p:nvPr/>
        </p:nvSpPr>
        <p:spPr>
          <a:xfrm>
            <a:off x="1932120" y="210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09480" y="1905120"/>
            <a:ext cx="7974000" cy="400356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-20880" y="5410080"/>
            <a:ext cx="508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xes represent mo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ed lines represent interfa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3990E-A98A-4F8F-9504-A3144F594445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e decomposition may be iterat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"/>
          <p:cNvSpPr/>
          <p:nvPr/>
        </p:nvSpPr>
        <p:spPr>
          <a:xfrm>
            <a:off x="1932120" y="210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1066680" y="2743200"/>
          <a:ext cx="7215480" cy="362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743200"/>
                    <a:ext cx="7215480" cy="362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"/>
          <p:cNvSpPr/>
          <p:nvPr/>
        </p:nvSpPr>
        <p:spPr>
          <a:xfrm>
            <a:off x="784800" y="2133720"/>
            <a:ext cx="744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modularization of code-gener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DB354-6B8C-4A67-9C77-596AB7D75DF5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plied in many ca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 syntax to neglect syntactic details such as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egin…e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vs. {…} to bracket statement sequ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machine code (e.g., Java Bytecode) for code port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19E4A-E612-480F-93BA-EB0E9272564B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ticipation of chang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sider possible changes o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language (due to standardization committe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rget process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/O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7533D-734F-4BA0-99BB-1985E983ACCF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pplication of 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inciples apply to process and produ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inciples become practice through methods and techniq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methods and techniques are packaged in a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method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hodologies can be enforced b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F1DC4-6C77-4564-BF3B-0566461F30C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enera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rameterize with respect to target machine (by defining intermediate c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velop compiler generating tools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compiler compiler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ead of just one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25F7A-BC5A-4244-8E9C-7D5FF1324BAE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crementa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cremental develop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 first a kernel version for a subset of the source language, then increasingly larger subs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 compiler with little or no diagnostics/optimizations, then add diagnostics/optimiz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756A2-668E-4763-96FD-E142B000DFC1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-360" y="380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 (system engineering): elevator syste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many cases, the "software engineering" phase starts after understanding and analyzing the "systems engineering”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elevator case study illustrates the poi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5225E-D579-46E9-8E6E-2933550E224F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igor&amp;formality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Quite relevant: it is 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safety critica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able to carry up to 400 Kg. (safety alarm and no operation if overload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mergency brakes must be able to stop elevator within 1 m. and 2 sec. in case of cable fail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ter, verify their fulfill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1BCEC-D1F9-4F3C-87D5-4A23CA90679E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paration of concer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to separ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fe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bility (e.g, button illumin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though some are strongly rela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 reduction by using cheap material can make solution unsaf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FD6CA-908E-4381-9D85-4EBADA451267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modular stru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"/>
          <p:cNvSpPr/>
          <p:nvPr/>
        </p:nvSpPr>
        <p:spPr>
          <a:xfrm>
            <a:off x="2697120" y="210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305000" y="3121200"/>
            <a:ext cx="1805040" cy="225576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36960" y="2209680"/>
            <a:ext cx="1244520" cy="67176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219640" y="3271680"/>
            <a:ext cx="390600" cy="73836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197320" y="4422600"/>
            <a:ext cx="435240" cy="71604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219640" y="5551560"/>
            <a:ext cx="477720" cy="62856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795920" y="2870280"/>
            <a:ext cx="412560" cy="5652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556160" y="2892600"/>
            <a:ext cx="630360" cy="17794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338720" y="2870280"/>
            <a:ext cx="892080" cy="29955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3098520" y="2717640"/>
            <a:ext cx="847800" cy="8906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533240" y="3565440"/>
            <a:ext cx="9075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000000"/>
                </a:solidFill>
                <a:latin typeface="Times New Roman"/>
              </a:rPr>
              <a:t>Elevator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102560" y="2219400"/>
            <a:ext cx="8863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Control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055040" y="2479680"/>
            <a:ext cx="10263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000000"/>
                </a:solidFill>
                <a:latin typeface="Times New Roman"/>
              </a:rPr>
              <a:t>apparatu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345640" y="3413160"/>
            <a:ext cx="3132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B3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367960" y="4606920"/>
            <a:ext cx="3132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B2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367960" y="5780160"/>
            <a:ext cx="3132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B1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71480" y="4714920"/>
            <a:ext cx="54468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019920" y="251460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uttons at floor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063D5-FA96-49D3-924C-84970E384424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e decomposition may be iterat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"/>
          <p:cNvSpPr/>
          <p:nvPr/>
        </p:nvSpPr>
        <p:spPr>
          <a:xfrm>
            <a:off x="2247840" y="195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066680" y="1523880"/>
            <a:ext cx="7010640" cy="444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B0571-2057-4D2C-BAC1-D4824EA3BD97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modular view we provided does not specify the behavior of the mechanical and electrical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y are abstracted aw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5ABE4-3601-4A33-9F72-E1C29872196E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ticipation of change, genera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ke the project parametric wrt the number of elevators (and floor button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"/>
          <p:cNvSpPr/>
          <p:nvPr/>
        </p:nvSpPr>
        <p:spPr>
          <a:xfrm>
            <a:off x="2610000" y="2179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523880" y="2971800"/>
            <a:ext cx="4953240" cy="3152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ED663-7526-434B-B24B-226C5E30A24B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visual represen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"/>
          <p:cNvSpPr/>
          <p:nvPr/>
        </p:nvSpPr>
        <p:spPr>
          <a:xfrm>
            <a:off x="3532320" y="290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914400" y="2286000"/>
            <a:ext cx="7315200" cy="3724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C86AD-612E-4235-8AFB-AC2986316C6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Key 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igor and form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paration of concer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ular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bstra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ticipation of cha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crement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CE68F-3356-4B3D-9081-E25E2F2EB60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igor and forma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ftware engineering is a creative design activity, BU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must be practiced systematical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igor is a necessary complement to creativity that increases our confidence in our develop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mality is rigor at the highest degre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process driven and evaluated by mathematical laws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D234E-8B33-4388-B09E-A22BC165C51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s: produc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thematical (formal) analysis of program correct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stematic (rigorous) test data deriv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7B20B-AC0C-4A95-A90D-CF059B920C0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: proc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igorous documentation of development steps helps project management and assessment of timeli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F1E6D-B265-4D43-9F02-F07208ED1AF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paration of concer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dominate complexity, separate the issues to concentrate on one at a 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"Divide &amp; conquer"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divide et impera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pports parallelization of efforts and separation of responsibi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62F81-98E6-4D81-9E3A-3043CD178EF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6T12:38:55Z</dcterms:created>
  <dc:creator>Carlo Ghezzi</dc:creator>
  <dc:description/>
  <dc:language>en-US</dc:language>
  <cp:lastModifiedBy>jazayeri</cp:lastModifiedBy>
  <dcterms:modified xsi:type="dcterms:W3CDTF">2002-02-19T18:33:08Z</dcterms:modified>
  <cp:revision>9</cp:revision>
  <dc:subject/>
  <dc:title>Software Engineering Principles</dc:title>
</cp:coreProperties>
</file>