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954E-EF44-4EDE-9615-41A73C60D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9652-2882-4CA1-8257-71381958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5534-B684-41C6-92B9-061765C39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0178-D767-4A9D-84D9-BAB81514F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2A10-0A4C-4E6C-A2B4-DC25D672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DCA7-F21C-4D61-B564-7AD03DE2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58EA-D0E1-421C-8D72-4CF7C85F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36C7-58EE-4570-B401-1F293B52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9751-E2E7-4122-9D6C-45A32670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E45E-F96D-4C04-A95E-D4F18A9F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13DB-5BCB-443B-96C5-9B7DA5ED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532C-3BC7-4AC0-85E1-6EA01168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0FB1-868D-4D42-896E-E5F6E533496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3D57-EFC3-492D-8BF7-4C26CFB4FF9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sc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8FB2-8EA1-4C20-8559-BE518A8CED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s of 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ical origins o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s p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t of 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consists of many activities in addition 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nd other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2E38-3E42-4BC5-BD3D-A842B94BFE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pplication of engineering to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computer science dealing with softwar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and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by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 in many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any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g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21BE-D830-4746-9D00-45DFE9C67A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of a systematic, disciplined, quantifiable approach to the development, operation, and maintenance of software (IEEE 1990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erson construction of multi-version software (Parnas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8200-9711-4C89-A62D-79AA891448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E in system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art of large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requirements to be balanced against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elephone switch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requirements  can only be met by hw, sw, and special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0D57-5715-4EF3-98FE-A62F8FF3AE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eld of software engineering was born in 1968 in response to chronic failures of large software projects to meet schedule and budget constrai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of "the software crisi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became popular after NATO Conference in Garmisch Partenkirchen (Germany), 19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9EF7-23F0-4925-8D35-7CAB693FB6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oftware engine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skill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ing involves "programming-in-the –larg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requirements and wri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 models and reason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 at various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a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FC2C-82AC-4BAE-9D4B-DC8097143D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life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 preview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41320"/>
            <a:ext cx="7799400" cy="479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14080" y="2209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49CF-C9F2-4021-A29F-B04476F76F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CS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1A58-739C-48A0-B52C-9C1B937E36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Pearson Education</cp:lastModifiedBy>
  <cp:lastPrinted>1999-03-04T17:52:08Z</cp:lastPrinted>
  <dcterms:modified xsi:type="dcterms:W3CDTF">2003-01-02T18:26:56Z</dcterms:modified>
  <cp:revision>35</cp:revision>
  <dc:subject/>
  <dc:title>Software Engineering</dc:title>
</cp:coreProperties>
</file>