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836D-4034-495E-9390-CCB1BF001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F228-A1C1-47AB-AED4-FE1E09967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8A67-FC6C-441F-95BD-9A771EC25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DFE7-EFDE-4DE9-A6EF-D458FCE03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C953-ABD5-4734-A8EC-14094A11A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EDA2-3A34-4534-A5B5-A30C0DDA2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E255-2B61-40A3-8B22-7A56FE825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468B-35E3-4E62-8BBA-088C23F5F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C00E-5B07-4C6F-8DED-1F12CF59A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67DE-902B-45EA-8AAA-953452C6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5455-1983-4448-B18D-07B9FE8D6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8DF7-BD3D-45F0-9ABC-50C9EC455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AC0A9-32E1-492D-BAB7-9C3B45A578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03720" cy="34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5:17:48Z</dcterms:created>
  <dc:creator>Spencer Smith</dc:creator>
  <dc:description/>
  <dc:language>en-US</dc:language>
  <cp:lastModifiedBy>Spencer Smith</cp:lastModifiedBy>
  <dcterms:modified xsi:type="dcterms:W3CDTF">2008-02-27T15:18:27Z</dcterms:modified>
  <cp:revision>1</cp:revision>
  <dc:subject/>
  <dc:title>PowerPoint Presentation</dc:title>
</cp:coreProperties>
</file>