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FBEA-F600-4C53-A3FA-2DA591E30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AE7E-14F4-4EC0-8ED5-DD21A7189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8769-4F2C-432A-BD70-62B01FBAF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21C4-AB87-4A09-B362-B75C442BF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D784-7A39-4D80-911C-31C5A1F6F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ECF0-6FE9-4C60-8743-C8F0EAF21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FBDE-CC25-443C-B71C-1018D5841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3140-7D31-4FE7-AB84-6BDF04D83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9380-64AC-4DC9-9043-409A99E13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99A1-1E2A-4484-ADF9-E62625C85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1600-DB6C-40A2-A289-9B1E1439E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41F5-BE5D-4AC2-8D2F-9ECFDD032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EF484-6DA4-423A-8EC5-F323CB9582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22480" y="2743200"/>
            <a:ext cx="5068080" cy="15570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&lt;x = 0, z = 1&gt;, &lt;x = 1, z = 3&gt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uses the execution of all edg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t fails to expose the risk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vision by zer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89280" y="1523880"/>
            <a:ext cx="243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≠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5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z &gt; 1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/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0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4:25Z</dcterms:modified>
  <cp:revision>7</cp:revision>
  <dc:subject/>
  <dc:title>PowerPoint Presentation</dc:title>
</cp:coreProperties>
</file>