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084B-D84F-4A46-99DA-368C8548C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A292-9A1F-4988-BAD1-F9C1F7500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2DEA-05C7-46C9-A56E-E3DD9ECE7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19D7-1604-4D04-A80B-31D301F68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3AD9-BC3B-4655-9DD2-F543217D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2BF3-77C0-4DC2-A5F2-E4B755F22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14BB-0670-453A-BE73-CB0705C27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35DE-83F6-4B1B-A1B4-374D468CE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F36D-29C3-4DF6-B5D1-642DD6C53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F1B1-D2A2-4D66-BA90-38B077A1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6EC7-E40B-4EBE-9AE8-BA7E33C0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C784-AB36-49CE-9031-F1210B52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E05A0-4591-4173-8114-367865AE70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pilogu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D01A-95F9-423D-957A-86AB9EEF8D7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ill be the future of the fiel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the impact of SE on socie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ethical issues are raised by S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FACA-81BF-4106-8C0F-675E77D39AA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ound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requires the application of engineering principles guided by informed manag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s must be rooted in sound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gorous approaches must be combined with experimentation, intuition, and common sen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o “silver bullets”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D370-F85F-4C01-8BA0-07CAFC3350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ess expec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spec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ization is a sign of maturity of a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-based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domain-specific archite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re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virtual te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F48E-5709-4665-BB66-A45B27BBF1F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cial responsi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fects may cost lives or tremendous business lo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try to prevent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study them when they occur, to avoid failures in the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creates new opportunities for  increasing productivity and services, but also opportunities for criminal fraud and sabotage (e.g., virus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uilding reliable software is not only a technical goal; it has ethical and social implications for the serious profession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C9B5-54AA-4DDA-8915-80B2DCD3E27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M and IEEE Computer Society have developed a “Software engineering code of ethics and professional practices”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“public interest” is central to the code, which emphasizes the professional’s obligation to the public at lar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imary concern for the health, safety, and welfare of th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EF9C-9DAA-4224-8422-38134977AAB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consistently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 and Emplo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in a manner that is in the best interests of their client and employer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ensure that their products and related modifications meet the highest professional standards poss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d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maintain integrity and independence in their professional jud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0579-DDA9-44CF-BFD1-995F938003E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ing managers and leaders shall subscribe to and promote an ethical approach to the management of software development and mainten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f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dvance the integrity and reputation of the profession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lleag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be fair to, and supportive of, their colleag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participate in lifelong learning regarding the practice of their profession and shall promote an ethical approach to the practice of the prof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DE28-9658-4655-807A-B9EB3604E81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5:27:45Z</dcterms:created>
  <dc:creator>Carlo Ghezzi</dc:creator>
  <dc:description/>
  <dc:language>en-US</dc:language>
  <cp:lastModifiedBy>jazayeri</cp:lastModifiedBy>
  <dcterms:modified xsi:type="dcterms:W3CDTF">2002-02-19T18:44:34Z</dcterms:modified>
  <cp:revision>5</cp:revision>
  <dc:subject/>
  <dc:title>PowerPoint Presentation</dc:title>
</cp:coreProperties>
</file>