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8DA8-FCB6-4ACF-901F-A94556B72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0D33-5ABA-402E-92AB-02A170CEF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167F-19D8-40C2-958D-3B5F326B4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A0B4-82D3-4A7E-834B-3E0BE073B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C881-79A1-4894-898A-1D0BC482F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B56E-BC10-4DB3-B26E-44F2D78C7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E3EF-B6D3-4D50-9F2D-F8E45DF40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998D-8C31-4284-998C-9F16AD33D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2222-0213-44B8-89A1-D2E2F5692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3D45-B2A9-48E7-9A6D-783503E2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383C-130A-4196-A37A-8C7CC2E4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D56A-8CFC-4428-A018-33B05E05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6D57C-686B-43AF-95B9-C1099F827B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403360" y="4525920"/>
          <a:ext cx="1554120" cy="1557360"/>
        </p:xfrm>
        <a:graphic>
          <a:graphicData uri="http://schemas.openxmlformats.org/drawingml/2006/table">
            <a:tbl>
              <a:tblPr/>
              <a:tblGrid>
                <a:gridCol w="777960"/>
                <a:gridCol w="7761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53Z</dcterms:modified>
  <cp:revision>2</cp:revision>
  <dc:subject/>
  <dc:title>PowerPoint Presentation</dc:title>
</cp:coreProperties>
</file>