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2128-FC0D-4A55-A6A9-1463AD5DC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34C3-5884-4A05-8148-5981333FA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4055-939C-49FB-B507-6E20BAA74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9E92-2B39-492A-8C4A-C8238B80A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BB8D-D1A5-485A-91C3-59215FE4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0C65-1F1F-4B51-8B2D-A1AB4B2CD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FEFB-C321-495D-9D56-B06B9A75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D073-7AE2-4925-81AB-88F7AAA48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27E8-E476-49A0-916C-FAA48F1B9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24F2-971A-4FB5-88E4-B9F15CB9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6AE8-F95E-420F-8342-84D66D62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3A1B-C492-41E1-9274-D23489BA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0AA6-2AE8-4E5A-B0C9-45DC2FDE0C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5120" y="762120"/>
          <a:ext cx="487368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762120"/>
                    <a:ext cx="487368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02Z</dcterms:modified>
  <cp:revision>7</cp:revision>
  <dc:subject/>
  <dc:title>PowerPoint Presentation</dc:title>
</cp:coreProperties>
</file>