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2CC9-6224-446D-BF3B-1F963CC0E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F3E2-B543-46B6-9DED-627F69EA6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5B9D-C8EC-4320-AA64-6E533B4B9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B523-EAC0-4C10-BD3C-5561A47E5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A512-C872-4EED-8219-BFA4066BD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3BC3-0199-4911-B1EE-E8C44EDB6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8E1B-C37D-4F00-AB48-AD4664DD0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AD2C-FBB8-4242-B393-D606B1225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DC8F-DE31-4296-8974-4042FE688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10A9-9D73-4B94-ABF9-879D3EED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2A24-0D61-4821-8D8B-37A8C88C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3009-DB72-483E-846A-A2EF039A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51F6D-D80E-4B69-8C06-BDF757FC58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752480" y="1600200"/>
          <a:ext cx="525780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00200"/>
                    <a:ext cx="52578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8:05Z</dcterms:modified>
  <cp:revision>4</cp:revision>
  <dc:subject/>
  <dc:title>PowerPoint Presentation</dc:title>
</cp:coreProperties>
</file>