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8F0D-6654-4757-9BA0-1A8E88C55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0582-06F0-41AE-82FB-5DD03853E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1745-7E05-491E-97A3-965BF30D1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547A-C218-4089-8806-8F7673748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2A1B-C394-4FBF-9083-0CAB0A283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BF18-40C0-4C06-BA70-7B79F28E4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03CE-9FF9-4444-A25D-3FDC7B6E1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0665-16CC-4069-B58F-1C4099548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598B-F1EE-40B4-9A28-569D0FE3F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26DB-105F-4DF1-B63C-74439AC8D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AF52-D502-472F-8B01-33FE22509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7713-16EA-4EB0-9303-CD8F079D9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514E8-74C2-4446-AF9D-9F3075A5B2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46280" y="1938240"/>
            <a:ext cx="183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33520" y="1295280"/>
            <a:ext cx="2539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g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1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2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y &g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3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4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670560" y="1905120"/>
            <a:ext cx="5072760" cy="2654280"/>
          </a:xfrm>
          <a:prstGeom prst="rect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&lt;x = 2, y = -3&gt;, &lt;x = - 13, y = 51&gt;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x = 97, y = 17&gt;, &lt;x = - 1, y = - 1&gt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vers all 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&lt;x = - 13, y = 51&gt;, &lt;x = 2, y = - 3&gt;}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min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16:25Z</dcterms:modified>
  <cp:revision>1</cp:revision>
  <dc:subject/>
  <dc:title>PowerPoint Presentation</dc:title>
</cp:coreProperties>
</file>