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1021-53C7-4CAC-B562-155AACA88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479A-38A1-4039-B63F-B233BE843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52E1-0A1E-4251-A3B4-C1FC25833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B1C0-B177-4553-9A1B-A4F7E8EB8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A1B9-195E-4CA9-98BF-3BE5F214E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BEF5-2C90-431F-976A-911E45CEF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2058-B918-4BC2-B718-EA8E30C02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F25F-8166-41DF-9499-FE764EE04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C2F6-26A4-44DD-B687-B3E8F3EBB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2D12-9CB0-4614-9231-BA29E2E6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E4C1-3D58-4C6A-84E6-A0F7BC83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4464-AE10-4E18-B850-FB6977DD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9011C-6A6B-4E12-8678-0599AD0F8A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468360"/>
            <a:ext cx="6997680" cy="58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2:21Z</dcterms:modified>
  <cp:revision>1</cp:revision>
  <dc:subject/>
  <dc:title>PowerPoint Presentation</dc:title>
</cp:coreProperties>
</file>