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42C1-E739-437A-A83B-0C627017B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CAAA-E47B-4D4C-9C14-47CA72820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CA8B-B4C1-4A4D-9DEB-BA4814323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63FC-DEC3-4AA5-BD9B-8E8E7A0AA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AF7A-A716-41AC-83B5-9B6DC1C92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846B-DE0C-40FB-B226-7BF146E04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C779-15F2-480D-B8BB-8E27FEE42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DC6E-8C87-4515-8462-4F38CEF1F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56C3-9B6F-4BA5-A119-725A0DC86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EB3C-613F-4091-8186-D7038FE7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69E1-87E6-4C1C-943C-E2FEDA28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6B5C-94A6-449F-BCBB-BAF9F4E12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B8D22-91E4-45F8-8811-39D7FB3DD2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8440" y="609480"/>
            <a:ext cx="7532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ocedure binary-search (key: in eleme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able: in elementTable; found: out Boolean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e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table'first; top := table'la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bottom &lt; top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bottom + top) rem 2 ≠ 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 - 1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) /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key ≤ table (middle)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p := midd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middl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key = table (to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inary-s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239880" y="2319480"/>
            <a:ext cx="2818800" cy="2288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omi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if the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never h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 if size of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power of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409720" y="3200400"/>
            <a:ext cx="7621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3:45:13Z</dcterms:created>
  <dc:creator>Spencer Smith</dc:creator>
  <dc:description/>
  <dc:language>en-US</dc:language>
  <cp:lastModifiedBy>Spencer Smith</cp:lastModifiedBy>
  <dcterms:modified xsi:type="dcterms:W3CDTF">2008-03-13T03:46:39Z</dcterms:modified>
  <cp:revision>1</cp:revision>
  <dc:subject/>
  <dc:title>PowerPoint Presentation</dc:title>
</cp:coreProperties>
</file>