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8A8B-F1FE-48F8-8768-BCF622E3C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4C03-7A9A-475E-A586-BC7EA240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9B45-B312-4ECD-B616-C49CA720C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D584-3748-4E01-B8DD-D03B2D47C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1891-AB1B-4CE5-8454-33FB7210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F4A4-AEE9-4113-A369-60417932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3C73-1012-41C4-8782-A6302250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05C2-405E-4063-817E-964AC9F3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6B67-3786-4695-8E3F-40F9B87B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B7BA-23F1-4CDC-B760-22406E95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31EF-E5CE-42DE-8E96-71752143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DC08-A630-4511-9BCA-7DB09F11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9F92-BE91-4440-8A14-8961E9B62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97ED-C7DA-43FD-90E3-A68ED655F1D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phases one after the other (as in waterf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separation of concerns by separating activities with respect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B1C7-A489-4479-8FA3-67454936A0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product requirements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 and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73D5-2F39-48B0-882F-1B33722F9C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plex system may be divided into simpler piece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that is composed of module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s application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aling with a module we can ignore details of other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816C-6EE4-4809-BF08-DFF93A04F0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hesion and coup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dul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ghly cohe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understandable as a meaningfu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of a module are closely related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should exhib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low cou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have low interaction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028A-2A2A-401A-91C9-E7744EDEBD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6288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5040" y="5595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120" y="56386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A6F4-5513-4586-A4F2-CA255066FC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the important aspects of a phenomenon and ignore its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case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ype of abstraction to apply depends on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the user interface of a watch (its buttons) abstracts from the watch's internals for the purpose of setting time; other abstractions needed to support repai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4C97-1F69-4A62-9DAE-A1C1B3ACFE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gnores detai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quations describing complex circuit (e.g., amplifier) allows designer to reason about signal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ions may approximate description, ignoring details that yield negligible effects (e.g., connectors assumed to be ide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012D-6BC6-45A8-8A14-CCD5A1028F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yield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when requirements are analyzed we produce a model of the proposed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can be a formal or semiforma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n possible to reason about the system by reasoning about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6FCB-DCC7-4590-B117-433D4AE370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 semantics described through an abstract machine that ignores details of the real machines used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ignores details such as precision of number representation or addressing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05D1-B71A-430B-9690-CC79B9EBDF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do cost estimation we only take some key factors into acc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pply similarity with previous systems, ignoring detail dif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3CD6-CC6A-42D0-96D3-486921C1F4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Principles form the basis of methods, techniques, methodologies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even important principles that may be used in all phases of softwar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ity is the cornerstone principle supporting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E791-57CD-4CEB-88C8-5D1CC5755B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oftware evolution  requires anticipating potential futur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basis for software evolv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t up a configuration management environment for the project (as we will discu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F4ED-DB25-4B7E-8090-09E5F4CE2E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solving a problem, try to discover if it is an instance of a more general problem whose solution can be reused in other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efully balance generality against performance and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times a general problem is easier to solve than a special cas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B234-67AC-4FCF-A58E-FA9AB53D92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proceeds in a stepwise fashion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(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subsets of a system early to get early feedback from expected users, then add new features incremen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first with functionality, then turn to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 first prototype and then incrementally add effort to turn prototype into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6CDF-2180-49B7-B2A1-973A85E450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construction is an area where systematic (formal) design methods have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NF for formal description of languag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EB46-96D8-4D00-B801-CF142F49BC4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signing optimal register allocation algorithm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no need to worry about runtime diagnostic messag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friendl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F5A6-307B-4C36-B81A-AA0125DE31B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process decomposed into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analysis (par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s can be associated with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EDFF-8418-42A1-B800-4D71A3C59E4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on of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4000" cy="40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0880" y="5410080"/>
            <a:ext cx="50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ed lines repres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28B4-7E98-468C-A2F5-6A12BECA4FC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743200"/>
          <a:ext cx="72154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15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4800" y="2133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modularization of code-gener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D8D9-5CB1-4DB9-9B9C-85828C393D1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d in many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neglect syntactic details such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…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. {…} to bracket statemen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machine code (e.g., Java Bytecode) for code 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C990-0222-400B-B081-954BE73E7E6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possible chang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 (due to standardization committ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EC24-972F-4296-A1AE-FAA8B7AD308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of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pply to process and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become practice through method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ethods and techniques are packaged in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ies can be enforc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6598-0233-4B5F-9362-06E64BAC82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with respect to target machine (by defining intermediate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compiler generating tool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iler compil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ead of just on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310C-A790-4118-BA24-A903FF1DA8A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first a kernel version for a subset of the source language, then increasingly larger sub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compiler with little or no diagnostics/optimizations, then add diagnostics/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3FAB-FFFC-4604-BB61-6BA8E2E409D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 (system engineering): elevator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cases, the "software engineering" phase starts after understanding and analyzing the "systems engineering”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vator case study illustrates the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66C2-08D9-4D8E-9D7F-870F250414F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&amp;forma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te relevant: it i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ty cri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carry up to 400 Kg. (safety alarm and no operation if overloa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brakes must be able to stop elevator within 1 m. and 2 sec. in case of cable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, verify their fulfill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8AF6-1BCF-4ACC-9100-01A9543FB2E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ility (e.g, button illumin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some are strongly 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reduction by using cheap material can make solution un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A7EE-0148-4FA4-92BB-674FECBE284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3121200"/>
            <a:ext cx="1805040" cy="2255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2209680"/>
            <a:ext cx="1244520" cy="671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271680"/>
            <a:ext cx="390600" cy="738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4422600"/>
            <a:ext cx="435240" cy="716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5551560"/>
            <a:ext cx="477720" cy="628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2870280"/>
            <a:ext cx="412560" cy="56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6160" y="2892600"/>
            <a:ext cx="630360" cy="177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8720" y="2870280"/>
            <a:ext cx="892080" cy="2995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8520" y="2717640"/>
            <a:ext cx="847800" cy="8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240" y="3565440"/>
            <a:ext cx="907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Elev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2560" y="2219400"/>
            <a:ext cx="88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5040" y="2479680"/>
            <a:ext cx="102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5640" y="3413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960" y="46069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960" y="5780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1480" y="4714920"/>
            <a:ext cx="544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 at flo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1D1B-3DDA-47C4-A047-1583262ABC0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9DC7-281A-4894-8AE1-0B51B3492F9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r view we provided does not specify the behavior of the mechanical and electrica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abstracted a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1557-F073-4C1A-87F6-C3CEDF40B7B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, 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project parametric wrt the number of elevators (and floor butt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95324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1EF2-79CE-476F-BCBE-F785512B3FD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5323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5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E36D-8596-48F8-B9A4-17557C7324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and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ion of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6B02-4396-4EA8-A03F-CA38E41F98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 and form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engineering is a creative design activity, 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must be practiced syste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is a necessary complement to creativity that increases our confidence in our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ty is rigor at the highest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 driven and evaluated by mathematical law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B205-5E19-4A62-A6E3-DA2B9ACDB7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(formal) analysis of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c (rigorous)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AF98-7314-43F6-8274-B0F482E6C8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documentation of development steps helps project management and assessment of 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B84C-77E8-4409-B943-D10FF5E36F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minate complexity, separate the issues to concentrate on 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Divide &amp; conquer"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et imp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parallelization of efforts and separation of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EC2E-3BB0-4CCD-99ED-0FB99D87C4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33:08Z</dcterms:modified>
  <cp:revision>9</cp:revision>
  <dc:subject/>
  <dc:title>Software Engineering Principles</dc:title>
</cp:coreProperties>
</file>