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7F315-A96C-480A-A225-097D789FA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4996E-E7D3-44F9-B5BA-1D38F283E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83A90-ED57-4B5E-B817-3F43798B8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DFC66-84DA-4606-B99C-C60816FCE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5237C-ADAD-4EA5-A524-10516B987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B3538-2C56-40A4-9FCB-3A2053A0E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4FA3D-8D2F-42ED-B400-7467A4E52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36AA8-917F-4CDF-AE38-C8DDE59A2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E3439-CEA1-41D0-A2D0-84402BECE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4AB05-6366-444B-88B9-5F7FEFA45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BA18E-3B5B-4A2F-A972-93ADCB089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5AB48-8DA0-4249-AF7F-90738855E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F2CD9-2AFD-4C18-BF66-EBBA95DC53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8440" y="609480"/>
            <a:ext cx="753228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rocedure binary-search (key: in elemen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able: in elementTable; found: out Boolean) 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beg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bottom := table'first; top := table'las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bottom &lt; top lo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(bottom + top) rem 2 ≠ 0 t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middle := (bottom + top - 1) / 2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middle := (bottom + top) / 2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key ≤ table (middle) t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op := middl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bottom := middle + 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found := key = table (top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binary-se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239880" y="2319480"/>
            <a:ext cx="2818800" cy="228852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we omit 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out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if the 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never hi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.e. if size of tab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 power of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409720" y="3200400"/>
            <a:ext cx="762120" cy="763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3T03:45:13Z</dcterms:created>
  <dc:creator>Spencer Smith</dc:creator>
  <dc:description/>
  <dc:language>en-US</dc:language>
  <cp:lastModifiedBy>Spencer Smith</cp:lastModifiedBy>
  <dcterms:modified xsi:type="dcterms:W3CDTF">2008-03-13T03:46:39Z</dcterms:modified>
  <cp:revision>1</cp:revision>
  <dc:subject/>
  <dc:title>PowerPoint Presentation</dc:title>
</cp:coreProperties>
</file>