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46D0-D885-4915-939C-58114F2BA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A0F6-56F8-44D3-B2E7-93CEC5617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6ADB-E02F-450B-A4AB-D86B9910F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86F4-6F73-48AD-AEB5-BB72F8A05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94C9-0D00-43C3-82D3-422B349B6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5DC8-74BC-4C7A-BC42-2C895908B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0129-B980-45AF-8B16-54FC38026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C4CD-BDCB-4DD7-AAB0-9F94CB917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9D8F-0EC2-412B-A017-DD10A6233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7D29-8C88-4308-8785-81ED740D1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F984-EBAF-485F-A1E0-297D74EF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4C4A-EA8A-4CED-A1B3-1DA2599C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BA676-3010-47A8-ABE3-9EA5AA9D49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0" y="1523880"/>
          <a:ext cx="4419720" cy="294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523880"/>
                    <a:ext cx="4419720" cy="29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7:25Z</dcterms:modified>
  <cp:revision>3</cp:revision>
  <dc:subject/>
  <dc:title>PowerPoint Presentation</dc:title>
</cp:coreProperties>
</file>