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B9E7-46D5-48CB-9B75-54DE602B1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BB44-9484-4CE0-87AD-2B30956EA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63CB-E377-4A75-A1F2-ECD7F6A3F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9E94-F4B0-4061-BEF4-4CD080290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B2B8-F24D-4E7E-A4E9-B77556A6F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862B-38A9-49CD-9D00-81BA7460A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C932-6EBD-4ABF-994E-19C5AD0C3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D29E-723D-4A3C-8229-601713B43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A092-4216-4BE7-B03A-C785A1641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CAB9-21B2-49F0-8CA7-33812BFD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9B41-8537-48BF-BB05-FE56C368B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0F83-85F0-4024-AEC1-6F79512E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ACAD7-A791-4833-BDDD-E22B217CF7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42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9530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6512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2016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9544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4760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ra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7352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9:23Z</dcterms:modified>
  <cp:revision>4</cp:revision>
  <dc:subject/>
  <dc:title>PowerPoint Presentation</dc:title>
</cp:coreProperties>
</file>