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14FF-E6B3-4D22-BF14-8D2960DDC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FFC0-3DD0-47F1-9480-9775EC125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592C-F9DB-4234-A5CB-F687FD922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FE8C-1731-48C7-89C7-99B2D1D66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EF17-596E-4045-9A72-633FCB301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5E16-10FF-4601-B558-9CDCCA2A8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4FF3-D05F-438D-A885-24E1B821A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A444-C299-439D-B8BA-D90E2CD87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6DD8-0808-490F-AE22-5C3FDC82B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910C-9F95-4585-9235-AD1181B7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E107-0EE3-42FC-B905-481EA55AA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79A1-4935-4F26-A878-E68752A2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BF66D-D8D4-4A46-9FD9-BAE15B912E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346560" y="2766960"/>
          <a:ext cx="5514840" cy="138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6560" y="2766960"/>
                    <a:ext cx="551484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146320" y="4179960"/>
            <a:ext cx="4854600" cy="2340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2021040" y="1717560"/>
            <a:ext cx="5143320" cy="1816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6400" y="1182600"/>
            <a:ext cx="46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of a table describing f(x,y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4440" y="3681360"/>
            <a:ext cx="239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sponding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202360" y="2295360"/>
            <a:ext cx="0" cy="223920"/>
          </a:xfrm>
          <a:prstGeom prst="line">
            <a:avLst/>
          </a:prstGeom>
          <a:ln w="19080">
            <a:solidFill>
              <a:srgbClr val="ff0b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30640" y="2905200"/>
            <a:ext cx="295200" cy="0"/>
          </a:xfrm>
          <a:prstGeom prst="line">
            <a:avLst/>
          </a:prstGeom>
          <a:ln w="19080">
            <a:solidFill>
              <a:srgbClr val="ff0b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252200" y="2351160"/>
            <a:ext cx="16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60000" y="15080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56640" y="20876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48920" y="3317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3120" y="1609560"/>
            <a:ext cx="2009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ds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95360" y="1920960"/>
            <a:ext cx="265320" cy="61920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95360" y="1909800"/>
            <a:ext cx="1200240" cy="13176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240" y="2282760"/>
            <a:ext cx="20811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=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=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: R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,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96480" y="3247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50280" y="3247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252400" y="354024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943600" y="3311640"/>
            <a:ext cx="385920" cy="38736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3:04Z</dcterms:created>
  <dc:creator>Spencer Smith</dc:creator>
  <dc:description/>
  <dc:language>en-US</dc:language>
  <cp:lastModifiedBy>Spencer Smith</cp:lastModifiedBy>
  <dcterms:modified xsi:type="dcterms:W3CDTF">2008-03-12T16:04:21Z</dcterms:modified>
  <cp:revision>1</cp:revision>
  <dc:subject/>
  <dc:title>PowerPoint Presentation</dc:title>
</cp:coreProperties>
</file>