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59.wmf" ContentType="image/x-wmf"/>
  <Override PartName="/ppt/media/image21.wmf" ContentType="image/x-wmf"/>
  <Override PartName="/ppt/media/image58.wmf" ContentType="image/x-wmf"/>
  <Override PartName="/ppt/media/image19.wmf" ContentType="image/x-wmf"/>
  <Override PartName="/ppt/media/image20.wmf" ContentType="image/x-wmf"/>
  <Override PartName="/ppt/media/image57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4.wmf" ContentType="image/x-wmf"/>
  <Override PartName="/ppt/media/image1.wmf" ContentType="image/x-wmf"/>
  <Override PartName="/ppt/media/image31.wmf" ContentType="image/x-wmf"/>
  <Override PartName="/ppt/media/image25.wmf" ContentType="image/x-wmf"/>
  <Override PartName="/ppt/media/image2.wmf" ContentType="image/x-wmf"/>
  <Override PartName="/ppt/media/image32.wmf" ContentType="image/x-wmf"/>
  <Override PartName="/ppt/media/image26.wmf" ContentType="image/x-wmf"/>
  <Override PartName="/ppt/media/image3.wmf" ContentType="image/x-wmf"/>
  <Override PartName="/ppt/media/image33.wmf" ContentType="image/x-wmf"/>
  <Override PartName="/ppt/media/image27.wmf" ContentType="image/x-wmf"/>
  <Override PartName="/ppt/media/image4.wmf" ContentType="image/x-wmf"/>
  <Override PartName="/ppt/media/image34.wmf" ContentType="image/x-wmf"/>
  <Override PartName="/ppt/media/image28.wmf" ContentType="image/x-wmf"/>
  <Override PartName="/ppt/media/image5.wmf" ContentType="image/x-wmf"/>
  <Override PartName="/ppt/media/image35.wmf" ContentType="image/x-wmf"/>
  <Override PartName="/ppt/media/image10.wmf" ContentType="image/x-wmf"/>
  <Override PartName="/ppt/media/image47.wmf" ContentType="image/x-wmf"/>
  <Override PartName="/ppt/media/image45.wmf" ContentType="image/x-wmf"/>
  <Override PartName="/ppt/media/image46.wmf" ContentType="image/x-wmf"/>
  <Override PartName="/ppt/media/image50.wmf" ContentType="image/x-wmf"/>
  <Override PartName="/ppt/media/image13.wmf" ContentType="image/x-wmf"/>
  <Override PartName="/ppt/media/image11.wmf" ContentType="image/x-wmf"/>
  <Override PartName="/ppt/media/image48.wmf" ContentType="image/x-wmf"/>
  <Override PartName="/ppt/media/image51.wmf" ContentType="image/x-wmf"/>
  <Override PartName="/ppt/media/image52.wmf" ContentType="image/x-wmf"/>
  <Override PartName="/ppt/media/image41.wmf" ContentType="image/x-wmf"/>
  <Override PartName="/ppt/media/image53.wmf" ContentType="image/x-wmf"/>
  <Override PartName="/ppt/media/image42.wmf" ContentType="image/x-wmf"/>
  <Override PartName="/ppt/media/image54.wmf" ContentType="image/x-wmf"/>
  <Override PartName="/ppt/media/image43.wmf" ContentType="image/x-wmf"/>
  <Override PartName="/ppt/media/image55.wmf" ContentType="image/x-wmf"/>
  <Override PartName="/ppt/media/image44.wmf" ContentType="image/x-wmf"/>
  <Override PartName="/ppt/media/image56.wmf" ContentType="image/x-wmf"/>
  <Override PartName="/ppt/media/image40.wmf" ContentType="image/x-wmf"/>
  <Override PartName="/ppt/media/image30.wmf" ContentType="image/x-wmf"/>
  <Override PartName="/ppt/media/image39.wmf" ContentType="image/x-wmf"/>
  <Override PartName="/ppt/media/image9.wmf" ContentType="image/x-wmf"/>
  <Override PartName="/ppt/media/image38.wmf" ContentType="image/x-wmf"/>
  <Override PartName="/ppt/media/image8.wmf" ContentType="image/x-wmf"/>
  <Override PartName="/ppt/media/image49.wmf" ContentType="image/x-wmf"/>
  <Override PartName="/ppt/media/image12.wmf" ContentType="image/x-wmf"/>
  <Override PartName="/ppt/media/image37.wmf" ContentType="image/x-wmf"/>
  <Override PartName="/ppt/media/image7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_rels/slide88.xml.rels" ContentType="application/vnd.openxmlformats-package.relationships+xml"/>
  <Override PartName="/ppt/slides/_rels/slide115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106.xml.rels" ContentType="application/vnd.openxmlformats-package.relationships+xml"/>
  <Override PartName="/ppt/slides/_rels/slide73.xml.rels" ContentType="application/vnd.openxmlformats-package.relationships+xml"/>
  <Override PartName="/ppt/slides/_rels/slide76.xml.rels" ContentType="application/vnd.openxmlformats-package.relationships+xml"/>
  <Override PartName="/ppt/slides/_rels/slide109.xml.rels" ContentType="application/vnd.openxmlformats-package.relationships+xml"/>
  <Override PartName="/ppt/slides/_rels/slide31.xml.rels" ContentType="application/vnd.openxmlformats-package.relationships+xml"/>
  <Override PartName="/ppt/slides/_rels/slide131.xml.rels" ContentType="application/vnd.openxmlformats-package.relationships+xml"/>
  <Override PartName="/ppt/slides/_rels/slide137.xml.rels" ContentType="application/vnd.openxmlformats-package.relationships+xml"/>
  <Override PartName="/ppt/slides/_rels/slide53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139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54.xml.rels" ContentType="application/vnd.openxmlformats-package.relationships+xml"/>
  <Override PartName="/ppt/slides/_rels/slide52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12.xml.rels" ContentType="application/vnd.openxmlformats-package.relationships+xml"/>
  <Override PartName="/ppt/slides/_rels/slide44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_rels/slide28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29.xml.rels" ContentType="application/vnd.openxmlformats-package.relationships+xml"/>
  <Override PartName="/ppt/slides/_rels/slide132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78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34.xml.rels" ContentType="application/vnd.openxmlformats-package.relationships+xml"/>
  <Override PartName="/ppt/slides/_rels/slide111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40.xml.rels" ContentType="application/vnd.openxmlformats-package.relationships+xml"/>
  <Override PartName="/ppt/slides/_rels/slide135.xml.rels" ContentType="application/vnd.openxmlformats-package.relationships+xml"/>
  <Override PartName="/ppt/slides/_rels/slide5.xml.rels" ContentType="application/vnd.openxmlformats-package.relationships+xml"/>
  <Override PartName="/ppt/slides/_rels/slide55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130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4.xml.rels" ContentType="application/vnd.openxmlformats-package.relationships+xml"/>
  <Override PartName="/ppt/slides/_rels/slide86.xml.rels" ContentType="application/vnd.openxmlformats-package.relationships+xml"/>
  <Override PartName="/ppt/slides/_rels/slide119.xml.rels" ContentType="application/vnd.openxmlformats-package.relationships+xml"/>
  <Override PartName="/ppt/slides/_rels/slide89.xml.rels" ContentType="application/vnd.openxmlformats-package.relationships+xml"/>
  <Override PartName="/ppt/slides/_rels/slide35.xml.rels" ContentType="application/vnd.openxmlformats-package.relationships+xml"/>
  <Override PartName="/ppt/slides/_rels/slide112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8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19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62.xml.rels" ContentType="application/vnd.openxmlformats-package.relationships+xml"/>
  <Override PartName="/ppt/slides/_rels/slide140.xml.rels" ContentType="application/vnd.openxmlformats-package.relationships+xml"/>
  <Override PartName="/ppt/slides/_rels/slide63.xml.rels" ContentType="application/vnd.openxmlformats-package.relationships+xml"/>
  <Override PartName="/ppt/slides/_rels/slide141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_rels/slide120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39.xml.rels" ContentType="application/vnd.openxmlformats-package.relationships+xml"/>
  <Override PartName="/ppt/slides/_rels/slide68.xml.rels" ContentType="application/vnd.openxmlformats-package.relationships+xml"/>
  <Override PartName="/ppt/slides/_rels/slide126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69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07.xml.rels" ContentType="application/vnd.openxmlformats-package.relationships+xml"/>
  <Override PartName="/ppt/slides/_rels/slide108.xml.rels" ContentType="application/vnd.openxmlformats-package.relationships+xml"/>
  <Override PartName="/ppt/slides/_rels/slide75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103.xml.rels" ContentType="application/vnd.openxmlformats-package.relationships+xml"/>
  <Override PartName="/ppt/slides/_rels/slide70.xml.rels" ContentType="application/vnd.openxmlformats-package.relationships+xml"/>
  <Override PartName="/ppt/slides/_rels/slide26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18.xml" ContentType="application/vnd.openxmlformats-officedocument.presentationml.slide+xml"/>
  <Override PartName="/ppt/slides/slide1.xml" ContentType="application/vnd.openxmlformats-officedocument.presentationml.slide+xml"/>
  <Override PartName="/ppt/slides/slide108.xml" ContentType="application/vnd.openxmlformats-officedocument.presentationml.slide+xml"/>
  <Override PartName="/ppt/slides/slide2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0.xml" ContentType="application/vnd.openxmlformats-officedocument.presentationml.slide+xml"/>
  <Override PartName="/ppt/slides/slide139.xml" ContentType="application/vnd.openxmlformats-officedocument.presentationml.slide+xml"/>
  <Override PartName="/ppt/slides/slide5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53.xml" ContentType="application/vnd.openxmlformats-officedocument.presentationml.slide+xml"/>
  <Override PartName="/ppt/slides/slide56.xml" ContentType="application/vnd.openxmlformats-officedocument.presentationml.slide+xml"/>
  <Override PartName="/ppt/slides/slide51.xml" ContentType="application/vnd.openxmlformats-officedocument.presentationml.slide+xml"/>
  <Override PartName="/ppt/slides/slide128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43.xml" ContentType="application/vnd.openxmlformats-officedocument.presentationml.slide+xml"/>
  <Override PartName="/ppt/slides/slide5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140.xml" ContentType="application/vnd.openxmlformats-officedocument.presentationml.slide+xml"/>
  <Override PartName="/ppt/slides/slide44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37.xml" ContentType="application/vnd.openxmlformats-officedocument.presentationml.slide+xml"/>
  <Override PartName="/ppt/slides/slide138.xml" ContentType="application/vnd.openxmlformats-officedocument.presentationml.slide+xml"/>
  <Override PartName="/ppt/slides/slide50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48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47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142.xml" ContentType="application/vnd.openxmlformats-officedocument.presentationml.slide+xml"/>
  <Override PartName="/ppt/slides/slide46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41.xml" ContentType="application/vnd.openxmlformats-officedocument.presentationml.slide+xml"/>
  <Override PartName="/ppt/slides/slide4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07.xml" ContentType="application/vnd.openxmlformats-officedocument.presentationml.slide+xml"/>
  <Override PartName="/ppt/slides/slide79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78.xml" ContentType="application/vnd.openxmlformats-officedocument.presentationml.slide+xml"/>
  <Override PartName="/ppt/slides/slide106.xml" ContentType="application/vnd.openxmlformats-officedocument.presentationml.slide+xml"/>
  <Override PartName="/ppt/slides/slide17.xml" ContentType="application/vnd.openxmlformats-officedocument.presentationml.slide+xml"/>
  <Override PartName="/ppt/slides/slide85.xml" ContentType="application/vnd.openxmlformats-officedocument.presentationml.slide+xml"/>
  <Override PartName="/ppt/slides/slide113.xml" ContentType="application/vnd.openxmlformats-officedocument.presentationml.slide+xml"/>
  <Override PartName="/ppt/slides/slide18.xml" ContentType="application/vnd.openxmlformats-officedocument.presentationml.slide+xml"/>
  <Override PartName="/ppt/slides/slide86.xml" ContentType="application/vnd.openxmlformats-officedocument.presentationml.slide+xml"/>
  <Override PartName="/ppt/slides/slide114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15.xml" ContentType="application/vnd.openxmlformats-officedocument.presentationml.slide+xml"/>
  <Override PartName="/ppt/slides/slide88.xml" ContentType="application/vnd.openxmlformats-officedocument.presentationml.slide+xml"/>
  <Override PartName="/ppt/slides/slide1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  <p:sldId id="359" r:id="rId106"/>
    <p:sldId id="360" r:id="rId107"/>
    <p:sldId id="361" r:id="rId108"/>
    <p:sldId id="362" r:id="rId109"/>
    <p:sldId id="363" r:id="rId110"/>
    <p:sldId id="364" r:id="rId111"/>
    <p:sldId id="365" r:id="rId112"/>
    <p:sldId id="366" r:id="rId113"/>
    <p:sldId id="367" r:id="rId114"/>
    <p:sldId id="368" r:id="rId115"/>
    <p:sldId id="369" r:id="rId116"/>
    <p:sldId id="370" r:id="rId117"/>
    <p:sldId id="371" r:id="rId118"/>
    <p:sldId id="372" r:id="rId119"/>
    <p:sldId id="373" r:id="rId120"/>
    <p:sldId id="374" r:id="rId121"/>
    <p:sldId id="375" r:id="rId122"/>
    <p:sldId id="376" r:id="rId123"/>
    <p:sldId id="377" r:id="rId124"/>
    <p:sldId id="378" r:id="rId125"/>
    <p:sldId id="379" r:id="rId126"/>
    <p:sldId id="380" r:id="rId127"/>
    <p:sldId id="381" r:id="rId128"/>
    <p:sldId id="382" r:id="rId129"/>
    <p:sldId id="383" r:id="rId130"/>
    <p:sldId id="384" r:id="rId131"/>
    <p:sldId id="385" r:id="rId132"/>
    <p:sldId id="386" r:id="rId133"/>
    <p:sldId id="387" r:id="rId134"/>
    <p:sldId id="388" r:id="rId135"/>
    <p:sldId id="389" r:id="rId136"/>
    <p:sldId id="390" r:id="rId137"/>
    <p:sldId id="391" r:id="rId138"/>
    <p:sldId id="392" r:id="rId139"/>
    <p:sldId id="393" r:id="rId140"/>
    <p:sldId id="394" r:id="rId141"/>
    <p:sldId id="395" r:id="rId142"/>
    <p:sldId id="396" r:id="rId143"/>
    <p:sldId id="397" r:id="rId1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slide" Target="slides/slide104.xml"/><Relationship Id="rId107" Type="http://schemas.openxmlformats.org/officeDocument/2006/relationships/slide" Target="slides/slide105.xml"/><Relationship Id="rId108" Type="http://schemas.openxmlformats.org/officeDocument/2006/relationships/slide" Target="slides/slide106.xml"/><Relationship Id="rId109" Type="http://schemas.openxmlformats.org/officeDocument/2006/relationships/slide" Target="slides/slide107.xml"/><Relationship Id="rId110" Type="http://schemas.openxmlformats.org/officeDocument/2006/relationships/slide" Target="slides/slide108.xml"/><Relationship Id="rId111" Type="http://schemas.openxmlformats.org/officeDocument/2006/relationships/slide" Target="slides/slide109.xml"/><Relationship Id="rId112" Type="http://schemas.openxmlformats.org/officeDocument/2006/relationships/slide" Target="slides/slide110.xml"/><Relationship Id="rId113" Type="http://schemas.openxmlformats.org/officeDocument/2006/relationships/slide" Target="slides/slide111.xml"/><Relationship Id="rId114" Type="http://schemas.openxmlformats.org/officeDocument/2006/relationships/slide" Target="slides/slide112.xml"/><Relationship Id="rId115" Type="http://schemas.openxmlformats.org/officeDocument/2006/relationships/slide" Target="slides/slide113.xml"/><Relationship Id="rId116" Type="http://schemas.openxmlformats.org/officeDocument/2006/relationships/slide" Target="slides/slide114.xml"/><Relationship Id="rId117" Type="http://schemas.openxmlformats.org/officeDocument/2006/relationships/slide" Target="slides/slide115.xml"/><Relationship Id="rId118" Type="http://schemas.openxmlformats.org/officeDocument/2006/relationships/slide" Target="slides/slide116.xml"/><Relationship Id="rId119" Type="http://schemas.openxmlformats.org/officeDocument/2006/relationships/slide" Target="slides/slide117.xml"/><Relationship Id="rId120" Type="http://schemas.openxmlformats.org/officeDocument/2006/relationships/slide" Target="slides/slide118.xml"/><Relationship Id="rId121" Type="http://schemas.openxmlformats.org/officeDocument/2006/relationships/slide" Target="slides/slide119.xml"/><Relationship Id="rId122" Type="http://schemas.openxmlformats.org/officeDocument/2006/relationships/slide" Target="slides/slide120.xml"/><Relationship Id="rId123" Type="http://schemas.openxmlformats.org/officeDocument/2006/relationships/slide" Target="slides/slide121.xml"/><Relationship Id="rId124" Type="http://schemas.openxmlformats.org/officeDocument/2006/relationships/slide" Target="slides/slide122.xml"/><Relationship Id="rId125" Type="http://schemas.openxmlformats.org/officeDocument/2006/relationships/slide" Target="slides/slide123.xml"/><Relationship Id="rId126" Type="http://schemas.openxmlformats.org/officeDocument/2006/relationships/slide" Target="slides/slide124.xml"/><Relationship Id="rId127" Type="http://schemas.openxmlformats.org/officeDocument/2006/relationships/slide" Target="slides/slide125.xml"/><Relationship Id="rId128" Type="http://schemas.openxmlformats.org/officeDocument/2006/relationships/slide" Target="slides/slide126.xml"/><Relationship Id="rId129" Type="http://schemas.openxmlformats.org/officeDocument/2006/relationships/slide" Target="slides/slide127.xml"/><Relationship Id="rId130" Type="http://schemas.openxmlformats.org/officeDocument/2006/relationships/slide" Target="slides/slide128.xml"/><Relationship Id="rId131" Type="http://schemas.openxmlformats.org/officeDocument/2006/relationships/slide" Target="slides/slide129.xml"/><Relationship Id="rId132" Type="http://schemas.openxmlformats.org/officeDocument/2006/relationships/slide" Target="slides/slide130.xml"/><Relationship Id="rId133" Type="http://schemas.openxmlformats.org/officeDocument/2006/relationships/slide" Target="slides/slide131.xml"/><Relationship Id="rId134" Type="http://schemas.openxmlformats.org/officeDocument/2006/relationships/slide" Target="slides/slide132.xml"/><Relationship Id="rId135" Type="http://schemas.openxmlformats.org/officeDocument/2006/relationships/slide" Target="slides/slide133.xml"/><Relationship Id="rId136" Type="http://schemas.openxmlformats.org/officeDocument/2006/relationships/slide" Target="slides/slide134.xml"/><Relationship Id="rId137" Type="http://schemas.openxmlformats.org/officeDocument/2006/relationships/slide" Target="slides/slide135.xml"/><Relationship Id="rId138" Type="http://schemas.openxmlformats.org/officeDocument/2006/relationships/slide" Target="slides/slide136.xml"/><Relationship Id="rId139" Type="http://schemas.openxmlformats.org/officeDocument/2006/relationships/slide" Target="slides/slide137.xml"/><Relationship Id="rId140" Type="http://schemas.openxmlformats.org/officeDocument/2006/relationships/slide" Target="slides/slide138.xml"/><Relationship Id="rId141" Type="http://schemas.openxmlformats.org/officeDocument/2006/relationships/slide" Target="slides/slide139.xml"/><Relationship Id="rId142" Type="http://schemas.openxmlformats.org/officeDocument/2006/relationships/slide" Target="slides/slide140.xml"/><Relationship Id="rId143" Type="http://schemas.openxmlformats.org/officeDocument/2006/relationships/slide" Target="slides/slide141.xml"/><Relationship Id="rId144" Type="http://schemas.openxmlformats.org/officeDocument/2006/relationships/slide" Target="slides/slide142.xml"/><Relationship Id="rId1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147DD-9F13-40C2-8B48-82C434B1B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4600D-A592-4FD4-9549-F45A0D81E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CED7D-3CD8-406E-82A0-E6826D4BF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60DBC-DBC3-436D-9D39-D93265857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4F740-3AE0-48F7-831E-D7CB2B655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E72C6-7E38-4979-BE65-06CD0B108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2EF1D-29B2-469C-9997-0E441231E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868CC-DDD2-4C1D-982E-F4EF3E107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7E12F-A678-4D55-B7EB-EB3944E1C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77259-52F4-40D6-AB54-161449A86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B1DF0-0BBF-4C2D-AFF4-3D02B2DCD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B1CF9-3FFD-4644-A951-A386D731B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F0018-FB90-4B37-B92D-B1A4ABDF1B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viewer0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48.wmf"/><Relationship Id="rId2" Type="http://schemas.openxmlformats.org/officeDocument/2006/relationships/slideLayout" Target="../slideLayouts/slideLayout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49.wmf"/><Relationship Id="rId2" Type="http://schemas.openxmlformats.org/officeDocument/2006/relationships/slideLayout" Target="../slideLayouts/slideLayout5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0.wmf"/><Relationship Id="rId3" Type="http://schemas.openxmlformats.org/officeDocument/2006/relationships/slideLayout" Target="../slideLayouts/slideLayout5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image" Target="../media/image51.wmf"/><Relationship Id="rId2" Type="http://schemas.openxmlformats.org/officeDocument/2006/relationships/slideLayout" Target="../slideLayouts/slideLayout5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image" Target="../media/image52.wmf"/><Relationship Id="rId2" Type="http://schemas.openxmlformats.org/officeDocument/2006/relationships/slideLayout" Target="../slideLayouts/slideLayout5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image" Target="../media/image53.wmf"/><Relationship Id="rId2" Type="http://schemas.openxmlformats.org/officeDocument/2006/relationships/slideLayout" Target="../slideLayouts/slideLayout5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image" Target="../media/image54.wmf"/><Relationship Id="rId2" Type="http://schemas.openxmlformats.org/officeDocument/2006/relationships/slideLayout" Target="../slideLayouts/slideLayout3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image" Target="../media/image55.wmf"/><Relationship Id="rId2" Type="http://schemas.openxmlformats.org/officeDocument/2006/relationships/slideLayout" Target="../slideLayouts/slideLayout5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image" Target="../media/image56.wmf"/><Relationship Id="rId2" Type="http://schemas.openxmlformats.org/officeDocument/2006/relationships/slideLayout" Target="../slideLayouts/slideLayout5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image" Target="../media/image57.wmf"/><Relationship Id="rId2" Type="http://schemas.openxmlformats.org/officeDocument/2006/relationships/slideLayout" Target="../slideLayouts/slideLayout5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image" Target="../media/image58.wmf"/><Relationship Id="rId2" Type="http://schemas.openxmlformats.org/officeDocument/2006/relationships/slideLayout" Target="../slideLayouts/slideLayout1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image" Target="../media/image59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0.wmf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3.wmf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5.wmf"/><Relationship Id="rId3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6.wmf"/><Relationship Id="rId3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7.wmf"/><Relationship Id="rId3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750BE-8FF2-474A-9727-0CA136A4CA9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ecise, unambiguous, clea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other example (from a real safety-critical system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"/>
          <p:cNvSpPr/>
          <p:nvPr/>
        </p:nvSpPr>
        <p:spPr>
          <a:xfrm>
            <a:off x="718920" y="2971800"/>
            <a:ext cx="7861680" cy="1922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message must be triplicated. The th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pies must be forwarded through thre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ifferent physical channels. The receiv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ccepts the message on the basis of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wo-out-of-three voting policy.</a:t>
            </a:r>
            <a:r>
              <a:rPr b="0" lang="it-IT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9000" y="5334120"/>
            <a:ext cx="830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an a message be accepted as soon as we receive 2 out of 3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dentical copies of message or do we need to wait f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eceipt of the 3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B6755-F6F1-4D40-90F5-2A591E2648B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-11520" y="1828800"/>
            <a:ext cx="9551160" cy="825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10: Reserving F from inside E, which is not standing at F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causes immediate update of L according to previous poli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1312200" y="2971800"/>
            <a:ext cx="704124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request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R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not (standing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R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 (E, L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R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LF = insert_in_order(L, F, 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new_list (E, L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R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EE3F3-45D8-4E1C-B4D8-A77126E36B89}" type="slidenum">
              <a:t>1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/>
          <p:nvPr/>
        </p:nvSpPr>
        <p:spPr>
          <a:xfrm>
            <a:off x="635760" y="990720"/>
            <a:ext cx="5989680" cy="459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11: Effect of arrival of E at floor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1779480" y="1523880"/>
            <a:ext cx="5314680" cy="17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arrival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list (E, L, T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F = first (L) and L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= tail (L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new_list (E, L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710640" y="3505320"/>
            <a:ext cx="4276800" cy="459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12: How list chan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1323000" y="4038480"/>
            <a:ext cx="6537600" cy="17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new_list (E, L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not (new_list (E, L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&lt;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2 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&lt;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 (E, L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84C91-0DD0-4C73-BD1C-6F0E7BC95B07}" type="slidenum">
              <a:t>10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ifying specific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ystem can be simulated by providing a state (set of facts) and using rules to make dedu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lnSpc>
                <a:spcPct val="90000"/>
              </a:lnSpc>
              <a:spcBef>
                <a:spcPts val="1400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anding (2, 3, 5, 7)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elevator 2 at floor 3 at least from instant 5 to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lnSpc>
                <a:spcPct val="25000"/>
              </a:lnSpc>
              <a:spcBef>
                <a:spcPts val="1400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(2, empty, 5, 7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lnSpc>
                <a:spcPct val="25000"/>
              </a:lnSpc>
              <a:spcBef>
                <a:spcPts val="1400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request(2, 8, 7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lnSpc>
                <a:spcPct val="25000"/>
              </a:lnSpc>
              <a:spcBef>
                <a:spcPts val="1400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new_list(2, {8}, 7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(excluding other event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departure (2, up, 7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br>
              <a:rPr sz="2400"/>
            </a:b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 arrival (2, 8, 7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*(8-3)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3E995-E18E-4D7D-A67F-3CD67A1B3B45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ifying specific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perties can be stated and proved via dedu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new_list (E, L, T) and F </a:t>
            </a:r>
            <a:r>
              <a:rPr b="0" i="1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L</a:t>
            </a:r>
            <a:br>
              <a:rPr sz="2400"/>
            </a:b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br>
              <a:rPr sz="2400"/>
            </a:b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new_list (E, L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F </a:t>
            </a:r>
            <a:r>
              <a:rPr b="0" i="1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L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and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&gt;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all requests are served eventually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093FD-B14B-4121-9B36-DE68B15CC218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scriptive spec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system and its properties are described in the same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ng properties, however, cannot be fully mechanized for most langu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23629-95AA-4406-B13D-3C86A60E7E12}" type="slidenum">
              <a:t>10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lgebraic specific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 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heterogeneou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lgebra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eterogeneous = more than 1 s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specially useful to specify AD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0F3C5-02CD-4663-8E42-5B5EEF80600F}" type="slidenum">
              <a:t>10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strings, with operations f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reating new, empty strings (operation n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ncatenating strings (operation appen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dding a new character at the end of a string (operation ad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hecking the length of a given string (operation leng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hecking whether a string is empty (operation isEmpt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hecking whether two strings are equal (operation equ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B0302-2D10-4204-866C-511F57EDC210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ation: syntax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7" name=""/>
          <p:cNvSpPr/>
          <p:nvPr/>
        </p:nvSpPr>
        <p:spPr>
          <a:xfrm>
            <a:off x="1398960" y="1676520"/>
            <a:ext cx="62492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lgebra StringSpec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trodu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orts String, Char, Nat, Boo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p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ew: ()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String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ppend: String, String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Zapf Dingbats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tring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dd: String, Char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Zapf Dingbats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tring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ength: String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Zapf Dingbats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a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Empty: String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Zapf Dingbats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oo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qual: String, String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Zapf Dingbats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2E908-552A-42B0-877B-9315E4121579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ation: proper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9" name=""/>
          <p:cNvSpPr/>
          <p:nvPr/>
        </p:nvSpPr>
        <p:spPr>
          <a:xfrm>
            <a:off x="380880" y="1289160"/>
            <a:ext cx="82519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nstrains new, append, add, length, isEmpty, equal so t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r all [s, s1, s2: String; c: Char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Empty (new ()) =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Empty (add (s, c)) = fals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ength (new ()) = 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ength (add (s, c)) = length (s)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ppend (s, new ()) = 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ppend (s1, add (s2,c)) = add (append (s1,s2),c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qual (new (),new ()) =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qual (new (), add (s, c)) = fals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qual (add (s, c), new ()) = false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qual (add (s1, c), add (s2, c) = equal (s1,s2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StringSpe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A5626-0439-4021-863E-FE21754647E0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: editor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ew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reates a new, empty fi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sEmpty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tates whether a file is emp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dd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dds a string of characters to the end of a fi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nsert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serts a string at a given position of a fi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(t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he rest of the file will be rewritten just after the inserted str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ppend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ncatenates two files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4E868-1AAC-4E4B-86AF-716BBF3C892F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sist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pecification fragment for a word-process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"/>
          <p:cNvSpPr/>
          <p:nvPr/>
        </p:nvSpPr>
        <p:spPr>
          <a:xfrm>
            <a:off x="796680" y="2514600"/>
            <a:ext cx="7861680" cy="22885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e whole text should be kept in l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f equal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ength. The length is specifi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y the user. Unless the user gives a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xplicit hyphenation command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 carriage return should occur onl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t the end of a wo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65280" y="5334120"/>
            <a:ext cx="81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What if the length of a word exceeds the length of the lin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7D961-F761-4BFC-B9C4-35C991A3E12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235080" y="228600"/>
            <a:ext cx="86799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lgebra TextEdito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trodu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orts Text, String, Char, Bool, Na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p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ewF: ()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Tex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EmptyF: Tex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Boo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ddF: Text, String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Tex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sertF: Text, Nat, String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Zapf Dingbats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ex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ppendF: Text, Tex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Tex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eleteF: Tex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Zapf Dingbats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ex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engthF : Tex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Na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qualF : Text, Tex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Boo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ddFC: Text, Char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Tex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This is an auxiliary operation that will be need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o define addF and other operations on files.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EDC2A-1D8E-4C77-A2E0-F1472EA22EB2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/>
          <p:nvPr/>
        </p:nvSpPr>
        <p:spPr>
          <a:xfrm>
            <a:off x="670320" y="343080"/>
            <a:ext cx="751716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onstrains newF, isEmptyF, addF, appendF, insertF, delete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o tha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extEditor generated by [newF, addFC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for all [f, f1,f2: Text; s: String; c: Char; cursor: Na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sEmptyF (newF ()) = tru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sEmptyF (addFC (f, c)) = fals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ddF (f, newS ()) = f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ddF (f, addS (s, c)) = addFC (addF (f, s), c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engthF (newF ())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engthF (addFC (f, c)) = lengthF (f) +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ppendF (f, newF ()) = f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ppendF (f1, addFC (f2, c)) =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ddFC (appendF (f1, f2), c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qualF (newF (),newF ()) = tru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qualF (newF (), addFC (f, c)) = fals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qualF (addFC (f, c), new ()) = false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qualF (addFC (f1, c1), addFC (f2, c2) =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qualF (f1, f2) and equalC (c1, c2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sertF (f, cursor, newS ()) = f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((equalF (f, appendF (f1, f2)) and (lengthF (f1) = cursor - 1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mpli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qualF (insertF (f, cursor, s), appendF (addF (f1, s), f2))) = tru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nd TextEdito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968B4-0007-4AE3-9926-5F2EAA8F3332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quirements for a no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bility to support separation of concer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separate functional specs fr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ance spec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-interface spe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pport different view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74E83-10F0-47F2-AD41-54CFDD7BEC39}" type="slidenum">
              <a:t>1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 of view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ocument produc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7" name=""/>
          <p:cNvSpPr/>
          <p:nvPr/>
        </p:nvSpPr>
        <p:spPr>
          <a:xfrm>
            <a:off x="2995560" y="21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2724120" y="2378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9" name="" descr=""/>
          <p:cNvPicPr/>
          <p:nvPr/>
        </p:nvPicPr>
        <p:blipFill>
          <a:blip r:embed="rId1"/>
          <a:stretch/>
        </p:blipFill>
        <p:spPr>
          <a:xfrm>
            <a:off x="1295280" y="2438280"/>
            <a:ext cx="6705720" cy="3816360"/>
          </a:xfrm>
          <a:prstGeom prst="rect">
            <a:avLst/>
          </a:prstGeom>
          <a:ln w="0">
            <a:noFill/>
          </a:ln>
        </p:spPr>
      </p:pic>
      <p:sp>
        <p:nvSpPr>
          <p:cNvPr id="560" name=""/>
          <p:cNvSpPr/>
          <p:nvPr/>
        </p:nvSpPr>
        <p:spPr>
          <a:xfrm>
            <a:off x="2995560" y="21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608760" y="1676520"/>
            <a:ext cx="474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ata flow view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736B5-F94F-4D66-ACFC-D6661F1DB905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trol flow view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63" name="" descr=""/>
          <p:cNvPicPr/>
          <p:nvPr/>
        </p:nvPicPr>
        <p:blipFill>
          <a:blip r:embed="rId1"/>
          <a:stretch/>
        </p:blipFill>
        <p:spPr>
          <a:xfrm>
            <a:off x="1447920" y="1676520"/>
            <a:ext cx="5486400" cy="4557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481BC-0932-4EB9-B684-393B963EFB01}" type="slidenum">
              <a:t>1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ML not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ass diagra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cribe static architecture in terms of classes and associ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evolution can be described via Statecharts (see la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tivity diagra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cribe sequential and parallel composition of method executions, and synchro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5DF8D-7AA2-44DC-80EA-0A0E9614B3F4}" type="slidenum">
              <a:t>1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activity diagra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7" name=""/>
          <p:cNvSpPr/>
          <p:nvPr/>
        </p:nvSpPr>
        <p:spPr>
          <a:xfrm>
            <a:off x="1143000" y="914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8" name=""/>
          <p:cNvGraphicFramePr/>
          <p:nvPr/>
        </p:nvGraphicFramePr>
        <p:xfrm>
          <a:off x="380880" y="1447920"/>
          <a:ext cx="8229600" cy="521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447920"/>
                    <a:ext cx="8229600" cy="521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BD678-8B0C-4309-B402-44DBEDFFA0EB}" type="slidenum">
              <a:t>1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uilding modular specific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case of algebraic specif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to combine algebras taken from a libr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to organize them in a hierarc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50163-26EC-458B-8393-D45620672E77}" type="slidenum">
              <a:t>1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lgebras used by StringSpec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3" name=""/>
          <p:cNvSpPr/>
          <p:nvPr/>
        </p:nvSpPr>
        <p:spPr>
          <a:xfrm>
            <a:off x="537480" y="857160"/>
            <a:ext cx="57924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 BoolAlg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ntrodu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orts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rue (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false (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ot : Boo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nd: Bool, Boo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or: Bool, Boo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mplies: Bool, Boo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: Bool, Boo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constrains true, false, not, and, or, implies,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so th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Bool generated by [true, false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 [a, b: Bool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ot (true) = fals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ot (false) = tru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 and b = not (not (a) or not (b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 implies b = not (a) or b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end BoolAlg.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99CFF-6ACD-4C34-809A-C1E9B650CCBF}" type="slidenum">
              <a:t>1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lgebras used by StringSpec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5" name=""/>
          <p:cNvSpPr/>
          <p:nvPr/>
        </p:nvSpPr>
        <p:spPr>
          <a:xfrm>
            <a:off x="1006920" y="1936800"/>
            <a:ext cx="38962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 NatNumb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ntrodu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orts Nat,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0: ()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a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: Nat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a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+ : Nat, Nat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a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- : Nat, Nat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a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= : Nat, Nat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constrains 0, Succ, +, -, =,..., so th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atNumb generated by [0, Succ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end NatNumb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5383800" y="2286000"/>
            <a:ext cx="3366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 CharAlg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ntrodu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orts Char,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‘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’: ()® Cha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‘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b’ : ()® Cha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end CharAl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1B75F-3630-421E-8FBD-DBD7E0FC22E9}" type="slidenum">
              <a:t>1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let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nternal complete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 specification must define any new concept or terminology that it u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lossary helpful for this purpos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 specification must document all the needed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y: when should one stop?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5F936-BCA5-4A24-B1C8-638FEC1938A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ringSpec revisit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8" name=""/>
          <p:cNvSpPr/>
          <p:nvPr/>
        </p:nvSpPr>
        <p:spPr>
          <a:xfrm>
            <a:off x="1342440" y="1981080"/>
            <a:ext cx="6351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 StringSpec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mports BoolAlg, NatNumb, CharAlg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trodu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orts String, Char, Nat, Boo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ew: ()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String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StringSpec.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61F64-F244-4A31-B2A4-A3CAB50F9044}" type="slidenum">
              <a:t>1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cremental specification of an AD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want to target stacks, queues, se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art from "container" and then progressively specialize 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introduce another structuring cla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s inheritance relation among algebr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9214B-F10B-4691-A10A-6F6AD4BF708E}" type="slidenum">
              <a:t>1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tainer algebr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2" name=""/>
          <p:cNvSpPr/>
          <p:nvPr/>
        </p:nvSpPr>
        <p:spPr>
          <a:xfrm>
            <a:off x="438840" y="1143000"/>
            <a:ext cx="797148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 Containe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mports DataType, BoolAlg, NatNumb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ntrodu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orts Con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ew: (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Con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nsert: Cont, Data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{Data is the sort of algebra DataType, to which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elements to be stored in Cont belong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sEmpty: Cont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ize: Cont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a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constrains new, insert, isEmpty, size so th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 generated by [new, inser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 [d: Data; c: Co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sEmpty (new ()) = tru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sEmpty (insert (c, d)) = fals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ize (new ())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end Contain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2756A-2757-42B6-A0D9-182C73E4E4B9}" type="slidenum">
              <a:t>1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able specializes Contain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4" name=""/>
          <p:cNvSpPr/>
          <p:nvPr/>
        </p:nvSpPr>
        <p:spPr>
          <a:xfrm>
            <a:off x="478440" y="861840"/>
            <a:ext cx="6221880" cy="59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 TableAlg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assumes Containe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introdu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sorts Tabl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last: Table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Dat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rest: Table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Tabl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T : Table, Table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: Table, Data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Tabl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constrains last, rest, equalT, delete, isEmpty, new, insert so th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 [d, d1, d2: Data; t, t1, t2: Table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last (insert (t, d)) = d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rest (new ()) = new 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rest (insert (t, d)) = 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T (new (), new ()) = tru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T (insert (t, d), new ()) =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T (new (), insert (t,d)) =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T (t1,t2) = equalD(last (t1), last (t2)) an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T (rest (t1),rest (t2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 (new (), d) = new 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 (insert (t,d),d) = delete (t, d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if not equalD(d1, d2) th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 (insert (t, d1), d2) = insert (delete (t, d2), d1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nd TableAlg.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5196C-4777-4F11-A2D8-9C7B4B818953}" type="slidenum">
              <a:t>1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ue specializes Contain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6" name=""/>
          <p:cNvSpPr/>
          <p:nvPr/>
        </p:nvSpPr>
        <p:spPr>
          <a:xfrm>
            <a:off x="672120" y="762120"/>
            <a:ext cx="6825240" cy="59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 QueueAlg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assumes Containe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introdu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sort Queu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last: Queue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Dat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first: Queue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Dat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Q : Queue , Queue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:Queue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Queue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constrains last, first, equalQ, delete, isEmpty, new, insert so th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 [d: Data; q, q1, q2: Queue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last (insert (q, d)) = d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first (insert (new(), d) = 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first (insert (q, d)) = if not isEmpty (q) then first (q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Q (new (), new ()) = tru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Q (insert (q, d), new ()) =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Q (new (), insert (q, d)) =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Q (insert (q1, d1), insert (q2, d2)) = equalD (d1, d2) an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Q (q1,q2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 (new ()) = new 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 (insert (new (), d)) = new 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if not equalQ (q, new ()) th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 (insert (q,d)) = insert (delete (q), d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nd QueueAlg.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5C5D1-4C65-48D1-A403-D3E1E82EAE09}" type="slidenum">
              <a:t>1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graphical view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8" name=""/>
          <p:cNvSpPr/>
          <p:nvPr/>
        </p:nvSpPr>
        <p:spPr>
          <a:xfrm>
            <a:off x="3684600" y="2239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9" name=""/>
          <p:cNvGrpSpPr/>
          <p:nvPr/>
        </p:nvGrpSpPr>
        <p:grpSpPr>
          <a:xfrm>
            <a:off x="2873880" y="1647720"/>
            <a:ext cx="3199680" cy="4366440"/>
            <a:chOff x="2873880" y="1647720"/>
            <a:chExt cx="3199680" cy="4366440"/>
          </a:xfrm>
        </p:grpSpPr>
        <p:sp>
          <p:nvSpPr>
            <p:cNvPr id="590" name=""/>
            <p:cNvSpPr/>
            <p:nvPr/>
          </p:nvSpPr>
          <p:spPr>
            <a:xfrm>
              <a:off x="3992400" y="2946240"/>
              <a:ext cx="843120" cy="88920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114720" y="1647720"/>
              <a:ext cx="753840" cy="86832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5192640" y="1746360"/>
              <a:ext cx="754200" cy="80964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2952720" y="4341960"/>
              <a:ext cx="754200" cy="83016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3992400" y="4341960"/>
              <a:ext cx="771840" cy="85068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084640" y="4381560"/>
              <a:ext cx="862200" cy="90972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6" name=""/>
            <p:cNvGrpSpPr/>
            <p:nvPr/>
          </p:nvGrpSpPr>
          <p:grpSpPr>
            <a:xfrm>
              <a:off x="3768840" y="2308320"/>
              <a:ext cx="573120" cy="630000"/>
              <a:chOff x="3768840" y="2308320"/>
              <a:chExt cx="573120" cy="630000"/>
            </a:xfrm>
          </p:grpSpPr>
          <p:sp>
            <p:nvSpPr>
              <p:cNvPr id="597" name=""/>
              <p:cNvSpPr/>
              <p:nvPr/>
            </p:nvSpPr>
            <p:spPr>
              <a:xfrm>
                <a:off x="4091040" y="2682720"/>
                <a:ext cx="250920" cy="255600"/>
              </a:xfrm>
              <a:custGeom>
                <a:avLst/>
                <a:gdLst/>
                <a:ahLst/>
                <a:rect l="l" t="t" r="r" b="b"/>
                <a:pathLst>
                  <a:path w="158" h="161">
                    <a:moveTo>
                      <a:pt x="158" y="161"/>
                    </a:moveTo>
                    <a:lnTo>
                      <a:pt x="0" y="49"/>
                    </a:lnTo>
                    <a:lnTo>
                      <a:pt x="34" y="24"/>
                    </a:lnTo>
                    <a:lnTo>
                      <a:pt x="79" y="0"/>
                    </a:lnTo>
                    <a:lnTo>
                      <a:pt x="158" y="1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3768840" y="2308320"/>
                <a:ext cx="376200" cy="412560"/>
              </a:xfrm>
              <a:prstGeom prst="line">
                <a:avLst/>
              </a:prstGeom>
              <a:ln w="88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9" name=""/>
            <p:cNvGrpSpPr/>
            <p:nvPr/>
          </p:nvGrpSpPr>
          <p:grpSpPr>
            <a:xfrm>
              <a:off x="4557600" y="2406600"/>
              <a:ext cx="627120" cy="550800"/>
              <a:chOff x="4557600" y="2406600"/>
              <a:chExt cx="627120" cy="550800"/>
            </a:xfrm>
          </p:grpSpPr>
          <p:sp>
            <p:nvSpPr>
              <p:cNvPr id="600" name=""/>
              <p:cNvSpPr/>
              <p:nvPr/>
            </p:nvSpPr>
            <p:spPr>
              <a:xfrm>
                <a:off x="4557600" y="2682720"/>
                <a:ext cx="322200" cy="274680"/>
              </a:xfrm>
              <a:custGeom>
                <a:avLst/>
                <a:gdLst/>
                <a:ahLst/>
                <a:rect l="l" t="t" r="r" b="b"/>
                <a:pathLst>
                  <a:path w="203" h="173">
                    <a:moveTo>
                      <a:pt x="0" y="173"/>
                    </a:moveTo>
                    <a:lnTo>
                      <a:pt x="101" y="0"/>
                    </a:lnTo>
                    <a:lnTo>
                      <a:pt x="146" y="24"/>
                    </a:lnTo>
                    <a:lnTo>
                      <a:pt x="203" y="62"/>
                    </a:lnTo>
                    <a:lnTo>
                      <a:pt x="0" y="1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flipH="1">
                <a:off x="4789440" y="2406600"/>
                <a:ext cx="395280" cy="314280"/>
              </a:xfrm>
              <a:prstGeom prst="line">
                <a:avLst/>
              </a:prstGeom>
              <a:ln w="88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2" name=""/>
            <p:cNvSpPr/>
            <p:nvPr/>
          </p:nvSpPr>
          <p:spPr>
            <a:xfrm>
              <a:off x="5306040" y="1874880"/>
              <a:ext cx="508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ab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5757480" y="1874880"/>
              <a:ext cx="107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5290920" y="2111400"/>
              <a:ext cx="70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lgeb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3196080" y="1816200"/>
              <a:ext cx="608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Que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750840" y="1816200"/>
              <a:ext cx="107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3195360" y="2052720"/>
              <a:ext cx="70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lgeb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3062520" y="4511520"/>
              <a:ext cx="4075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Boo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428640" y="4511520"/>
              <a:ext cx="107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3051000" y="4748040"/>
              <a:ext cx="70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lgeb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4026960" y="3173400"/>
              <a:ext cx="88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ontain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4825440" y="3173400"/>
              <a:ext cx="107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4036680" y="3409920"/>
              <a:ext cx="70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lgeb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4094640" y="4471920"/>
              <a:ext cx="316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4377960" y="4471920"/>
              <a:ext cx="107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4090680" y="4708440"/>
              <a:ext cx="70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lgeb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137200" y="4629240"/>
              <a:ext cx="936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ataTyp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5166360" y="4865760"/>
              <a:ext cx="54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eneva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202000" y="4865760"/>
              <a:ext cx="70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lgeb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2873880" y="5554800"/>
              <a:ext cx="733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Legend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4379760" y="5554800"/>
              <a:ext cx="743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mpor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4935240" y="5554800"/>
              <a:ext cx="1005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elation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4392000" y="5770440"/>
              <a:ext cx="867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ssu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5131080" y="5770440"/>
              <a:ext cx="835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el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5" name=""/>
            <p:cNvGrpSpPr/>
            <p:nvPr/>
          </p:nvGrpSpPr>
          <p:grpSpPr>
            <a:xfrm>
              <a:off x="3714840" y="5810400"/>
              <a:ext cx="555480" cy="196560"/>
              <a:chOff x="3714840" y="5810400"/>
              <a:chExt cx="555480" cy="196560"/>
            </a:xfrm>
          </p:grpSpPr>
          <p:sp>
            <p:nvSpPr>
              <p:cNvPr id="626" name=""/>
              <p:cNvSpPr/>
              <p:nvPr/>
            </p:nvSpPr>
            <p:spPr>
              <a:xfrm>
                <a:off x="4037040" y="5810400"/>
                <a:ext cx="233280" cy="196560"/>
              </a:xfrm>
              <a:custGeom>
                <a:avLst/>
                <a:gdLst/>
                <a:ahLst/>
                <a:rect l="l" t="t" r="r" b="b"/>
                <a:pathLst>
                  <a:path w="147" h="124">
                    <a:moveTo>
                      <a:pt x="147" y="62"/>
                    </a:moveTo>
                    <a:lnTo>
                      <a:pt x="0" y="124"/>
                    </a:lnTo>
                    <a:lnTo>
                      <a:pt x="0" y="62"/>
                    </a:lnTo>
                    <a:lnTo>
                      <a:pt x="0" y="0"/>
                    </a:lnTo>
                    <a:lnTo>
                      <a:pt x="147" y="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3714840" y="5908680"/>
                <a:ext cx="322200" cy="1440"/>
              </a:xfrm>
              <a:prstGeom prst="line">
                <a:avLst/>
              </a:prstGeom>
              <a:ln w="71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8" name=""/>
            <p:cNvGrpSpPr/>
            <p:nvPr/>
          </p:nvGrpSpPr>
          <p:grpSpPr>
            <a:xfrm>
              <a:off x="4341960" y="3822840"/>
              <a:ext cx="107640" cy="511200"/>
              <a:chOff x="4341960" y="3822840"/>
              <a:chExt cx="107640" cy="511200"/>
            </a:xfrm>
          </p:grpSpPr>
          <p:sp>
            <p:nvSpPr>
              <p:cNvPr id="629" name=""/>
              <p:cNvSpPr/>
              <p:nvPr/>
            </p:nvSpPr>
            <p:spPr>
              <a:xfrm>
                <a:off x="4341960" y="4138560"/>
                <a:ext cx="107640" cy="195480"/>
              </a:xfrm>
              <a:custGeom>
                <a:avLst/>
                <a:gdLst/>
                <a:ahLst/>
                <a:rect l="l" t="t" r="r" b="b"/>
                <a:pathLst>
                  <a:path w="68" h="123">
                    <a:moveTo>
                      <a:pt x="34" y="123"/>
                    </a:moveTo>
                    <a:lnTo>
                      <a:pt x="0" y="0"/>
                    </a:lnTo>
                    <a:lnTo>
                      <a:pt x="34" y="37"/>
                    </a:lnTo>
                    <a:lnTo>
                      <a:pt x="68" y="0"/>
                    </a:lnTo>
                    <a:lnTo>
                      <a:pt x="34" y="1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4395960" y="3822840"/>
                <a:ext cx="1440" cy="37440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1" name=""/>
            <p:cNvGrpSpPr/>
            <p:nvPr/>
          </p:nvGrpSpPr>
          <p:grpSpPr>
            <a:xfrm>
              <a:off x="3554280" y="3705120"/>
              <a:ext cx="555480" cy="708120"/>
              <a:chOff x="3554280" y="3705120"/>
              <a:chExt cx="555480" cy="708120"/>
            </a:xfrm>
          </p:grpSpPr>
          <p:sp>
            <p:nvSpPr>
              <p:cNvPr id="632" name=""/>
              <p:cNvSpPr/>
              <p:nvPr/>
            </p:nvSpPr>
            <p:spPr>
              <a:xfrm>
                <a:off x="3554280" y="4237200"/>
                <a:ext cx="160560" cy="176040"/>
              </a:xfrm>
              <a:custGeom>
                <a:avLst/>
                <a:gdLst/>
                <a:ahLst/>
                <a:rect l="l" t="t" r="r" b="b"/>
                <a:pathLst>
                  <a:path w="101" h="111">
                    <a:moveTo>
                      <a:pt x="0" y="111"/>
                    </a:moveTo>
                    <a:lnTo>
                      <a:pt x="45" y="0"/>
                    </a:lnTo>
                    <a:lnTo>
                      <a:pt x="45" y="49"/>
                    </a:lnTo>
                    <a:lnTo>
                      <a:pt x="101" y="37"/>
                    </a:lnTo>
                    <a:lnTo>
                      <a:pt x="0" y="1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flipH="1">
                <a:off x="3625560" y="3705120"/>
                <a:ext cx="484200" cy="6098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4" name=""/>
            <p:cNvGrpSpPr/>
            <p:nvPr/>
          </p:nvGrpSpPr>
          <p:grpSpPr>
            <a:xfrm>
              <a:off x="4754520" y="3646440"/>
              <a:ext cx="536760" cy="766800"/>
              <a:chOff x="4754520" y="3646440"/>
              <a:chExt cx="536760" cy="766800"/>
            </a:xfrm>
          </p:grpSpPr>
          <p:sp>
            <p:nvSpPr>
              <p:cNvPr id="635" name=""/>
              <p:cNvSpPr/>
              <p:nvPr/>
            </p:nvSpPr>
            <p:spPr>
              <a:xfrm>
                <a:off x="5148360" y="4216320"/>
                <a:ext cx="142920" cy="196920"/>
              </a:xfrm>
              <a:custGeom>
                <a:avLst/>
                <a:gdLst/>
                <a:ahLst/>
                <a:rect l="l" t="t" r="r" b="b"/>
                <a:pathLst>
                  <a:path w="90" h="124">
                    <a:moveTo>
                      <a:pt x="90" y="124"/>
                    </a:moveTo>
                    <a:lnTo>
                      <a:pt x="0" y="50"/>
                    </a:lnTo>
                    <a:lnTo>
                      <a:pt x="45" y="62"/>
                    </a:lnTo>
                    <a:lnTo>
                      <a:pt x="45" y="0"/>
                    </a:lnTo>
                    <a:lnTo>
                      <a:pt x="90" y="1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4754520" y="3646440"/>
                <a:ext cx="465120" cy="66852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7" name=""/>
            <p:cNvGrpSpPr/>
            <p:nvPr/>
          </p:nvGrpSpPr>
          <p:grpSpPr>
            <a:xfrm>
              <a:off x="3714840" y="5613480"/>
              <a:ext cx="573120" cy="117360"/>
              <a:chOff x="3714840" y="5613480"/>
              <a:chExt cx="573120" cy="117360"/>
            </a:xfrm>
          </p:grpSpPr>
          <p:sp>
            <p:nvSpPr>
              <p:cNvPr id="638" name=""/>
              <p:cNvSpPr/>
              <p:nvPr/>
            </p:nvSpPr>
            <p:spPr>
              <a:xfrm>
                <a:off x="4110120" y="5613480"/>
                <a:ext cx="177840" cy="117360"/>
              </a:xfrm>
              <a:custGeom>
                <a:avLst/>
                <a:gdLst/>
                <a:ahLst/>
                <a:rect l="l" t="t" r="r" b="b"/>
                <a:pathLst>
                  <a:path w="112" h="74">
                    <a:moveTo>
                      <a:pt x="112" y="37"/>
                    </a:moveTo>
                    <a:lnTo>
                      <a:pt x="0" y="74"/>
                    </a:lnTo>
                    <a:lnTo>
                      <a:pt x="33" y="37"/>
                    </a:lnTo>
                    <a:lnTo>
                      <a:pt x="0" y="0"/>
                    </a:lnTo>
                    <a:lnTo>
                      <a:pt x="112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3714840" y="5672160"/>
                <a:ext cx="447480" cy="14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B02C2-93E5-44A9-AC81-0C9D1F94E242}" type="slidenum">
              <a:t>1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richer hierarch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1" name=""/>
          <p:cNvSpPr/>
          <p:nvPr/>
        </p:nvSpPr>
        <p:spPr>
          <a:xfrm>
            <a:off x="3219480" y="1703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2" name="" descr=""/>
          <p:cNvPicPr/>
          <p:nvPr/>
        </p:nvPicPr>
        <p:blipFill>
          <a:blip r:embed="rId1"/>
          <a:stretch/>
        </p:blipFill>
        <p:spPr>
          <a:xfrm>
            <a:off x="2514600" y="1295280"/>
            <a:ext cx="3741840" cy="477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B2C42-2D5F-48FE-AD69-856FDC61228A}" type="slidenum">
              <a:t>1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rom specs to an implemen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gebraic spec language described so far is based on the "Larch shared language"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ral "interface languages" are available to help transitioning to an imple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ch/C++, Larch/Pas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53B65-3633-49FE-9A5C-6B9A5FF86870}" type="slidenum">
              <a:t>1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ing Larch/Pascal for StringSpec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6" name=""/>
          <p:cNvSpPr/>
          <p:nvPr/>
        </p:nvSpPr>
        <p:spPr>
          <a:xfrm>
            <a:off x="7920" y="1523880"/>
            <a:ext cx="90122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ype String exports isEmpty, add, append,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ased on Boolean, integer, charac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unction isEmpty (s: String) : Boole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ifies at most [ ] {i.e., it has no side effects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add (var s : String; c : cha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ifies at most [s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{modif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es only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string parameter s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unction length (s: String) : inte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ifies at most [ ]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append (var s1, s2, s3: str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ifies at most [s3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{only s3, the result of the operation, is modified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StringSpe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D7B2A-17DC-43F8-87DF-5DE9D19BEB50}" type="slidenum">
              <a:t>1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arizing finite state machin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techarts do th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have been incorporated in UM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provide the notions o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er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 decompo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60191-63F5-4C8F-AF0C-87430BAD4D69}" type="slidenum">
              <a:t>1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crementa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ferring to the specification pro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from a sketchy document and progressively add detai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ferring to the specification docu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document is structured and can be understood in increm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C6366-F662-4765-8182-28249767858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quential decompositio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--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hemical plant control example--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0" name=""/>
          <p:cNvSpPr/>
          <p:nvPr/>
        </p:nvSpPr>
        <p:spPr>
          <a:xfrm>
            <a:off x="2019240" y="152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1" name="" descr=""/>
          <p:cNvPicPr/>
          <p:nvPr/>
        </p:nvPicPr>
        <p:blipFill>
          <a:blip r:embed="rId1"/>
          <a:stretch/>
        </p:blipFill>
        <p:spPr>
          <a:xfrm>
            <a:off x="838080" y="838080"/>
            <a:ext cx="7848720" cy="5857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C9353-5E41-4561-BB8F-7B706372E6F9}" type="slidenum">
              <a:t>1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arallel decomposi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3" name=""/>
          <p:cNvSpPr/>
          <p:nvPr/>
        </p:nvSpPr>
        <p:spPr>
          <a:xfrm>
            <a:off x="1714680" y="152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4" name="" descr=""/>
          <p:cNvPicPr/>
          <p:nvPr/>
        </p:nvPicPr>
        <p:blipFill>
          <a:blip r:embed="rId1"/>
          <a:stretch/>
        </p:blipFill>
        <p:spPr>
          <a:xfrm>
            <a:off x="380880" y="762120"/>
            <a:ext cx="8382240" cy="5587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BD263-14D5-496E-89C1-0EFA338298AE}" type="slidenum">
              <a:t>1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bject state diagram using Statechar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6" name=""/>
          <p:cNvSpPr/>
          <p:nvPr/>
        </p:nvSpPr>
        <p:spPr>
          <a:xfrm>
            <a:off x="1687680" y="156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7" name=""/>
          <p:cNvGrpSpPr/>
          <p:nvPr/>
        </p:nvGrpSpPr>
        <p:grpSpPr>
          <a:xfrm>
            <a:off x="-534960" y="1828800"/>
            <a:ext cx="9129600" cy="3087720"/>
            <a:chOff x="-534960" y="1828800"/>
            <a:chExt cx="9129600" cy="3087720"/>
          </a:xfrm>
        </p:grpSpPr>
        <p:sp>
          <p:nvSpPr>
            <p:cNvPr id="658" name=""/>
            <p:cNvSpPr/>
            <p:nvPr/>
          </p:nvSpPr>
          <p:spPr>
            <a:xfrm>
              <a:off x="-534960" y="182880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1766880" y="3411360"/>
              <a:ext cx="955800" cy="447840"/>
            </a:xfrm>
            <a:custGeom>
              <a:avLst/>
              <a:gdLst/>
              <a:ahLst/>
              <a:rect l="l" t="t" r="r" b="b"/>
              <a:pathLst>
                <a:path w="602" h="282">
                  <a:moveTo>
                    <a:pt x="37" y="0"/>
                  </a:moveTo>
                  <a:lnTo>
                    <a:pt x="29" y="1"/>
                  </a:lnTo>
                  <a:lnTo>
                    <a:pt x="22" y="3"/>
                  </a:lnTo>
                  <a:lnTo>
                    <a:pt x="10" y="10"/>
                  </a:lnTo>
                  <a:lnTo>
                    <a:pt x="3" y="22"/>
                  </a:lnTo>
                  <a:lnTo>
                    <a:pt x="2" y="29"/>
                  </a:lnTo>
                  <a:lnTo>
                    <a:pt x="0" y="36"/>
                  </a:lnTo>
                  <a:lnTo>
                    <a:pt x="0" y="246"/>
                  </a:lnTo>
                  <a:lnTo>
                    <a:pt x="2" y="253"/>
                  </a:lnTo>
                  <a:lnTo>
                    <a:pt x="3" y="260"/>
                  </a:lnTo>
                  <a:lnTo>
                    <a:pt x="10" y="272"/>
                  </a:lnTo>
                  <a:lnTo>
                    <a:pt x="22" y="279"/>
                  </a:lnTo>
                  <a:lnTo>
                    <a:pt x="29" y="282"/>
                  </a:lnTo>
                  <a:lnTo>
                    <a:pt x="37" y="282"/>
                  </a:lnTo>
                  <a:lnTo>
                    <a:pt x="564" y="282"/>
                  </a:lnTo>
                  <a:lnTo>
                    <a:pt x="571" y="282"/>
                  </a:lnTo>
                  <a:lnTo>
                    <a:pt x="578" y="279"/>
                  </a:lnTo>
                  <a:lnTo>
                    <a:pt x="591" y="272"/>
                  </a:lnTo>
                  <a:lnTo>
                    <a:pt x="599" y="260"/>
                  </a:lnTo>
                  <a:lnTo>
                    <a:pt x="602" y="253"/>
                  </a:lnTo>
                  <a:lnTo>
                    <a:pt x="602" y="246"/>
                  </a:lnTo>
                  <a:lnTo>
                    <a:pt x="602" y="36"/>
                  </a:lnTo>
                  <a:lnTo>
                    <a:pt x="602" y="29"/>
                  </a:lnTo>
                  <a:lnTo>
                    <a:pt x="599" y="22"/>
                  </a:lnTo>
                  <a:lnTo>
                    <a:pt x="591" y="10"/>
                  </a:lnTo>
                  <a:lnTo>
                    <a:pt x="578" y="3"/>
                  </a:lnTo>
                  <a:lnTo>
                    <a:pt x="571" y="1"/>
                  </a:lnTo>
                  <a:lnTo>
                    <a:pt x="564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fff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2018880" y="3502080"/>
              <a:ext cx="5767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Empty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2598840" y="350208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1090440" y="3546360"/>
              <a:ext cx="138240" cy="138240"/>
            </a:xfrm>
            <a:prstGeom prst="ellipse">
              <a:avLst/>
            </a:prstGeom>
            <a:solidFill>
              <a:srgbClr val="0000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3" name=""/>
            <p:cNvGrpSpPr/>
            <p:nvPr/>
          </p:nvGrpSpPr>
          <p:grpSpPr>
            <a:xfrm>
              <a:off x="1212840" y="3559320"/>
              <a:ext cx="565200" cy="141120"/>
              <a:chOff x="1212840" y="3559320"/>
              <a:chExt cx="565200" cy="141120"/>
            </a:xfrm>
          </p:grpSpPr>
          <p:sp>
            <p:nvSpPr>
              <p:cNvPr id="664" name=""/>
              <p:cNvSpPr/>
              <p:nvPr/>
            </p:nvSpPr>
            <p:spPr>
              <a:xfrm>
                <a:off x="1212840" y="3629160"/>
                <a:ext cx="565200" cy="144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1627200" y="3559320"/>
                <a:ext cx="150840" cy="141120"/>
              </a:xfrm>
              <a:custGeom>
                <a:avLst/>
                <a:gdLst/>
                <a:ahLst/>
                <a:rect l="l" t="t" r="r" b="b"/>
                <a:pathLst>
                  <a:path w="95" h="89">
                    <a:moveTo>
                      <a:pt x="0" y="89"/>
                    </a:moveTo>
                    <a:lnTo>
                      <a:pt x="95" y="44"/>
                    </a:lnTo>
                    <a:lnTo>
                      <a:pt x="0" y="0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6" name=""/>
            <p:cNvSpPr/>
            <p:nvPr/>
          </p:nvSpPr>
          <p:spPr>
            <a:xfrm>
              <a:off x="4808520" y="3411360"/>
              <a:ext cx="1203480" cy="447840"/>
            </a:xfrm>
            <a:custGeom>
              <a:avLst/>
              <a:gdLst/>
              <a:ahLst/>
              <a:rect l="l" t="t" r="r" b="b"/>
              <a:pathLst>
                <a:path w="758" h="282">
                  <a:moveTo>
                    <a:pt x="38" y="0"/>
                  </a:moveTo>
                  <a:lnTo>
                    <a:pt x="31" y="1"/>
                  </a:lnTo>
                  <a:lnTo>
                    <a:pt x="23" y="3"/>
                  </a:lnTo>
                  <a:lnTo>
                    <a:pt x="12" y="10"/>
                  </a:lnTo>
                  <a:lnTo>
                    <a:pt x="3" y="22"/>
                  </a:lnTo>
                  <a:lnTo>
                    <a:pt x="1" y="29"/>
                  </a:lnTo>
                  <a:lnTo>
                    <a:pt x="0" y="36"/>
                  </a:lnTo>
                  <a:lnTo>
                    <a:pt x="0" y="246"/>
                  </a:lnTo>
                  <a:lnTo>
                    <a:pt x="1" y="253"/>
                  </a:lnTo>
                  <a:lnTo>
                    <a:pt x="3" y="260"/>
                  </a:lnTo>
                  <a:lnTo>
                    <a:pt x="12" y="272"/>
                  </a:lnTo>
                  <a:lnTo>
                    <a:pt x="23" y="279"/>
                  </a:lnTo>
                  <a:lnTo>
                    <a:pt x="31" y="282"/>
                  </a:lnTo>
                  <a:lnTo>
                    <a:pt x="38" y="282"/>
                  </a:lnTo>
                  <a:lnTo>
                    <a:pt x="720" y="282"/>
                  </a:lnTo>
                  <a:lnTo>
                    <a:pt x="727" y="282"/>
                  </a:lnTo>
                  <a:lnTo>
                    <a:pt x="734" y="279"/>
                  </a:lnTo>
                  <a:lnTo>
                    <a:pt x="746" y="272"/>
                  </a:lnTo>
                  <a:lnTo>
                    <a:pt x="755" y="260"/>
                  </a:lnTo>
                  <a:lnTo>
                    <a:pt x="756" y="253"/>
                  </a:lnTo>
                  <a:lnTo>
                    <a:pt x="758" y="246"/>
                  </a:lnTo>
                  <a:lnTo>
                    <a:pt x="758" y="36"/>
                  </a:lnTo>
                  <a:lnTo>
                    <a:pt x="756" y="29"/>
                  </a:lnTo>
                  <a:lnTo>
                    <a:pt x="755" y="22"/>
                  </a:lnTo>
                  <a:lnTo>
                    <a:pt x="746" y="10"/>
                  </a:lnTo>
                  <a:lnTo>
                    <a:pt x="734" y="3"/>
                  </a:lnTo>
                  <a:lnTo>
                    <a:pt x="727" y="1"/>
                  </a:lnTo>
                  <a:lnTo>
                    <a:pt x="720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fffff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4984200" y="3495600"/>
              <a:ext cx="901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NotEmpty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409360" y="3746520"/>
              <a:ext cx="109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514840" y="374652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0" name=""/>
            <p:cNvGrpSpPr/>
            <p:nvPr/>
          </p:nvGrpSpPr>
          <p:grpSpPr>
            <a:xfrm>
              <a:off x="2719440" y="3476520"/>
              <a:ext cx="2085840" cy="141480"/>
              <a:chOff x="2719440" y="3476520"/>
              <a:chExt cx="2085840" cy="141480"/>
            </a:xfrm>
          </p:grpSpPr>
          <p:sp>
            <p:nvSpPr>
              <p:cNvPr id="671" name=""/>
              <p:cNvSpPr/>
              <p:nvPr/>
            </p:nvSpPr>
            <p:spPr>
              <a:xfrm>
                <a:off x="2719440" y="3546360"/>
                <a:ext cx="2085840" cy="180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4656240" y="3476520"/>
                <a:ext cx="149040" cy="141480"/>
              </a:xfrm>
              <a:custGeom>
                <a:avLst/>
                <a:gdLst/>
                <a:ahLst/>
                <a:rect l="l" t="t" r="r" b="b"/>
                <a:pathLst>
                  <a:path w="94" h="89">
                    <a:moveTo>
                      <a:pt x="0" y="89"/>
                    </a:moveTo>
                    <a:lnTo>
                      <a:pt x="94" y="44"/>
                    </a:lnTo>
                    <a:lnTo>
                      <a:pt x="0" y="0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3" name=""/>
            <p:cNvGrpSpPr/>
            <p:nvPr/>
          </p:nvGrpSpPr>
          <p:grpSpPr>
            <a:xfrm>
              <a:off x="2719440" y="3625920"/>
              <a:ext cx="2085840" cy="141120"/>
              <a:chOff x="2719440" y="3625920"/>
              <a:chExt cx="2085840" cy="141120"/>
            </a:xfrm>
          </p:grpSpPr>
          <p:sp>
            <p:nvSpPr>
              <p:cNvPr id="674" name=""/>
              <p:cNvSpPr/>
              <p:nvPr/>
            </p:nvSpPr>
            <p:spPr>
              <a:xfrm flipH="1">
                <a:off x="2719440" y="3695760"/>
                <a:ext cx="2085840" cy="144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2719440" y="3625920"/>
                <a:ext cx="154080" cy="141120"/>
              </a:xfrm>
              <a:custGeom>
                <a:avLst/>
                <a:gdLst/>
                <a:ahLst/>
                <a:rect l="l" t="t" r="r" b="b"/>
                <a:pathLst>
                  <a:path w="97" h="89">
                    <a:moveTo>
                      <a:pt x="97" y="0"/>
                    </a:moveTo>
                    <a:lnTo>
                      <a:pt x="0" y="46"/>
                    </a:lnTo>
                    <a:lnTo>
                      <a:pt x="97" y="89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6" name=""/>
            <p:cNvSpPr/>
            <p:nvPr/>
          </p:nvSpPr>
          <p:spPr>
            <a:xfrm>
              <a:off x="5437080" y="2685960"/>
              <a:ext cx="1451160" cy="35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646600" y="2751120"/>
              <a:ext cx="349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Top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999040" y="275112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6159600" y="3881520"/>
              <a:ext cx="1450800" cy="35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6409080" y="3946680"/>
              <a:ext cx="9471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Push(item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7367400" y="394668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916440" y="4559400"/>
              <a:ext cx="467820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4308480" y="4624560"/>
              <a:ext cx="32241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Pop[stack contains more than 1 item]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564320" y="462456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3278160" y="3216240"/>
              <a:ext cx="1451160" cy="35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3527640" y="3281400"/>
              <a:ext cx="9471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Push(item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4486320" y="328140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597040" y="3743280"/>
              <a:ext cx="358164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930400" y="3809880"/>
              <a:ext cx="2298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Pop[stack contains 1 item]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5256000" y="380988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1" name=""/>
            <p:cNvGrpSpPr/>
            <p:nvPr/>
          </p:nvGrpSpPr>
          <p:grpSpPr>
            <a:xfrm>
              <a:off x="4970520" y="2836800"/>
              <a:ext cx="619200" cy="574560"/>
              <a:chOff x="4970520" y="2836800"/>
              <a:chExt cx="619200" cy="574560"/>
            </a:xfrm>
          </p:grpSpPr>
          <p:sp>
            <p:nvSpPr>
              <p:cNvPr id="692" name=""/>
              <p:cNvSpPr/>
              <p:nvPr/>
            </p:nvSpPr>
            <p:spPr>
              <a:xfrm>
                <a:off x="4970520" y="2836800"/>
                <a:ext cx="619200" cy="574560"/>
              </a:xfrm>
              <a:custGeom>
                <a:avLst/>
                <a:gdLst/>
                <a:ahLst/>
                <a:rect l="l" t="t" r="r" b="b"/>
                <a:pathLst>
                  <a:path w="390" h="362">
                    <a:moveTo>
                      <a:pt x="206" y="362"/>
                    </a:moveTo>
                    <a:lnTo>
                      <a:pt x="151" y="347"/>
                    </a:lnTo>
                    <a:lnTo>
                      <a:pt x="124" y="339"/>
                    </a:lnTo>
                    <a:lnTo>
                      <a:pt x="99" y="329"/>
                    </a:lnTo>
                    <a:lnTo>
                      <a:pt x="76" y="319"/>
                    </a:lnTo>
                    <a:lnTo>
                      <a:pt x="56" y="307"/>
                    </a:lnTo>
                    <a:lnTo>
                      <a:pt x="38" y="292"/>
                    </a:lnTo>
                    <a:lnTo>
                      <a:pt x="24" y="276"/>
                    </a:lnTo>
                    <a:lnTo>
                      <a:pt x="13" y="255"/>
                    </a:lnTo>
                    <a:lnTo>
                      <a:pt x="6" y="232"/>
                    </a:lnTo>
                    <a:lnTo>
                      <a:pt x="2" y="206"/>
                    </a:lnTo>
                    <a:lnTo>
                      <a:pt x="0" y="177"/>
                    </a:lnTo>
                    <a:lnTo>
                      <a:pt x="0" y="150"/>
                    </a:lnTo>
                    <a:lnTo>
                      <a:pt x="3" y="124"/>
                    </a:lnTo>
                    <a:lnTo>
                      <a:pt x="7" y="99"/>
                    </a:lnTo>
                    <a:lnTo>
                      <a:pt x="10" y="89"/>
                    </a:lnTo>
                    <a:lnTo>
                      <a:pt x="15" y="80"/>
                    </a:lnTo>
                    <a:lnTo>
                      <a:pt x="25" y="63"/>
                    </a:lnTo>
                    <a:lnTo>
                      <a:pt x="38" y="48"/>
                    </a:lnTo>
                    <a:lnTo>
                      <a:pt x="54" y="36"/>
                    </a:lnTo>
                    <a:lnTo>
                      <a:pt x="72" y="26"/>
                    </a:lnTo>
                    <a:lnTo>
                      <a:pt x="91" y="17"/>
                    </a:lnTo>
                    <a:lnTo>
                      <a:pt x="111" y="10"/>
                    </a:lnTo>
                    <a:lnTo>
                      <a:pt x="132" y="6"/>
                    </a:lnTo>
                    <a:lnTo>
                      <a:pt x="152" y="2"/>
                    </a:lnTo>
                    <a:lnTo>
                      <a:pt x="174" y="0"/>
                    </a:lnTo>
                    <a:lnTo>
                      <a:pt x="197" y="2"/>
                    </a:lnTo>
                    <a:lnTo>
                      <a:pt x="222" y="5"/>
                    </a:lnTo>
                    <a:lnTo>
                      <a:pt x="248" y="10"/>
                    </a:lnTo>
                    <a:lnTo>
                      <a:pt x="273" y="17"/>
                    </a:lnTo>
                    <a:lnTo>
                      <a:pt x="297" y="25"/>
                    </a:lnTo>
                    <a:lnTo>
                      <a:pt x="317" y="35"/>
                    </a:lnTo>
                    <a:lnTo>
                      <a:pt x="335" y="46"/>
                    </a:lnTo>
                    <a:lnTo>
                      <a:pt x="349" y="59"/>
                    </a:lnTo>
                    <a:lnTo>
                      <a:pt x="361" y="74"/>
                    </a:lnTo>
                    <a:lnTo>
                      <a:pt x="371" y="92"/>
                    </a:lnTo>
                    <a:lnTo>
                      <a:pt x="380" y="110"/>
                    </a:lnTo>
                    <a:lnTo>
                      <a:pt x="386" y="130"/>
                    </a:lnTo>
                    <a:lnTo>
                      <a:pt x="389" y="151"/>
                    </a:lnTo>
                    <a:lnTo>
                      <a:pt x="390" y="172"/>
                    </a:lnTo>
                    <a:lnTo>
                      <a:pt x="389" y="191"/>
                    </a:lnTo>
                    <a:lnTo>
                      <a:pt x="384" y="211"/>
                    </a:lnTo>
                    <a:lnTo>
                      <a:pt x="377" y="232"/>
                    </a:lnTo>
                    <a:lnTo>
                      <a:pt x="365" y="252"/>
                    </a:lnTo>
                    <a:lnTo>
                      <a:pt x="354" y="274"/>
                    </a:lnTo>
                    <a:lnTo>
                      <a:pt x="339" y="296"/>
                    </a:lnTo>
                    <a:lnTo>
                      <a:pt x="323" y="318"/>
                    </a:lnTo>
                    <a:lnTo>
                      <a:pt x="289" y="362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5432400" y="3254400"/>
                <a:ext cx="147600" cy="156960"/>
              </a:xfrm>
              <a:custGeom>
                <a:avLst/>
                <a:gdLst/>
                <a:ahLst/>
                <a:rect l="l" t="t" r="r" b="b"/>
                <a:pathLst>
                  <a:path w="93" h="99">
                    <a:moveTo>
                      <a:pt x="14" y="0"/>
                    </a:moveTo>
                    <a:lnTo>
                      <a:pt x="0" y="99"/>
                    </a:lnTo>
                    <a:lnTo>
                      <a:pt x="93" y="52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4" name=""/>
            <p:cNvGrpSpPr/>
            <p:nvPr/>
          </p:nvGrpSpPr>
          <p:grpSpPr>
            <a:xfrm>
              <a:off x="6008760" y="3295800"/>
              <a:ext cx="598320" cy="604800"/>
              <a:chOff x="6008760" y="3295800"/>
              <a:chExt cx="598320" cy="604800"/>
            </a:xfrm>
          </p:grpSpPr>
          <p:sp>
            <p:nvSpPr>
              <p:cNvPr id="695" name=""/>
              <p:cNvSpPr/>
              <p:nvPr/>
            </p:nvSpPr>
            <p:spPr>
              <a:xfrm>
                <a:off x="6008760" y="3295800"/>
                <a:ext cx="598320" cy="604800"/>
              </a:xfrm>
              <a:custGeom>
                <a:avLst/>
                <a:gdLst/>
                <a:ahLst/>
                <a:rect l="l" t="t" r="r" b="b"/>
                <a:pathLst>
                  <a:path w="377" h="381">
                    <a:moveTo>
                      <a:pt x="0" y="150"/>
                    </a:moveTo>
                    <a:lnTo>
                      <a:pt x="41" y="102"/>
                    </a:lnTo>
                    <a:lnTo>
                      <a:pt x="62" y="80"/>
                    </a:lnTo>
                    <a:lnTo>
                      <a:pt x="82" y="59"/>
                    </a:lnTo>
                    <a:lnTo>
                      <a:pt x="103" y="40"/>
                    </a:lnTo>
                    <a:lnTo>
                      <a:pt x="123" y="25"/>
                    </a:lnTo>
                    <a:lnTo>
                      <a:pt x="143" y="13"/>
                    </a:lnTo>
                    <a:lnTo>
                      <a:pt x="164" y="4"/>
                    </a:lnTo>
                    <a:lnTo>
                      <a:pt x="186" y="0"/>
                    </a:lnTo>
                    <a:lnTo>
                      <a:pt x="209" y="2"/>
                    </a:lnTo>
                    <a:lnTo>
                      <a:pt x="234" y="4"/>
                    </a:lnTo>
                    <a:lnTo>
                      <a:pt x="259" y="11"/>
                    </a:lnTo>
                    <a:lnTo>
                      <a:pt x="282" y="20"/>
                    </a:lnTo>
                    <a:lnTo>
                      <a:pt x="304" y="30"/>
                    </a:lnTo>
                    <a:lnTo>
                      <a:pt x="323" y="43"/>
                    </a:lnTo>
                    <a:lnTo>
                      <a:pt x="338" y="55"/>
                    </a:lnTo>
                    <a:lnTo>
                      <a:pt x="349" y="70"/>
                    </a:lnTo>
                    <a:lnTo>
                      <a:pt x="360" y="87"/>
                    </a:lnTo>
                    <a:lnTo>
                      <a:pt x="367" y="106"/>
                    </a:lnTo>
                    <a:lnTo>
                      <a:pt x="373" y="126"/>
                    </a:lnTo>
                    <a:lnTo>
                      <a:pt x="376" y="147"/>
                    </a:lnTo>
                    <a:lnTo>
                      <a:pt x="377" y="169"/>
                    </a:lnTo>
                    <a:lnTo>
                      <a:pt x="377" y="189"/>
                    </a:lnTo>
                    <a:lnTo>
                      <a:pt x="374" y="210"/>
                    </a:lnTo>
                    <a:lnTo>
                      <a:pt x="370" y="230"/>
                    </a:lnTo>
                    <a:lnTo>
                      <a:pt x="363" y="254"/>
                    </a:lnTo>
                    <a:lnTo>
                      <a:pt x="352" y="278"/>
                    </a:lnTo>
                    <a:lnTo>
                      <a:pt x="342" y="302"/>
                    </a:lnTo>
                    <a:lnTo>
                      <a:pt x="329" y="325"/>
                    </a:lnTo>
                    <a:lnTo>
                      <a:pt x="314" y="345"/>
                    </a:lnTo>
                    <a:lnTo>
                      <a:pt x="298" y="362"/>
                    </a:lnTo>
                    <a:lnTo>
                      <a:pt x="291" y="367"/>
                    </a:lnTo>
                    <a:lnTo>
                      <a:pt x="282" y="373"/>
                    </a:lnTo>
                    <a:lnTo>
                      <a:pt x="265" y="378"/>
                    </a:lnTo>
                    <a:lnTo>
                      <a:pt x="243" y="381"/>
                    </a:lnTo>
                    <a:lnTo>
                      <a:pt x="221" y="380"/>
                    </a:lnTo>
                    <a:lnTo>
                      <a:pt x="198" y="376"/>
                    </a:lnTo>
                    <a:lnTo>
                      <a:pt x="174" y="369"/>
                    </a:lnTo>
                    <a:lnTo>
                      <a:pt x="151" y="362"/>
                    </a:lnTo>
                    <a:lnTo>
                      <a:pt x="129" y="355"/>
                    </a:lnTo>
                    <a:lnTo>
                      <a:pt x="110" y="347"/>
                    </a:lnTo>
                    <a:lnTo>
                      <a:pt x="92" y="339"/>
                    </a:lnTo>
                    <a:lnTo>
                      <a:pt x="76" y="329"/>
                    </a:lnTo>
                    <a:lnTo>
                      <a:pt x="49" y="306"/>
                    </a:lnTo>
                    <a:lnTo>
                      <a:pt x="24" y="280"/>
                    </a:lnTo>
                    <a:lnTo>
                      <a:pt x="0" y="252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6012000" y="3699000"/>
                <a:ext cx="155520" cy="152280"/>
              </a:xfrm>
              <a:custGeom>
                <a:avLst/>
                <a:gdLst/>
                <a:ahLst/>
                <a:rect l="l" t="t" r="r" b="b"/>
                <a:pathLst>
                  <a:path w="98" h="96">
                    <a:moveTo>
                      <a:pt x="98" y="37"/>
                    </a:moveTo>
                    <a:lnTo>
                      <a:pt x="0" y="0"/>
                    </a:lnTo>
                    <a:lnTo>
                      <a:pt x="26" y="96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7" name=""/>
            <p:cNvGrpSpPr/>
            <p:nvPr/>
          </p:nvGrpSpPr>
          <p:grpSpPr>
            <a:xfrm>
              <a:off x="4910040" y="3857760"/>
              <a:ext cx="790560" cy="733320"/>
              <a:chOff x="4910040" y="3857760"/>
              <a:chExt cx="790560" cy="733320"/>
            </a:xfrm>
          </p:grpSpPr>
          <p:sp>
            <p:nvSpPr>
              <p:cNvPr id="698" name=""/>
              <p:cNvSpPr/>
              <p:nvPr/>
            </p:nvSpPr>
            <p:spPr>
              <a:xfrm>
                <a:off x="4910040" y="3859200"/>
                <a:ext cx="790560" cy="731880"/>
              </a:xfrm>
              <a:custGeom>
                <a:avLst/>
                <a:gdLst/>
                <a:ahLst/>
                <a:rect l="l" t="t" r="r" b="b"/>
                <a:pathLst>
                  <a:path w="498" h="461">
                    <a:moveTo>
                      <a:pt x="181" y="0"/>
                    </a:moveTo>
                    <a:lnTo>
                      <a:pt x="124" y="37"/>
                    </a:lnTo>
                    <a:lnTo>
                      <a:pt x="98" y="55"/>
                    </a:lnTo>
                    <a:lnTo>
                      <a:pt x="73" y="74"/>
                    </a:lnTo>
                    <a:lnTo>
                      <a:pt x="50" y="94"/>
                    </a:lnTo>
                    <a:lnTo>
                      <a:pt x="32" y="116"/>
                    </a:lnTo>
                    <a:lnTo>
                      <a:pt x="18" y="138"/>
                    </a:lnTo>
                    <a:lnTo>
                      <a:pt x="8" y="163"/>
                    </a:lnTo>
                    <a:lnTo>
                      <a:pt x="2" y="190"/>
                    </a:lnTo>
                    <a:lnTo>
                      <a:pt x="0" y="222"/>
                    </a:lnTo>
                    <a:lnTo>
                      <a:pt x="2" y="255"/>
                    </a:lnTo>
                    <a:lnTo>
                      <a:pt x="8" y="289"/>
                    </a:lnTo>
                    <a:lnTo>
                      <a:pt x="16" y="323"/>
                    </a:lnTo>
                    <a:lnTo>
                      <a:pt x="29" y="353"/>
                    </a:lnTo>
                    <a:lnTo>
                      <a:pt x="44" y="381"/>
                    </a:lnTo>
                    <a:lnTo>
                      <a:pt x="53" y="393"/>
                    </a:lnTo>
                    <a:lnTo>
                      <a:pt x="62" y="403"/>
                    </a:lnTo>
                    <a:lnTo>
                      <a:pt x="72" y="411"/>
                    </a:lnTo>
                    <a:lnTo>
                      <a:pt x="85" y="419"/>
                    </a:lnTo>
                    <a:lnTo>
                      <a:pt x="114" y="434"/>
                    </a:lnTo>
                    <a:lnTo>
                      <a:pt x="146" y="445"/>
                    </a:lnTo>
                    <a:lnTo>
                      <a:pt x="183" y="455"/>
                    </a:lnTo>
                    <a:lnTo>
                      <a:pt x="219" y="460"/>
                    </a:lnTo>
                    <a:lnTo>
                      <a:pt x="254" y="461"/>
                    </a:lnTo>
                    <a:lnTo>
                      <a:pt x="288" y="459"/>
                    </a:lnTo>
                    <a:lnTo>
                      <a:pt x="317" y="453"/>
                    </a:lnTo>
                    <a:lnTo>
                      <a:pt x="330" y="449"/>
                    </a:lnTo>
                    <a:lnTo>
                      <a:pt x="345" y="442"/>
                    </a:lnTo>
                    <a:lnTo>
                      <a:pt x="358" y="434"/>
                    </a:lnTo>
                    <a:lnTo>
                      <a:pt x="371" y="425"/>
                    </a:lnTo>
                    <a:lnTo>
                      <a:pt x="397" y="404"/>
                    </a:lnTo>
                    <a:lnTo>
                      <a:pt x="422" y="378"/>
                    </a:lnTo>
                    <a:lnTo>
                      <a:pt x="446" y="352"/>
                    </a:lnTo>
                    <a:lnTo>
                      <a:pt x="465" y="325"/>
                    </a:lnTo>
                    <a:lnTo>
                      <a:pt x="481" y="299"/>
                    </a:lnTo>
                    <a:lnTo>
                      <a:pt x="491" y="274"/>
                    </a:lnTo>
                    <a:lnTo>
                      <a:pt x="497" y="251"/>
                    </a:lnTo>
                    <a:lnTo>
                      <a:pt x="498" y="227"/>
                    </a:lnTo>
                    <a:lnTo>
                      <a:pt x="495" y="203"/>
                    </a:lnTo>
                    <a:lnTo>
                      <a:pt x="489" y="178"/>
                    </a:lnTo>
                    <a:lnTo>
                      <a:pt x="481" y="155"/>
                    </a:lnTo>
                    <a:lnTo>
                      <a:pt x="470" y="133"/>
                    </a:lnTo>
                    <a:lnTo>
                      <a:pt x="459" y="112"/>
                    </a:lnTo>
                    <a:lnTo>
                      <a:pt x="446" y="94"/>
                    </a:lnTo>
                    <a:lnTo>
                      <a:pt x="432" y="78"/>
                    </a:lnTo>
                    <a:lnTo>
                      <a:pt x="416" y="64"/>
                    </a:lnTo>
                    <a:lnTo>
                      <a:pt x="397" y="51"/>
                    </a:lnTo>
                    <a:lnTo>
                      <a:pt x="378" y="40"/>
                    </a:lnTo>
                    <a:lnTo>
                      <a:pt x="336" y="19"/>
                    </a:lnTo>
                    <a:lnTo>
                      <a:pt x="291" y="0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5372280" y="3857760"/>
                <a:ext cx="171360" cy="129960"/>
              </a:xfrm>
              <a:custGeom>
                <a:avLst/>
                <a:gdLst/>
                <a:ahLst/>
                <a:rect l="l" t="t" r="r" b="b"/>
                <a:pathLst>
                  <a:path w="108" h="82">
                    <a:moveTo>
                      <a:pt x="108" y="0"/>
                    </a:moveTo>
                    <a:lnTo>
                      <a:pt x="0" y="1"/>
                    </a:lnTo>
                    <a:lnTo>
                      <a:pt x="66" y="82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6EF58-71A2-4BA6-B8C0-BD24E02C0332}" type="slidenum">
              <a:t>1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arizing logic specifications: Z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stem specified by describing state space, using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Z shem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perties of state space described by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invarian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edica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dicates written in first-order log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perations define state transform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6010C-6032-437D-9043-9399CF051AD5}" type="slidenum">
              <a:t>1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elevator example in Z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03" name="" descr=""/>
          <p:cNvPicPr/>
          <p:nvPr/>
        </p:nvPicPr>
        <p:blipFill>
          <a:blip r:embed="rId1"/>
          <a:stretch/>
        </p:blipFill>
        <p:spPr>
          <a:xfrm>
            <a:off x="1600200" y="762120"/>
            <a:ext cx="5356080" cy="5486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B9207-2484-4774-A807-FFA3D01679AD}" type="slidenum">
              <a:t>1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lete state spac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ttempt #1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05" name="" descr=""/>
          <p:cNvPicPr/>
          <p:nvPr/>
        </p:nvPicPr>
        <p:blipFill>
          <a:blip r:embed="rId1"/>
          <a:stretch/>
        </p:blipFill>
        <p:spPr>
          <a:xfrm>
            <a:off x="533520" y="2590920"/>
            <a:ext cx="7308720" cy="192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46265-2E0A-4CD6-A6C9-E0EB57C6E307}" type="slidenum">
              <a:t>1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lete state spac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ttempt #2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07" name="" descr=""/>
          <p:cNvPicPr/>
          <p:nvPr/>
        </p:nvPicPr>
        <p:blipFill>
          <a:blip r:embed="rId1"/>
          <a:stretch/>
        </p:blipFill>
        <p:spPr>
          <a:xfrm>
            <a:off x="533520" y="2017800"/>
            <a:ext cx="7619760" cy="4478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CD171-1253-4F6E-B514-4873C0E40B84}" type="slidenum">
              <a:t>1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lete state spac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ina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09" name="" descr=""/>
          <p:cNvPicPr/>
          <p:nvPr/>
        </p:nvPicPr>
        <p:blipFill>
          <a:blip r:embed="rId1"/>
          <a:stretch/>
        </p:blipFill>
        <p:spPr>
          <a:xfrm>
            <a:off x="1143000" y="1389240"/>
            <a:ext cx="6705720" cy="4825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64B81-CDFE-46A5-B4DC-026DB5FB9295}" type="slidenum">
              <a:t>1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"/>
          <p:cNvSpPr/>
          <p:nvPr/>
        </p:nvSpPr>
        <p:spPr>
          <a:xfrm>
            <a:off x="438480" y="2658960"/>
            <a:ext cx="2320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pe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1" name="" descr=""/>
          <p:cNvPicPr/>
          <p:nvPr/>
        </p:nvPicPr>
        <p:blipFill>
          <a:blip r:embed="rId1"/>
          <a:stretch/>
        </p:blipFill>
        <p:spPr>
          <a:xfrm>
            <a:off x="2819520" y="152280"/>
            <a:ext cx="4419360" cy="6486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DF8C1-B16D-48A0-ABD5-BB8A74A1CEDF}" type="slidenum">
              <a:t>1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2411280" y="111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3" name="z5(2)" descr=""/>
          <p:cNvPicPr/>
          <p:nvPr/>
        </p:nvPicPr>
        <p:blipFill>
          <a:blip r:embed="rId1"/>
          <a:stretch/>
        </p:blipFill>
        <p:spPr>
          <a:xfrm>
            <a:off x="3200400" y="228600"/>
            <a:ext cx="5481720" cy="5867280"/>
          </a:xfrm>
          <a:prstGeom prst="rect">
            <a:avLst/>
          </a:prstGeom>
          <a:ln w="0">
            <a:noFill/>
          </a:ln>
        </p:spPr>
      </p:pic>
      <p:sp>
        <p:nvSpPr>
          <p:cNvPr id="714" name=""/>
          <p:cNvSpPr/>
          <p:nvPr/>
        </p:nvSpPr>
        <p:spPr>
          <a:xfrm>
            <a:off x="438480" y="2658960"/>
            <a:ext cx="2320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pe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C129F-2E2F-4C98-B582-8EEE0AB5DB92}" type="slidenum">
              <a:t>1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assification of specification sty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formal, semi-formal, form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peration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havior specification in terms of some abstract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cripti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havior described in terms of proper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3AEBD-7FE6-4365-9F3D-B2D492A08DE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ations for the    end-us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76212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cs should be used as common reference for producer and us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help removing ambiguity, incompleteness,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they be understood by end-user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y can be the starting point for a proto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y can support some form of animation (e.g., see Petri net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763C5-20B2-456A-BC4E-46303D2B81A0}" type="slidenum">
              <a:t>1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clusions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8380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ations describ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hat the users need from a system (requirements specifica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design of a software system (design and architecture specifica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features offered by a system (functional specifica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performance characteristics of a system (performance specifica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xternal behavior of a module (module interface specification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internal structure of a module (internal structural specification)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524D7-E5BF-4018-862B-32E6FF324484}" type="slidenum">
              <a:t>1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clusions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criptions are given via suitable not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is no “ideal” no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must be modul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support communication and interaction between designers and us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D671D-B420-404B-8B28-83A74B3E681B}" type="slidenum">
              <a:t>1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 1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cification of a geometric figure 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"/>
          <p:cNvSpPr/>
          <p:nvPr/>
        </p:nvSpPr>
        <p:spPr>
          <a:xfrm>
            <a:off x="1050840" y="2438280"/>
            <a:ext cx="7102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 can be drawn as follow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elect two points P1 and P2 on a pla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e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a string of a certain length and fix its ends to P1 and P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3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osition a pencil as shown 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ext fig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4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ove the pen clockwise, keeping the string tightly stretched, until you reach the point where you started draw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36800" y="5562720"/>
            <a:ext cx="481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his is an operational spec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83AC4-4EE8-44E7-B39A-A5D3E2E5F28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3132000" y="2610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447920" y="1676520"/>
            <a:ext cx="6003720" cy="3416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F898D-0B7E-4451-93D5-A2F76392C07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descriptive spec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Geometric figure E is describe by the following equ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x2 + by2 + c = 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ere a, b, and c are suitable constants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F94FB-68EA-404C-A4DF-F827BF7A696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other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Let a be an array of n elements. The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result of its sorting is an array b of n elements such that the first element of b is the minimum of a (if several elements of a have the same value, any one of them is acceptable); the second element of b is the minimum of the array of n-1 elements obtained from a by removing its minimum element; and so on until all n elements of a have been removed.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"/>
          <p:cNvSpPr/>
          <p:nvPr/>
        </p:nvSpPr>
        <p:spPr>
          <a:xfrm>
            <a:off x="1066680" y="5181480"/>
            <a:ext cx="746784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The result of sorting array a is an array b which is a permutation of a and is sorted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4920" y="205740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04920" y="525780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87640" y="2362320"/>
            <a:ext cx="60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84760" y="5519880"/>
            <a:ext cx="74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7CEF9-E435-4F9C-BB07-92DF4CE2450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to verify a specification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e” dynamic behavior of specified system (simulation, prototyping, “testing” spec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alyze properties of the specified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alogy with traditional enginee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model of a 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thematical model of a 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1A504-06BE-4CE0-8B54-FB378835459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62120" y="9903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of the term "specification"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s of specif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ional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Arial"/>
              </a:rPr>
              <a:t>Data Flow Diagra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Arial"/>
              </a:rPr>
              <a:t>(Some)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Arial"/>
              </a:rPr>
              <a:t>UML diagra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Arial"/>
              </a:rPr>
              <a:t>Finite State Mach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etri Nets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crip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Arial"/>
              </a:rPr>
              <a:t>Entity Relationship Diagra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Arial"/>
              </a:rPr>
              <a:t>L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Arial"/>
              </a:rPr>
              <a:t>ogic-based not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ic not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guages for modular specifications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cha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DB3FD-AED1-4184-9C68-0BDC8C2E110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ata Flow Diagrams (DFDs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A semi-formal operational specif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System viewed as collection of data manipulated by “functions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Data can be per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they are stored in </a:t>
            </a:r>
            <a:r>
              <a:rPr b="0" i="1" lang="en-AU" sz="2800" spc="-1" strike="noStrike">
                <a:solidFill>
                  <a:srgbClr val="000000"/>
                </a:solidFill>
                <a:latin typeface="Tahoma"/>
              </a:rPr>
              <a:t>data reposito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Data can flow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they are represented by </a:t>
            </a:r>
            <a:r>
              <a:rPr b="0" i="1" lang="en-AU" sz="2800" spc="-1" strike="noStrike">
                <a:solidFill>
                  <a:srgbClr val="000000"/>
                </a:solidFill>
                <a:latin typeface="Tahoma"/>
              </a:rPr>
              <a:t>data fl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DFDs have a graphical no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EA841-712C-40D3-9540-12F56FAB1D3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raphical no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3200" spc="-1" strike="noStrike">
                <a:solidFill>
                  <a:srgbClr val="000000"/>
                </a:solidFill>
                <a:latin typeface="Tahoma"/>
              </a:rPr>
              <a:t>bubbles</a:t>
            </a: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 represent fun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3200" spc="-1" strike="noStrike">
                <a:solidFill>
                  <a:srgbClr val="000000"/>
                </a:solidFill>
                <a:latin typeface="Tahoma"/>
              </a:rPr>
              <a:t>arcs</a:t>
            </a: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 represent data flow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3200" spc="-1" strike="noStrike">
                <a:solidFill>
                  <a:srgbClr val="000000"/>
                </a:solidFill>
                <a:latin typeface="Tahoma"/>
              </a:rPr>
              <a:t>open boxes</a:t>
            </a: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 represent persistent st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3200" spc="-1" strike="noStrike">
                <a:solidFill>
                  <a:srgbClr val="000000"/>
                </a:solidFill>
                <a:latin typeface="Tahoma"/>
              </a:rPr>
              <a:t>closed boxes</a:t>
            </a: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 represent I/O intera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"/>
          <p:cNvSpPr/>
          <p:nvPr/>
        </p:nvSpPr>
        <p:spPr>
          <a:xfrm>
            <a:off x="2614680" y="297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914400" y="4191120"/>
            <a:ext cx="7574040" cy="1753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7EB98-D8B4-4450-BF88-9C8E4E67E41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"/>
          <p:cNvSpPr/>
          <p:nvPr/>
        </p:nvSpPr>
        <p:spPr>
          <a:xfrm>
            <a:off x="262908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-762120" y="1066680"/>
            <a:ext cx="6096240" cy="53784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5002920" y="2819520"/>
            <a:ext cx="3361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ies evaluation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(a + b) * (c + a * d)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E226E-41B6-44CA-950E-877DED21A65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construction “method”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1447920" y="3048120"/>
          <a:ext cx="6345000" cy="236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3048120"/>
                    <a:ext cx="6345000" cy="23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"/>
          <p:cNvSpPr/>
          <p:nvPr/>
        </p:nvSpPr>
        <p:spPr>
          <a:xfrm>
            <a:off x="1444320" y="1817640"/>
            <a:ext cx="686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. Start from the “context” diagr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BC9D6-42E9-43F5-8423-EF4788E97B1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construction “method”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1752480" y="2133720"/>
          <a:ext cx="5867640" cy="4495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133720"/>
                    <a:ext cx="5867640" cy="449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685800" y="914400"/>
            <a:ext cx="7772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80960" indent="-480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. Proceed by refinements until you reach        “elementary” functions (preserve balanc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FDDA4-C8A8-4997-A0BF-81411098ECF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library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371600" y="1027080"/>
          <a:ext cx="6248520" cy="5513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027080"/>
                    <a:ext cx="6248520" cy="551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FB809-D216-4CD7-BEB3-5B9395BCD4A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Refinement of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“Get a book”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1066680" y="1371600"/>
          <a:ext cx="7239240" cy="4751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371600"/>
                    <a:ext cx="7239240" cy="47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86756-EF05-4A2B-B727-814482E87DD3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atient monitoring syste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"/>
          <p:cNvSpPr/>
          <p:nvPr/>
        </p:nvSpPr>
        <p:spPr>
          <a:xfrm>
            <a:off x="527400" y="1219320"/>
            <a:ext cx="8344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urpose is to monitor the patients’ vital factors--blood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essure, temperature, …--reading them at specified frequenc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rom analog devices and storing readings in a DB. If readings fal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utside the range specified for patient or device fails an alar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ust be sent to a nurse. The system also provides repor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1523880" y="3352680"/>
          <a:ext cx="6324840" cy="305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3352680"/>
                    <a:ext cx="6324840" cy="305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1ABFE-0A67-4EE3-A349-C130E4C26277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refin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685800" y="914400"/>
          <a:ext cx="8039160" cy="513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914400"/>
                    <a:ext cx="8039160" cy="513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1651B-B2B4-42A9-AEBC-21F05A52A839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re refin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685800" y="1371600"/>
          <a:ext cx="8001000" cy="468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371600"/>
                    <a:ext cx="8001000" cy="468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67BC8-57FB-452C-9724-D4413E34FAEA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broad term that mean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defini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d at different stages of software development for different purpo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enerally, a statement of agreement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contrac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betwe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er and consumer of a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er and us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l desirable qualities must be spec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78A4F-5F5F-4C8D-83E4-2AB5D5FEE46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evaluation of DFDs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read, but 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l seman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to define leaf function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herent ambigu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609480" y="3200400"/>
          <a:ext cx="3936960" cy="2612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200400"/>
                    <a:ext cx="3936960" cy="261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"/>
          <p:cNvSpPr/>
          <p:nvPr/>
        </p:nvSpPr>
        <p:spPr>
          <a:xfrm>
            <a:off x="4503960" y="3962520"/>
            <a:ext cx="504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puts from A, B, C 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need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puts for E and F 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d at the same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392A3-6D53-4570-B96C-0E2F55312B93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evaluation of DFDs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information is abs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2819520" y="2743200"/>
          <a:ext cx="2895480" cy="676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19520" y="2743200"/>
                    <a:ext cx="2895480" cy="67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542880" y="3538440"/>
            <a:ext cx="79599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76280" indent="-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sible interpreta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a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produces datum, waits until B consumes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b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 can read the datum many times witho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umin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c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pipe is inserted between A and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0465C-67BD-4F20-B996-F23CAD43BEC1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ormalization/extens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have been attempts 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formaliz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F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have been attempts 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extend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FDs (e.g., for real-time system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"/>
          <p:cNvSpPr/>
          <p:nvPr/>
        </p:nvSpPr>
        <p:spPr>
          <a:xfrm>
            <a:off x="3700440" y="2443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133720" y="3809880"/>
            <a:ext cx="2976480" cy="2590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83694-12CE-44B2-9644-710FEB90AFD5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ML use-case diagr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 functions on basis of actors and a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"/>
          <p:cNvSpPr/>
          <p:nvPr/>
        </p:nvSpPr>
        <p:spPr>
          <a:xfrm>
            <a:off x="2171880" y="1676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1339560" y="2103480"/>
            <a:ext cx="6051960" cy="3882960"/>
            <a:chOff x="1339560" y="2103480"/>
            <a:chExt cx="6051960" cy="3882960"/>
          </a:xfrm>
        </p:grpSpPr>
        <p:sp>
          <p:nvSpPr>
            <p:cNvPr id="145" name=""/>
            <p:cNvSpPr/>
            <p:nvPr/>
          </p:nvSpPr>
          <p:spPr>
            <a:xfrm>
              <a:off x="1339560" y="210348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484360" y="4040280"/>
              <a:ext cx="187560" cy="198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581200" y="4230720"/>
              <a:ext cx="1800" cy="314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451240" y="4381560"/>
              <a:ext cx="2584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436840" y="4545000"/>
              <a:ext cx="266760" cy="200160"/>
            </a:xfrm>
            <a:custGeom>
              <a:avLst/>
              <a:gdLst/>
              <a:ahLst/>
              <a:rect l="l" t="t" r="r" b="b"/>
              <a:pathLst>
                <a:path w="168" h="126">
                  <a:moveTo>
                    <a:pt x="168" y="126"/>
                  </a:moveTo>
                  <a:lnTo>
                    <a:pt x="91" y="0"/>
                  </a:lnTo>
                  <a:lnTo>
                    <a:pt x="0" y="12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856120" y="4051440"/>
              <a:ext cx="187560" cy="2016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952960" y="4245120"/>
              <a:ext cx="1800" cy="314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823000" y="4395960"/>
              <a:ext cx="2588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808600" y="4559400"/>
              <a:ext cx="266760" cy="199800"/>
            </a:xfrm>
            <a:custGeom>
              <a:avLst/>
              <a:gdLst/>
              <a:ahLst/>
              <a:rect l="l" t="t" r="r" b="b"/>
              <a:pathLst>
                <a:path w="168" h="126">
                  <a:moveTo>
                    <a:pt x="168" y="126"/>
                  </a:moveTo>
                  <a:lnTo>
                    <a:pt x="91" y="0"/>
                  </a:lnTo>
                  <a:lnTo>
                    <a:pt x="0" y="12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038400" y="2765520"/>
              <a:ext cx="2428920" cy="3220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573360" y="2921040"/>
              <a:ext cx="1224000" cy="8049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952080" y="3087720"/>
              <a:ext cx="637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orrow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034880" y="3324240"/>
              <a:ext cx="409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oo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433760" y="332424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581280" y="3978360"/>
              <a:ext cx="1222560" cy="8031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008960" y="4148280"/>
              <a:ext cx="535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eturn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042800" y="4387680"/>
              <a:ext cx="409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oo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443120" y="438768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602160" y="4976640"/>
              <a:ext cx="1222200" cy="8035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001760" y="5143680"/>
              <a:ext cx="59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library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001760" y="5380200"/>
              <a:ext cx="543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upd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530600" y="538020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>
              <a:off x="2792520" y="3505320"/>
              <a:ext cx="836640" cy="74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00440" y="4416480"/>
              <a:ext cx="7729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flipV="1">
              <a:off x="4745160" y="3470400"/>
              <a:ext cx="1008000" cy="828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4779720" y="4441680"/>
              <a:ext cx="9111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4807080" y="4676760"/>
              <a:ext cx="898560" cy="581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157800" y="4383000"/>
              <a:ext cx="1233720" cy="123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347880" y="4451400"/>
              <a:ext cx="687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libraria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021440" y="445140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805040" y="4745160"/>
              <a:ext cx="1233360" cy="1233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996200" y="4813200"/>
              <a:ext cx="744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ustom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725560" y="481320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5CB45-82FC-4118-8384-F8A35941B121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ML sequence diagr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762120" y="12189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Describe how objects interact by exchanging mess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ovide a dynamic vie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"/>
          <p:cNvSpPr/>
          <p:nvPr/>
        </p:nvSpPr>
        <p:spPr>
          <a:xfrm>
            <a:off x="1828800" y="132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914400" y="2286000"/>
            <a:ext cx="8229600" cy="6319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DABE4-5D41-4C76-AE20-E489DF32BD33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ML collaboration diagr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ive object interactions and their ord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quivalent to sequence diagra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"/>
          <p:cNvSpPr/>
          <p:nvPr/>
        </p:nvSpPr>
        <p:spPr>
          <a:xfrm>
            <a:off x="1828800" y="2525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-838080" y="2895480"/>
            <a:ext cx="11353680" cy="3738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8DDE1-9012-44D3-A669-574BB20203A5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inite state machines (FSMs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769644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specify control flow asp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d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"/>
          <p:cNvSpPr/>
          <p:nvPr/>
        </p:nvSpPr>
        <p:spPr>
          <a:xfrm>
            <a:off x="384480" y="2971800"/>
            <a:ext cx="6194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14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 finite set of states, Q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 finite set of inputs, 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 transition function d : Q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x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I </a:t>
            </a:r>
            <a:r>
              <a:rPr b="0" lang="it-IT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(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 can be a partial func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314880" y="23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5181480" y="3747960"/>
            <a:ext cx="3048120" cy="253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779B5-4F59-4169-9E1E-81ED9C9016F0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: a lamp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"/>
          <p:cNvSpPr/>
          <p:nvPr/>
        </p:nvSpPr>
        <p:spPr>
          <a:xfrm>
            <a:off x="3486240" y="276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1828800" y="1932120"/>
            <a:ext cx="5181480" cy="318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10B5E-DD0A-4759-B6D0-EF29AB89002A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other example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plant control syste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1600200" y="2133720"/>
          <a:ext cx="5410080" cy="424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2133720"/>
                    <a:ext cx="5410080" cy="424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35111-FCF7-47A8-9CCE-2F7CF7CDB001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refin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1295280" y="1371600"/>
          <a:ext cx="6629400" cy="4275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1371600"/>
                    <a:ext cx="6629400" cy="427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82FB2-49B6-4072-ACCE-ECBCDEDDA156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es of spec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tement of user require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ajor failures occur because of misunderstandings between the producer and the user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"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The hardest single part of building a softwar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 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system is deciding precisely what to buil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" (F. Brook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C081C-BF0C-445E-BBFE-2A5D8A5EB25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asses of FS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terministic/nondeterminist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SMs a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oduce final st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SMs as transduc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oduce set of outpu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 . 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DF27D-30D5-4870-AF3D-67230E482028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SMs as recogniz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"/>
          <p:cNvSpPr/>
          <p:nvPr/>
        </p:nvSpPr>
        <p:spPr>
          <a:xfrm>
            <a:off x="2522520" y="2633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1066680" y="2286000"/>
            <a:ext cx="7155000" cy="277956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2978640" y="5334120"/>
            <a:ext cx="2378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f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is a final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E6FBD-6863-488C-AF13-5743407E7434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SMs as recogniz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"/>
          <p:cNvSpPr/>
          <p:nvPr/>
        </p:nvSpPr>
        <p:spPr>
          <a:xfrm>
            <a:off x="2846520" y="1943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1676520" y="1295280"/>
            <a:ext cx="5943600" cy="5118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7A350-C9CE-47ED-8465-31653F00FCDF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imit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nite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te explo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n a number of FSMs with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…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s, their composition is a FSM with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*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*… *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n.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rowth is exponential with the number of FSMs, not linear (we would like it to be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+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+… +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4FB41-796F-4342-B608-428E4C33D533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ate explosion: 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2057400" y="1371600"/>
          <a:ext cx="4875120" cy="517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1371600"/>
                    <a:ext cx="4875120" cy="517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E8A7C-9A03-42DA-A14C-50C98B8802DA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resulting FS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"/>
          <p:cNvSpPr/>
          <p:nvPr/>
        </p:nvSpPr>
        <p:spPr>
          <a:xfrm>
            <a:off x="2789280" y="21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1295280" y="1143000"/>
            <a:ext cx="6629400" cy="4943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89A8B-3A37-4BF0-B821-FA6E7DC95341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etri ne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76212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A quadruple (P,T,F,W)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P: places  T: transitions (P, T are finite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F: flow relation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F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{P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}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{T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P}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                                    W: weight function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W: F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N – {0}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Properties: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(1)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P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T = Ø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(2) P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T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Ø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(3)F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(P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T)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(T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(4)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W: F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N-{0}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ault value of W is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 defined by marking: 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M: P </a:t>
            </a:r>
            <a:r>
              <a:rPr b="0" lang="it-IT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C59FB-8A7C-4DF0-AC37-81F416ED3BF1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9" name=""/>
          <p:cNvGraphicFramePr/>
          <p:nvPr/>
        </p:nvGraphicFramePr>
        <p:xfrm>
          <a:off x="1143000" y="914400"/>
          <a:ext cx="6172200" cy="471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914400"/>
                    <a:ext cx="6172200" cy="471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21" name=""/>
          <p:cNvGrpSpPr/>
          <p:nvPr/>
        </p:nvGrpSpPr>
        <p:grpSpPr>
          <a:xfrm>
            <a:off x="1219320" y="1981080"/>
            <a:ext cx="6400800" cy="4533840"/>
            <a:chOff x="1219320" y="1981080"/>
            <a:chExt cx="6400800" cy="4533840"/>
          </a:xfrm>
        </p:grpSpPr>
        <p:sp>
          <p:nvSpPr>
            <p:cNvPr id="222" name=""/>
            <p:cNvSpPr/>
            <p:nvPr/>
          </p:nvSpPr>
          <p:spPr>
            <a:xfrm>
              <a:off x="2670120" y="2379600"/>
              <a:ext cx="459000" cy="412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632320" y="3143160"/>
              <a:ext cx="58572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321000" y="4491000"/>
              <a:ext cx="687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5" name=""/>
            <p:cNvGrpSpPr/>
            <p:nvPr/>
          </p:nvGrpSpPr>
          <p:grpSpPr>
            <a:xfrm>
              <a:off x="3090960" y="3986280"/>
              <a:ext cx="536400" cy="458640"/>
              <a:chOff x="3090960" y="3986280"/>
              <a:chExt cx="536400" cy="458640"/>
            </a:xfrm>
          </p:grpSpPr>
          <p:sp>
            <p:nvSpPr>
              <p:cNvPr id="226" name=""/>
              <p:cNvSpPr/>
              <p:nvPr/>
            </p:nvSpPr>
            <p:spPr>
              <a:xfrm>
                <a:off x="3474360" y="4307400"/>
                <a:ext cx="153000" cy="137520"/>
              </a:xfrm>
              <a:custGeom>
                <a:avLst/>
                <a:gdLst/>
                <a:ahLst/>
                <a:rect l="l" t="t" r="r" b="b"/>
                <a:pathLst>
                  <a:path w="120" h="120">
                    <a:moveTo>
                      <a:pt x="120" y="120"/>
                    </a:moveTo>
                    <a:lnTo>
                      <a:pt x="0" y="60"/>
                    </a:lnTo>
                    <a:lnTo>
                      <a:pt x="20" y="40"/>
                    </a:lnTo>
                    <a:lnTo>
                      <a:pt x="40" y="0"/>
                    </a:lnTo>
                    <a:lnTo>
                      <a:pt x="120" y="1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3090960" y="3986280"/>
                <a:ext cx="408960" cy="366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8" name=""/>
            <p:cNvGrpSpPr/>
            <p:nvPr/>
          </p:nvGrpSpPr>
          <p:grpSpPr>
            <a:xfrm>
              <a:off x="3807000" y="3943440"/>
              <a:ext cx="508680" cy="501120"/>
              <a:chOff x="3807000" y="3943440"/>
              <a:chExt cx="508680" cy="501120"/>
            </a:xfrm>
          </p:grpSpPr>
          <p:sp>
            <p:nvSpPr>
              <p:cNvPr id="229" name=""/>
              <p:cNvSpPr/>
              <p:nvPr/>
            </p:nvSpPr>
            <p:spPr>
              <a:xfrm>
                <a:off x="3807000" y="4353480"/>
                <a:ext cx="101520" cy="91080"/>
              </a:xfrm>
              <a:custGeom>
                <a:avLst/>
                <a:gdLst/>
                <a:ahLst/>
                <a:rect l="l" t="t" r="r" b="b"/>
                <a:pathLst>
                  <a:path w="80" h="80">
                    <a:moveTo>
                      <a:pt x="0" y="80"/>
                    </a:moveTo>
                    <a:lnTo>
                      <a:pt x="20" y="0"/>
                    </a:lnTo>
                    <a:lnTo>
                      <a:pt x="40" y="0"/>
                    </a:lnTo>
                    <a:lnTo>
                      <a:pt x="80" y="20"/>
                    </a:lnTo>
                    <a:lnTo>
                      <a:pt x="0" y="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flipH="1">
                <a:off x="3857400" y="3943440"/>
                <a:ext cx="458280" cy="410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1" name=""/>
            <p:cNvGrpSpPr/>
            <p:nvPr/>
          </p:nvGrpSpPr>
          <p:grpSpPr>
            <a:xfrm>
              <a:off x="3065760" y="4467240"/>
              <a:ext cx="434520" cy="410760"/>
              <a:chOff x="3065760" y="4467240"/>
              <a:chExt cx="434520" cy="410760"/>
            </a:xfrm>
          </p:grpSpPr>
          <p:sp>
            <p:nvSpPr>
              <p:cNvPr id="232" name=""/>
              <p:cNvSpPr/>
              <p:nvPr/>
            </p:nvSpPr>
            <p:spPr>
              <a:xfrm>
                <a:off x="3065760" y="4763880"/>
                <a:ext cx="76320" cy="114120"/>
              </a:xfrm>
              <a:custGeom>
                <a:avLst/>
                <a:gdLst/>
                <a:ahLst/>
                <a:rect l="l" t="t" r="r" b="b"/>
                <a:pathLst>
                  <a:path w="60" h="100">
                    <a:moveTo>
                      <a:pt x="0" y="100"/>
                    </a:moveTo>
                    <a:lnTo>
                      <a:pt x="40" y="0"/>
                    </a:lnTo>
                    <a:lnTo>
                      <a:pt x="40" y="40"/>
                    </a:lnTo>
                    <a:lnTo>
                      <a:pt x="60" y="60"/>
                    </a:lnTo>
                    <a:lnTo>
                      <a:pt x="0" y="1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flipH="1">
                <a:off x="3116520" y="4467240"/>
                <a:ext cx="383760" cy="342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3143520" y="5106960"/>
              <a:ext cx="431280" cy="568080"/>
              <a:chOff x="3143520" y="5106960"/>
              <a:chExt cx="431280" cy="568080"/>
            </a:xfrm>
          </p:grpSpPr>
          <p:sp>
            <p:nvSpPr>
              <p:cNvPr id="235" name=""/>
              <p:cNvSpPr/>
              <p:nvPr/>
            </p:nvSpPr>
            <p:spPr>
              <a:xfrm>
                <a:off x="3448080" y="5538600"/>
                <a:ext cx="126720" cy="136440"/>
              </a:xfrm>
              <a:custGeom>
                <a:avLst/>
                <a:gdLst/>
                <a:ahLst/>
                <a:rect l="l" t="t" r="r" b="b"/>
                <a:pathLst>
                  <a:path w="100" h="120">
                    <a:moveTo>
                      <a:pt x="100" y="120"/>
                    </a:moveTo>
                    <a:lnTo>
                      <a:pt x="0" y="40"/>
                    </a:lnTo>
                    <a:lnTo>
                      <a:pt x="20" y="20"/>
                    </a:lnTo>
                    <a:lnTo>
                      <a:pt x="40" y="0"/>
                    </a:lnTo>
                    <a:lnTo>
                      <a:pt x="100" y="1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3143520" y="5106960"/>
                <a:ext cx="329760" cy="454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7" name=""/>
            <p:cNvSpPr/>
            <p:nvPr/>
          </p:nvSpPr>
          <p:spPr>
            <a:xfrm>
              <a:off x="2963520" y="198108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339800" y="307476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192120" y="359892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143160" y="26668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728880" y="44910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350440" y="474012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628080" y="51483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217680" y="28224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830760" y="46051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117960" y="20955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492440" y="32353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320640" y="38052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479320" y="49244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728880" y="52862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95680" y="3633840"/>
              <a:ext cx="458640" cy="409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354560" y="3611520"/>
              <a:ext cx="459000" cy="409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748240" y="4911840"/>
              <a:ext cx="458640" cy="4078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345120" y="5697360"/>
              <a:ext cx="688680" cy="3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507480" y="2308320"/>
              <a:ext cx="1024560" cy="3925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4"/>
                  </a:moveTo>
                  <a:arcTo wR="10800" hR="10800" stAng="-17791" swAng="5492822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4"/>
                  </a:moveTo>
                  <a:arcTo wR="10800" hR="10800" stAng="-17791" swAng="5492822"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792600" y="5100120"/>
              <a:ext cx="510840" cy="1133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663" y="21599"/>
                  </a:moveTo>
                  <a:arcTo wR="10800" hR="10800" stAng="5443603" swAng="5373408"/>
                  <a:lnTo>
                    <a:pt x="10800" y="10800"/>
                  </a:lnTo>
                  <a:close/>
                </a:path>
                <a:path fill="none" w="21600" h="21600">
                  <a:moveTo>
                    <a:pt x="10663" y="21599"/>
                  </a:moveTo>
                  <a:arcTo wR="10800" hR="10800" stAng="5443603" swAng="5373408"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054760" y="4467240"/>
              <a:ext cx="689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8" name=""/>
            <p:cNvGrpSpPr/>
            <p:nvPr/>
          </p:nvGrpSpPr>
          <p:grpSpPr>
            <a:xfrm>
              <a:off x="4749840" y="4010040"/>
              <a:ext cx="534600" cy="456840"/>
              <a:chOff x="4749840" y="4010040"/>
              <a:chExt cx="534600" cy="456840"/>
            </a:xfrm>
          </p:grpSpPr>
          <p:sp>
            <p:nvSpPr>
              <p:cNvPr id="259" name=""/>
              <p:cNvSpPr/>
              <p:nvPr/>
            </p:nvSpPr>
            <p:spPr>
              <a:xfrm>
                <a:off x="5131800" y="4330800"/>
                <a:ext cx="152640" cy="136080"/>
              </a:xfrm>
              <a:custGeom>
                <a:avLst/>
                <a:gdLst/>
                <a:ahLst/>
                <a:rect l="l" t="t" r="r" b="b"/>
                <a:pathLst>
                  <a:path w="120" h="119">
                    <a:moveTo>
                      <a:pt x="120" y="119"/>
                    </a:moveTo>
                    <a:lnTo>
                      <a:pt x="0" y="60"/>
                    </a:lnTo>
                    <a:lnTo>
                      <a:pt x="20" y="40"/>
                    </a:lnTo>
                    <a:lnTo>
                      <a:pt x="40" y="0"/>
                    </a:lnTo>
                    <a:lnTo>
                      <a:pt x="120" y="1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4749840" y="4010040"/>
                <a:ext cx="407520" cy="366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1" name=""/>
            <p:cNvGrpSpPr/>
            <p:nvPr/>
          </p:nvGrpSpPr>
          <p:grpSpPr>
            <a:xfrm>
              <a:off x="5411880" y="3943440"/>
              <a:ext cx="510840" cy="501120"/>
              <a:chOff x="5411880" y="3943440"/>
              <a:chExt cx="510840" cy="501120"/>
            </a:xfrm>
          </p:grpSpPr>
          <p:sp>
            <p:nvSpPr>
              <p:cNvPr id="262" name=""/>
              <p:cNvSpPr/>
              <p:nvPr/>
            </p:nvSpPr>
            <p:spPr>
              <a:xfrm>
                <a:off x="5411880" y="4353480"/>
                <a:ext cx="102240" cy="91080"/>
              </a:xfrm>
              <a:custGeom>
                <a:avLst/>
                <a:gdLst/>
                <a:ahLst/>
                <a:rect l="l" t="t" r="r" b="b"/>
                <a:pathLst>
                  <a:path w="80" h="80">
                    <a:moveTo>
                      <a:pt x="0" y="80"/>
                    </a:moveTo>
                    <a:lnTo>
                      <a:pt x="20" y="0"/>
                    </a:lnTo>
                    <a:lnTo>
                      <a:pt x="40" y="0"/>
                    </a:lnTo>
                    <a:lnTo>
                      <a:pt x="80" y="20"/>
                    </a:lnTo>
                    <a:lnTo>
                      <a:pt x="0" y="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flipH="1">
                <a:off x="5462640" y="3943440"/>
                <a:ext cx="460080" cy="410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4" name=""/>
            <p:cNvGrpSpPr/>
            <p:nvPr/>
          </p:nvGrpSpPr>
          <p:grpSpPr>
            <a:xfrm>
              <a:off x="5438880" y="4467240"/>
              <a:ext cx="431280" cy="570960"/>
              <a:chOff x="5438880" y="4467240"/>
              <a:chExt cx="431280" cy="570960"/>
            </a:xfrm>
          </p:grpSpPr>
          <p:sp>
            <p:nvSpPr>
              <p:cNvPr id="265" name=""/>
              <p:cNvSpPr/>
              <p:nvPr/>
            </p:nvSpPr>
            <p:spPr>
              <a:xfrm>
                <a:off x="5743440" y="4901400"/>
                <a:ext cx="126720" cy="136800"/>
              </a:xfrm>
              <a:custGeom>
                <a:avLst/>
                <a:gdLst/>
                <a:ahLst/>
                <a:rect l="l" t="t" r="r" b="b"/>
                <a:pathLst>
                  <a:path w="100" h="120">
                    <a:moveTo>
                      <a:pt x="100" y="120"/>
                    </a:moveTo>
                    <a:lnTo>
                      <a:pt x="0" y="20"/>
                    </a:lnTo>
                    <a:lnTo>
                      <a:pt x="20" y="20"/>
                    </a:lnTo>
                    <a:lnTo>
                      <a:pt x="40" y="0"/>
                    </a:lnTo>
                    <a:lnTo>
                      <a:pt x="100" y="1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5438880" y="4467240"/>
                <a:ext cx="329760" cy="456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7" name=""/>
            <p:cNvSpPr/>
            <p:nvPr/>
          </p:nvSpPr>
          <p:spPr>
            <a:xfrm>
              <a:off x="5807160" y="4935600"/>
              <a:ext cx="459000" cy="4078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079960" y="5697360"/>
              <a:ext cx="689040" cy="3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884920" y="2379600"/>
              <a:ext cx="459000" cy="412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845320" y="3143160"/>
              <a:ext cx="58752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908680" y="3633840"/>
              <a:ext cx="460440" cy="409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2" name=""/>
            <p:cNvGrpSpPr/>
            <p:nvPr/>
          </p:nvGrpSpPr>
          <p:grpSpPr>
            <a:xfrm>
              <a:off x="5513400" y="5262480"/>
              <a:ext cx="306000" cy="388800"/>
              <a:chOff x="5513400" y="5262480"/>
              <a:chExt cx="306000" cy="388800"/>
            </a:xfrm>
          </p:grpSpPr>
          <p:sp>
            <p:nvSpPr>
              <p:cNvPr id="273" name=""/>
              <p:cNvSpPr/>
              <p:nvPr/>
            </p:nvSpPr>
            <p:spPr>
              <a:xfrm>
                <a:off x="5513400" y="5445360"/>
                <a:ext cx="178560" cy="205920"/>
              </a:xfrm>
              <a:custGeom>
                <a:avLst/>
                <a:gdLst/>
                <a:ahLst/>
                <a:rect l="l" t="t" r="r" b="b"/>
                <a:pathLst>
                  <a:path w="140" h="180">
                    <a:moveTo>
                      <a:pt x="0" y="180"/>
                    </a:moveTo>
                    <a:lnTo>
                      <a:pt x="60" y="0"/>
                    </a:lnTo>
                    <a:lnTo>
                      <a:pt x="60" y="80"/>
                    </a:lnTo>
                    <a:lnTo>
                      <a:pt x="140" y="60"/>
                    </a:lnTo>
                    <a:lnTo>
                      <a:pt x="0" y="1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flipH="1">
                <a:off x="5589720" y="5262480"/>
                <a:ext cx="229680" cy="274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5" name=""/>
            <p:cNvGrpSpPr/>
            <p:nvPr/>
          </p:nvGrpSpPr>
          <p:grpSpPr>
            <a:xfrm>
              <a:off x="2786040" y="2757600"/>
              <a:ext cx="127080" cy="339120"/>
              <a:chOff x="2786040" y="2757600"/>
              <a:chExt cx="127080" cy="339120"/>
            </a:xfrm>
          </p:grpSpPr>
          <p:sp>
            <p:nvSpPr>
              <p:cNvPr id="276" name=""/>
              <p:cNvSpPr/>
              <p:nvPr/>
            </p:nvSpPr>
            <p:spPr>
              <a:xfrm>
                <a:off x="2786040" y="2893680"/>
                <a:ext cx="127080" cy="203040"/>
              </a:xfrm>
              <a:custGeom>
                <a:avLst/>
                <a:gdLst/>
                <a:ahLst/>
                <a:rect l="l" t="t" r="r" b="b"/>
                <a:pathLst>
                  <a:path w="100" h="179">
                    <a:moveTo>
                      <a:pt x="60" y="179"/>
                    </a:moveTo>
                    <a:lnTo>
                      <a:pt x="0" y="0"/>
                    </a:lnTo>
                    <a:lnTo>
                      <a:pt x="60" y="60"/>
                    </a:lnTo>
                    <a:lnTo>
                      <a:pt x="100" y="0"/>
                    </a:lnTo>
                    <a:lnTo>
                      <a:pt x="60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2862000" y="2757600"/>
                <a:ext cx="1440" cy="20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8" name=""/>
            <p:cNvGrpSpPr/>
            <p:nvPr/>
          </p:nvGrpSpPr>
          <p:grpSpPr>
            <a:xfrm>
              <a:off x="2786040" y="3097080"/>
              <a:ext cx="127080" cy="479520"/>
              <a:chOff x="2786040" y="3097080"/>
              <a:chExt cx="127080" cy="479520"/>
            </a:xfrm>
          </p:grpSpPr>
          <p:sp>
            <p:nvSpPr>
              <p:cNvPr id="279" name=""/>
              <p:cNvSpPr/>
              <p:nvPr/>
            </p:nvSpPr>
            <p:spPr>
              <a:xfrm>
                <a:off x="2786040" y="3371040"/>
                <a:ext cx="127080" cy="205560"/>
              </a:xfrm>
              <a:custGeom>
                <a:avLst/>
                <a:gdLst/>
                <a:ahLst/>
                <a:rect l="l" t="t" r="r" b="b"/>
                <a:pathLst>
                  <a:path w="100" h="180">
                    <a:moveTo>
                      <a:pt x="60" y="180"/>
                    </a:moveTo>
                    <a:lnTo>
                      <a:pt x="0" y="0"/>
                    </a:lnTo>
                    <a:lnTo>
                      <a:pt x="60" y="60"/>
                    </a:lnTo>
                    <a:lnTo>
                      <a:pt x="100" y="0"/>
                    </a:lnTo>
                    <a:lnTo>
                      <a:pt x="60" y="1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2862000" y="3097080"/>
                <a:ext cx="1440" cy="342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1" name=""/>
            <p:cNvGrpSpPr/>
            <p:nvPr/>
          </p:nvGrpSpPr>
          <p:grpSpPr>
            <a:xfrm>
              <a:off x="6050160" y="2781360"/>
              <a:ext cx="127080" cy="361440"/>
              <a:chOff x="6050160" y="2781360"/>
              <a:chExt cx="127080" cy="361440"/>
            </a:xfrm>
          </p:grpSpPr>
          <p:sp>
            <p:nvSpPr>
              <p:cNvPr id="282" name=""/>
              <p:cNvSpPr/>
              <p:nvPr/>
            </p:nvSpPr>
            <p:spPr>
              <a:xfrm>
                <a:off x="6050160" y="2940120"/>
                <a:ext cx="127080" cy="202680"/>
              </a:xfrm>
              <a:custGeom>
                <a:avLst/>
                <a:gdLst/>
                <a:ahLst/>
                <a:rect l="l" t="t" r="r" b="b"/>
                <a:pathLst>
                  <a:path w="100" h="179">
                    <a:moveTo>
                      <a:pt x="60" y="179"/>
                    </a:moveTo>
                    <a:lnTo>
                      <a:pt x="0" y="0"/>
                    </a:lnTo>
                    <a:lnTo>
                      <a:pt x="60" y="59"/>
                    </a:lnTo>
                    <a:lnTo>
                      <a:pt x="100" y="0"/>
                    </a:lnTo>
                    <a:lnTo>
                      <a:pt x="60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6126120" y="2781360"/>
                <a:ext cx="1440" cy="225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4" name=""/>
            <p:cNvGrpSpPr/>
            <p:nvPr/>
          </p:nvGrpSpPr>
          <p:grpSpPr>
            <a:xfrm>
              <a:off x="6050160" y="3143160"/>
              <a:ext cx="127080" cy="479520"/>
              <a:chOff x="6050160" y="3143160"/>
              <a:chExt cx="127080" cy="479520"/>
            </a:xfrm>
          </p:grpSpPr>
          <p:sp>
            <p:nvSpPr>
              <p:cNvPr id="285" name=""/>
              <p:cNvSpPr/>
              <p:nvPr/>
            </p:nvSpPr>
            <p:spPr>
              <a:xfrm>
                <a:off x="6050160" y="3417120"/>
                <a:ext cx="127080" cy="205560"/>
              </a:xfrm>
              <a:custGeom>
                <a:avLst/>
                <a:gdLst/>
                <a:ahLst/>
                <a:rect l="l" t="t" r="r" b="b"/>
                <a:pathLst>
                  <a:path w="100" h="180">
                    <a:moveTo>
                      <a:pt x="60" y="180"/>
                    </a:moveTo>
                    <a:lnTo>
                      <a:pt x="0" y="0"/>
                    </a:lnTo>
                    <a:lnTo>
                      <a:pt x="60" y="60"/>
                    </a:lnTo>
                    <a:lnTo>
                      <a:pt x="100" y="0"/>
                    </a:lnTo>
                    <a:lnTo>
                      <a:pt x="60" y="1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6126120" y="3143160"/>
                <a:ext cx="1440" cy="342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7" name=""/>
            <p:cNvGrpSpPr/>
            <p:nvPr/>
          </p:nvGrpSpPr>
          <p:grpSpPr>
            <a:xfrm>
              <a:off x="4443480" y="3965400"/>
              <a:ext cx="127080" cy="364680"/>
              <a:chOff x="4443480" y="3965400"/>
              <a:chExt cx="127080" cy="364680"/>
            </a:xfrm>
          </p:grpSpPr>
          <p:sp>
            <p:nvSpPr>
              <p:cNvPr id="288" name=""/>
              <p:cNvSpPr/>
              <p:nvPr/>
            </p:nvSpPr>
            <p:spPr>
              <a:xfrm>
                <a:off x="4443480" y="3965400"/>
                <a:ext cx="127080" cy="228240"/>
              </a:xfrm>
              <a:custGeom>
                <a:avLst/>
                <a:gdLst/>
                <a:ahLst/>
                <a:rect l="l" t="t" r="r" b="b"/>
                <a:pathLst>
                  <a:path w="100" h="200">
                    <a:moveTo>
                      <a:pt x="60" y="0"/>
                    </a:moveTo>
                    <a:lnTo>
                      <a:pt x="100" y="200"/>
                    </a:lnTo>
                    <a:lnTo>
                      <a:pt x="60" y="140"/>
                    </a:lnTo>
                    <a:lnTo>
                      <a:pt x="0" y="200"/>
                    </a:lnTo>
                    <a:lnTo>
                      <a:pt x="6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flipV="1">
                <a:off x="4519800" y="4124520"/>
                <a:ext cx="1080" cy="205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0" name=""/>
            <p:cNvSpPr/>
            <p:nvPr/>
          </p:nvSpPr>
          <p:spPr>
            <a:xfrm flipH="1">
              <a:off x="6300360" y="2011320"/>
              <a:ext cx="122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507360" y="373680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354360" y="487836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flipH="1">
              <a:off x="6324120" y="2171520"/>
              <a:ext cx="91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579720" y="389736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427080" y="505944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508440" y="29829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44960" y="42847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844960" y="54925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630480" y="312084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966640" y="442116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966640" y="560700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5459400" y="2573280"/>
              <a:ext cx="2160720" cy="3941640"/>
            </a:xfrm>
            <a:custGeom>
              <a:avLst/>
              <a:gdLst/>
              <a:ahLst/>
              <a:rect l="l" t="t" r="r" b="b"/>
              <a:pathLst>
                <a:path w="1088" h="2144">
                  <a:moveTo>
                    <a:pt x="8" y="1680"/>
                  </a:moveTo>
                  <a:cubicBezTo>
                    <a:pt x="4" y="1764"/>
                    <a:pt x="0" y="1848"/>
                    <a:pt x="56" y="1920"/>
                  </a:cubicBezTo>
                  <a:cubicBezTo>
                    <a:pt x="112" y="1992"/>
                    <a:pt x="208" y="2144"/>
                    <a:pt x="344" y="2112"/>
                  </a:cubicBezTo>
                  <a:cubicBezTo>
                    <a:pt x="480" y="2080"/>
                    <a:pt x="760" y="2032"/>
                    <a:pt x="872" y="1728"/>
                  </a:cubicBezTo>
                  <a:cubicBezTo>
                    <a:pt x="984" y="1424"/>
                    <a:pt x="1088" y="576"/>
                    <a:pt x="1016" y="288"/>
                  </a:cubicBezTo>
                  <a:cubicBezTo>
                    <a:pt x="944" y="0"/>
                    <a:pt x="692" y="0"/>
                    <a:pt x="44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618080" y="3984480"/>
              <a:ext cx="666720" cy="2354400"/>
            </a:xfrm>
            <a:custGeom>
              <a:avLst/>
              <a:gdLst/>
              <a:ahLst/>
              <a:rect l="l" t="t" r="r" b="b"/>
              <a:pathLst>
                <a:path w="336" h="1280">
                  <a:moveTo>
                    <a:pt x="336" y="912"/>
                  </a:moveTo>
                  <a:cubicBezTo>
                    <a:pt x="332" y="1064"/>
                    <a:pt x="328" y="1216"/>
                    <a:pt x="288" y="1248"/>
                  </a:cubicBezTo>
                  <a:cubicBezTo>
                    <a:pt x="248" y="1280"/>
                    <a:pt x="136" y="1208"/>
                    <a:pt x="96" y="1104"/>
                  </a:cubicBezTo>
                  <a:cubicBezTo>
                    <a:pt x="56" y="1000"/>
                    <a:pt x="64" y="808"/>
                    <a:pt x="48" y="624"/>
                  </a:cubicBezTo>
                  <a:cubicBezTo>
                    <a:pt x="32" y="440"/>
                    <a:pt x="16" y="220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219320" y="2573280"/>
              <a:ext cx="2351160" cy="3927600"/>
            </a:xfrm>
            <a:custGeom>
              <a:avLst/>
              <a:gdLst/>
              <a:ahLst/>
              <a:rect l="l" t="t" r="r" b="b"/>
              <a:pathLst>
                <a:path w="1184" h="2136">
                  <a:moveTo>
                    <a:pt x="1136" y="1680"/>
                  </a:moveTo>
                  <a:cubicBezTo>
                    <a:pt x="1160" y="1816"/>
                    <a:pt x="1184" y="1952"/>
                    <a:pt x="1088" y="2016"/>
                  </a:cubicBezTo>
                  <a:cubicBezTo>
                    <a:pt x="992" y="2080"/>
                    <a:pt x="704" y="2136"/>
                    <a:pt x="560" y="2064"/>
                  </a:cubicBezTo>
                  <a:cubicBezTo>
                    <a:pt x="416" y="1992"/>
                    <a:pt x="304" y="1856"/>
                    <a:pt x="224" y="1584"/>
                  </a:cubicBezTo>
                  <a:cubicBezTo>
                    <a:pt x="144" y="1312"/>
                    <a:pt x="0" y="696"/>
                    <a:pt x="80" y="432"/>
                  </a:cubicBezTo>
                  <a:cubicBezTo>
                    <a:pt x="160" y="168"/>
                    <a:pt x="432" y="84"/>
                    <a:pt x="704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5" name=""/>
          <p:cNvSpPr/>
          <p:nvPr/>
        </p:nvSpPr>
        <p:spPr>
          <a:xfrm>
            <a:off x="2292480" y="228600"/>
            <a:ext cx="37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phical repres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06947-2492-445B-8573-EBDEFED1CC1E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mantics: dynamic evolu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ition t is enabled if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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t's input places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M(p) </a:t>
            </a: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W(&lt;p,t&gt;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 fires: produces a new marking M’ in places that are either t's input or output places or bo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if p is an input place: M'(p) = M(p) - W(&lt;p,t&gt;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if p is an output place: M'(p) = M(p) + W(&lt;t,p&gt;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if p is both an input and an output place:        M'(p) = M(p) - W(&lt;p,t&gt;) + W(&lt;t,p&gt;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892C8-99DE-44D7-855A-731E52C398F4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ondeterminis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 of the enabled transitions may fi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el does not specify which fires, nor when it fi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249F3-830C-4551-9ABF-794458576B83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es of specification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tatement of the interface between the machine and the controlled environment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erious undesirable effects can result due to misunderstandings between software engineers and domain experts about the phenomena affecting the control function to be implemented by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D7C5C-B5E7-46AA-A919-E63C2532822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eling with Petri ne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aces represent distributed sta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nsitions represent actions or events that may occur when system is in a certain st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can occur as certain conditions hold on the sta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01F29-F6D8-4033-9042-E64CCCC90184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2" name=""/>
          <p:cNvGraphicFramePr/>
          <p:nvPr/>
        </p:nvGraphicFramePr>
        <p:xfrm>
          <a:off x="762120" y="609480"/>
          <a:ext cx="7983360" cy="6626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609480"/>
                    <a:ext cx="7983360" cy="662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4" name=""/>
          <p:cNvSpPr/>
          <p:nvPr/>
        </p:nvSpPr>
        <p:spPr>
          <a:xfrm>
            <a:off x="1267200" y="152280"/>
            <a:ext cx="693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fter (a) either (b) or (c) may occur, and then (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9C52B-4395-4F94-A96A-1D6C9DA39294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mon cas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transitions are enabled to fire in a given state, and the firing of one does nor prevent the other from firi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e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nd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n case (a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li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transitions are enabled to fire in a given state, but the firing of one prevents the other from fi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e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n case (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models a  shared resource between two process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olicy exists to resolve conflicts (known a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unfair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chedul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process may never get a resource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tarv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0912F-4E13-484A-9493-5814BAB89CB7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to avoid starv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" name=""/>
          <p:cNvSpPr/>
          <p:nvPr/>
        </p:nvSpPr>
        <p:spPr>
          <a:xfrm>
            <a:off x="2519280" y="168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>
            <a:off x="457200" y="1143000"/>
            <a:ext cx="5559480" cy="472284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/>
          <p:nvPr/>
        </p:nvSpPr>
        <p:spPr>
          <a:xfrm>
            <a:off x="6056640" y="2666880"/>
            <a:ext cx="30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ses alter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30664-6F16-4B06-8B24-462856B4682E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conflict-free ne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"/>
          <p:cNvSpPr/>
          <p:nvPr/>
        </p:nvSpPr>
        <p:spPr>
          <a:xfrm>
            <a:off x="3124080" y="1749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1"/>
          <a:stretch/>
        </p:blipFill>
        <p:spPr>
          <a:xfrm>
            <a:off x="1523880" y="1066680"/>
            <a:ext cx="4730760" cy="5489640"/>
          </a:xfrm>
          <a:prstGeom prst="rect">
            <a:avLst/>
          </a:prstGeom>
          <a:ln w="0">
            <a:noFill/>
          </a:ln>
        </p:spPr>
      </p:pic>
      <p:sp>
        <p:nvSpPr>
          <p:cNvPr id="324" name=""/>
          <p:cNvSpPr/>
          <p:nvPr/>
        </p:nvSpPr>
        <p:spPr>
          <a:xfrm>
            <a:off x="6571440" y="2014560"/>
            <a:ext cx="184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net c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adlock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i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076640" y="330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>
            <a:off x="6629400" y="3048120"/>
            <a:ext cx="1676520" cy="414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6BBC1-CAD5-4F9B-8ED1-2F441E5E6DDC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deadlock-free ne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8" name=""/>
          <p:cNvSpPr/>
          <p:nvPr/>
        </p:nvSpPr>
        <p:spPr>
          <a:xfrm>
            <a:off x="3129120" y="1703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2209680" y="1143000"/>
            <a:ext cx="4525920" cy="5410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DBF37-DC7B-420D-B93E-F5E4A6914735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case of partial starv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1" name=""/>
          <p:cNvSpPr/>
          <p:nvPr/>
        </p:nvSpPr>
        <p:spPr>
          <a:xfrm>
            <a:off x="3330720" y="246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6195960" cy="4807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09383-2EB2-4FC9-8D73-647933B9347F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ducer-consumer example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2286000" y="1066680"/>
          <a:ext cx="6019920" cy="5378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1066680"/>
                    <a:ext cx="6019920" cy="537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6" name=""/>
          <p:cNvSpPr/>
          <p:nvPr/>
        </p:nvSpPr>
        <p:spPr>
          <a:xfrm>
            <a:off x="216000" y="3657600"/>
            <a:ext cx="2910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n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he sub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D5299-11A8-4ED4-859D-F86396E13585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ducer-consumer example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38" name=""/>
          <p:cNvGraphicFramePr/>
          <p:nvPr/>
        </p:nvGraphicFramePr>
        <p:xfrm>
          <a:off x="3581280" y="762120"/>
          <a:ext cx="5050080" cy="5843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81280" y="762120"/>
                    <a:ext cx="5050080" cy="584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0" name=""/>
          <p:cNvSpPr/>
          <p:nvPr/>
        </p:nvSpPr>
        <p:spPr>
          <a:xfrm>
            <a:off x="624960" y="2971800"/>
            <a:ext cx="232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net for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re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CE72F-4809-4AB7-8E88-2DC6AE8ED994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imitations and extens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2" name=""/>
          <p:cNvSpPr/>
          <p:nvPr/>
        </p:nvSpPr>
        <p:spPr>
          <a:xfrm>
            <a:off x="370368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3" name="" descr=""/>
          <p:cNvPicPr/>
          <p:nvPr/>
        </p:nvPicPr>
        <p:blipFill>
          <a:blip r:embed="rId1"/>
          <a:stretch/>
        </p:blipFill>
        <p:spPr>
          <a:xfrm>
            <a:off x="1676520" y="1905120"/>
            <a:ext cx="5440320" cy="2241360"/>
          </a:xfrm>
          <a:prstGeom prst="rect">
            <a:avLst/>
          </a:prstGeom>
          <a:ln w="0">
            <a:noFill/>
          </a:ln>
        </p:spPr>
      </p:pic>
      <p:sp>
        <p:nvSpPr>
          <p:cNvPr id="344" name=""/>
          <p:cNvSpPr/>
          <p:nvPr/>
        </p:nvSpPr>
        <p:spPr>
          <a:xfrm>
            <a:off x="1106280" y="4495680"/>
            <a:ext cx="7336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ken represents a mess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You wish to say that the delivery channel depe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on conte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How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etri nets cannot specify selection polic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4C1DB-CC1D-46A4-874C-D26A1D440202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es of specification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ment of requirements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esign process is a chain of specification (i.e., definition)–implementation–verification steps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requirements specification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fers to definition of external behavi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sign specification must be verified against 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design specificati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refers to definition of the software archite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must be verified against 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8A368-47EB-4968-95EE-599B3F5E3FF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tension 1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ssigning values to toke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nsitions have associated predicates and fun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edicate refers to values of tokens in input places selected for fi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define values of tokens produced in output pla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F95E4-E82C-4227-A35C-F2D607C0AA20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8" name=""/>
          <p:cNvSpPr/>
          <p:nvPr/>
        </p:nvSpPr>
        <p:spPr>
          <a:xfrm>
            <a:off x="317808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9" name="" descr=""/>
          <p:cNvPicPr/>
          <p:nvPr/>
        </p:nvPicPr>
        <p:blipFill>
          <a:blip r:embed="rId1"/>
          <a:stretch/>
        </p:blipFill>
        <p:spPr>
          <a:xfrm>
            <a:off x="380880" y="1600200"/>
            <a:ext cx="5434200" cy="3562200"/>
          </a:xfrm>
          <a:prstGeom prst="rect">
            <a:avLst/>
          </a:prstGeom>
          <a:ln w="0">
            <a:noFill/>
          </a:ln>
        </p:spPr>
      </p:pic>
      <p:sp>
        <p:nvSpPr>
          <p:cNvPr id="350" name=""/>
          <p:cNvSpPr/>
          <p:nvPr/>
        </p:nvSpPr>
        <p:spPr>
          <a:xfrm>
            <a:off x="6051240" y="1523880"/>
            <a:ext cx="28324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edicate P2 &gt; P1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d func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4 := P2 + P1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ssociated with t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edicate P3 = P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d functio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4 := P3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P2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5 := P2 + P3 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ssociated with t2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72160" y="5334120"/>
            <a:ext cx="7296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firing of t1 by using &lt;3,7&gt; would produce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value 10 in P4.  t2 can then fire using &lt;4, 4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58112-3102-4856-9F21-2E690936CA04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tension 2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ying prior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priority function pri from transitions to natural number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pri: T </a:t>
            </a:r>
            <a:r>
              <a:rPr b="0" lang="it-IT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en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several transitions are enabled, only the ones with maximum priority are allowed to fi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mong them, the one to fire is chosen nondeterministical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6FBC4-1952-4B5D-9045-6C0817A77A1F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tension 3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imed Petri ne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 pair of constants &lt;tmin, tmax&gt; is associated with each transition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O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nce a transition is enabled, it must wait for at least tmin to elapse before it can fi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 enabled, it </a:t>
            </a:r>
            <a:r>
              <a:rPr b="0" i="1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ust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fire before tmax has elapsed, unless it is disabled by the firing of another transition before tmax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D9A04-B53E-4E60-8B3D-C0DECEA97405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bining priorities and tim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7" name=""/>
          <p:cNvSpPr/>
          <p:nvPr/>
        </p:nvSpPr>
        <p:spPr>
          <a:xfrm>
            <a:off x="3014640" y="2838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990720" y="2895480"/>
            <a:ext cx="6359400" cy="2409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498F4-42FE-4518-BFC5-0E1B2DFC823B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/>
          <p:nvPr/>
        </p:nvSpPr>
        <p:spPr>
          <a:xfrm>
            <a:off x="2511360" y="139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6104160" cy="6024600"/>
          </a:xfrm>
          <a:prstGeom prst="rect">
            <a:avLst/>
          </a:prstGeom>
          <a:ln w="0">
            <a:noFill/>
          </a:ln>
        </p:spPr>
      </p:pic>
      <p:sp>
        <p:nvSpPr>
          <p:cNvPr id="361" name=""/>
          <p:cNvSpPr/>
          <p:nvPr/>
        </p:nvSpPr>
        <p:spPr>
          <a:xfrm>
            <a:off x="5451480" y="3886200"/>
            <a:ext cx="352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ise spec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message triplic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(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2D70E-E432-4439-9687-036ABCB68CB9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2709720" y="1281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1"/>
          <a:stretch/>
        </p:blipFill>
        <p:spPr>
          <a:xfrm>
            <a:off x="376200" y="304920"/>
            <a:ext cx="5310360" cy="6126120"/>
          </a:xfrm>
          <a:prstGeom prst="rect">
            <a:avLst/>
          </a:prstGeom>
          <a:ln w="0">
            <a:noFill/>
          </a:ln>
        </p:spPr>
      </p:pic>
      <p:sp>
        <p:nvSpPr>
          <p:cNvPr id="364" name=""/>
          <p:cNvSpPr/>
          <p:nvPr/>
        </p:nvSpPr>
        <p:spPr>
          <a:xfrm>
            <a:off x="4842000" y="3809880"/>
            <a:ext cx="352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ise spec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message triplic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(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2E97B-CB1C-4E28-A810-E0DD2279526B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An n elevator system to be installed in a building with m flo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Natural language specs contain several ambigu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Formal specification using PNs removes ambigu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Specification will be provided in a stepwise fash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Will use modules, each encapsulating fragments of PNs which describe certain system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58200-4E61-43F2-8BCC-5264BCEEC070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476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rom informal specs…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61800" y="1276200"/>
            <a:ext cx="8515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The illumination is cancelled when the elevator visits the floor and is either moving in the desired direction, or ...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2 different interpretations (case of up cal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switch off as the elevator arrives at the floor from below (obvious restrictions for 1st and last flo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switch off after the elevators starts movin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ahoma"/>
              </a:rPr>
              <a:t>in practice you may observe the two case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93274-F09C-473C-A2B5-46EDEA430E32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09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…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re analysis of informal spec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The algorithm to decide which to service first should minimize the waiting time for both requests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3200" spc="-1" strike="noStrike">
                <a:solidFill>
                  <a:srgbClr val="000000"/>
                </a:solidFill>
                <a:latin typeface="Tahoma"/>
              </a:rPr>
              <a:t>what does this mea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no other way can you satisfy either request in a short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minimizing for one may require longer for the oth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um of both is minim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y the sum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7A8C2-CF4D-4F31-B72A-93E7EA46FDC8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es of specification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reference point during mainten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ctive maintenance only changes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 and perfective maintenance occur because of requirements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ments specification must change according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19158-672F-44BD-AAD0-8A23AB209BE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itial sketch of mov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2" name=""/>
          <p:cNvSpPr/>
          <p:nvPr/>
        </p:nvSpPr>
        <p:spPr>
          <a:xfrm>
            <a:off x="2759040" y="209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853240" cy="4303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F4A86-3B55-451E-AA8E-2AAE89FA3C56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utton modu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75" name=""/>
          <p:cNvGraphicFramePr/>
          <p:nvPr/>
        </p:nvGraphicFramePr>
        <p:xfrm>
          <a:off x="1771560" y="1790640"/>
          <a:ext cx="5829480" cy="5505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71560" y="1790640"/>
                    <a:ext cx="5829480" cy="550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9E941-3250-4BEF-8B29-80E7F2B9C3B9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levator position (sketch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78" name=""/>
          <p:cNvGraphicFramePr/>
          <p:nvPr/>
        </p:nvGraphicFramePr>
        <p:xfrm>
          <a:off x="1828800" y="838080"/>
          <a:ext cx="5297400" cy="5450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838080"/>
                    <a:ext cx="5297400" cy="545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ABA33-4462-42C4-8030-210F23F4FA83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/>
          <p:nvPr/>
        </p:nvSpPr>
        <p:spPr>
          <a:xfrm>
            <a:off x="6037920" y="5578560"/>
            <a:ext cx="271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me j+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2313000" y="158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1"/>
          <a:stretch/>
        </p:blipFill>
        <p:spPr>
          <a:xfrm>
            <a:off x="228600" y="784080"/>
            <a:ext cx="6907320" cy="5637240"/>
          </a:xfrm>
          <a:prstGeom prst="rect">
            <a:avLst/>
          </a:prstGeom>
          <a:ln w="0">
            <a:noFill/>
          </a:ln>
        </p:spPr>
      </p:pic>
      <p:sp>
        <p:nvSpPr>
          <p:cNvPr id="383" name=""/>
          <p:cNvSpPr/>
          <p:nvPr/>
        </p:nvSpPr>
        <p:spPr>
          <a:xfrm>
            <a:off x="70200" y="228600"/>
            <a:ext cx="659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precise description of elevator 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89DDD-38AC-454F-921A-F83106A814ED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witch internal button off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85" name=""/>
          <p:cNvGraphicFramePr/>
          <p:nvPr/>
        </p:nvGraphicFramePr>
        <p:xfrm>
          <a:off x="685800" y="1657440"/>
          <a:ext cx="7467480" cy="6343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57440"/>
                    <a:ext cx="7467480" cy="634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EEFF7-73A3-4875-ADEB-A2C35F627CBD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6816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witch external button off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88" name=""/>
          <p:cNvGrpSpPr/>
          <p:nvPr/>
        </p:nvGrpSpPr>
        <p:grpSpPr>
          <a:xfrm>
            <a:off x="990720" y="1295280"/>
            <a:ext cx="6573240" cy="4344840"/>
            <a:chOff x="990720" y="1295280"/>
            <a:chExt cx="6573240" cy="4344840"/>
          </a:xfrm>
        </p:grpSpPr>
        <p:sp>
          <p:nvSpPr>
            <p:cNvPr id="389" name=""/>
            <p:cNvSpPr/>
            <p:nvPr/>
          </p:nvSpPr>
          <p:spPr>
            <a:xfrm>
              <a:off x="1398240" y="1557360"/>
              <a:ext cx="679320" cy="65700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398240" y="3520800"/>
              <a:ext cx="679320" cy="65736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109760" y="3520800"/>
              <a:ext cx="680760" cy="65736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822720" y="3520800"/>
              <a:ext cx="679320" cy="65736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387440" y="2840040"/>
              <a:ext cx="677520" cy="39600"/>
            </a:xfrm>
            <a:custGeom>
              <a:avLst/>
              <a:gdLst/>
              <a:ahLst/>
              <a:rect l="l" t="t" r="r" b="b"/>
              <a:pathLst>
                <a:path w="427" h="25">
                  <a:moveTo>
                    <a:pt x="0" y="0"/>
                  </a:moveTo>
                  <a:lnTo>
                    <a:pt x="0" y="23"/>
                  </a:lnTo>
                  <a:lnTo>
                    <a:pt x="427" y="25"/>
                  </a:lnTo>
                  <a:lnTo>
                    <a:pt x="427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776560" y="2530440"/>
              <a:ext cx="39600" cy="655560"/>
            </a:xfrm>
            <a:custGeom>
              <a:avLst/>
              <a:gdLst/>
              <a:ahLst/>
              <a:rect l="l" t="t" r="r" b="b"/>
              <a:pathLst>
                <a:path w="25" h="413">
                  <a:moveTo>
                    <a:pt x="24" y="0"/>
                  </a:moveTo>
                  <a:lnTo>
                    <a:pt x="0" y="0"/>
                  </a:lnTo>
                  <a:lnTo>
                    <a:pt x="1" y="413"/>
                  </a:lnTo>
                  <a:lnTo>
                    <a:pt x="25" y="413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776560" y="4494240"/>
              <a:ext cx="39600" cy="655560"/>
            </a:xfrm>
            <a:custGeom>
              <a:avLst/>
              <a:gdLst/>
              <a:ahLst/>
              <a:rect l="l" t="t" r="r" b="b"/>
              <a:pathLst>
                <a:path w="25" h="413">
                  <a:moveTo>
                    <a:pt x="24" y="0"/>
                  </a:moveTo>
                  <a:lnTo>
                    <a:pt x="0" y="0"/>
                  </a:lnTo>
                  <a:lnTo>
                    <a:pt x="1" y="413"/>
                  </a:lnTo>
                  <a:lnTo>
                    <a:pt x="25" y="413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650960" y="2857320"/>
              <a:ext cx="131400" cy="255600"/>
            </a:xfrm>
            <a:custGeom>
              <a:avLst/>
              <a:gdLst/>
              <a:ahLst/>
              <a:rect l="l" t="t" r="r" b="b"/>
              <a:pathLst>
                <a:path w="83" h="161">
                  <a:moveTo>
                    <a:pt x="47" y="0"/>
                  </a:moveTo>
                  <a:lnTo>
                    <a:pt x="83" y="161"/>
                  </a:lnTo>
                  <a:lnTo>
                    <a:pt x="47" y="161"/>
                  </a:lnTo>
                  <a:lnTo>
                    <a:pt x="0" y="161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 flipV="1">
              <a:off x="1725480" y="3112560"/>
              <a:ext cx="2880" cy="3999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650960" y="2205000"/>
              <a:ext cx="131400" cy="253800"/>
            </a:xfrm>
            <a:custGeom>
              <a:avLst/>
              <a:gdLst/>
              <a:ahLst/>
              <a:rect l="l" t="t" r="r" b="b"/>
              <a:pathLst>
                <a:path w="83" h="160">
                  <a:moveTo>
                    <a:pt x="47" y="0"/>
                  </a:moveTo>
                  <a:lnTo>
                    <a:pt x="83" y="160"/>
                  </a:lnTo>
                  <a:lnTo>
                    <a:pt x="47" y="160"/>
                  </a:lnTo>
                  <a:lnTo>
                    <a:pt x="0" y="160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1725480" y="2458440"/>
              <a:ext cx="2880" cy="3985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984640" y="2403360"/>
              <a:ext cx="374400" cy="253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002280" y="2366640"/>
              <a:ext cx="43596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002280" y="2369880"/>
              <a:ext cx="32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Se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5568840" y="5259240"/>
              <a:ext cx="620280" cy="257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389560" y="5208480"/>
              <a:ext cx="179172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388840" y="5213160"/>
              <a:ext cx="109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500440" y="5213160"/>
              <a:ext cx="2278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..x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740920" y="5213160"/>
              <a:ext cx="7444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Rese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990720" y="2639880"/>
              <a:ext cx="190080" cy="254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1011240" y="2603520"/>
              <a:ext cx="2455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010520" y="2608200"/>
              <a:ext cx="109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ti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123560" y="2608200"/>
              <a:ext cx="417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'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160280" y="4186080"/>
              <a:ext cx="207720" cy="25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180800" y="4149720"/>
              <a:ext cx="284040" cy="33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1179360" y="4154400"/>
              <a:ext cx="1821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Fj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1238040" y="1330200"/>
              <a:ext cx="261720" cy="25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255680" y="1295280"/>
              <a:ext cx="323280" cy="32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254240" y="1298520"/>
              <a:ext cx="223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Fj'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289400" y="4295520"/>
              <a:ext cx="337680" cy="25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4306680" y="4259160"/>
              <a:ext cx="39816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4306680" y="4262400"/>
              <a:ext cx="2887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On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7000560" y="4295520"/>
              <a:ext cx="339480" cy="25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7019640" y="4259160"/>
              <a:ext cx="3790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7020360" y="4262400"/>
              <a:ext cx="2872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Off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776480" y="3477960"/>
              <a:ext cx="245880" cy="198720"/>
            </a:xfrm>
            <a:custGeom>
              <a:avLst/>
              <a:gdLst/>
              <a:ahLst/>
              <a:rect l="l" t="t" r="r" b="b"/>
              <a:pathLst>
                <a:path w="155" h="125">
                  <a:moveTo>
                    <a:pt x="0" y="125"/>
                  </a:moveTo>
                  <a:lnTo>
                    <a:pt x="120" y="0"/>
                  </a:lnTo>
                  <a:lnTo>
                    <a:pt x="131" y="33"/>
                  </a:lnTo>
                  <a:lnTo>
                    <a:pt x="155" y="67"/>
                  </a:lnTo>
                  <a:lnTo>
                    <a:pt x="0" y="1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 flipV="1">
              <a:off x="4984560" y="3020760"/>
              <a:ext cx="809280" cy="5097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794200" y="2857320"/>
              <a:ext cx="264600" cy="181080"/>
            </a:xfrm>
            <a:custGeom>
              <a:avLst/>
              <a:gdLst/>
              <a:ahLst/>
              <a:rect l="l" t="t" r="r" b="b"/>
              <a:pathLst>
                <a:path w="167" h="114">
                  <a:moveTo>
                    <a:pt x="0" y="0"/>
                  </a:moveTo>
                  <a:lnTo>
                    <a:pt x="167" y="34"/>
                  </a:lnTo>
                  <a:lnTo>
                    <a:pt x="142" y="69"/>
                  </a:lnTo>
                  <a:lnTo>
                    <a:pt x="120" y="1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H="1" flipV="1">
              <a:off x="6019200" y="2966400"/>
              <a:ext cx="960120" cy="5461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6567480" y="4003560"/>
              <a:ext cx="244080" cy="218880"/>
            </a:xfrm>
            <a:custGeom>
              <a:avLst/>
              <a:gdLst/>
              <a:ahLst/>
              <a:rect l="l" t="t" r="r" b="b"/>
              <a:pathLst>
                <a:path w="154" h="138">
                  <a:moveTo>
                    <a:pt x="154" y="0"/>
                  </a:moveTo>
                  <a:lnTo>
                    <a:pt x="60" y="138"/>
                  </a:lnTo>
                  <a:lnTo>
                    <a:pt x="35" y="103"/>
                  </a:lnTo>
                  <a:lnTo>
                    <a:pt x="0" y="81"/>
                  </a:lnTo>
                  <a:lnTo>
                    <a:pt x="15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5793840" y="4167000"/>
              <a:ext cx="828360" cy="820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5532120" y="4624200"/>
              <a:ext cx="261720" cy="198360"/>
            </a:xfrm>
            <a:custGeom>
              <a:avLst/>
              <a:gdLst/>
              <a:ahLst/>
              <a:rect l="l" t="t" r="r" b="b"/>
              <a:pathLst>
                <a:path w="165" h="125">
                  <a:moveTo>
                    <a:pt x="165" y="125"/>
                  </a:moveTo>
                  <a:lnTo>
                    <a:pt x="0" y="80"/>
                  </a:lnTo>
                  <a:lnTo>
                    <a:pt x="23" y="45"/>
                  </a:lnTo>
                  <a:lnTo>
                    <a:pt x="35" y="0"/>
                  </a:lnTo>
                  <a:lnTo>
                    <a:pt x="165" y="1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 flipV="1">
              <a:off x="4606560" y="4166640"/>
              <a:ext cx="961560" cy="5288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 flipV="1">
              <a:off x="1895400" y="2695320"/>
              <a:ext cx="1080" cy="1620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 flipV="1">
              <a:off x="1895400" y="2205000"/>
              <a:ext cx="507600" cy="4903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03360" y="2205000"/>
              <a:ext cx="423828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642000" y="2205000"/>
              <a:ext cx="507600" cy="4903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7075440" y="3240000"/>
              <a:ext cx="131400" cy="272880"/>
            </a:xfrm>
            <a:custGeom>
              <a:avLst/>
              <a:gdLst/>
              <a:ahLst/>
              <a:rect l="l" t="t" r="r" b="b"/>
              <a:pathLst>
                <a:path w="83" h="172">
                  <a:moveTo>
                    <a:pt x="47" y="172"/>
                  </a:moveTo>
                  <a:lnTo>
                    <a:pt x="0" y="0"/>
                  </a:lnTo>
                  <a:lnTo>
                    <a:pt x="47" y="0"/>
                  </a:lnTo>
                  <a:lnTo>
                    <a:pt x="83" y="0"/>
                  </a:lnTo>
                  <a:lnTo>
                    <a:pt x="47" y="1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7149960" y="2695320"/>
              <a:ext cx="2880" cy="5446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1895400" y="4167000"/>
              <a:ext cx="263160" cy="182520"/>
            </a:xfrm>
            <a:custGeom>
              <a:avLst/>
              <a:gdLst/>
              <a:ahLst/>
              <a:rect l="l" t="t" r="r" b="b"/>
              <a:pathLst>
                <a:path w="166" h="115">
                  <a:moveTo>
                    <a:pt x="0" y="0"/>
                  </a:moveTo>
                  <a:lnTo>
                    <a:pt x="166" y="46"/>
                  </a:lnTo>
                  <a:lnTo>
                    <a:pt x="142" y="81"/>
                  </a:lnTo>
                  <a:lnTo>
                    <a:pt x="120" y="1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120760" y="4295520"/>
              <a:ext cx="1130040" cy="6922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532120" y="4913280"/>
              <a:ext cx="261720" cy="128520"/>
            </a:xfrm>
            <a:custGeom>
              <a:avLst/>
              <a:gdLst/>
              <a:ahLst/>
              <a:rect l="l" t="t" r="r" b="b"/>
              <a:pathLst>
                <a:path w="165" h="81">
                  <a:moveTo>
                    <a:pt x="165" y="47"/>
                  </a:moveTo>
                  <a:lnTo>
                    <a:pt x="0" y="81"/>
                  </a:lnTo>
                  <a:lnTo>
                    <a:pt x="0" y="47"/>
                  </a:lnTo>
                  <a:lnTo>
                    <a:pt x="0" y="0"/>
                  </a:lnTo>
                  <a:lnTo>
                    <a:pt x="165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3251160" y="4987800"/>
              <a:ext cx="22806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 flipH="1">
              <a:off x="2403360" y="3841560"/>
              <a:ext cx="1694880" cy="1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3" name=""/>
            <p:cNvGrpSpPr/>
            <p:nvPr/>
          </p:nvGrpSpPr>
          <p:grpSpPr>
            <a:xfrm>
              <a:off x="1800000" y="1457280"/>
              <a:ext cx="5763960" cy="4182840"/>
              <a:chOff x="1800000" y="1457280"/>
              <a:chExt cx="5763960" cy="4182840"/>
            </a:xfrm>
          </p:grpSpPr>
          <p:sp>
            <p:nvSpPr>
              <p:cNvPr id="444" name=""/>
              <p:cNvSpPr/>
              <p:nvPr/>
            </p:nvSpPr>
            <p:spPr>
              <a:xfrm>
                <a:off x="1800000" y="2857320"/>
                <a:ext cx="169920" cy="255600"/>
              </a:xfrm>
              <a:custGeom>
                <a:avLst/>
                <a:gdLst/>
                <a:ahLst/>
                <a:rect l="l" t="t" r="r" b="b"/>
                <a:pathLst>
                  <a:path w="107" h="161">
                    <a:moveTo>
                      <a:pt x="0" y="0"/>
                    </a:moveTo>
                    <a:lnTo>
                      <a:pt x="107" y="127"/>
                    </a:lnTo>
                    <a:lnTo>
                      <a:pt x="71" y="138"/>
                    </a:lnTo>
                    <a:lnTo>
                      <a:pt x="36" y="16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 flipH="1" flipV="1">
                <a:off x="1912680" y="3076200"/>
                <a:ext cx="395280" cy="76500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3665160" y="1549080"/>
                <a:ext cx="338040" cy="3764160"/>
              </a:xfrm>
              <a:custGeom>
                <a:avLst/>
                <a:gdLst/>
                <a:ahLst/>
                <a:rect l="l" t="t" r="r" b="b"/>
                <a:pathLst>
                  <a:path w="213" h="2371">
                    <a:moveTo>
                      <a:pt x="213" y="0"/>
                    </a:moveTo>
                    <a:lnTo>
                      <a:pt x="0" y="205"/>
                    </a:lnTo>
                    <a:lnTo>
                      <a:pt x="0" y="2371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3665160" y="1549080"/>
                <a:ext cx="3898800" cy="4091040"/>
              </a:xfrm>
              <a:custGeom>
                <a:avLst/>
                <a:gdLst/>
                <a:ahLst/>
                <a:rect l="l" t="t" r="r" b="b"/>
                <a:pathLst>
                  <a:path w="2456" h="2577">
                    <a:moveTo>
                      <a:pt x="0" y="2371"/>
                    </a:moveTo>
                    <a:lnTo>
                      <a:pt x="213" y="2577"/>
                    </a:lnTo>
                    <a:lnTo>
                      <a:pt x="2242" y="2577"/>
                    </a:lnTo>
                    <a:lnTo>
                      <a:pt x="2349" y="2475"/>
                    </a:lnTo>
                    <a:lnTo>
                      <a:pt x="2456" y="2371"/>
                    </a:lnTo>
                    <a:lnTo>
                      <a:pt x="2456" y="205"/>
                    </a:lnTo>
                    <a:lnTo>
                      <a:pt x="2242" y="0"/>
                    </a:lnTo>
                    <a:lnTo>
                      <a:pt x="213" y="0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3268440" y="1493640"/>
                <a:ext cx="396720" cy="254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3288960" y="1457280"/>
                <a:ext cx="47304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3287160" y="1460520"/>
                <a:ext cx="35136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000000"/>
                    </a:solidFill>
                    <a:latin typeface="Arial"/>
                  </a:rPr>
                  <a:t>UPj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51" name=""/>
          <p:cNvSpPr/>
          <p:nvPr/>
        </p:nvSpPr>
        <p:spPr>
          <a:xfrm>
            <a:off x="173880" y="5486400"/>
            <a:ext cx="5207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 time needed 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person to enter + pushing butt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4654E-20B4-4E9C-A73A-5D70DC2E2D3C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66720" y="95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ying polic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453" name=""/>
          <p:cNvGraphicFramePr/>
          <p:nvPr/>
        </p:nvGraphicFramePr>
        <p:xfrm>
          <a:off x="1150920" y="3135240"/>
          <a:ext cx="6896160" cy="6648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50920" y="3135240"/>
                    <a:ext cx="6896160" cy="664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5" name=""/>
          <p:cNvSpPr/>
          <p:nvPr/>
        </p:nvSpPr>
        <p:spPr>
          <a:xfrm>
            <a:off x="461160" y="1219320"/>
            <a:ext cx="798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 “fair” solu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eep the direction unchanged as long as there 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alls that require elevator to go in that dir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609840" y="3340080"/>
            <a:ext cx="81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[0,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7726680" y="3156120"/>
            <a:ext cx="81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[0,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325760" y="2638440"/>
            <a:ext cx="78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[x,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4354560" y="5153040"/>
            <a:ext cx="78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[x,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395720" y="5762520"/>
            <a:ext cx="678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7, t8, t9 have higher priority than t10, t11, t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50C26-3E37-44CD-918A-BDB76A8D85A6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general schedul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2" name=""/>
          <p:cNvSpPr/>
          <p:nvPr/>
        </p:nvSpPr>
        <p:spPr>
          <a:xfrm>
            <a:off x="3730680" y="2884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3" name="" descr=""/>
          <p:cNvPicPr/>
          <p:nvPr/>
        </p:nvPicPr>
        <p:blipFill>
          <a:blip r:embed="rId1"/>
          <a:stretch/>
        </p:blipFill>
        <p:spPr>
          <a:xfrm>
            <a:off x="2514600" y="1371600"/>
            <a:ext cx="3814920" cy="2467080"/>
          </a:xfrm>
          <a:prstGeom prst="rect">
            <a:avLst/>
          </a:prstGeom>
          <a:ln w="0">
            <a:noFill/>
          </a:ln>
        </p:spPr>
      </p:pic>
      <p:sp>
        <p:nvSpPr>
          <p:cNvPr id="464" name=""/>
          <p:cNvSpPr/>
          <p:nvPr/>
        </p:nvSpPr>
        <p:spPr>
          <a:xfrm>
            <a:off x="457200" y="4038480"/>
            <a:ext cx="8077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7360" indent="-387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ch transition has predicate OK(Schedul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k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 in SCHEDULER stores information about the state of the system that is useful for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cheduling transitions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to fi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token is “permanent”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(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alway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eproduc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fter the firing of any trans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527CB-8C19-493A-A141-854486B60A96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clarative specific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R diagrams: semiformal spe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gic specif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gebraic specif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98184-CCDD-460A-B6BB-6E98771B5604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R diagr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ften used as a complement to DFD to describe conceptual data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ased on entities, relationships, attribu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are the ancestors of class diagrams in UM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5C7BA-0084-4DC8-8459-849C0779A5B9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ation qual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ecise, clear, unambiguou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let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al complete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complete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crement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C3678-45FD-42B5-AA0D-35B8D518172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470" name=""/>
          <p:cNvGraphicFramePr/>
          <p:nvPr/>
        </p:nvGraphicFramePr>
        <p:xfrm>
          <a:off x="3200400" y="1981080"/>
          <a:ext cx="2400480" cy="3759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0400" y="1981080"/>
                    <a:ext cx="2400480" cy="375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C33C0-85B7-4FC2-9EE8-CE5DFAC0DE90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lations can be parti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can be annotated to defin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to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to m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o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o m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74" name=""/>
          <p:cNvGraphicFramePr/>
          <p:nvPr/>
        </p:nvGraphicFramePr>
        <p:xfrm>
          <a:off x="3886200" y="3200400"/>
          <a:ext cx="4572000" cy="2941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86200" y="3200400"/>
                    <a:ext cx="4572000" cy="294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355B7-0D23-42C8-8825-5DCF7735FB3D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on binary rel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477" name=""/>
          <p:cNvGraphicFramePr/>
          <p:nvPr/>
        </p:nvGraphicFramePr>
        <p:xfrm>
          <a:off x="762120" y="2057400"/>
          <a:ext cx="7429320" cy="5715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057400"/>
                    <a:ext cx="742932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3D566-2EF8-4FCC-B8FB-B4E5EC6FF4EE}" type="slidenum">
              <a:t>8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ogic specific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xamples of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irst-order theory (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O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)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formul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x &gt; y </a:t>
            </a:r>
            <a:r>
              <a:rPr b="1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d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y &gt; z </a:t>
            </a:r>
            <a:r>
              <a:rPr b="1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mplies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x &gt; 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x = y </a:t>
            </a:r>
            <a:r>
              <a:rPr b="0" lang="fr-FR" sz="2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1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y = 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 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x, y, z (x &gt; y </a:t>
            </a:r>
            <a:r>
              <a:rPr b="1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d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y &gt; z </a:t>
            </a:r>
            <a:r>
              <a:rPr b="1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mplies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x &gt; 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x + 1 &lt; x –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x (</a:t>
            </a:r>
            <a:r>
              <a:rPr b="1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xists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y (y = x + z)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x &gt; 3 </a:t>
            </a:r>
            <a:r>
              <a:rPr b="1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r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x &lt; -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1E342-F23F-43B6-8BC5-240A7D1B13B2}" type="slidenum">
              <a:t>8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ying complete progr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 </a:t>
            </a:r>
            <a:r>
              <a:rPr b="0" i="1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operty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, or </a:t>
            </a:r>
            <a:r>
              <a:rPr b="0" i="1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requirement, 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or P is specified as a formula of the typ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"/>
          <p:cNvSpPr/>
          <p:nvPr/>
        </p:nvSpPr>
        <p:spPr>
          <a:xfrm>
            <a:off x="1610640" y="3048120"/>
            <a:ext cx="6246360" cy="224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{Pre (i1, i2,..., in) 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{Post (o1, o2,..., om, i1, i2,..., in)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66000" y="5181480"/>
            <a:ext cx="294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: precond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t: postcond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86D99-2D83-46B7-8773-2AD0F1CC15F2}" type="slidenum">
              <a:t>8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gram to compute greatest common divis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"/>
          <p:cNvSpPr/>
          <p:nvPr/>
        </p:nvSpPr>
        <p:spPr>
          <a:xfrm>
            <a:off x="1062000" y="3125880"/>
            <a:ext cx="73314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i1 &gt; 0 and i2 &gt; 0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(exists z1, z2 (i1 = o *  z1 and i2 = o * z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d not (exists 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exists z1, z2 (i1 = h * z1 and i2 = h * z2) and h &gt; o)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2911E-EF09-4C59-871A-328632E3F9BF}" type="slidenum">
              <a:t>8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ying procedur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9" name=""/>
          <p:cNvSpPr/>
          <p:nvPr/>
        </p:nvSpPr>
        <p:spPr>
          <a:xfrm>
            <a:off x="917640" y="2057400"/>
            <a:ext cx="7535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n &gt; 0} -- n is a constant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rocedure search (table: in integer_array; n: in intege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ement: in integer; found: out Boolean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found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(exists i (1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n and table (i) = element)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915120" y="4114800"/>
            <a:ext cx="7758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n &gt; 0 }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rocedure reverse (a: in out integer_array; n: in integer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for all i (1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n) implies (a (i) = </a:t>
            </a:r>
            <a:r>
              <a:rPr b="0" i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ld–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 (n - i +1)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16291-010B-48A6-82E9-5537A90B55C2}" type="slidenum">
              <a:t>8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ying class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variant predicates and pre/post conditions for each metho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of invariant specifying an array implementing ADT s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3" name=""/>
          <p:cNvSpPr/>
          <p:nvPr/>
        </p:nvSpPr>
        <p:spPr>
          <a:xfrm>
            <a:off x="862920" y="4191120"/>
            <a:ext cx="751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 i, j (1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i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length and 1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j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length and i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j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mplies IMPL[i]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MPL[j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no duplicates are stor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878B0-9892-46A6-83C1-503C3E9B77CF}" type="slidenum">
              <a:t>8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ying non-terminating behavio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ducer+consumer+buff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variant specifies that whatever has been produced is the concatenation of what has been taken from the buffer and what is kept in the buff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6" name=""/>
          <p:cNvSpPr/>
          <p:nvPr/>
        </p:nvSpPr>
        <p:spPr>
          <a:xfrm>
            <a:off x="969840" y="4648320"/>
            <a:ext cx="6604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put_sequence = append (output_sequenc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ntents(CHAR_BUFFER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2A971-152F-4053-B724-56AC42BF0CEE}" type="slidenum">
              <a:t>8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case-study using logic specific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outline the elevator 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mentary predic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at (E, F, T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ahoma"/>
              </a:rPr>
              <a:t>E is at floor F at time 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start (E, F, T, up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ahoma"/>
              </a:rPr>
              <a:t>E left floor F at time T moving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(at (E, F, T) and on (EB, F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, T) and F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ahoma"/>
              </a:rPr>
              <a:t>1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&gt; F) implies start (E, F, T, u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 algn="just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687AA-BB35-48CA-858E-7CD42225DDDD}" type="slidenum">
              <a:t>8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ear, unambiguous, understandab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pecification fragment for a word-process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"/>
          <p:cNvSpPr/>
          <p:nvPr/>
        </p:nvSpPr>
        <p:spPr>
          <a:xfrm>
            <a:off x="1100160" y="2819520"/>
            <a:ext cx="7495920" cy="26542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ecting is the process of designat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reas of the document that you want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ork on. Most editing and formatt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ctions require two steps: first yo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ect what you want to work on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uch as text or graphics; then yo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itiate the appropriate action.</a:t>
            </a:r>
            <a:r>
              <a:rPr b="0" lang="it-IT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39520" y="5715000"/>
            <a:ext cx="366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an an area be scatter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7EE41-9FF3-4CF5-93F5-4B5E7A2B41B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76212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ates and eve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mentary predicates are partitioned in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s, having non-null d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519920" indent="-217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nding(E, F, T1, T2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954440" indent="-217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ssumption: closed at left, open at righ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ntaneous (caused state change occurs at same tim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presented by predicates that hold only at a particular time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19920" indent="-217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rived (E, F, 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simplicity, we assu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zero decision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simultaneous ev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B25D0-C943-4CC4-A5F9-522EEFB6BA1A}" type="slidenum">
              <a:t>9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vents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arrival (E, F, T)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E in [1..n], F in [1..m], T </a:t>
            </a: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, (t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initial tim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ahoma"/>
              </a:rPr>
              <a:t>does not say if it will stop or will proceed, nor where it comes fro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departure(E, F, D, T)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E in [1..n], F in [1..m], D in {up, down}, T </a:t>
            </a: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stop (E, F, T)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E in [1..n], F in [1.. m], T </a:t>
            </a: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ahoma"/>
              </a:rPr>
              <a:t>specifies stop to serve an internal or external re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5ADE6-68DD-468B-A78D-F8825B733629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vents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new_list (E, L, T)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E in [1..n], L in [1.. m]</a:t>
            </a:r>
            <a:r>
              <a:rPr b="0" lang="en-AU" sz="2800" spc="-1" strike="noStrike" baseline="30000">
                <a:solidFill>
                  <a:srgbClr val="000000"/>
                </a:solidFill>
                <a:latin typeface="Tahoma"/>
              </a:rPr>
              <a:t>*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, T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AU" sz="2800" spc="-1" strike="noStrike" baseline="-25000">
                <a:solidFill>
                  <a:srgbClr val="000000"/>
                </a:solidFill>
                <a:latin typeface="Tahoma"/>
              </a:rPr>
              <a:t>0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L is the list of floors to visit associated with elevator (scheduling is performed by the control component of the syste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call(F, D, T)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external call  (with restriction for 1, 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request(E, F, T)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internal 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367FA-44A4-4FB3-9853-F2C72DE8EB36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at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ng (E, F, D, T1, T2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nding (E, F, T1, T2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st (E, L, T1, T2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implicitly assume that state predicates hold for any sub- interval (i.e., the rules that describe this are assumed to be automatically adde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hing prevents that it holds for larger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8752C-97AF-4501-B195-113F4A591804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ules relating events and stat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8" name=""/>
          <p:cNvSpPr/>
          <p:nvPr/>
        </p:nvSpPr>
        <p:spPr>
          <a:xfrm>
            <a:off x="-74880" y="1744560"/>
            <a:ext cx="9522360" cy="16074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:When E arrives at floor F, it continues to move if there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no request for service from F and the list is emp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If the floor to serve is higher, it moves upward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otherwise it moves downwa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1432080" y="3462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2613960" y="3387600"/>
            <a:ext cx="316944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arrival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 (E, L, T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first (L) &gt;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departure (E, F, up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15600" y="5638680"/>
            <a:ext cx="682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milar rule describes downward move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73363-BCA3-4CC2-A56B-3111DD52CBBD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/>
          <p:nvPr/>
        </p:nvSpPr>
        <p:spPr>
          <a:xfrm>
            <a:off x="217440" y="452520"/>
            <a:ext cx="8575920" cy="825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2: Upon arrival at F, E stops if F must be serviced (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appears as first of the lis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1739160" y="1440000"/>
            <a:ext cx="280332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arrival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 (E, L, T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first (L) =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op (E, F,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285480" y="3657600"/>
            <a:ext cx="7993800" cy="459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3: E stops at F if it gets there with an empty 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1752480" y="4343400"/>
            <a:ext cx="573084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arrival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 (E, empty, T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op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FCE83-D34C-4092-B01A-BDCCBF8CE9F4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"/>
          <p:cNvSpPr/>
          <p:nvPr/>
        </p:nvSpPr>
        <p:spPr>
          <a:xfrm>
            <a:off x="-258480" y="297000"/>
            <a:ext cx="9933840" cy="11912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4: Assume that elevators have a fixed time to service a flo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If the list is not empty at the end of such interval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the elevator leaves the floor immediate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1643040" y="1523880"/>
            <a:ext cx="379260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op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 (E, L, T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first (L) &gt; F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departure (E, F, up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-235440" y="3657600"/>
            <a:ext cx="9424800" cy="825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5: If the elevator has no floors to service, it stops until 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list becomes nonemp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1887840" y="4495680"/>
            <a:ext cx="635544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op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list (E, L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p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p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&gt;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and list (E, empty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p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first (L) &gt;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departure (E, F, up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p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ED126-1668-436B-8B95-7187A42AC680}" type="slidenum">
              <a:t>9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"/>
          <p:cNvSpPr/>
          <p:nvPr/>
        </p:nvSpPr>
        <p:spPr>
          <a:xfrm>
            <a:off x="-82800" y="1058760"/>
            <a:ext cx="9518040" cy="825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6: Assume that the time to move from on floor to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next is known and fixed. The rule describes move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1748880" y="2049480"/>
            <a:ext cx="323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departure (E, F, up, 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arrival (E, F + 1, T + D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-111960" y="3809880"/>
            <a:ext cx="9612360" cy="459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7: The event of stopping initiates standing for at least D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1674000" y="4495680"/>
            <a:ext cx="341784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op (E, F, 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anding (E, F, T, T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ECC39-51E8-4F30-83AC-B0076FF8106B}" type="slidenum">
              <a:t>9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"/>
          <p:cNvSpPr/>
          <p:nvPr/>
        </p:nvSpPr>
        <p:spPr>
          <a:xfrm>
            <a:off x="-114480" y="677880"/>
            <a:ext cx="9557280" cy="825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8: At the end of the minimum stop interval Dts, E rema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standing if there are no floors to servi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1599480" y="1557360"/>
            <a:ext cx="3385800" cy="17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op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 (E, empty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anding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204840" y="3657600"/>
            <a:ext cx="5448600" cy="459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9: Departure causes mov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1691280" y="4259160"/>
            <a:ext cx="3522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departure (E, F, D, 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moving (E, F, D, T, T + D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EBE50-71EA-4813-99AB-4348B913AEC4}" type="slidenum">
              <a:t>9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trol ru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9" name=""/>
          <p:cNvSpPr/>
          <p:nvPr/>
        </p:nvSpPr>
        <p:spPr>
          <a:xfrm>
            <a:off x="387000" y="1744560"/>
            <a:ext cx="84942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ress the scheduling strategy (by describing “new_list”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ts and “list” stat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quests are inserted in the list from curr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or to top if the elevator is moving 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calls are inserted in the list of the closest elev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t is moving in the correct direction, or in a stand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v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E5142-30AE-4632-B184-C594D4B656BF}" type="slidenum">
              <a:t>9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3T11:06:23Z</dcterms:created>
  <dc:creator>Carlo Ghezzi</dc:creator>
  <dc:description/>
  <dc:language>en-US</dc:language>
  <cp:lastModifiedBy>jazayeri</cp:lastModifiedBy>
  <dcterms:modified xsi:type="dcterms:W3CDTF">2002-02-20T10:06:32Z</dcterms:modified>
  <cp:revision>18</cp:revision>
  <dc:subject/>
  <dc:title>Specification</dc:title>
</cp:coreProperties>
</file>