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8518-349F-43A0-A027-041F908DD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963B-E859-46F5-9C9F-8825C285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9945-B2BD-468D-9BCE-E8D6A1657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9D32-A086-4B13-BF9E-FFA477C47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3955-384C-433A-95BD-E9788126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CC8D-62AA-4D6C-9F4F-0F493CC4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0393-2E37-47D0-AEF4-57302BD9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BEF4-EB31-4669-AAB9-AB69C8C4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339B-29F9-46CC-982A-A7C3B99B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0AF1-C9BD-4288-A421-DCDA3EDA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E939-B483-438C-8A43-87BD4336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A97D-162B-456F-ABD8-933273CC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EBC6-D551-4837-9F2F-5AF1ECF51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529C-7F88-46C4-A143-EB03BD0E4CE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phases one after the other (as in waterf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separation of concerns by separating activities with respect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812A-E892-4C69-BA21-998EDAAC8E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product requirements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 and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C780-BC95-4A97-8BCE-D740551912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plex system may be divided into simpler piece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that is composed of module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s application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aling with a module we can ignore details of other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CB3D-856A-4CF6-BA3C-87281A6760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hesion and coup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dul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ghly cohe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understandable as a meaningfu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of a module are closely related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should exhib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low cou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have low interaction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A522-1785-4C2A-9518-E575C3BCF1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6288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5040" y="5595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120" y="56386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E7D7-1B56-4240-9FDB-CEA50583E1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the important aspects of a phenomenon and ignore its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case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ype of abstraction to apply depends on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the user interface of a watch (its buttons) abstracts from the watch's internals for the purpose of setting time; other abstractions needed to support repai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EF40-562A-42F0-A4D6-54641E5115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gnores detai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quations describing complex circuit (e.g., amplifier) allows designer to reason about signal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ions may approximate description, ignoring details that yield negligible effects (e.g., connectors assumed to be ide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0E34-21E1-4318-BF78-2E3F44A4E7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yield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when requirements are analyzed we produce a model of the proposed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can be a formal or semiforma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n possible to reason about the system by reasoning about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C6F1-1087-47FF-BBDE-9386B12EC5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 semantics described through an abstract machine that ignores details of the real machines used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ignores details such as precision of number representation or addressing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AC54-0940-449A-A8EA-65D4605000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do cost estimation we only take some key factors into acc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pply similarity with previous systems, ignoring detail dif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90EA-2A6B-449C-914D-5109A33A859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Principles form the basis of methods, techniques, methodologies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even important principles that may be used in all phases of softwar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ity is the cornerstone principle supporting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C99C-1E20-44F5-9095-F779AE9588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oftware evolution  requires anticipating potential futur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basis for software evolv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t up a configuration management environment for the project (as we will discu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127D-1F5F-4269-A817-4B13791D85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solving a problem, try to discover if it is an instance of a more general problem whose solution can be reused in other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efully balance generality against performance and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times a general problem is easier to solve than a special cas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DDE2-DDD9-4C0B-8BAE-385E1046B7D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proceeds in a stepwise fashion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(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subsets of a system early to get early feedback from expected users, then add new features incremen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first with functionality, then turn to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 first prototype and then incrementally add effort to turn prototype into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B842-4E23-450A-B0EB-CCE513EA1A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construction is an area where systematic (formal) design methods have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NF for formal description of languag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AF30-47E3-4B71-A813-E63C46434DF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signing optimal register allocation algorithm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no need to worry about runtime diagnostic messag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friendl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173D-14B4-4885-8C1D-04E7484EB0B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process decomposed into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analysis (par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s can be associated with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A477-F340-4A5A-BD7A-8935C571747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on of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4000" cy="40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0880" y="5410080"/>
            <a:ext cx="50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ed lines repres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4148-2433-4994-A784-E6331B54EE7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743200"/>
          <a:ext cx="72154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15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4800" y="2133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modularization of code-gener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D8DA-646D-4581-86CA-8CAB05E97C8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d in many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neglect syntactic details such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…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. {…} to bracket statemen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machine code (e.g., Java Bytecode) for code 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BABB-27F3-4312-991F-333920D6D76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possible chang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 (due to standardization committ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6FDE-C87D-4F0E-A493-3DC920694FF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of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pply to process and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become practice through method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ethods and techniques are packaged in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ies can be enforc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C493-556E-443F-BCDC-474155E074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with respect to target machine (by defining intermediate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compiler generating tool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iler compil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ead of just on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C0D4-532C-44FF-87CC-83B256D985D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first a kernel version for a subset of the source language, then increasingly larger sub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compiler with little or no diagnostics/optimizations, then add diagnostics/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AACD-7DC8-42AB-B06F-2D166735DC2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 (system engineering): elevator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cases, the "software engineering" phase starts after understanding and analyzing the "systems engineering”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vator case study illustrates the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B59E-D9E9-4399-AEFD-9C8B6576995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&amp;forma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te relevant: it i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ty cri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carry up to 400 Kg. (safety alarm and no operation if overloa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brakes must be able to stop elevator within 1 m. and 2 sec. in case of cable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, verify their fulfill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B420-64EB-490E-AAF9-D16270B14B6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ility (e.g, button illumin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some are strongly 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reduction by using cheap material can make solution un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0839-885B-4079-A2E2-CE1EF8DB4B5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3121200"/>
            <a:ext cx="1805040" cy="2255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2209680"/>
            <a:ext cx="1244520" cy="671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271680"/>
            <a:ext cx="390600" cy="738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4422600"/>
            <a:ext cx="435240" cy="716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5551560"/>
            <a:ext cx="477720" cy="628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2870280"/>
            <a:ext cx="412560" cy="56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6160" y="2892600"/>
            <a:ext cx="630360" cy="177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8720" y="2870280"/>
            <a:ext cx="892080" cy="2995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8520" y="2717640"/>
            <a:ext cx="847800" cy="8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240" y="3565440"/>
            <a:ext cx="907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Elev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2560" y="2219400"/>
            <a:ext cx="88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5040" y="2479680"/>
            <a:ext cx="102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5640" y="3413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960" y="46069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960" y="5780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1480" y="4714920"/>
            <a:ext cx="544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 at flo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7F77-F887-4CF1-BDA0-6366AF10BBE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27F3-5475-4DE5-A324-26AE0D09C83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r view we provided does not specify the behavior of the mechanical and electrica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abstracted a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50B6-45A7-4DEC-BAFC-C316209B1EB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, 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project parametric wrt the number of elevators (and floor butt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95324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6FA6-ABC0-4591-8899-CF7BFE55302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5323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5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A6FE-E05B-488D-AA73-9249ABD248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and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ion of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A49A-59B2-4AFD-9AD1-612C285465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 and form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engineering is a creative design activity, 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must be practiced syste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is a necessary complement to creativity that increases our confidence in our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ty is rigor at the highest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 driven and evaluated by mathematical law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E61B-7844-4905-968C-7F05BDE5D3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(formal) analysis of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c (rigorous)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498E-B2CC-4129-A029-A6E1FEDCBC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documentation of development steps helps project management and assessment of 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23EA-1011-499B-9242-ED325387C7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minate complexity, separate the issues to concentrate on 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Divide &amp; conquer"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et imp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parallelization of efforts and separation of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F85D-E188-45A5-91F5-3025064CAC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33:08Z</dcterms:modified>
  <cp:revision>9</cp:revision>
  <dc:subject/>
  <dc:title>Software Engineering Principles</dc:title>
</cp:coreProperties>
</file>