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1098-0007-4AB6-A3E9-48F3D1A04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BE83-3628-4294-9318-E4E9D6D8C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9CEC-0750-4464-8108-A6E3C0FD3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6FF4-715C-4253-93B7-81E3CB5B4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D288-401C-400E-B714-2446983B8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BB21-A0AE-4981-AEC9-7035A909C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05E1-C9A1-45FF-B729-D6A3E7454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0D4A-5090-41A0-8DA5-A54C4C835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F05D-7605-4631-8151-69CB285F0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B27C-1655-4FBB-914E-DB3507599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A22F-55C1-4717-887D-7DB859AC5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69CF-E5A8-4B13-A1ED-685F5BB5A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87B08-83ED-4AD0-96B2-96C2B92225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4160" y="609480"/>
            <a:ext cx="7491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und := false; counter :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ile (not found) and counter &lt; number_of_items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table (counter) = desired_element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und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unter := counter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found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the desired e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the desired e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no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07000" y="5181480"/>
            <a:ext cx="857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st cases: (1) empty table, (2) table with 3 items, second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is the item to look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23:25Z</dcterms:modified>
  <cp:revision>6</cp:revision>
  <dc:subject/>
  <dc:title>PowerPoint Presentation</dc:title>
</cp:coreProperties>
</file>