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E1CB-1A18-4710-BF11-22FC2F440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087F-3A18-442D-86D9-535B79AE5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1315-E16B-43A0-B406-0973475DA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54F6-7E60-48CE-984D-889DFB781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AC39-D7EB-4D9B-B2AB-44753338C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21AD-0981-4332-936C-8E1F953E1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B8EC-2A3C-4077-8D6F-933E9431C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B084-D364-4A33-97D9-65587D2AD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853D-93F8-4D17-9822-45D86B9C7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1602-2A70-43EF-903F-1F487312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5FC4-2C93-4E54-9D0E-D5AB132E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AA71-28A9-4A41-9884-5CCFEF15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66363-7A2F-4C40-8B4B-EEAFF42C1D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50Z</dcterms:modified>
  <cp:revision>3</cp:revision>
  <dc:subject/>
  <dc:title>PowerPoint Presentation</dc:title>
</cp:coreProperties>
</file>