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0EF7-718E-442A-8C0C-7C6BC8671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5AC6-16BF-4BD7-98F3-38A6E9F58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9DC8-3B23-4713-93B2-777FF594B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3D53-2422-42E4-9753-867C81F33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F6A0-3A5E-4172-AD26-83CD6558A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6BC2-03C6-4496-9493-E619CA33F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8414-5FB6-4862-9C1C-4EAA502E2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E539-B77F-49F6-A63C-0C79E0691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08F4-E11A-465C-8A5B-104B1D593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0561-1728-4457-9F66-BCC3D50E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0041-77B9-4463-BA4C-A11C3258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133C-34F7-4BF6-9B26-1EC3AA88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66BD8-6052-400E-9C61-1CF42AB62D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980480" cy="31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8:11Z</dcterms:modified>
  <cp:revision>5</cp:revision>
  <dc:subject/>
  <dc:title>PowerPoint Presentation</dc:title>
</cp:coreProperties>
</file>