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92FE3-0A63-4A10-A48B-469851469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BF223-5DCE-4489-BF87-0502D7D22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B5F61-EE3C-4F1C-8783-46B8B265E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9091B-FAE6-49A0-8B87-22799DE59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4F745-3B58-4480-B2FA-CE8ED0077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1BB09-26A3-408E-A26D-AC20A13A7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0BBC7-A7DA-42D4-BD14-0135F2D72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84D35-FA56-4CCD-9646-EC8993F7C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3B56E-3D01-4F03-89F4-9F7610244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A3297-16CC-4E64-8F3B-932D36E8D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656E8-E185-4BB6-A5EB-93E18AF0C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F3F70-A85B-4E12-A132-E094C3817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FFC71-8336-43E7-97FC-351DD43A85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143000" y="762120"/>
          <a:ext cx="7008840" cy="550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762120"/>
                    <a:ext cx="7008840" cy="550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9T02:21:02Z</dcterms:created>
  <dc:creator>Spencer Smith</dc:creator>
  <dc:description/>
  <dc:language>en-US</dc:language>
  <cp:lastModifiedBy>Spencer Smith</cp:lastModifiedBy>
  <dcterms:modified xsi:type="dcterms:W3CDTF">2008-02-29T02:26:45Z</dcterms:modified>
  <cp:revision>3</cp:revision>
  <dc:subject/>
  <dc:title>PowerPoint Presentation</dc:title>
</cp:coreProperties>
</file>