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48628-356F-4BF6-8E66-8A41777EC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68E87-46B8-45D6-B77A-A56D9A703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00CC5-28A0-4FD8-94FA-63D843EB4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05262-B529-429A-AEBA-6D1C46D71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F5DEE-1C60-40E2-80AA-5F2C38C41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E31A6-9A81-49C6-853F-F19AD2ED0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1AED2-A68A-451E-BBBF-EF54E6B64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07258-B4E1-4D72-8AED-CAFA609AD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C0611-D4AB-4332-A28B-3FEB8193A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7F412-E39D-4F81-9B47-44F26BEDA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F4D51-D2BE-4451-A899-97B17DE1F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CCED1-FABC-4682-BCE3-B6D8E680C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169D3-615F-4DFD-930E-D4CA1C7112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46280" y="1938240"/>
            <a:ext cx="183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33520" y="1295280"/>
            <a:ext cx="25398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ad (x); read (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x &gt; 0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1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2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y &gt; 0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3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4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670560" y="1905120"/>
            <a:ext cx="5072760" cy="2654280"/>
          </a:xfrm>
          <a:prstGeom prst="rect">
            <a:avLst/>
          </a:pr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&lt;x = 2, y = -3&gt;, &lt;x = - 13, y = 51&gt;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&lt;x = 97, y = 17&gt;, &lt;x = - 1, y = - 1&gt;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vers all stat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&lt;x = - 13, y = 51&gt;, &lt;x = 2, y = - 3&gt;}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 mini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03:13:45Z</dcterms:created>
  <dc:creator>Spencer Smith</dc:creator>
  <dc:description/>
  <dc:language>en-US</dc:language>
  <cp:lastModifiedBy>Spencer Smith</cp:lastModifiedBy>
  <dcterms:modified xsi:type="dcterms:W3CDTF">2008-03-25T03:16:25Z</dcterms:modified>
  <cp:revision>1</cp:revision>
  <dc:subject/>
  <dc:title>PowerPoint Presentation</dc:title>
</cp:coreProperties>
</file>