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3C6E4-1C56-4B43-AC77-C32760CFF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D8FEB-14A2-47B5-A9B8-4F2777B22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37B19-0E4D-4D38-989D-D3431540D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31CAD-4222-4B23-BAF2-96A0855BD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AC228-DD3A-450A-A85D-90B9C4C1A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AD1D3-EE08-4B54-B8BD-0BBD74FC1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01653-A802-407C-A665-8350F102D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F8AC1-573A-45FD-AA1C-D16A2BB41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B1997-EA1F-4D07-908B-A1A5D8300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FBD68-706C-455E-970D-97F09D26E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64EF6-57D7-480A-B3F0-24B408D88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35410-F935-49A3-AA68-131BD1BE0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39DF3-8CB3-4B75-B03D-DEAEED9168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03120" y="2023920"/>
            <a:ext cx="2107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x &lt; 0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 := -x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 := x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188960" y="2166840"/>
            <a:ext cx="3587040" cy="2654280"/>
          </a:xfrm>
          <a:prstGeom prst="rect">
            <a:avLst/>
          </a:prstGeom>
          <a:noFill/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{&lt;x=-3} covers 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does not exercise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when x is posi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the then branch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ente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03:13:45Z</dcterms:created>
  <dc:creator>Spencer Smith</dc:creator>
  <dc:description/>
  <dc:language>en-US</dc:language>
  <cp:lastModifiedBy>Spencer Smith</cp:lastModifiedBy>
  <dcterms:modified xsi:type="dcterms:W3CDTF">2008-03-25T03:18:00Z</dcterms:modified>
  <cp:revision>2</cp:revision>
  <dc:subject/>
  <dc:title>PowerPoint Presentation</dc:title>
</cp:coreProperties>
</file>