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E60F-8DBE-423E-AD9D-1EEB8CC6B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5A5B-993A-46B4-9B82-F807DF14C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28B8-A4CE-421C-A5B4-6A2EBB54B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CB5F-BF81-491D-B2D0-E54760505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F050-27A7-4630-BA01-0CB09F13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EE84-76B0-4BE3-8243-86FCD3E7F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92A3-BFF1-4C62-8A38-E0F4D14F1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C7C7-C1CE-4C49-A860-7FAE2577E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5E94-80D6-452A-98C2-A4AD01CEC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6669-DD6D-4F09-BFE6-959DD7DA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55E8-6DDD-4195-96C7-65199B5C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8B35-E9E2-4A85-9886-A59DC78D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0156E-2EA5-4108-9885-8CE3D072A92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e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5621-EAB8-48AD-8BB7-4593C0B8098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 sc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F210-D737-41BB-976B-B6737FE8A33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s of 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storical origins of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s p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rt of 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consists of many activities in addition t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ogram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nd other discipl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7774-E2C2-41AB-B5F9-F3BB311925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pplication of engineering to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eld of computer science dealing with software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and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by t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 in many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any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g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16B2-2324-406B-8709-F00A4E9770E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 of a systematic, disciplined, quantifiable approach to the development, operation, and maintenance of software (IEEE 1990)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-person construction of multi-version software (Parnas 1978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155B-7D16-4689-A817-0A5C6B18B0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E in system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part of larger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bed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requirements to be balanced against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elephone switching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rtain requirements  can only be met by hw, sw, and special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1915-5D49-427D-8021-06EC78DA48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eld of software engineering was born in 1968 in response to chronic failures of large software projects to meet schedule and budget constrai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gnition of "the software crisi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m became popular after NATO Conference in Garmisch Partenkirchen (Germany), 196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8CD8-84C9-4B07-BAA4-26D45CFCACF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oftware engine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ming skill not en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ing involves "programming-in-the –large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stand requirements and write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 models and reason about th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ter softwa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 at various abstraction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 of a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ion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ment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3BB4-7C54-4DD1-8EBC-D5BCC946B4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lifecyc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a preview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1741320"/>
            <a:ext cx="7799400" cy="4795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914080" y="2209680"/>
            <a:ext cx="23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aterfal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A104-1795-4EAA-9B53-ECBB43AED0A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CS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ng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b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tificial intellig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8C10-5773-4C32-BCC1-97B42F878E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Pearson Education</cp:lastModifiedBy>
  <cp:lastPrinted>1999-03-04T17:52:08Z</cp:lastPrinted>
  <dcterms:modified xsi:type="dcterms:W3CDTF">2003-01-02T18:26:56Z</dcterms:modified>
  <cp:revision>35</cp:revision>
  <dc:subject/>
  <dc:title>Software Engineering</dc:title>
</cp:coreProperties>
</file>