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A579-2520-47A3-9B99-EEDA5A1A2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640C-D52C-418F-97AF-03680C7C4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8B68-7ACE-49C8-ABF1-7B9743EBD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ECA8-388B-47A8-9F85-D8142A63C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1126-665C-4DE4-9100-0116B1E5C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9459-D070-4BE6-9EDA-069306159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D4EC-DE45-436A-A3A0-C5824682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DE8C-A148-4D8D-9D80-2547EB7AB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1F46-9A66-42D7-8837-28BABAAB5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B49A-6782-4CF6-B32F-9B2A4733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FF83-0811-438F-87BE-DD74A502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DEE3-B456-45C0-81FF-D9030FF7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68960-64A5-4913-8C11-A028488781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08240" y="1168560"/>
            <a:ext cx="6629400" cy="49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47Z</dcterms:modified>
  <cp:revision>8</cp:revision>
  <dc:subject/>
  <dc:title>PowerPoint Presentation</dc:title>
</cp:coreProperties>
</file>