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2547-D04A-4686-8FCF-24468B674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5B9C-94CB-4197-8FAE-74E1503B4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D47F-D0EC-4B98-9262-7D0B229E0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4188-DDE8-4C25-B564-427AE6111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671F-9B2F-4A9A-83B5-571D3C697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BC8B-8337-4444-BF06-7603DD8B0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5268-FA3F-4E81-BA4D-C4563FE12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CD95-972E-462E-8412-6CD11EBC5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D709-B8D1-4698-9C11-D326AC2C9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DB79-DE01-4F4F-AA42-C38F86E88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1BCC-3A91-4952-A573-E23D020B2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C804-8178-47E6-8C16-D61AC080D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8B6DF-E92F-45A2-AF9D-46018175A0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-380880" y="1523880"/>
          <a:ext cx="11658600" cy="354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80880" y="1523880"/>
                    <a:ext cx="11658600" cy="35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6:46Z</dcterms:modified>
  <cp:revision>2</cp:revision>
  <dc:subject/>
  <dc:title>PowerPoint Presentation</dc:title>
</cp:coreProperties>
</file>