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2C90-CF06-4EE2-8CF0-0585A3FB1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8D64-F4D7-449D-8D3D-F6A1975D3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319C-0FEA-4662-A640-7BB5E7EAE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6B08-B6E1-4C6B-A3FC-DF4ACE417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8A7F-F8C1-41EA-A69C-FC895DE18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FC38-3D0F-4DFB-AB3C-ABF1C503E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08EF-F07B-4159-91B5-FA5BCBE36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3108-F00D-4BFD-9AD5-598E5876F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A28D-3265-4F15-9926-40FA52E83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5F93-FF00-4871-8362-AFB1B5B44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08B8-D22C-4334-9B6D-29CD47EB9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38E8-AEF4-4776-A037-D9317203A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48ABA-61CC-4D72-82B1-B7F6AED810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403360" y="4525920"/>
          <a:ext cx="1554120" cy="1557360"/>
        </p:xfrm>
        <a:graphic>
          <a:graphicData uri="http://schemas.openxmlformats.org/drawingml/2006/table">
            <a:tbl>
              <a:tblPr/>
              <a:tblGrid>
                <a:gridCol w="777960"/>
                <a:gridCol w="77616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3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3:53Z</dcterms:modified>
  <cp:revision>2</cp:revision>
  <dc:subject/>
  <dc:title>PowerPoint Presentation</dc:title>
</cp:coreProperties>
</file>