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F951-C113-40D0-AB14-6518B1E00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0973-E2C0-4490-931A-C1D11F228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CD4F-D581-45E2-B910-B848D5238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DD06-B5D0-4CD0-906C-0830A5440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C8AA-287B-49EA-B418-05B6933AE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3D79-7564-4F35-9467-21AC858F1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AE24-2D62-4ECE-9917-844A7F6E9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36B4-8172-4D33-B43B-A9C301040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A627-9BAB-4764-AD42-E7D206C55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A458-C4C9-462F-87FB-F8115F980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7C9A-0F56-41EC-A11E-B80D0BCED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E1A2-9945-4F3A-A814-C7C8A2833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6DB73-C93F-4D14-98B7-735C13DEFE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690560" y="2889360"/>
          <a:ext cx="2256120" cy="1038240"/>
        </p:xfrm>
        <a:graphic>
          <a:graphicData uri="http://schemas.openxmlformats.org/drawingml/2006/table">
            <a:tbl>
              <a:tblPr/>
              <a:tblGrid>
                <a:gridCol w="752760"/>
                <a:gridCol w="750600"/>
                <a:gridCol w="75276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3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3:19Z</dcterms:modified>
  <cp:revision>1</cp:revision>
  <dc:subject/>
  <dc:title>PowerPoint Presentation</dc:title>
</cp:coreProperties>
</file>