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B54E-7002-47FE-A18A-E110F9A3F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8FF5-A36C-4480-9393-73314891A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D7F1-E597-4D10-81A0-20ADC5890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5DCB-299D-4F9C-B629-B6D414E27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CD7D-0093-4FA1-80FF-9B9591FD1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AD11-7F3D-4F19-8D57-31BAEF1F6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CA06-13F7-4E82-AAB4-A6BFA4C78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840A-08BA-481C-8EEE-3795A3284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40DC-0901-4253-AD3D-000F87EE3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0759-9FA9-4AE8-A92D-AF572DEA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3D33-66B2-4E82-84E6-FBE4789E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A92A-EB30-4A50-9FF5-8D71B00A8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62930-EE0A-4E8D-8633-0F59371027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88760" y="914400"/>
            <a:ext cx="7548120" cy="5684040"/>
            <a:chOff x="788760" y="914400"/>
            <a:chExt cx="7548120" cy="5684040"/>
          </a:xfrm>
        </p:grpSpPr>
        <p:sp>
          <p:nvSpPr>
            <p:cNvPr id="42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577120" y="399564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577480" y="399744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276520" y="399564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276520" y="399744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577120" y="556416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77480" y="556596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76520" y="556416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276520" y="556596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5502240" y="4995720"/>
              <a:ext cx="115920" cy="447840"/>
              <a:chOff x="5502240" y="4995720"/>
              <a:chExt cx="115920" cy="447840"/>
            </a:xfrm>
          </p:grpSpPr>
          <p:sp>
            <p:nvSpPr>
              <p:cNvPr id="59" name=""/>
              <p:cNvSpPr/>
              <p:nvPr/>
            </p:nvSpPr>
            <p:spPr>
              <a:xfrm>
                <a:off x="5502240" y="52689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2" y="11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568840" y="4995720"/>
                <a:ext cx="180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95640" y="502128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96000" y="502308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3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39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95400" y="502128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95400" y="502308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1" y="21597"/>
                  </a:moveTo>
                  <a:arcTo wR="10800" hR="10800" stAng="5479331" swAng="5337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1" y="21597"/>
                  </a:moveTo>
                  <a:arcTo wR="10800" hR="10800" stAng="5479331" swAng="53379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2187360" y="4565520"/>
              <a:ext cx="598680" cy="336600"/>
              <a:chOff x="2187360" y="4565520"/>
              <a:chExt cx="598680" cy="336600"/>
            </a:xfrm>
          </p:grpSpPr>
          <p:sp>
            <p:nvSpPr>
              <p:cNvPr id="71" name=""/>
              <p:cNvSpPr/>
              <p:nvPr/>
            </p:nvSpPr>
            <p:spPr>
              <a:xfrm>
                <a:off x="2187360" y="4751280"/>
                <a:ext cx="216000" cy="150840"/>
              </a:xfrm>
              <a:custGeom>
                <a:avLst/>
                <a:gdLst/>
                <a:ahLst/>
                <a:rect l="l" t="t" r="r" b="b"/>
                <a:pathLst>
                  <a:path w="136" h="95">
                    <a:moveTo>
                      <a:pt x="0" y="95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>
                <a:off x="2369880" y="4565520"/>
                <a:ext cx="41616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36760" y="5910120"/>
              <a:ext cx="59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2869920" y="4676760"/>
              <a:ext cx="115920" cy="1233000"/>
              <a:chOff x="2869920" y="4676760"/>
              <a:chExt cx="115920" cy="1233000"/>
            </a:xfrm>
          </p:grpSpPr>
          <p:sp>
            <p:nvSpPr>
              <p:cNvPr id="76" name=""/>
              <p:cNvSpPr/>
              <p:nvPr/>
            </p:nvSpPr>
            <p:spPr>
              <a:xfrm>
                <a:off x="2869920" y="46767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1" y="0"/>
                    </a:moveTo>
                    <a:lnTo>
                      <a:pt x="73" y="110"/>
                    </a:lnTo>
                    <a:lnTo>
                      <a:pt x="41" y="110"/>
                    </a:lnTo>
                    <a:lnTo>
                      <a:pt x="0" y="11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2935080" y="4851000"/>
                <a:ext cx="1800" cy="105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336440" y="1485720"/>
              <a:ext cx="30204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7" y="2"/>
                  </a:moveTo>
                  <a:arcTo wR="10800" hR="10800" stAng="-5464628" swAng="54465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7" y="2"/>
                  </a:moveTo>
                  <a:arcTo wR="10800" hR="10800" stAng="-5464628" swAng="544657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336800" y="1487880"/>
              <a:ext cx="301680" cy="89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57" swAng="5484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57" swAng="54840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038720" y="14875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75" swAng="5304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75" swAng="530411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038720" y="1487520"/>
              <a:ext cx="30132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575" swAng="5337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575" swAng="533765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7329240" y="1030320"/>
              <a:ext cx="599760" cy="336600"/>
              <a:chOff x="7329240" y="1030320"/>
              <a:chExt cx="599760" cy="336600"/>
            </a:xfrm>
          </p:grpSpPr>
          <p:sp>
            <p:nvSpPr>
              <p:cNvPr id="89" name=""/>
              <p:cNvSpPr/>
              <p:nvPr/>
            </p:nvSpPr>
            <p:spPr>
              <a:xfrm>
                <a:off x="7329240" y="1217520"/>
                <a:ext cx="217440" cy="149400"/>
              </a:xfrm>
              <a:custGeom>
                <a:avLst/>
                <a:gdLst/>
                <a:ahLst/>
                <a:rect l="l" t="t" r="r" b="b"/>
                <a:pathLst>
                  <a:path w="137" h="94">
                    <a:moveTo>
                      <a:pt x="0" y="94"/>
                    </a:moveTo>
                    <a:lnTo>
                      <a:pt x="95" y="0"/>
                    </a:lnTo>
                    <a:lnTo>
                      <a:pt x="116" y="23"/>
                    </a:lnTo>
                    <a:lnTo>
                      <a:pt x="137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7513200" y="1030320"/>
                <a:ext cx="41580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7329240" y="2486160"/>
              <a:ext cx="600120" cy="336240"/>
              <a:chOff x="7329240" y="2486160"/>
              <a:chExt cx="600120" cy="336240"/>
            </a:xfrm>
          </p:grpSpPr>
          <p:sp>
            <p:nvSpPr>
              <p:cNvPr id="92" name=""/>
              <p:cNvSpPr/>
              <p:nvPr/>
            </p:nvSpPr>
            <p:spPr>
              <a:xfrm>
                <a:off x="7696080" y="26733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329240" y="2486160"/>
                <a:ext cx="400320" cy="22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8011800" y="1143000"/>
              <a:ext cx="117720" cy="1568520"/>
              <a:chOff x="8011800" y="1143000"/>
              <a:chExt cx="117720" cy="1568520"/>
            </a:xfrm>
          </p:grpSpPr>
          <p:sp>
            <p:nvSpPr>
              <p:cNvPr id="97" name=""/>
              <p:cNvSpPr/>
              <p:nvPr/>
            </p:nvSpPr>
            <p:spPr>
              <a:xfrm>
                <a:off x="8011800" y="2523960"/>
                <a:ext cx="117720" cy="187560"/>
              </a:xfrm>
              <a:custGeom>
                <a:avLst/>
                <a:gdLst/>
                <a:ahLst/>
                <a:rect l="l" t="t" r="r" b="b"/>
                <a:pathLst>
                  <a:path w="74" h="118">
                    <a:moveTo>
                      <a:pt x="42" y="11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4" y="0"/>
                    </a:lnTo>
                    <a:lnTo>
                      <a:pt x="42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078760" y="1143000"/>
                <a:ext cx="1440" cy="138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943440" y="147492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943800" y="1476360"/>
              <a:ext cx="3006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4320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643200" y="1476000"/>
              <a:ext cx="301320" cy="89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3868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3935160" y="1017720"/>
              <a:ext cx="598680" cy="336240"/>
              <a:chOff x="3935160" y="1017720"/>
              <a:chExt cx="598680" cy="336240"/>
            </a:xfrm>
          </p:grpSpPr>
          <p:sp>
            <p:nvSpPr>
              <p:cNvPr id="111" name=""/>
              <p:cNvSpPr/>
              <p:nvPr/>
            </p:nvSpPr>
            <p:spPr>
              <a:xfrm>
                <a:off x="3935160" y="120492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3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4117680" y="101772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3935160" y="2475000"/>
              <a:ext cx="598680" cy="334800"/>
              <a:chOff x="3935160" y="2475000"/>
              <a:chExt cx="598680" cy="334800"/>
            </a:xfrm>
          </p:grpSpPr>
          <p:sp>
            <p:nvSpPr>
              <p:cNvPr id="114" name=""/>
              <p:cNvSpPr/>
              <p:nvPr/>
            </p:nvSpPr>
            <p:spPr>
              <a:xfrm>
                <a:off x="4300560" y="26607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935160" y="247500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4008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5"/>
                  </a:moveTo>
                  <a:arcTo wR="10800" hR="10800" stAng="-10782589" swAng="531741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5"/>
                  </a:moveTo>
                  <a:arcTo wR="10800" hR="10800" stAng="-10782589" swAng="531741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40080" y="1476000"/>
              <a:ext cx="30132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3" y="21598"/>
                  </a:moveTo>
                  <a:arcTo wR="10800" hR="10800" stAng="5465850" swAng="535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3" y="21598"/>
                  </a:moveTo>
                  <a:arcTo wR="10800" hR="10800" stAng="5465850" swAng="535156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41400" y="1474920"/>
              <a:ext cx="29844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6" y="2"/>
                  </a:moveTo>
                  <a:arcTo wR="10800" hR="10800" stAng="-5464854" swAng="5446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6" y="2"/>
                  </a:moveTo>
                  <a:arcTo wR="10800" hR="10800" stAng="-5464854" swAng="544686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41400" y="1476000"/>
              <a:ext cx="29844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7994" swAng="54841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7994" swAng="548419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4833720" y="1017720"/>
              <a:ext cx="598680" cy="336240"/>
              <a:chOff x="4833720" y="1017720"/>
              <a:chExt cx="598680" cy="336240"/>
            </a:xfrm>
          </p:grpSpPr>
          <p:sp>
            <p:nvSpPr>
              <p:cNvPr id="127" name=""/>
              <p:cNvSpPr/>
              <p:nvPr/>
            </p:nvSpPr>
            <p:spPr>
              <a:xfrm>
                <a:off x="5198760" y="1204920"/>
                <a:ext cx="23364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3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833720" y="101772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4833720" y="2475000"/>
              <a:ext cx="598680" cy="334800"/>
              <a:chOff x="4833720" y="2475000"/>
              <a:chExt cx="598680" cy="334800"/>
            </a:xfrm>
          </p:grpSpPr>
          <p:sp>
            <p:nvSpPr>
              <p:cNvPr id="130" name=""/>
              <p:cNvSpPr/>
              <p:nvPr/>
            </p:nvSpPr>
            <p:spPr>
              <a:xfrm>
                <a:off x="4833720" y="266076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5016240" y="247500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533592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77840" y="113832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77840" y="203364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2054160" y="1353960"/>
              <a:ext cx="115920" cy="671760"/>
              <a:chOff x="2054160" y="1353960"/>
              <a:chExt cx="115920" cy="671760"/>
            </a:xfrm>
          </p:grpSpPr>
          <p:sp>
            <p:nvSpPr>
              <p:cNvPr id="136" name=""/>
              <p:cNvSpPr/>
              <p:nvPr/>
            </p:nvSpPr>
            <p:spPr>
              <a:xfrm>
                <a:off x="2054160" y="1839960"/>
                <a:ext cx="115920" cy="185760"/>
              </a:xfrm>
              <a:custGeom>
                <a:avLst/>
                <a:gdLst/>
                <a:ahLst/>
                <a:rect l="l" t="t" r="r" b="b"/>
                <a:pathLst>
                  <a:path w="73" h="117">
                    <a:moveTo>
                      <a:pt x="42" y="117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120760" y="1353960"/>
                <a:ext cx="1440" cy="486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397548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90000" y="18763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15032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28712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372280" y="42987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09080" y="4373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024280" y="53751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161080" y="5450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388120" y="588024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42200" y="5942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8760" y="2438280"/>
              <a:ext cx="263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/O, assignme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 procedure c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81800" y="301464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-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89040" y="30481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264320" y="61387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hile loop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969160" y="4538520"/>
              <a:ext cx="236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wo sequent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ments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8:58Z</dcterms:modified>
  <cp:revision>3</cp:revision>
  <dc:subject/>
  <dc:title>PowerPoint Presentation</dc:title>
</cp:coreProperties>
</file>