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D6E5-33C6-4013-8C06-8C1DFF179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5776-40A4-446F-8219-8B36FC9DD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A57D-E0EC-4BBF-BC2E-CAF2D14ED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F983-D216-44DD-B4B2-BEC5CCDAF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307C-9C7F-4CAE-AA4D-D9200A11F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B955-CB72-44E4-B475-5E508B895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918B-8055-4823-B317-43D482B6D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4CC4-8E96-4E0F-809F-6258AD166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9F11-3BE5-49FB-9F28-6DD8E3EA6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E9EF-7775-4BFD-8C5B-F2267FCD6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BE8F-8AD3-41D8-9951-C7A5419BE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79C5-CD8E-4752-91C1-79BFD799A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F2341-D07E-454A-A8D6-3BA424D618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01520" y="2239920"/>
          <a:ext cx="9045720" cy="3749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520" y="2239920"/>
                    <a:ext cx="9045720" cy="374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5:54:07Z</dcterms:created>
  <dc:creator>Spencer Smith</dc:creator>
  <dc:description/>
  <dc:language>en-US</dc:language>
  <cp:lastModifiedBy>Spencer Smith</cp:lastModifiedBy>
  <dcterms:modified xsi:type="dcterms:W3CDTF">2008-03-12T15:54:41Z</dcterms:modified>
  <cp:revision>1</cp:revision>
  <dc:subject/>
  <dc:title>PowerPoint Presentation</dc:title>
</cp:coreProperties>
</file>