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1D09-41F1-451A-8655-37FEA759A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02F1-247B-49B3-9CDB-0DFB15F1D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4CD3-BB72-459B-9B91-B2D21E156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C619-542C-4B65-BDB1-C457124FC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6D48-F35D-4371-8F52-47230B565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084F-47EB-40C9-B7E1-A94B71D89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2F2E-3310-4C52-9351-57DE0A067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5A66-32DE-472C-BCD5-4583530A4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82D1-0FC5-4840-8FC7-16FB05182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3075-F7F5-4540-8FD9-6E75B9D1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62A5-1473-440D-9EE4-E05295E5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B8D7-B6E6-4F9C-BB33-A899A58D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36629-2C54-4076-A63E-B3372F5B82F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e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880F-4561-4556-B4D0-119C79CF090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 sc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0571-89B2-464D-A80D-0E985782DE7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s of 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storical origins of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s p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rt of 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consists of many activities in addition t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ogram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nd other discipl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7698-3283-467E-B358-4B54007459A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pplication of engineering to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eld of computer science dealing with software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and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by t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 in many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any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g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BD6F-237B-4A58-977C-3E444AD415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 of a systematic, disciplined, quantifiable approach to the development, operation, and maintenance of software (IEEE 1990)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-person construction of multi-version software (Parnas 1978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9A0C-ACBB-44F0-90BA-D362ED8A42C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E in system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part of larger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bed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requirements to be balanced against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elephone switching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rtain requirements  can only be met by hw, sw, and special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C466-7D98-401E-BC4F-E6F10BA2F0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eld of software engineering was born in 1968 in response to chronic failures of large software projects to meet schedule and budget constrai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gnition of "the software crisi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m became popular after NATO Conference in Garmisch Partenkirchen (Germany), 196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9443-1E5B-422C-A496-BE41EC5FAA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oftware engine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ming skill not en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ing involves "programming-in-the –large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stand requirements and write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 models and reason about th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ter softwa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 at various abstraction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 of a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ion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ment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2310-B4CB-4F23-BD3F-9BFA26CA6C9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lifecyc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a preview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1741320"/>
            <a:ext cx="7799400" cy="4795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914080" y="2209680"/>
            <a:ext cx="23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aterfal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BD64-0169-47BE-B77C-E9075FE300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CS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ng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b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tificial intellig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283D-2AB6-4FBB-A568-A7942777C5B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Pearson Education</cp:lastModifiedBy>
  <cp:lastPrinted>1999-03-04T17:52:08Z</cp:lastPrinted>
  <dcterms:modified xsi:type="dcterms:W3CDTF">2003-01-02T18:26:56Z</dcterms:modified>
  <cp:revision>35</cp:revision>
  <dc:subject/>
  <dc:title>Software Engineering</dc:title>
</cp:coreProperties>
</file>