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7576-2235-4B88-98F5-CCA9BBEDD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B68E-3255-4436-967D-354557C50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EFDC-C10E-408D-A3FB-6F3F85405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95DF-248D-441D-B913-ADC8B8B12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5354-1607-46F4-B32C-0201DC515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3D77-759F-4944-8755-61E1C2009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6F23-3CBE-4AAF-9DE8-A72FFBFB1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8476-DCD8-45D2-B613-0E27C0FB1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908E-0EB0-460A-BC6E-C6008DC5F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01E1-72C9-4A60-9B2F-32E0F54B6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9DD8-6C84-481F-B615-683AE6AC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A3AC-7315-434E-826A-5FECFA503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5FB36-CEE0-4879-9F05-7E7D9E18AA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980480" cy="31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8:11Z</dcterms:modified>
  <cp:revision>5</cp:revision>
  <dc:subject/>
  <dc:title>PowerPoint Presentation</dc:title>
</cp:coreProperties>
</file>