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6B6C-B229-4EFD-912B-82C6EB6D5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69EF-84B0-4741-A105-BB9E31548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C009-A857-4285-9770-833944D8D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4EAD-F1F1-41E7-A95B-44CC44CF7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07C4-6C46-45A2-886F-959FEBBED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A6FF-9D6A-45E2-AECB-15F5D36BD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22A5-93A6-46EE-A658-C08B12CC3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BC59-3EFF-4D92-A1E7-1796DBF18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3931-1D51-4E67-A19B-8401605D5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7B29-29BE-4217-B173-1BAE7A86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30FF-8DFF-4584-BC05-11B36E00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24E9-F4CE-4146-B1F4-05ADF2EF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B749D-B956-48FE-83B4-E8148F4BB5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-380880" y="1523880"/>
          <a:ext cx="11658600" cy="354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1523880"/>
                    <a:ext cx="11658600" cy="35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46Z</dcterms:modified>
  <cp:revision>2</cp:revision>
  <dc:subject/>
  <dc:title>PowerPoint Presentation</dc:title>
</cp:coreProperties>
</file>