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BA92-6D67-43BA-A64B-3E0A7A59E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C386-B3C5-41E5-AD0C-E8689C79A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A3A2-83CD-4F7A-90AC-CB40B2D6C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BEC1-24F9-4138-94C8-9EA8BE309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7960-F763-4B7E-AB25-7A8337F6C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11F6-E4FF-4772-9BB9-C777EC30E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8AD8-8989-454B-B358-F99CA548B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E30D-BFD0-46A0-A002-C1334F672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367C-057A-4794-B4C6-BB39E2B5F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62D7-BB04-491A-B809-E27FD9E8E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6F58-468C-4EA2-AC23-D50DC284E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7613-9421-47D7-8303-3130016EC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35B6C-C0DA-45C1-A564-09C063148D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pilogu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7C38-6714-493F-8096-E1D2E4E64CD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ill be the future of the fiel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the impact of SE on socie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ethical issues are raised by S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B0C0-0945-4600-9D54-8A5EF6B64C9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round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 requires the application of engineering principles guided by informed manageme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inciples must be rooted in sound the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igorous approaches must be combined with experimentation, intuition, and common sens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No “silver bullets”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C3E1-C5EC-403C-BA01-6BADC4EDDC2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gress expec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ased spec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ization is a sign of maturity of a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onent-based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ard domain-specific architec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ased re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stributed virtual te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36D0-077C-4F72-A232-E61F889DAC1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cial responsi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defects may cost lives or tremendous business lo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hould try to prevent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hould study them when they occur, to avoid failures in the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creates new opportunities for  increasing productivity and services, but also opportunities for criminal fraud and sabotage (e.g., virus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Building reliable software is not only a technical goal; it has ethical and social implications for the serious professiona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9BC8-A37D-4FF8-9347-0FE1563B85B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of ethic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ACM and IEEE Computer Society have developed a “Software engineering code of ethics and professional practices”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“public interest” is central to the code, which emphasizes the professional’s obligation to the public at larg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imary concern for the health, safety, and welfare of th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F697-34C5-4EE8-B894-CFDA403D085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of ethics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act consistently with the public inter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lient and Emplo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act in a manner that is in the best interests of their client and employer, consistent with the public inter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du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ensure that their products and related modifications meet the highest professional standards possi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Jud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maintain integrity and independence in their professional jud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7A50-60EC-4F7D-92BE-C6F477518E4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of ethics principles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ing managers and leaders shall subscribe to and promote an ethical approach to the management of software development and mainten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f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advance the integrity and reputation of the profession, consistent with the public inter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lleag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be fair to, and supportive of, their colleag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participate in lifelong learning regarding the practice of their profession and shall promote an ethical approach to the practice of the profess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1B1D-B337-4ACE-8E05-DD4B4562C93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5:27:45Z</dcterms:created>
  <dc:creator>Carlo Ghezzi</dc:creator>
  <dc:description/>
  <dc:language>en-US</dc:language>
  <cp:lastModifiedBy>jazayeri</cp:lastModifiedBy>
  <dcterms:modified xsi:type="dcterms:W3CDTF">2002-02-19T18:44:34Z</dcterms:modified>
  <cp:revision>5</cp:revision>
  <dc:subject/>
  <dc:title>PowerPoint Presentation</dc:title>
</cp:coreProperties>
</file>