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446B-C8D8-4AE6-8D6E-17001FAF1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2A34-E977-48CD-A8FE-B4615CC6F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4925-A107-486D-B2A2-199C71C23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5DD8-5DDF-427A-B4DD-0E6B46425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4175-DC4C-4F72-BFF7-F08B8E2E6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CE5D-3D24-499C-9519-7ECEA95BF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317D-E714-47FE-852B-BD51765FD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1621-235F-4410-93E6-EF88D8100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7250-131E-41EE-AC31-55E74E63E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D72A-2728-4786-B888-6EA4CBB53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41B4-131B-4425-B758-7BEBB0BEF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FCCD-7DCC-4AF1-AF7B-1EB5449B4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A173E-03B9-4675-B874-67CC41F155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90360" y="1981080"/>
            <a:ext cx="7456680" cy="3521160"/>
            <a:chOff x="990360" y="1981080"/>
            <a:chExt cx="7456680" cy="3521160"/>
          </a:xfrm>
        </p:grpSpPr>
        <p:sp>
          <p:nvSpPr>
            <p:cNvPr id="42" name=""/>
            <p:cNvSpPr/>
            <p:nvPr/>
          </p:nvSpPr>
          <p:spPr>
            <a:xfrm>
              <a:off x="990360" y="19810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579760" y="1994040"/>
              <a:ext cx="2079720" cy="7030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003320" y="338940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133880" y="3389400"/>
              <a:ext cx="210024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733920" y="480060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003320" y="478476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979720" y="2149560"/>
              <a:ext cx="1295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953080" y="2141640"/>
              <a:ext cx="1024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Personne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014720" y="214164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03280" y="3540240"/>
              <a:ext cx="15462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65120" y="3537000"/>
              <a:ext cx="1108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Consulta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7940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538520" y="3540240"/>
              <a:ext cx="1346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520160" y="3537000"/>
              <a:ext cx="99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Employe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55444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528920" y="4935600"/>
              <a:ext cx="12776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495440" y="4930920"/>
              <a:ext cx="91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Manag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441520" y="49608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608280" y="4973760"/>
              <a:ext cx="2544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747600" y="5029200"/>
              <a:ext cx="2044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Administrative_Sta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398920" y="49737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229440" y="478476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488280" y="4935600"/>
              <a:ext cx="1958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473520" y="4948200"/>
              <a:ext cx="95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Technic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497000" y="4930920"/>
              <a:ext cx="59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man"/>
                </a:rPr>
                <a:t>_Sta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137440" y="4978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776680" y="2700360"/>
              <a:ext cx="203040" cy="181080"/>
            </a:xfrm>
            <a:custGeom>
              <a:avLst/>
              <a:gdLst/>
              <a:ahLst/>
              <a:rect l="l" t="t" r="r" b="b"/>
              <a:pathLst>
                <a:path w="128" h="114">
                  <a:moveTo>
                    <a:pt x="55" y="114"/>
                  </a:moveTo>
                  <a:lnTo>
                    <a:pt x="36" y="101"/>
                  </a:lnTo>
                  <a:lnTo>
                    <a:pt x="19" y="82"/>
                  </a:lnTo>
                  <a:lnTo>
                    <a:pt x="9" y="63"/>
                  </a:lnTo>
                  <a:lnTo>
                    <a:pt x="0" y="41"/>
                  </a:lnTo>
                  <a:lnTo>
                    <a:pt x="128" y="0"/>
                  </a:lnTo>
                  <a:lnTo>
                    <a:pt x="55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2049480" y="2808360"/>
              <a:ext cx="75420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767040" y="2700360"/>
              <a:ext cx="216000" cy="163440"/>
            </a:xfrm>
            <a:custGeom>
              <a:avLst/>
              <a:gdLst/>
              <a:ahLst/>
              <a:rect l="l" t="t" r="r" b="b"/>
              <a:pathLst>
                <a:path w="136" h="103">
                  <a:moveTo>
                    <a:pt x="136" y="19"/>
                  </a:moveTo>
                  <a:lnTo>
                    <a:pt x="130" y="44"/>
                  </a:lnTo>
                  <a:lnTo>
                    <a:pt x="120" y="65"/>
                  </a:lnTo>
                  <a:lnTo>
                    <a:pt x="106" y="87"/>
                  </a:lnTo>
                  <a:lnTo>
                    <a:pt x="90" y="103"/>
                  </a:lnTo>
                  <a:lnTo>
                    <a:pt x="0" y="0"/>
                  </a:lnTo>
                  <a:lnTo>
                    <a:pt x="13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flipV="1">
              <a:off x="3927600" y="2773080"/>
              <a:ext cx="11095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465800" y="4095720"/>
              <a:ext cx="214200" cy="138240"/>
            </a:xfrm>
            <a:custGeom>
              <a:avLst/>
              <a:gdLst/>
              <a:ahLst/>
              <a:rect l="l" t="t" r="r" b="b"/>
              <a:pathLst>
                <a:path w="135" h="87">
                  <a:moveTo>
                    <a:pt x="32" y="87"/>
                  </a:moveTo>
                  <a:lnTo>
                    <a:pt x="19" y="68"/>
                  </a:lnTo>
                  <a:lnTo>
                    <a:pt x="8" y="46"/>
                  </a:lnTo>
                  <a:lnTo>
                    <a:pt x="2" y="25"/>
                  </a:lnTo>
                  <a:lnTo>
                    <a:pt x="0" y="0"/>
                  </a:lnTo>
                  <a:lnTo>
                    <a:pt x="135" y="0"/>
                  </a:lnTo>
                  <a:lnTo>
                    <a:pt x="3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2695680" y="4151160"/>
              <a:ext cx="1785960" cy="625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64400" y="4095720"/>
              <a:ext cx="210960" cy="160200"/>
            </a:xfrm>
            <a:custGeom>
              <a:avLst/>
              <a:gdLst/>
              <a:ahLst/>
              <a:rect l="l" t="t" r="r" b="b"/>
              <a:pathLst>
                <a:path w="133" h="101">
                  <a:moveTo>
                    <a:pt x="133" y="19"/>
                  </a:moveTo>
                  <a:lnTo>
                    <a:pt x="127" y="41"/>
                  </a:lnTo>
                  <a:lnTo>
                    <a:pt x="119" y="63"/>
                  </a:lnTo>
                  <a:lnTo>
                    <a:pt x="106" y="84"/>
                  </a:lnTo>
                  <a:lnTo>
                    <a:pt x="89" y="101"/>
                  </a:lnTo>
                  <a:lnTo>
                    <a:pt x="0" y="0"/>
                  </a:lnTo>
                  <a:lnTo>
                    <a:pt x="13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flipV="1">
              <a:off x="6022440" y="4168440"/>
              <a:ext cx="11113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78360" y="4095720"/>
              <a:ext cx="198360" cy="18900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62" y="119"/>
                  </a:moveTo>
                  <a:lnTo>
                    <a:pt x="41" y="109"/>
                  </a:lnTo>
                  <a:lnTo>
                    <a:pt x="24" y="92"/>
                  </a:lnTo>
                  <a:lnTo>
                    <a:pt x="11" y="73"/>
                  </a:lnTo>
                  <a:lnTo>
                    <a:pt x="0" y="52"/>
                  </a:lnTo>
                  <a:lnTo>
                    <a:pt x="125" y="0"/>
                  </a:lnTo>
                  <a:lnTo>
                    <a:pt x="62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4270320" y="4203720"/>
              <a:ext cx="64296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9:23Z</dcterms:modified>
  <cp:revision>4</cp:revision>
  <dc:subject/>
  <dc:title>PowerPoint Presentation</dc:title>
</cp:coreProperties>
</file>