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4F1F3-6B16-493A-811F-40226E7A0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286B3-5D01-4F77-ABFE-935359B8C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C663B-0392-407D-913C-3EC5808AA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02C4D-1DDC-4991-A86E-29B531A1D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B48CE-CDE6-496A-832D-00C3FA6D1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43139-62CE-4AF6-A39F-868F57638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EF870-7017-4F3B-8BE0-8907F3C30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81F86-F336-4399-83B9-EFEB485BD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8F526-6C0E-4D92-8C3E-CA730AC0E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5E7D3-51A9-467B-AF18-3BEEB4C47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546B6-1DE8-4B5C-980C-52325836A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29DAD-7078-469E-9A86-4DD4CFFBE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F2190-FE08-42BC-93AD-A622CF818C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788760" y="914400"/>
            <a:ext cx="7548120" cy="5684040"/>
            <a:chOff x="788760" y="914400"/>
            <a:chExt cx="7548120" cy="5684040"/>
          </a:xfrm>
        </p:grpSpPr>
        <p:sp>
          <p:nvSpPr>
            <p:cNvPr id="42" name=""/>
            <p:cNvSpPr/>
            <p:nvPr/>
          </p:nvSpPr>
          <p:spPr>
            <a:xfrm>
              <a:off x="5425920" y="388296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5577120" y="3995640"/>
              <a:ext cx="30096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6" y="3"/>
                  </a:moveTo>
                  <a:arcTo wR="10800" hR="10800" stAng="-5477822" swAng="545975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6" y="3"/>
                  </a:moveTo>
                  <a:arcTo wR="10800" hR="10800" stAng="-5477822" swAng="545975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5425920" y="478008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577480" y="3997440"/>
              <a:ext cx="300600" cy="889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64" swAng="5497498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64" swAng="5497498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5425920" y="388296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276520" y="399564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45" swAng="530412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45" swAng="530412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425920" y="478008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276520" y="3997440"/>
              <a:ext cx="301320" cy="89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0" y="21597"/>
                  </a:moveTo>
                  <a:arcTo wR="10800" hR="10800" stAng="5479434" swAng="533782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0" y="21597"/>
                  </a:moveTo>
                  <a:arcTo wR="10800" hR="10800" stAng="5479434" swAng="533782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425920" y="545148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577120" y="5564160"/>
              <a:ext cx="30096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6" y="3"/>
                  </a:moveTo>
                  <a:arcTo wR="10800" hR="10800" stAng="-5477822" swAng="545975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6" y="3"/>
                  </a:moveTo>
                  <a:arcTo wR="10800" hR="10800" stAng="-5477822" swAng="545975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425920" y="6348240"/>
              <a:ext cx="30168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577480" y="5565960"/>
              <a:ext cx="300600" cy="889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64" swAng="5497498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64" swAng="5497498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425920" y="545148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76520" y="556416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45" swAng="530412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45" swAng="530412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425920" y="6348240"/>
              <a:ext cx="30168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5276520" y="5565960"/>
              <a:ext cx="301320" cy="89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0" y="21597"/>
                  </a:moveTo>
                  <a:arcTo wR="10800" hR="10800" stAng="5479434" swAng="533782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0" y="21597"/>
                  </a:moveTo>
                  <a:arcTo wR="10800" hR="10800" stAng="5479434" swAng="533782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8" name=""/>
            <p:cNvGrpSpPr/>
            <p:nvPr/>
          </p:nvGrpSpPr>
          <p:grpSpPr>
            <a:xfrm>
              <a:off x="5502240" y="4995720"/>
              <a:ext cx="115920" cy="447840"/>
              <a:chOff x="5502240" y="4995720"/>
              <a:chExt cx="115920" cy="447840"/>
            </a:xfrm>
          </p:grpSpPr>
          <p:sp>
            <p:nvSpPr>
              <p:cNvPr id="59" name=""/>
              <p:cNvSpPr/>
              <p:nvPr/>
            </p:nvSpPr>
            <p:spPr>
              <a:xfrm>
                <a:off x="5502240" y="5268960"/>
                <a:ext cx="115920" cy="174600"/>
              </a:xfrm>
              <a:custGeom>
                <a:avLst/>
                <a:gdLst/>
                <a:ahLst/>
                <a:rect l="l" t="t" r="r" b="b"/>
                <a:pathLst>
                  <a:path w="73" h="110">
                    <a:moveTo>
                      <a:pt x="42" y="110"/>
                    </a:moveTo>
                    <a:lnTo>
                      <a:pt x="0" y="0"/>
                    </a:lnTo>
                    <a:lnTo>
                      <a:pt x="42" y="0"/>
                    </a:lnTo>
                    <a:lnTo>
                      <a:pt x="73" y="0"/>
                    </a:lnTo>
                    <a:lnTo>
                      <a:pt x="42" y="1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5568840" y="4995720"/>
                <a:ext cx="1800" cy="2732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" name=""/>
            <p:cNvSpPr/>
            <p:nvPr/>
          </p:nvSpPr>
          <p:spPr>
            <a:xfrm>
              <a:off x="2793960" y="446076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044440" y="4910040"/>
              <a:ext cx="30168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195640" y="5021280"/>
              <a:ext cx="30096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6" y="3"/>
                  </a:moveTo>
                  <a:arcTo wR="10800" hR="10800" stAng="-5477822" swAng="545975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6" y="3"/>
                  </a:moveTo>
                  <a:arcTo wR="10800" hR="10800" stAng="-5477822" swAng="545975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044440" y="580536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96000" y="5023080"/>
              <a:ext cx="300600" cy="889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64" swAng="549739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64" swAng="549739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044440" y="4910040"/>
              <a:ext cx="30168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895400" y="502128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45" swAng="530412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45" swAng="530412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044440" y="580536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895400" y="5023080"/>
              <a:ext cx="301320" cy="89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1" y="21597"/>
                  </a:moveTo>
                  <a:arcTo wR="10800" hR="10800" stAng="5479331" swAng="5337924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1" y="21597"/>
                  </a:moveTo>
                  <a:arcTo wR="10800" hR="10800" stAng="5479331" swAng="5337924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0" name=""/>
            <p:cNvGrpSpPr/>
            <p:nvPr/>
          </p:nvGrpSpPr>
          <p:grpSpPr>
            <a:xfrm>
              <a:off x="2187360" y="4565520"/>
              <a:ext cx="598680" cy="336600"/>
              <a:chOff x="2187360" y="4565520"/>
              <a:chExt cx="598680" cy="336600"/>
            </a:xfrm>
          </p:grpSpPr>
          <p:sp>
            <p:nvSpPr>
              <p:cNvPr id="71" name=""/>
              <p:cNvSpPr/>
              <p:nvPr/>
            </p:nvSpPr>
            <p:spPr>
              <a:xfrm>
                <a:off x="2187360" y="4751280"/>
                <a:ext cx="216000" cy="150840"/>
              </a:xfrm>
              <a:custGeom>
                <a:avLst/>
                <a:gdLst/>
                <a:ahLst/>
                <a:rect l="l" t="t" r="r" b="b"/>
                <a:pathLst>
                  <a:path w="136" h="95">
                    <a:moveTo>
                      <a:pt x="0" y="95"/>
                    </a:moveTo>
                    <a:lnTo>
                      <a:pt x="94" y="0"/>
                    </a:lnTo>
                    <a:lnTo>
                      <a:pt x="115" y="24"/>
                    </a:lnTo>
                    <a:lnTo>
                      <a:pt x="136" y="47"/>
                    </a:lnTo>
                    <a:lnTo>
                      <a:pt x="0" y="9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>
                <a:off x="2369880" y="4565520"/>
                <a:ext cx="416160" cy="2239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2793960" y="446076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336760" y="5910120"/>
              <a:ext cx="59832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5" name=""/>
            <p:cNvGrpSpPr/>
            <p:nvPr/>
          </p:nvGrpSpPr>
          <p:grpSpPr>
            <a:xfrm>
              <a:off x="2869920" y="4676760"/>
              <a:ext cx="115920" cy="1233000"/>
              <a:chOff x="2869920" y="4676760"/>
              <a:chExt cx="115920" cy="1233000"/>
            </a:xfrm>
          </p:grpSpPr>
          <p:sp>
            <p:nvSpPr>
              <p:cNvPr id="76" name=""/>
              <p:cNvSpPr/>
              <p:nvPr/>
            </p:nvSpPr>
            <p:spPr>
              <a:xfrm>
                <a:off x="2869920" y="4676760"/>
                <a:ext cx="115920" cy="174600"/>
              </a:xfrm>
              <a:custGeom>
                <a:avLst/>
                <a:gdLst/>
                <a:ahLst/>
                <a:rect l="l" t="t" r="r" b="b"/>
                <a:pathLst>
                  <a:path w="73" h="110">
                    <a:moveTo>
                      <a:pt x="41" y="0"/>
                    </a:moveTo>
                    <a:lnTo>
                      <a:pt x="73" y="110"/>
                    </a:lnTo>
                    <a:lnTo>
                      <a:pt x="41" y="110"/>
                    </a:lnTo>
                    <a:lnTo>
                      <a:pt x="0" y="110"/>
                    </a:lnTo>
                    <a:lnTo>
                      <a:pt x="4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V="1">
                <a:off x="2935080" y="4851000"/>
                <a:ext cx="1800" cy="10587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8" name=""/>
            <p:cNvSpPr/>
            <p:nvPr/>
          </p:nvSpPr>
          <p:spPr>
            <a:xfrm>
              <a:off x="7937280" y="927000"/>
              <a:ext cx="30024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7188120" y="137484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336440" y="1485720"/>
              <a:ext cx="302040" cy="895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97" y="2"/>
                  </a:moveTo>
                  <a:arcTo wR="10800" hR="10800" stAng="-5464628" swAng="544657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97" y="2"/>
                  </a:moveTo>
                  <a:arcTo wR="10800" hR="10800" stAng="-5464628" swAng="544657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188120" y="227016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336800" y="1487880"/>
              <a:ext cx="301680" cy="893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57" swAng="5484024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57" swAng="5484024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188120" y="137484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038720" y="148752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75" swAng="5304117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75" swAng="530411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188120" y="227016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038720" y="1487520"/>
              <a:ext cx="301320" cy="89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0" y="21597"/>
                  </a:moveTo>
                  <a:arcTo wR="10800" hR="10800" stAng="5479575" swAng="533765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0" y="21597"/>
                  </a:moveTo>
                  <a:arcTo wR="10800" hR="10800" stAng="5479575" swAng="5337650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937280" y="271944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8" name=""/>
            <p:cNvGrpSpPr/>
            <p:nvPr/>
          </p:nvGrpSpPr>
          <p:grpSpPr>
            <a:xfrm>
              <a:off x="7329240" y="1030320"/>
              <a:ext cx="599760" cy="336600"/>
              <a:chOff x="7329240" y="1030320"/>
              <a:chExt cx="599760" cy="336600"/>
            </a:xfrm>
          </p:grpSpPr>
          <p:sp>
            <p:nvSpPr>
              <p:cNvPr id="89" name=""/>
              <p:cNvSpPr/>
              <p:nvPr/>
            </p:nvSpPr>
            <p:spPr>
              <a:xfrm>
                <a:off x="7329240" y="1217520"/>
                <a:ext cx="217440" cy="149400"/>
              </a:xfrm>
              <a:custGeom>
                <a:avLst/>
                <a:gdLst/>
                <a:ahLst/>
                <a:rect l="l" t="t" r="r" b="b"/>
                <a:pathLst>
                  <a:path w="137" h="94">
                    <a:moveTo>
                      <a:pt x="0" y="94"/>
                    </a:moveTo>
                    <a:lnTo>
                      <a:pt x="95" y="0"/>
                    </a:lnTo>
                    <a:lnTo>
                      <a:pt x="116" y="23"/>
                    </a:lnTo>
                    <a:lnTo>
                      <a:pt x="137" y="47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H="1">
                <a:off x="7513200" y="1030320"/>
                <a:ext cx="415800" cy="2239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1" name=""/>
            <p:cNvGrpSpPr/>
            <p:nvPr/>
          </p:nvGrpSpPr>
          <p:grpSpPr>
            <a:xfrm>
              <a:off x="7329240" y="2486160"/>
              <a:ext cx="600120" cy="336240"/>
              <a:chOff x="7329240" y="2486160"/>
              <a:chExt cx="600120" cy="336240"/>
            </a:xfrm>
          </p:grpSpPr>
          <p:sp>
            <p:nvSpPr>
              <p:cNvPr id="92" name=""/>
              <p:cNvSpPr/>
              <p:nvPr/>
            </p:nvSpPr>
            <p:spPr>
              <a:xfrm>
                <a:off x="7696080" y="2673360"/>
                <a:ext cx="233280" cy="149040"/>
              </a:xfrm>
              <a:custGeom>
                <a:avLst/>
                <a:gdLst/>
                <a:ahLst/>
                <a:rect l="l" t="t" r="r" b="b"/>
                <a:pathLst>
                  <a:path w="147" h="94">
                    <a:moveTo>
                      <a:pt x="147" y="94"/>
                    </a:moveTo>
                    <a:lnTo>
                      <a:pt x="0" y="47"/>
                    </a:lnTo>
                    <a:lnTo>
                      <a:pt x="21" y="24"/>
                    </a:lnTo>
                    <a:lnTo>
                      <a:pt x="42" y="0"/>
                    </a:lnTo>
                    <a:lnTo>
                      <a:pt x="147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329240" y="2486160"/>
                <a:ext cx="400320" cy="225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" name=""/>
            <p:cNvSpPr/>
            <p:nvPr/>
          </p:nvSpPr>
          <p:spPr>
            <a:xfrm>
              <a:off x="7937280" y="927000"/>
              <a:ext cx="30024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937280" y="271944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8011800" y="1143000"/>
              <a:ext cx="117720" cy="1568520"/>
              <a:chOff x="8011800" y="1143000"/>
              <a:chExt cx="117720" cy="1568520"/>
            </a:xfrm>
          </p:grpSpPr>
          <p:sp>
            <p:nvSpPr>
              <p:cNvPr id="97" name=""/>
              <p:cNvSpPr/>
              <p:nvPr/>
            </p:nvSpPr>
            <p:spPr>
              <a:xfrm>
                <a:off x="8011800" y="2523960"/>
                <a:ext cx="117720" cy="187560"/>
              </a:xfrm>
              <a:custGeom>
                <a:avLst/>
                <a:gdLst/>
                <a:ahLst/>
                <a:rect l="l" t="t" r="r" b="b"/>
                <a:pathLst>
                  <a:path w="74" h="118">
                    <a:moveTo>
                      <a:pt x="42" y="118"/>
                    </a:moveTo>
                    <a:lnTo>
                      <a:pt x="0" y="0"/>
                    </a:lnTo>
                    <a:lnTo>
                      <a:pt x="42" y="0"/>
                    </a:lnTo>
                    <a:lnTo>
                      <a:pt x="74" y="0"/>
                    </a:lnTo>
                    <a:lnTo>
                      <a:pt x="42" y="1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8078760" y="1143000"/>
                <a:ext cx="1440" cy="13809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" name=""/>
            <p:cNvSpPr/>
            <p:nvPr/>
          </p:nvSpPr>
          <p:spPr>
            <a:xfrm>
              <a:off x="4541760" y="91440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792240" y="136188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943440" y="1474920"/>
              <a:ext cx="30096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6" y="3"/>
                  </a:moveTo>
                  <a:arcTo wR="10800" hR="10800" stAng="-5477822" swAng="545975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6" y="3"/>
                  </a:moveTo>
                  <a:arcTo wR="10800" hR="10800" stAng="-5477822" swAng="545975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792240" y="225756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943800" y="1476360"/>
              <a:ext cx="300600" cy="89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64" swAng="5497498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64" swAng="5497498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792240" y="136188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643200" y="147492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45" swAng="530412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45" swAng="530412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792240" y="225756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643200" y="1476000"/>
              <a:ext cx="301320" cy="891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0" y="21597"/>
                  </a:moveTo>
                  <a:arcTo wR="10800" hR="10800" stAng="5479434" swAng="533782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0" y="21597"/>
                  </a:moveTo>
                  <a:arcTo wR="10800" hR="10800" stAng="5479434" swAng="533782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838680" y="181440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541760" y="2706840"/>
              <a:ext cx="299880" cy="2203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3935160" y="1017720"/>
              <a:ext cx="598680" cy="336240"/>
              <a:chOff x="3935160" y="1017720"/>
              <a:chExt cx="598680" cy="336240"/>
            </a:xfrm>
          </p:grpSpPr>
          <p:sp>
            <p:nvSpPr>
              <p:cNvPr id="111" name=""/>
              <p:cNvSpPr/>
              <p:nvPr/>
            </p:nvSpPr>
            <p:spPr>
              <a:xfrm>
                <a:off x="3935160" y="1204920"/>
                <a:ext cx="216000" cy="149040"/>
              </a:xfrm>
              <a:custGeom>
                <a:avLst/>
                <a:gdLst/>
                <a:ahLst/>
                <a:rect l="l" t="t" r="r" b="b"/>
                <a:pathLst>
                  <a:path w="136" h="94">
                    <a:moveTo>
                      <a:pt x="0" y="94"/>
                    </a:moveTo>
                    <a:lnTo>
                      <a:pt x="94" y="0"/>
                    </a:lnTo>
                    <a:lnTo>
                      <a:pt x="115" y="23"/>
                    </a:lnTo>
                    <a:lnTo>
                      <a:pt x="136" y="47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H="1">
                <a:off x="4117680" y="1017720"/>
                <a:ext cx="416160" cy="2235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3" name=""/>
            <p:cNvGrpSpPr/>
            <p:nvPr/>
          </p:nvGrpSpPr>
          <p:grpSpPr>
            <a:xfrm>
              <a:off x="3935160" y="2475000"/>
              <a:ext cx="598680" cy="334800"/>
              <a:chOff x="3935160" y="2475000"/>
              <a:chExt cx="598680" cy="334800"/>
            </a:xfrm>
          </p:grpSpPr>
          <p:sp>
            <p:nvSpPr>
              <p:cNvPr id="114" name=""/>
              <p:cNvSpPr/>
              <p:nvPr/>
            </p:nvSpPr>
            <p:spPr>
              <a:xfrm>
                <a:off x="4300560" y="2660760"/>
                <a:ext cx="233280" cy="149040"/>
              </a:xfrm>
              <a:custGeom>
                <a:avLst/>
                <a:gdLst/>
                <a:ahLst/>
                <a:rect l="l" t="t" r="r" b="b"/>
                <a:pathLst>
                  <a:path w="147" h="94">
                    <a:moveTo>
                      <a:pt x="147" y="94"/>
                    </a:moveTo>
                    <a:lnTo>
                      <a:pt x="0" y="47"/>
                    </a:lnTo>
                    <a:lnTo>
                      <a:pt x="21" y="24"/>
                    </a:lnTo>
                    <a:lnTo>
                      <a:pt x="42" y="0"/>
                    </a:lnTo>
                    <a:lnTo>
                      <a:pt x="147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3935160" y="2475000"/>
                <a:ext cx="398520" cy="2235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6" name=""/>
            <p:cNvSpPr/>
            <p:nvPr/>
          </p:nvSpPr>
          <p:spPr>
            <a:xfrm>
              <a:off x="4541760" y="91440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290920" y="136188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140080" y="147492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5"/>
                  </a:moveTo>
                  <a:arcTo wR="10800" hR="10800" stAng="-10782589" swAng="5317414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5"/>
                  </a:moveTo>
                  <a:arcTo wR="10800" hR="10800" stAng="-10782589" swAng="5317414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290920" y="225756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140080" y="1476000"/>
              <a:ext cx="301320" cy="890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93" y="21598"/>
                  </a:moveTo>
                  <a:arcTo wR="10800" hR="10800" stAng="5465850" swAng="535156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93" y="21598"/>
                  </a:moveTo>
                  <a:arcTo wR="10800" hR="10800" stAng="5465850" swAng="535156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290920" y="136188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441400" y="1474920"/>
              <a:ext cx="29844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96" y="2"/>
                  </a:moveTo>
                  <a:arcTo wR="10800" hR="10800" stAng="-5464854" swAng="544686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96" y="2"/>
                  </a:moveTo>
                  <a:arcTo wR="10800" hR="10800" stAng="-5464854" swAng="5446860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290920" y="225756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441400" y="1476000"/>
              <a:ext cx="298440" cy="890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7994" swAng="5484192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7994" swAng="5484192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41760" y="2706840"/>
              <a:ext cx="299880" cy="2203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6" name=""/>
            <p:cNvGrpSpPr/>
            <p:nvPr/>
          </p:nvGrpSpPr>
          <p:grpSpPr>
            <a:xfrm>
              <a:off x="4833720" y="1017720"/>
              <a:ext cx="598680" cy="336240"/>
              <a:chOff x="4833720" y="1017720"/>
              <a:chExt cx="598680" cy="336240"/>
            </a:xfrm>
          </p:grpSpPr>
          <p:sp>
            <p:nvSpPr>
              <p:cNvPr id="127" name=""/>
              <p:cNvSpPr/>
              <p:nvPr/>
            </p:nvSpPr>
            <p:spPr>
              <a:xfrm>
                <a:off x="5198760" y="1204920"/>
                <a:ext cx="233640" cy="149040"/>
              </a:xfrm>
              <a:custGeom>
                <a:avLst/>
                <a:gdLst/>
                <a:ahLst/>
                <a:rect l="l" t="t" r="r" b="b"/>
                <a:pathLst>
                  <a:path w="147" h="94">
                    <a:moveTo>
                      <a:pt x="147" y="94"/>
                    </a:moveTo>
                    <a:lnTo>
                      <a:pt x="0" y="47"/>
                    </a:lnTo>
                    <a:lnTo>
                      <a:pt x="21" y="23"/>
                    </a:lnTo>
                    <a:lnTo>
                      <a:pt x="42" y="0"/>
                    </a:lnTo>
                    <a:lnTo>
                      <a:pt x="147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833720" y="1017720"/>
                <a:ext cx="398520" cy="2235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9" name=""/>
            <p:cNvGrpSpPr/>
            <p:nvPr/>
          </p:nvGrpSpPr>
          <p:grpSpPr>
            <a:xfrm>
              <a:off x="4833720" y="2475000"/>
              <a:ext cx="598680" cy="334800"/>
              <a:chOff x="4833720" y="2475000"/>
              <a:chExt cx="598680" cy="334800"/>
            </a:xfrm>
          </p:grpSpPr>
          <p:sp>
            <p:nvSpPr>
              <p:cNvPr id="130" name=""/>
              <p:cNvSpPr/>
              <p:nvPr/>
            </p:nvSpPr>
            <p:spPr>
              <a:xfrm>
                <a:off x="4833720" y="2660760"/>
                <a:ext cx="216000" cy="149040"/>
              </a:xfrm>
              <a:custGeom>
                <a:avLst/>
                <a:gdLst/>
                <a:ahLst/>
                <a:rect l="l" t="t" r="r" b="b"/>
                <a:pathLst>
                  <a:path w="136" h="94">
                    <a:moveTo>
                      <a:pt x="0" y="94"/>
                    </a:moveTo>
                    <a:lnTo>
                      <a:pt x="94" y="0"/>
                    </a:lnTo>
                    <a:lnTo>
                      <a:pt x="115" y="24"/>
                    </a:lnTo>
                    <a:lnTo>
                      <a:pt x="136" y="47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flipH="1">
                <a:off x="5016240" y="2475000"/>
                <a:ext cx="416160" cy="2235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2" name=""/>
            <p:cNvSpPr/>
            <p:nvPr/>
          </p:nvSpPr>
          <p:spPr>
            <a:xfrm>
              <a:off x="5335920" y="181440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977840" y="113832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977840" y="203364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5" name=""/>
            <p:cNvGrpSpPr/>
            <p:nvPr/>
          </p:nvGrpSpPr>
          <p:grpSpPr>
            <a:xfrm>
              <a:off x="2054160" y="1353960"/>
              <a:ext cx="115920" cy="671760"/>
              <a:chOff x="2054160" y="1353960"/>
              <a:chExt cx="115920" cy="671760"/>
            </a:xfrm>
          </p:grpSpPr>
          <p:sp>
            <p:nvSpPr>
              <p:cNvPr id="136" name=""/>
              <p:cNvSpPr/>
              <p:nvPr/>
            </p:nvSpPr>
            <p:spPr>
              <a:xfrm>
                <a:off x="2054160" y="1839960"/>
                <a:ext cx="115920" cy="185760"/>
              </a:xfrm>
              <a:custGeom>
                <a:avLst/>
                <a:gdLst/>
                <a:ahLst/>
                <a:rect l="l" t="t" r="r" b="b"/>
                <a:pathLst>
                  <a:path w="73" h="117">
                    <a:moveTo>
                      <a:pt x="42" y="117"/>
                    </a:moveTo>
                    <a:lnTo>
                      <a:pt x="0" y="0"/>
                    </a:lnTo>
                    <a:lnTo>
                      <a:pt x="42" y="0"/>
                    </a:lnTo>
                    <a:lnTo>
                      <a:pt x="73" y="0"/>
                    </a:lnTo>
                    <a:lnTo>
                      <a:pt x="42" y="1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2120760" y="1353960"/>
                <a:ext cx="1440" cy="4860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8" name=""/>
            <p:cNvSpPr/>
            <p:nvPr/>
          </p:nvSpPr>
          <p:spPr>
            <a:xfrm>
              <a:off x="3975480" y="188928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490000" y="187632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150320" y="181440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287120" y="188928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372280" y="429876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509080" y="437364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024280" y="537516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161080" y="545004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388120" y="588024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542200" y="594216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8760" y="2438280"/>
              <a:ext cx="26326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I/O, assignment,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or procedure cal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781800" y="3014640"/>
              <a:ext cx="178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if-then-els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989040" y="3048120"/>
              <a:ext cx="1201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if-then</a:t>
              </a:r>
              <a:r>
                <a:rPr b="0" lang="it-IT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264320" y="6138720"/>
              <a:ext cx="1733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while loop</a:t>
              </a:r>
              <a:r>
                <a:rPr b="0" lang="it-IT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969160" y="4538520"/>
              <a:ext cx="2367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wo sequential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atements</a:t>
              </a:r>
              <a:r>
                <a:rPr b="0" lang="it-IT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03:13:45Z</dcterms:created>
  <dc:creator>Spencer Smith</dc:creator>
  <dc:description/>
  <dc:language>en-US</dc:language>
  <cp:lastModifiedBy>Spencer Smith</cp:lastModifiedBy>
  <dcterms:modified xsi:type="dcterms:W3CDTF">2008-03-25T03:18:58Z</dcterms:modified>
  <cp:revision>3</cp:revision>
  <dc:subject/>
  <dc:title>PowerPoint Presentation</dc:title>
</cp:coreProperties>
</file>