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6C226-1EEE-45DA-9549-AD70818C3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35B43-CC73-4CAD-B288-EF294479C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DED8B-FE86-4AE4-891F-34D0569D5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8063C-0F2B-4C2E-9378-7EFA38A77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BA3EE-3818-4F1A-BFDA-FD4DF12EF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361CF-6069-4D2A-9F40-03BA8DBA1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C4F93-C180-45AD-89DD-40CEF3918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5B87E-55F2-4406-B3E3-EED3D2156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FAEE8-6E46-4565-B367-91FF3739C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FB4D0-D3BF-4D4C-898A-9FB68A498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E8427-CF2E-4EF7-9199-9038BFDBA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AECFA-BD4D-4534-8BBB-34EF43C51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21429-A05F-4C1D-982F-9C0CEB2211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0DDE3-3EC1-47C7-BB7F-4D165420A99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utomating a law offi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70848-7F44-484F-8246-B476DE24564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Good intuition and technical skills are not enough to guarantee su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arketing analysis and process organization must be planned carefully before committing to the pro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hanges in schedules and project sourcing after serious problems are encountered can be difficult and expensive, if not impossible to implem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93F5E-D58B-4A9A-AD0B-2B16F9D548C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uilding a family of compile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44ACC-9F39-474D-8D10-80C9F042468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Good engineers are essential to the success of a pro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Use of standard test suites helps obtain objective measures of the completion status of a pro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Transparency of process helps entire organization in plan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Revising a schedule on the basis of objective data helps the schedule become more reali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Reuse of large software components on the basis of clear specifications is possible and advantageou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A4340-26D9-4B84-9170-099342F83A7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cremental deliver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059AF-52A2-4086-81B1-731DB32BFB8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Prototyping i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A throw-away prototype may be used by clients to start on their project while they await the final produ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A throw-away prototype enables parallel development by clients and develop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throw-away prototype may be used to prune an initial set of requirements on the basis of actual usage and need for featur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1A01F-9763-428E-9831-121BF3C21AE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pplying formal methods in industry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71F89-C8BE-4FCC-A00F-EAAC77F66AD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7524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Formal methods can be effective in practice and their use results in increased reliability and reduced development and verification costs which compensate for the increased effort in the specification ph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Industrial environments are reluctant to adopt them, even after successful pilot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they are afraid of the special training required, which causes organizational efforts and economic invest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“lightweight approach” may be possible which exploits the incrementality principl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067D9-9A77-4199-8D94-A7E10947508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31T16:29:53Z</dcterms:created>
  <dc:creator>Carlo Ghezzi</dc:creator>
  <dc:description/>
  <dc:language>en-US</dc:language>
  <cp:lastModifiedBy>jazayeri</cp:lastModifiedBy>
  <dcterms:modified xsi:type="dcterms:W3CDTF">2002-02-20T10:09:00Z</dcterms:modified>
  <cp:revision>4</cp:revision>
  <dc:subject/>
  <dc:title>Case studies</dc:title>
</cp:coreProperties>
</file>