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25536-754A-4042-A945-DC0BBFFF4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7E901-21C0-415C-A881-0509AC37E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6E156-67A2-44FD-8702-D08093436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E81EE-6D14-480C-B47F-2960E4CBB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9B39A-FEB8-4B12-AE5C-83C943C5E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B4CBA-CCFB-45F7-835D-8182C9690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0D6A6-939E-43AD-965A-99BC60E06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063A0-7D56-4C94-9DF3-C3EFEED9F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439D5-CB34-4C5B-B0D6-BAD854E16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E00E4-0760-41AB-B4D4-811780C0F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B6B81-9223-4E83-B4DF-D714813B8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05935-AEFD-4308-9992-449D4E547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E9691-1EBA-4862-90DE-9792F35C6E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369720" y="3397320"/>
          <a:ext cx="5578560" cy="2766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9720" y="3397320"/>
                    <a:ext cx="5578560" cy="276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 flipH="1">
            <a:off x="7314840" y="3568680"/>
            <a:ext cx="12600" cy="23749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892840" y="4749840"/>
            <a:ext cx="29210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277040" y="467352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048440" y="466092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flipV="1">
            <a:off x="6438960" y="4673520"/>
            <a:ext cx="114120" cy="1144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892840" y="4673520"/>
            <a:ext cx="11412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505640" y="466092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102520" y="468648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724960" y="4660920"/>
            <a:ext cx="11412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264440" y="4889520"/>
            <a:ext cx="11412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277040" y="521964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264440" y="5740560"/>
            <a:ext cx="11412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251840" y="4406760"/>
            <a:ext cx="11412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277040" y="397512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277040" y="359424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730920" y="430524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981760" y="3784680"/>
            <a:ext cx="11412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759800" y="5105520"/>
            <a:ext cx="11412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8356680" y="5816520"/>
            <a:ext cx="11412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667560" y="5181480"/>
            <a:ext cx="11412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956200" y="572760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8051760" y="416556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8458200" y="361944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595920" y="5430960"/>
            <a:ext cx="90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x =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8147160" y="4795920"/>
            <a:ext cx="99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y = 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8T04:21:28Z</dcterms:created>
  <dc:creator>Spencer Smith</dc:creator>
  <dc:description/>
  <dc:language>en-US</dc:language>
  <cp:lastModifiedBy>Spencer Smith</cp:lastModifiedBy>
  <dcterms:modified xsi:type="dcterms:W3CDTF">2008-03-28T04:22:58Z</dcterms:modified>
  <cp:revision>1</cp:revision>
  <dc:subject/>
  <dc:title>PowerPoint Presentation</dc:title>
</cp:coreProperties>
</file>