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F44C-D072-4931-99B3-04392B3E2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B23B-2C06-422E-A977-DFA8A8418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C6B9-1C61-40C4-8179-18E4451F8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DDBC-4A8A-4BCA-A800-51BC9606C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EB4B-A619-4B02-80CC-D4350A31F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3974-0C40-467B-98C5-58C192D9A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BA8D-EC41-45A3-A96F-46AC2C28B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084B-DF2A-4C08-B79F-3AED2FC8F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312E-E745-4462-9409-C9F3DD6BF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1889-630B-4F13-9153-8D9B23F2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8008-4506-44B2-9355-7520C76A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65CF-E5D5-44A7-9CB6-F202B9B2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802B9-A630-4454-8711-64306B0B66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280" y="1430280"/>
            <a:ext cx="3602160" cy="1079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22400" y="3274920"/>
            <a:ext cx="3720960" cy="1065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42920" y="5183280"/>
            <a:ext cx="4451400" cy="1226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775040" y="1338120"/>
            <a:ext cx="4232520" cy="3127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957920" y="5102280"/>
            <a:ext cx="4049640" cy="1165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60" y="111276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9080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b900"/>
                </a:solidFill>
                <a:latin typeface="Times New Roman"/>
              </a:rPr>
              <a:t>Inve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0" y="47102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39080" y="11224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65040" y="466884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5c00"/>
                </a:solidFill>
                <a:latin typeface="Times New Roman"/>
              </a:rPr>
              <a:t>Generalized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934760" y="108432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965000" y="481176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0600" y="63882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94680" y="28224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179520" y="6329160"/>
            <a:ext cx="112680" cy="21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2997000" y="2539800"/>
            <a:ext cx="161640" cy="35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260880" y="3057480"/>
            <a:ext cx="204480" cy="2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7862760" y="1252440"/>
            <a:ext cx="12384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7873560" y="5010120"/>
            <a:ext cx="13356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108080"/>
            <a:ext cx="4308480" cy="1736640"/>
          </a:xfrm>
          <a:prstGeom prst="rect">
            <a:avLst/>
          </a:prstGeom>
          <a:solidFill>
            <a:srgbClr val="bbe0e3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865600"/>
            <a:ext cx="4308480" cy="1747800"/>
          </a:xfrm>
          <a:prstGeom prst="rect">
            <a:avLst/>
          </a:prstGeom>
          <a:solidFill>
            <a:srgbClr val="3333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622760"/>
            <a:ext cx="4794120" cy="1979640"/>
          </a:xfrm>
          <a:prstGeom prst="rect">
            <a:avLst/>
          </a:prstGeom>
          <a:solidFill>
            <a:srgbClr val="cdffc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5280" y="4632480"/>
            <a:ext cx="4338720" cy="1962000"/>
          </a:xfrm>
          <a:prstGeom prst="rect">
            <a:avLst/>
          </a:prstGeom>
          <a:solidFill>
            <a:srgbClr val="b4b9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08480" y="1087560"/>
            <a:ext cx="4835520" cy="3535200"/>
          </a:xfrm>
          <a:prstGeom prst="rect">
            <a:avLst/>
          </a:prstGeom>
          <a:solidFill>
            <a:srgbClr val="0099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17320" y="6287760"/>
            <a:ext cx="2786040" cy="297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8:55Z</dcterms:modified>
  <cp:revision>3</cp:revision>
  <dc:subject/>
  <dc:title>PowerPoint Presentation</dc:title>
</cp:coreProperties>
</file>