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6E53D-1503-4666-AD49-F3F341FF9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8629B-D9DA-4704-833F-036D83CDA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802B3-EB94-491C-9AA3-D4277D089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10005-C3C1-45C9-BC75-37DA941C2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5CD37-8A1C-4B2B-AE48-757CE12FD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C2CD1-FC47-4BC8-97EB-CB2169C4D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BD4AD-7B4C-47A7-8590-BF7DC9CD8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DB5DD-6009-4F94-BB64-464804A27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AF7FF-583D-4D48-B468-189C11B6C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B3B15-4BD6-48E0-8B03-4B968D5F2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5B9BA-F26F-4333-9B53-8B7CA8B65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84725-952B-4802-87C2-776A31911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2F0C3-6A62-45E9-A167-E29BA8DE74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03120" y="2023920"/>
            <a:ext cx="2107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x &lt; 0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 := -x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 := x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188960" y="2166840"/>
            <a:ext cx="3587040" cy="2654280"/>
          </a:xfrm>
          <a:prstGeom prst="rect">
            <a:avLst/>
          </a:prstGeom>
          <a:noFill/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{&lt;x=-3} covers 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does not exercise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when x is posi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the then branch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ente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03:13:45Z</dcterms:created>
  <dc:creator>Spencer Smith</dc:creator>
  <dc:description/>
  <dc:language>en-US</dc:language>
  <cp:lastModifiedBy>Spencer Smith</cp:lastModifiedBy>
  <dcterms:modified xsi:type="dcterms:W3CDTF">2008-03-25T03:18:00Z</dcterms:modified>
  <cp:revision>2</cp:revision>
  <dc:subject/>
  <dc:title>PowerPoint Presentation</dc:title>
</cp:coreProperties>
</file>