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2566-5C42-45A6-8CCC-109307BD8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D134-ED54-4D77-B16A-7E06719C4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B833-3EBC-4457-99D3-E34B95B85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ABA6-40EC-4882-9FCA-0003A7110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5813-E2A9-45FB-83CE-7EF0DFF1B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FEE4-1524-4D33-A861-1E60088F1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5A75-E3F3-4FBB-84CE-CF9458164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EFF5-809D-435A-9A16-8529585B2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8E8A-0ED9-4566-B8A1-FFECC99D1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585D-9B27-4D56-B648-5ED179E0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9ACF-55EE-4CC7-B0C9-2759E901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6EB9-FBFE-41DC-B276-6B364266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4F1F5-1FDD-499E-941F-D7D3943329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0" y="1523880"/>
          <a:ext cx="4419720" cy="29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523880"/>
                    <a:ext cx="4419720" cy="29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7:25Z</dcterms:modified>
  <cp:revision>3</cp:revision>
  <dc:subject/>
  <dc:title>PowerPoint Presentation</dc:title>
</cp:coreProperties>
</file>