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E0AC-62B9-4513-8EF6-CE5980579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8961-D7A1-48F4-96C5-138B426B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12AA-25AC-42CA-BCFA-CECF0E2C3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2789-1EB7-4263-9BDF-5DC48F413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BD64-1162-45A5-9A85-326E8F54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3AED-1FFD-462C-9C17-D483322E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7EB2-90A1-4DF1-85FB-002108C8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113F-0198-4DBC-9347-AAACB0D3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59DB-576E-4405-8C1D-81D31964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EAA5-FD1F-4E61-B049-1E247950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04DA-AED0-442C-A48D-5ECA0158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2F57-8CCA-40A9-8AEE-EA71624B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0D01-351A-47EA-846F-B8499E15E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E4EA-4663-41B6-9144-B758602A5A2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cise, unambiguous, cl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example (from a real safety-critical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8920" y="2971800"/>
            <a:ext cx="786168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ssage must be triplicated.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pies must be forwarded through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t physical channels. The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s the message on the basi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wo-out-of-three voting policy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000" y="533412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 message be accepted as soon as we receive 2 out of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 copies of message or do we need to wai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eipt of the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C8CE-E369-4219-90E2-92558413F9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-11520" y="1828800"/>
            <a:ext cx="955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0: Reserving F from inside E, which is not standing at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uses immediate update of L according to previous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12200" y="2971800"/>
            <a:ext cx="7041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F = insert_in_order(L, F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1D78-3EA6-4271-8D65-2750ADCA5A1A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35760" y="990720"/>
            <a:ext cx="5989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1: Effect of arrival of E at floor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79480" y="1523880"/>
            <a:ext cx="53146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 = first (L) and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= tail 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0640" y="3505320"/>
            <a:ext cx="4276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2: How lis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23000" y="4038480"/>
            <a:ext cx="6537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C528-8538-4DE5-8942-D77EE235CED7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can be simulated by providing a state (set of facts) and using rules to make de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2, 3, 5, 7)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evator 2 at floor 3 at least from instant 5 to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(2, empty, 5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(2, 8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(2, {8}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excluding other ev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2, up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 arrival (2, 8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*(8-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E137-9D59-4EA5-A09E-6E9AF47E5DC1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can be stated and proved via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requests are served eventual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A3EB-0D13-4C67-B257-9FA00DBBF8C6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nd its properties are described in the sam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properties, however, cannot be fully mechanized for mos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A697-81CA-43A1-9AD5-79E70AC04AC6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= more than 1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useful to specify AD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561C-C6D6-4E8A-89A2-D8B27F93A451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strings, with operation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ing new, empty strings (operation 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 (operation app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ng a new character at the end of a string (operation a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the length of a given string (operation leng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a string is empty (operation isEmp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two strings are equal (operation equ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1AA8-CD56-455F-8382-F550018DC02B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398960" y="1676520"/>
            <a:ext cx="624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: String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8B2A-BCEF-45FB-B861-23C5760E57DC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1289160"/>
            <a:ext cx="825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, append, add, length, isEmpty, equal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s, s1, s2: String; c: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new ())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add (s, c)) = length (s)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, new ()) =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1, add (s2,c)) = add (append (s1,s2)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 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, c), new ())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1, c), add (s2, c) = equal (s1,s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5095-A0BF-49F8-8F8C-3FEE62260351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edi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es a new, empty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s whether a fil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s a string of characters to the end of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s a string at a given position of a 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 rest of the file will be rewritten just after the inserted 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en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wo fil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5CC8-A5F3-407B-92A3-0534D6DAF7C4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796680" y="2514600"/>
            <a:ext cx="786168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hole text should be kept in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equ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. The length is spec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the user. Unless the user give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hyphenation comm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rriage return should occur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 the end of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280" y="5334120"/>
            <a:ext cx="81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if the length of a word exceeds the length of the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A2EE-7F73-4436-8462-3E8FCBCAF3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35080" y="228600"/>
            <a:ext cx="867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TextEdi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Text, String, Char, Bool,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F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: Tex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: Text, Na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C: Text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This is an auxiliary operation that will be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addF and other operations on files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57D7-FE41-4620-8181-521CEBFE0957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70320" y="343080"/>
            <a:ext cx="751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F, isEmptyF, addF, appendF, insertF, delete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Editor generated by [newF, addF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f, f1,f2: Text; s: String; c: Char; cursor: Na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addS (s, c)) = addFC (addF (f, s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newF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addFC (f, c)) = lengthF (f)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, newF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1, addFC (f2, c)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C (appendF (f1, f2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 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, c), new ())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1, c1), addFC (f2, c2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f1, f2) and equalC 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 (f, cursor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(equalF (f, appendF (f1, f2)) and (lengthF (f1) = cursor -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insertF (f, cursor, s), appendF (addF (f1, s), f2)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 TextEdi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78F2-9B19-4BB1-AF4B-B83767AA5673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for a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eparate functional specs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spe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-interface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differen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39DD-768E-41E1-B7F2-55E8F4697DFE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view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cument p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41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705720" cy="3816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760" y="1676520"/>
            <a:ext cx="47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view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19A6-8968-4B74-9B68-E36C72D8E098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flow view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8640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110E-E6E7-4803-8AAF-BED8A6853830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tatic architecture in terms of classes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evolution can be described via Statecharts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equential and parallel composition of method executions, and synchro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6A1B-2AE6-4F0E-AE7E-BF961DE04734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1447920"/>
          <a:ext cx="82296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C95D-C04C-4C01-BFD4-AA7C62E5ECD7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modular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combine algebras taken from a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organize them in a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98EC-C792-46DB-A407-51ED2899DB5F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37480" y="857160"/>
            <a:ext cx="579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Bool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ls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d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true, false, not, and, or, implies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 generated by [true, fals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a, b: Boo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true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false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and b = not (not (a) or not 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implies b = not (a) or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oolAlg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C709-3804-4F2E-B53E-4829487BB725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006920" y="1936800"/>
            <a:ext cx="389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Nat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: (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: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+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0, Succ, +, -, =,...,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Numb generated by [0, Succ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NatNu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83800" y="2286000"/>
            <a:ext cx="33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har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har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’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’ 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har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57FE-214A-4A75-8472-2060AA36DEF5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efine any new concept or terminology that it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lossary helpful for this purpo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ocument all the needed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when should one stop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EFB7-03DB-4132-BFFB-D89CE3ED18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ingSpec revisi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342440" y="1981080"/>
            <a:ext cx="63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BoolAlg, NatNumb, CharAl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9294-6DDA-4E6B-8138-16D78B338C79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specification of an A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target stacks, queues, 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from "container" and then progressively special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another structuring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inheritance relation among alge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CDD9-2CBC-4EF7-AAFB-E770924F7C32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iner algeb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38840" y="1143000"/>
            <a:ext cx="797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ontain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DataType, BoolAlg,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: Cont, 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Data is the sort of algebra DataType, to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s to be stored in Cont belon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new, insert, isEmpty, size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 generated by [new, inser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c: Co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new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insert (c, d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new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4907-B656-43BF-A999-3E8B74F85563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78440" y="861840"/>
            <a:ext cx="622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Tabl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: Table,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 Table, Data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rest, equalT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, d1, d2: Data; t, t1, t2: Tab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t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insert (t, d))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insert (t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insert (t,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t1,t2) = equalD(last (t1), last (t2)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rest (t1),rest (t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, d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d),d) = delete (t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D(d1, d2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 d1), d2) = insert (delete (t, d2), 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Tabl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0AEA-5E86-4FA4-B03A-C80E9F6E2C0B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u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72120" y="762120"/>
            <a:ext cx="6825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Queu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 Que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: Queue ,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Queu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first, equalQ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q, q1, q2: Queu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q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new(), d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q, d)) = if not isEmpty (q) then first 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insert (q, 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1, d1), insert (q2, d2)) = equalD (d1, d2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q1,q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new (), d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Q (q, new (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q,d)) = insert (delete (q)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Queu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4995-0130-4EC6-A0D9-CC490AAB9E47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73880" y="1647720"/>
            <a:ext cx="3199680" cy="4366440"/>
            <a:chOff x="2873880" y="1647720"/>
            <a:chExt cx="3199680" cy="4366440"/>
          </a:xfrm>
        </p:grpSpPr>
        <p:sp>
          <p:nvSpPr>
            <p:cNvPr id="590" name=""/>
            <p:cNvSpPr/>
            <p:nvPr/>
          </p:nvSpPr>
          <p:spPr>
            <a:xfrm>
              <a:off x="3992400" y="2946240"/>
              <a:ext cx="843120" cy="889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14720" y="1647720"/>
              <a:ext cx="753840" cy="8683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92640" y="1746360"/>
              <a:ext cx="754200" cy="809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4341960"/>
              <a:ext cx="754200" cy="830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2400" y="4341960"/>
              <a:ext cx="771840" cy="850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4640" y="4381560"/>
              <a:ext cx="862200" cy="9097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768840" y="2308320"/>
              <a:ext cx="573120" cy="630000"/>
              <a:chOff x="3768840" y="2308320"/>
              <a:chExt cx="573120" cy="630000"/>
            </a:xfrm>
          </p:grpSpPr>
          <p:sp>
            <p:nvSpPr>
              <p:cNvPr id="597" name=""/>
              <p:cNvSpPr/>
              <p:nvPr/>
            </p:nvSpPr>
            <p:spPr>
              <a:xfrm>
                <a:off x="4091040" y="268272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58" h="161">
                    <a:moveTo>
                      <a:pt x="158" y="161"/>
                    </a:moveTo>
                    <a:lnTo>
                      <a:pt x="0" y="49"/>
                    </a:lnTo>
                    <a:lnTo>
                      <a:pt x="34" y="24"/>
                    </a:lnTo>
                    <a:lnTo>
                      <a:pt x="79" y="0"/>
                    </a:lnTo>
                    <a:lnTo>
                      <a:pt x="15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68840" y="2308320"/>
                <a:ext cx="376200" cy="41256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557600" y="2406600"/>
              <a:ext cx="627120" cy="550800"/>
              <a:chOff x="4557600" y="2406600"/>
              <a:chExt cx="627120" cy="5508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57600" y="2682720"/>
                <a:ext cx="322200" cy="27468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73"/>
                    </a:moveTo>
                    <a:lnTo>
                      <a:pt x="101" y="0"/>
                    </a:lnTo>
                    <a:lnTo>
                      <a:pt x="146" y="24"/>
                    </a:lnTo>
                    <a:lnTo>
                      <a:pt x="203" y="6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789440" y="2406600"/>
                <a:ext cx="395280" cy="3142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306040" y="1874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7480" y="18748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0920" y="2111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96080" y="18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0840" y="18162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360" y="20527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2520" y="45115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4511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1000" y="47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26960" y="31734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440" y="31734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36680" y="34099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4640" y="447192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77960" y="44719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90680" y="47084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7200" y="46292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Typ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66360" y="4865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2000" y="4865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3880" y="555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9760" y="5554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35240" y="555480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2000" y="5770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u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1080" y="57704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14840" y="5810400"/>
              <a:ext cx="555480" cy="196560"/>
              <a:chOff x="3714840" y="5810400"/>
              <a:chExt cx="555480" cy="19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037040" y="5810400"/>
                <a:ext cx="233280" cy="196560"/>
              </a:xfrm>
              <a:custGeom>
                <a:avLst/>
                <a:gdLst/>
                <a:ahLst/>
                <a:rect l="l" t="t" r="r" b="b"/>
                <a:pathLst>
                  <a:path w="147" h="124">
                    <a:moveTo>
                      <a:pt x="147" y="62"/>
                    </a:moveTo>
                    <a:lnTo>
                      <a:pt x="0" y="124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14840" y="5908680"/>
                <a:ext cx="322200" cy="1440"/>
              </a:xfrm>
              <a:prstGeom prst="line">
                <a:avLst/>
              </a:prstGeom>
              <a:ln w="71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41960" y="3822840"/>
              <a:ext cx="107640" cy="511200"/>
              <a:chOff x="4341960" y="3822840"/>
              <a:chExt cx="107640" cy="5112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41960" y="4138560"/>
                <a:ext cx="107640" cy="195480"/>
              </a:xfrm>
              <a:custGeom>
                <a:avLst/>
                <a:gdLst/>
                <a:ahLst/>
                <a:rect l="l" t="t" r="r" b="b"/>
                <a:pathLst>
                  <a:path w="68" h="123">
                    <a:moveTo>
                      <a:pt x="34" y="123"/>
                    </a:moveTo>
                    <a:lnTo>
                      <a:pt x="0" y="0"/>
                    </a:lnTo>
                    <a:lnTo>
                      <a:pt x="34" y="37"/>
                    </a:lnTo>
                    <a:lnTo>
                      <a:pt x="68" y="0"/>
                    </a:lnTo>
                    <a:lnTo>
                      <a:pt x="34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95960" y="3822840"/>
                <a:ext cx="1440" cy="374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54280" y="3705120"/>
              <a:ext cx="555480" cy="708120"/>
              <a:chOff x="3554280" y="3705120"/>
              <a:chExt cx="555480" cy="708120"/>
            </a:xfrm>
          </p:grpSpPr>
          <p:sp>
            <p:nvSpPr>
              <p:cNvPr id="632" name=""/>
              <p:cNvSpPr/>
              <p:nvPr/>
            </p:nvSpPr>
            <p:spPr>
              <a:xfrm>
                <a:off x="3554280" y="4237200"/>
                <a:ext cx="160560" cy="176040"/>
              </a:xfrm>
              <a:custGeom>
                <a:avLst/>
                <a:gdLst/>
                <a:ahLst/>
                <a:rect l="l" t="t" r="r" b="b"/>
                <a:pathLst>
                  <a:path w="101" h="111">
                    <a:moveTo>
                      <a:pt x="0" y="111"/>
                    </a:moveTo>
                    <a:lnTo>
                      <a:pt x="45" y="0"/>
                    </a:lnTo>
                    <a:lnTo>
                      <a:pt x="45" y="49"/>
                    </a:lnTo>
                    <a:lnTo>
                      <a:pt x="101" y="3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625560" y="3705120"/>
                <a:ext cx="484200" cy="60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754520" y="3646440"/>
              <a:ext cx="536760" cy="766800"/>
              <a:chOff x="4754520" y="3646440"/>
              <a:chExt cx="536760" cy="766800"/>
            </a:xfrm>
          </p:grpSpPr>
          <p:sp>
            <p:nvSpPr>
              <p:cNvPr id="635" name=""/>
              <p:cNvSpPr/>
              <p:nvPr/>
            </p:nvSpPr>
            <p:spPr>
              <a:xfrm>
                <a:off x="5148360" y="4216320"/>
                <a:ext cx="142920" cy="1969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124"/>
                    </a:moveTo>
                    <a:lnTo>
                      <a:pt x="0" y="50"/>
                    </a:lnTo>
                    <a:lnTo>
                      <a:pt x="45" y="62"/>
                    </a:lnTo>
                    <a:lnTo>
                      <a:pt x="45" y="0"/>
                    </a:lnTo>
                    <a:lnTo>
                      <a:pt x="9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4520" y="3646440"/>
                <a:ext cx="465120" cy="6685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714840" y="5613480"/>
              <a:ext cx="573120" cy="117360"/>
              <a:chOff x="3714840" y="5613480"/>
              <a:chExt cx="573120" cy="117360"/>
            </a:xfrm>
          </p:grpSpPr>
          <p:sp>
            <p:nvSpPr>
              <p:cNvPr id="638" name=""/>
              <p:cNvSpPr/>
              <p:nvPr/>
            </p:nvSpPr>
            <p:spPr>
              <a:xfrm>
                <a:off x="4110120" y="5613480"/>
                <a:ext cx="177840" cy="11736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112" y="37"/>
                    </a:moveTo>
                    <a:lnTo>
                      <a:pt x="0" y="74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1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14840" y="5672160"/>
                <a:ext cx="44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224D-94FC-4868-A942-6D1D1919D101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icher 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21948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741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C6C9-3352-4614-9C92-44789218AD2D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specs to an implem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 language described so far is based on the "Larch shared languag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"interface languages" are available to help transitioning to a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ch/C++, Larch/Pa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3874-EE3D-4DE7-B4CB-FECEEEE0D507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Larch/Pascal for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7920" y="1523880"/>
            <a:ext cx="901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tring exports isEmpty, add, appen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sed on Boolean, integer,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Empty (s: String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{i.e., it has no side effect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dd (var s : String; c :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mod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es only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ing parameter 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s: String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ppend (var s1, s2, s3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nly s3, the result of the operation, is modified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2BF2-EC32-412C-9985-D1A4ADAD9631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finite state mach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s do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been incorporated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provide the notion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83DF-AE90-4C2C-8BFA-EF1D09969108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 sketchy document and progressively add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cument is structured and can be understood in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D847-86AA-4A7B-ACE1-862E1BCEA5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de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mical plant control example-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0192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E6C4-27C9-46B2-A55C-C0BB3B59EF00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212B-A3FF-4BA2-9FA6-E329E5564094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 state diagram using State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1687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-534960" y="1828800"/>
            <a:ext cx="9129600" cy="3087720"/>
            <a:chOff x="-534960" y="1828800"/>
            <a:chExt cx="9129600" cy="3087720"/>
          </a:xfrm>
        </p:grpSpPr>
        <p:sp>
          <p:nvSpPr>
            <p:cNvPr id="658" name=""/>
            <p:cNvSpPr/>
            <p:nvPr/>
          </p:nvSpPr>
          <p:spPr>
            <a:xfrm>
              <a:off x="-534960" y="18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6880" y="3411360"/>
              <a:ext cx="955800" cy="447840"/>
            </a:xfrm>
            <a:custGeom>
              <a:avLst/>
              <a:gdLst/>
              <a:ahLst/>
              <a:rect l="l" t="t" r="r" b="b"/>
              <a:pathLst>
                <a:path w="602" h="282">
                  <a:moveTo>
                    <a:pt x="37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0" y="10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10" y="272"/>
                  </a:lnTo>
                  <a:lnTo>
                    <a:pt x="22" y="279"/>
                  </a:lnTo>
                  <a:lnTo>
                    <a:pt x="29" y="282"/>
                  </a:lnTo>
                  <a:lnTo>
                    <a:pt x="37" y="282"/>
                  </a:lnTo>
                  <a:lnTo>
                    <a:pt x="564" y="282"/>
                  </a:lnTo>
                  <a:lnTo>
                    <a:pt x="571" y="282"/>
                  </a:lnTo>
                  <a:lnTo>
                    <a:pt x="578" y="279"/>
                  </a:lnTo>
                  <a:lnTo>
                    <a:pt x="591" y="272"/>
                  </a:lnTo>
                  <a:lnTo>
                    <a:pt x="599" y="260"/>
                  </a:lnTo>
                  <a:lnTo>
                    <a:pt x="602" y="253"/>
                  </a:lnTo>
                  <a:lnTo>
                    <a:pt x="602" y="246"/>
                  </a:lnTo>
                  <a:lnTo>
                    <a:pt x="602" y="36"/>
                  </a:lnTo>
                  <a:lnTo>
                    <a:pt x="602" y="29"/>
                  </a:lnTo>
                  <a:lnTo>
                    <a:pt x="599" y="22"/>
                  </a:lnTo>
                  <a:lnTo>
                    <a:pt x="591" y="10"/>
                  </a:lnTo>
                  <a:lnTo>
                    <a:pt x="578" y="3"/>
                  </a:lnTo>
                  <a:lnTo>
                    <a:pt x="571" y="1"/>
                  </a:lnTo>
                  <a:lnTo>
                    <a:pt x="56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880" y="350208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8840" y="350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90440" y="35463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212840" y="3559320"/>
              <a:ext cx="565200" cy="141120"/>
              <a:chOff x="1212840" y="3559320"/>
              <a:chExt cx="565200" cy="141120"/>
            </a:xfrm>
          </p:grpSpPr>
          <p:sp>
            <p:nvSpPr>
              <p:cNvPr id="664" name=""/>
              <p:cNvSpPr/>
              <p:nvPr/>
            </p:nvSpPr>
            <p:spPr>
              <a:xfrm>
                <a:off x="1212840" y="3629160"/>
                <a:ext cx="565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27200" y="3559320"/>
                <a:ext cx="150840" cy="1411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89"/>
                    </a:moveTo>
                    <a:lnTo>
                      <a:pt x="95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808520" y="3411360"/>
              <a:ext cx="1203480" cy="447840"/>
            </a:xfrm>
            <a:custGeom>
              <a:avLst/>
              <a:gdLst/>
              <a:ahLst/>
              <a:rect l="l" t="t" r="r" b="b"/>
              <a:pathLst>
                <a:path w="758" h="282">
                  <a:moveTo>
                    <a:pt x="38" y="0"/>
                  </a:moveTo>
                  <a:lnTo>
                    <a:pt x="31" y="1"/>
                  </a:lnTo>
                  <a:lnTo>
                    <a:pt x="23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1" y="253"/>
                  </a:lnTo>
                  <a:lnTo>
                    <a:pt x="3" y="260"/>
                  </a:lnTo>
                  <a:lnTo>
                    <a:pt x="12" y="272"/>
                  </a:lnTo>
                  <a:lnTo>
                    <a:pt x="23" y="279"/>
                  </a:lnTo>
                  <a:lnTo>
                    <a:pt x="31" y="282"/>
                  </a:lnTo>
                  <a:lnTo>
                    <a:pt x="38" y="282"/>
                  </a:lnTo>
                  <a:lnTo>
                    <a:pt x="720" y="282"/>
                  </a:lnTo>
                  <a:lnTo>
                    <a:pt x="727" y="282"/>
                  </a:lnTo>
                  <a:lnTo>
                    <a:pt x="734" y="279"/>
                  </a:lnTo>
                  <a:lnTo>
                    <a:pt x="746" y="272"/>
                  </a:lnTo>
                  <a:lnTo>
                    <a:pt x="755" y="260"/>
                  </a:lnTo>
                  <a:lnTo>
                    <a:pt x="756" y="253"/>
                  </a:lnTo>
                  <a:lnTo>
                    <a:pt x="758" y="246"/>
                  </a:lnTo>
                  <a:lnTo>
                    <a:pt x="758" y="36"/>
                  </a:lnTo>
                  <a:lnTo>
                    <a:pt x="756" y="29"/>
                  </a:lnTo>
                  <a:lnTo>
                    <a:pt x="755" y="22"/>
                  </a:lnTo>
                  <a:lnTo>
                    <a:pt x="746" y="10"/>
                  </a:lnTo>
                  <a:lnTo>
                    <a:pt x="734" y="3"/>
                  </a:lnTo>
                  <a:lnTo>
                    <a:pt x="727" y="1"/>
                  </a:lnTo>
                  <a:lnTo>
                    <a:pt x="72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84200" y="349560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9360" y="3746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4840" y="3746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719440" y="3476520"/>
              <a:ext cx="2085840" cy="141480"/>
              <a:chOff x="2719440" y="3476520"/>
              <a:chExt cx="2085840" cy="141480"/>
            </a:xfrm>
          </p:grpSpPr>
          <p:sp>
            <p:nvSpPr>
              <p:cNvPr id="671" name=""/>
              <p:cNvSpPr/>
              <p:nvPr/>
            </p:nvSpPr>
            <p:spPr>
              <a:xfrm>
                <a:off x="2719440" y="3546360"/>
                <a:ext cx="2085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6240" y="3476520"/>
                <a:ext cx="149040" cy="141480"/>
              </a:xfrm>
              <a:custGeom>
                <a:avLst/>
                <a:gdLst/>
                <a:ahLst/>
                <a:rect l="l" t="t" r="r" b="b"/>
                <a:pathLst>
                  <a:path w="94" h="89">
                    <a:moveTo>
                      <a:pt x="0" y="89"/>
                    </a:moveTo>
                    <a:lnTo>
                      <a:pt x="94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19440" y="3625920"/>
              <a:ext cx="2085840" cy="141120"/>
              <a:chOff x="2719440" y="3625920"/>
              <a:chExt cx="2085840" cy="1411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2719440" y="3695760"/>
                <a:ext cx="2085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9440" y="362592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97" h="89">
                    <a:moveTo>
                      <a:pt x="97" y="0"/>
                    </a:moveTo>
                    <a:lnTo>
                      <a:pt x="0" y="46"/>
                    </a:lnTo>
                    <a:lnTo>
                      <a:pt x="97" y="8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37080" y="2685960"/>
              <a:ext cx="1451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600" y="27511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040" y="2751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59600" y="3881520"/>
              <a:ext cx="1450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9080" y="394668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67400" y="39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6440" y="4559400"/>
              <a:ext cx="4678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08480" y="4624560"/>
              <a:ext cx="322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more than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4320" y="46245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8160" y="3216240"/>
              <a:ext cx="1451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7640" y="328140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86320" y="3281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7040" y="3743280"/>
              <a:ext cx="358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0400" y="3809880"/>
              <a:ext cx="229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6000" y="3809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70520" y="2836800"/>
              <a:ext cx="619200" cy="574560"/>
              <a:chOff x="4970520" y="2836800"/>
              <a:chExt cx="619200" cy="57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4970520" y="2836800"/>
                <a:ext cx="619200" cy="574560"/>
              </a:xfrm>
              <a:custGeom>
                <a:avLst/>
                <a:gdLst/>
                <a:ahLst/>
                <a:rect l="l" t="t" r="r" b="b"/>
                <a:pathLst>
                  <a:path w="390" h="362">
                    <a:moveTo>
                      <a:pt x="206" y="362"/>
                    </a:moveTo>
                    <a:lnTo>
                      <a:pt x="151" y="347"/>
                    </a:lnTo>
                    <a:lnTo>
                      <a:pt x="124" y="339"/>
                    </a:lnTo>
                    <a:lnTo>
                      <a:pt x="99" y="329"/>
                    </a:lnTo>
                    <a:lnTo>
                      <a:pt x="76" y="319"/>
                    </a:lnTo>
                    <a:lnTo>
                      <a:pt x="56" y="307"/>
                    </a:lnTo>
                    <a:lnTo>
                      <a:pt x="38" y="292"/>
                    </a:lnTo>
                    <a:lnTo>
                      <a:pt x="24" y="276"/>
                    </a:lnTo>
                    <a:lnTo>
                      <a:pt x="13" y="255"/>
                    </a:lnTo>
                    <a:lnTo>
                      <a:pt x="6" y="232"/>
                    </a:lnTo>
                    <a:lnTo>
                      <a:pt x="2" y="206"/>
                    </a:lnTo>
                    <a:lnTo>
                      <a:pt x="0" y="177"/>
                    </a:lnTo>
                    <a:lnTo>
                      <a:pt x="0" y="150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0" y="89"/>
                    </a:lnTo>
                    <a:lnTo>
                      <a:pt x="15" y="80"/>
                    </a:lnTo>
                    <a:lnTo>
                      <a:pt x="25" y="63"/>
                    </a:lnTo>
                    <a:lnTo>
                      <a:pt x="38" y="48"/>
                    </a:lnTo>
                    <a:lnTo>
                      <a:pt x="54" y="36"/>
                    </a:lnTo>
                    <a:lnTo>
                      <a:pt x="72" y="26"/>
                    </a:lnTo>
                    <a:lnTo>
                      <a:pt x="91" y="17"/>
                    </a:lnTo>
                    <a:lnTo>
                      <a:pt x="111" y="10"/>
                    </a:lnTo>
                    <a:lnTo>
                      <a:pt x="132" y="6"/>
                    </a:lnTo>
                    <a:lnTo>
                      <a:pt x="152" y="2"/>
                    </a:lnTo>
                    <a:lnTo>
                      <a:pt x="174" y="0"/>
                    </a:lnTo>
                    <a:lnTo>
                      <a:pt x="197" y="2"/>
                    </a:lnTo>
                    <a:lnTo>
                      <a:pt x="222" y="5"/>
                    </a:lnTo>
                    <a:lnTo>
                      <a:pt x="248" y="10"/>
                    </a:lnTo>
                    <a:lnTo>
                      <a:pt x="273" y="17"/>
                    </a:lnTo>
                    <a:lnTo>
                      <a:pt x="297" y="25"/>
                    </a:lnTo>
                    <a:lnTo>
                      <a:pt x="317" y="35"/>
                    </a:lnTo>
                    <a:lnTo>
                      <a:pt x="335" y="46"/>
                    </a:lnTo>
                    <a:lnTo>
                      <a:pt x="349" y="59"/>
                    </a:lnTo>
                    <a:lnTo>
                      <a:pt x="361" y="74"/>
                    </a:lnTo>
                    <a:lnTo>
                      <a:pt x="371" y="92"/>
                    </a:lnTo>
                    <a:lnTo>
                      <a:pt x="380" y="110"/>
                    </a:lnTo>
                    <a:lnTo>
                      <a:pt x="386" y="130"/>
                    </a:lnTo>
                    <a:lnTo>
                      <a:pt x="389" y="151"/>
                    </a:lnTo>
                    <a:lnTo>
                      <a:pt x="390" y="172"/>
                    </a:lnTo>
                    <a:lnTo>
                      <a:pt x="389" y="191"/>
                    </a:lnTo>
                    <a:lnTo>
                      <a:pt x="384" y="211"/>
                    </a:lnTo>
                    <a:lnTo>
                      <a:pt x="377" y="232"/>
                    </a:lnTo>
                    <a:lnTo>
                      <a:pt x="365" y="252"/>
                    </a:lnTo>
                    <a:lnTo>
                      <a:pt x="354" y="274"/>
                    </a:lnTo>
                    <a:lnTo>
                      <a:pt x="339" y="296"/>
                    </a:lnTo>
                    <a:lnTo>
                      <a:pt x="323" y="318"/>
                    </a:lnTo>
                    <a:lnTo>
                      <a:pt x="289" y="36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32400" y="3254400"/>
                <a:ext cx="147600" cy="1569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14" y="0"/>
                    </a:moveTo>
                    <a:lnTo>
                      <a:pt x="0" y="99"/>
                    </a:lnTo>
                    <a:lnTo>
                      <a:pt x="93" y="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08760" y="3295800"/>
              <a:ext cx="598320" cy="604800"/>
              <a:chOff x="6008760" y="3295800"/>
              <a:chExt cx="598320" cy="604800"/>
            </a:xfrm>
          </p:grpSpPr>
          <p:sp>
            <p:nvSpPr>
              <p:cNvPr id="695" name=""/>
              <p:cNvSpPr/>
              <p:nvPr/>
            </p:nvSpPr>
            <p:spPr>
              <a:xfrm>
                <a:off x="6008760" y="3295800"/>
                <a:ext cx="598320" cy="604800"/>
              </a:xfrm>
              <a:custGeom>
                <a:avLst/>
                <a:gdLst/>
                <a:ahLst/>
                <a:rect l="l" t="t" r="r" b="b"/>
                <a:pathLst>
                  <a:path w="377" h="381">
                    <a:moveTo>
                      <a:pt x="0" y="150"/>
                    </a:moveTo>
                    <a:lnTo>
                      <a:pt x="41" y="102"/>
                    </a:lnTo>
                    <a:lnTo>
                      <a:pt x="62" y="80"/>
                    </a:lnTo>
                    <a:lnTo>
                      <a:pt x="82" y="59"/>
                    </a:lnTo>
                    <a:lnTo>
                      <a:pt x="103" y="40"/>
                    </a:lnTo>
                    <a:lnTo>
                      <a:pt x="123" y="25"/>
                    </a:lnTo>
                    <a:lnTo>
                      <a:pt x="143" y="13"/>
                    </a:lnTo>
                    <a:lnTo>
                      <a:pt x="164" y="4"/>
                    </a:lnTo>
                    <a:lnTo>
                      <a:pt x="186" y="0"/>
                    </a:lnTo>
                    <a:lnTo>
                      <a:pt x="209" y="2"/>
                    </a:lnTo>
                    <a:lnTo>
                      <a:pt x="234" y="4"/>
                    </a:lnTo>
                    <a:lnTo>
                      <a:pt x="259" y="11"/>
                    </a:lnTo>
                    <a:lnTo>
                      <a:pt x="282" y="20"/>
                    </a:lnTo>
                    <a:lnTo>
                      <a:pt x="304" y="30"/>
                    </a:lnTo>
                    <a:lnTo>
                      <a:pt x="323" y="43"/>
                    </a:lnTo>
                    <a:lnTo>
                      <a:pt x="338" y="55"/>
                    </a:lnTo>
                    <a:lnTo>
                      <a:pt x="349" y="70"/>
                    </a:lnTo>
                    <a:lnTo>
                      <a:pt x="360" y="87"/>
                    </a:lnTo>
                    <a:lnTo>
                      <a:pt x="367" y="106"/>
                    </a:lnTo>
                    <a:lnTo>
                      <a:pt x="373" y="126"/>
                    </a:lnTo>
                    <a:lnTo>
                      <a:pt x="376" y="147"/>
                    </a:lnTo>
                    <a:lnTo>
                      <a:pt x="377" y="169"/>
                    </a:lnTo>
                    <a:lnTo>
                      <a:pt x="377" y="189"/>
                    </a:lnTo>
                    <a:lnTo>
                      <a:pt x="374" y="210"/>
                    </a:lnTo>
                    <a:lnTo>
                      <a:pt x="370" y="230"/>
                    </a:lnTo>
                    <a:lnTo>
                      <a:pt x="363" y="254"/>
                    </a:lnTo>
                    <a:lnTo>
                      <a:pt x="352" y="278"/>
                    </a:lnTo>
                    <a:lnTo>
                      <a:pt x="342" y="302"/>
                    </a:lnTo>
                    <a:lnTo>
                      <a:pt x="329" y="325"/>
                    </a:lnTo>
                    <a:lnTo>
                      <a:pt x="314" y="345"/>
                    </a:lnTo>
                    <a:lnTo>
                      <a:pt x="298" y="362"/>
                    </a:lnTo>
                    <a:lnTo>
                      <a:pt x="291" y="367"/>
                    </a:lnTo>
                    <a:lnTo>
                      <a:pt x="282" y="373"/>
                    </a:lnTo>
                    <a:lnTo>
                      <a:pt x="265" y="378"/>
                    </a:lnTo>
                    <a:lnTo>
                      <a:pt x="243" y="381"/>
                    </a:lnTo>
                    <a:lnTo>
                      <a:pt x="221" y="380"/>
                    </a:lnTo>
                    <a:lnTo>
                      <a:pt x="198" y="376"/>
                    </a:lnTo>
                    <a:lnTo>
                      <a:pt x="174" y="369"/>
                    </a:lnTo>
                    <a:lnTo>
                      <a:pt x="151" y="362"/>
                    </a:lnTo>
                    <a:lnTo>
                      <a:pt x="129" y="355"/>
                    </a:lnTo>
                    <a:lnTo>
                      <a:pt x="110" y="347"/>
                    </a:lnTo>
                    <a:lnTo>
                      <a:pt x="92" y="339"/>
                    </a:lnTo>
                    <a:lnTo>
                      <a:pt x="76" y="329"/>
                    </a:lnTo>
                    <a:lnTo>
                      <a:pt x="49" y="306"/>
                    </a:lnTo>
                    <a:lnTo>
                      <a:pt x="24" y="280"/>
                    </a:lnTo>
                    <a:lnTo>
                      <a:pt x="0" y="2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2000" y="3699000"/>
                <a:ext cx="155520" cy="15228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98" y="37"/>
                    </a:moveTo>
                    <a:lnTo>
                      <a:pt x="0" y="0"/>
                    </a:lnTo>
                    <a:lnTo>
                      <a:pt x="26" y="9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857760"/>
              <a:ext cx="790560" cy="733320"/>
              <a:chOff x="4910040" y="3857760"/>
              <a:chExt cx="790560" cy="733320"/>
            </a:xfrm>
          </p:grpSpPr>
          <p:sp>
            <p:nvSpPr>
              <p:cNvPr id="698" name=""/>
              <p:cNvSpPr/>
              <p:nvPr/>
            </p:nvSpPr>
            <p:spPr>
              <a:xfrm>
                <a:off x="4910040" y="3859200"/>
                <a:ext cx="790560" cy="731880"/>
              </a:xfrm>
              <a:custGeom>
                <a:avLst/>
                <a:gdLst/>
                <a:ahLst/>
                <a:rect l="l" t="t" r="r" b="b"/>
                <a:pathLst>
                  <a:path w="498" h="461">
                    <a:moveTo>
                      <a:pt x="181" y="0"/>
                    </a:moveTo>
                    <a:lnTo>
                      <a:pt x="124" y="37"/>
                    </a:lnTo>
                    <a:lnTo>
                      <a:pt x="98" y="55"/>
                    </a:lnTo>
                    <a:lnTo>
                      <a:pt x="73" y="74"/>
                    </a:lnTo>
                    <a:lnTo>
                      <a:pt x="50" y="94"/>
                    </a:lnTo>
                    <a:lnTo>
                      <a:pt x="32" y="116"/>
                    </a:lnTo>
                    <a:lnTo>
                      <a:pt x="18" y="138"/>
                    </a:lnTo>
                    <a:lnTo>
                      <a:pt x="8" y="163"/>
                    </a:lnTo>
                    <a:lnTo>
                      <a:pt x="2" y="190"/>
                    </a:lnTo>
                    <a:lnTo>
                      <a:pt x="0" y="222"/>
                    </a:lnTo>
                    <a:lnTo>
                      <a:pt x="2" y="255"/>
                    </a:lnTo>
                    <a:lnTo>
                      <a:pt x="8" y="289"/>
                    </a:lnTo>
                    <a:lnTo>
                      <a:pt x="16" y="323"/>
                    </a:lnTo>
                    <a:lnTo>
                      <a:pt x="29" y="353"/>
                    </a:lnTo>
                    <a:lnTo>
                      <a:pt x="44" y="381"/>
                    </a:lnTo>
                    <a:lnTo>
                      <a:pt x="53" y="393"/>
                    </a:lnTo>
                    <a:lnTo>
                      <a:pt x="62" y="403"/>
                    </a:lnTo>
                    <a:lnTo>
                      <a:pt x="72" y="411"/>
                    </a:lnTo>
                    <a:lnTo>
                      <a:pt x="85" y="419"/>
                    </a:lnTo>
                    <a:lnTo>
                      <a:pt x="114" y="434"/>
                    </a:lnTo>
                    <a:lnTo>
                      <a:pt x="146" y="445"/>
                    </a:lnTo>
                    <a:lnTo>
                      <a:pt x="183" y="455"/>
                    </a:lnTo>
                    <a:lnTo>
                      <a:pt x="219" y="460"/>
                    </a:lnTo>
                    <a:lnTo>
                      <a:pt x="254" y="461"/>
                    </a:lnTo>
                    <a:lnTo>
                      <a:pt x="288" y="459"/>
                    </a:lnTo>
                    <a:lnTo>
                      <a:pt x="317" y="453"/>
                    </a:lnTo>
                    <a:lnTo>
                      <a:pt x="330" y="449"/>
                    </a:lnTo>
                    <a:lnTo>
                      <a:pt x="345" y="442"/>
                    </a:lnTo>
                    <a:lnTo>
                      <a:pt x="358" y="434"/>
                    </a:lnTo>
                    <a:lnTo>
                      <a:pt x="371" y="425"/>
                    </a:lnTo>
                    <a:lnTo>
                      <a:pt x="397" y="404"/>
                    </a:lnTo>
                    <a:lnTo>
                      <a:pt x="422" y="378"/>
                    </a:lnTo>
                    <a:lnTo>
                      <a:pt x="446" y="352"/>
                    </a:lnTo>
                    <a:lnTo>
                      <a:pt x="465" y="325"/>
                    </a:lnTo>
                    <a:lnTo>
                      <a:pt x="481" y="299"/>
                    </a:lnTo>
                    <a:lnTo>
                      <a:pt x="491" y="274"/>
                    </a:lnTo>
                    <a:lnTo>
                      <a:pt x="497" y="251"/>
                    </a:lnTo>
                    <a:lnTo>
                      <a:pt x="498" y="227"/>
                    </a:lnTo>
                    <a:lnTo>
                      <a:pt x="495" y="203"/>
                    </a:lnTo>
                    <a:lnTo>
                      <a:pt x="489" y="178"/>
                    </a:lnTo>
                    <a:lnTo>
                      <a:pt x="481" y="155"/>
                    </a:lnTo>
                    <a:lnTo>
                      <a:pt x="470" y="133"/>
                    </a:lnTo>
                    <a:lnTo>
                      <a:pt x="459" y="112"/>
                    </a:lnTo>
                    <a:lnTo>
                      <a:pt x="446" y="94"/>
                    </a:lnTo>
                    <a:lnTo>
                      <a:pt x="432" y="78"/>
                    </a:lnTo>
                    <a:lnTo>
                      <a:pt x="416" y="64"/>
                    </a:lnTo>
                    <a:lnTo>
                      <a:pt x="397" y="51"/>
                    </a:lnTo>
                    <a:lnTo>
                      <a:pt x="378" y="40"/>
                    </a:lnTo>
                    <a:lnTo>
                      <a:pt x="336" y="19"/>
                    </a:lnTo>
                    <a:lnTo>
                      <a:pt x="291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72280" y="3857760"/>
                <a:ext cx="171360" cy="12996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0"/>
                    </a:moveTo>
                    <a:lnTo>
                      <a:pt x="0" y="1"/>
                    </a:lnTo>
                    <a:lnTo>
                      <a:pt x="66" y="8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D48A-029F-474D-A315-11AFBBD2E83F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logic specifications: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pecified by describing state space, us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sh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state space describ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d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ates written in first-order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define state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0CCD-66E2-427E-A472-ACE090319429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levator example in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3560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CB67-89B5-4FAC-AED2-C09500413B6B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308720" cy="19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B03E-7F3B-4EDE-9572-66B66AFEEA53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76197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A4A8-D77D-4C01-A8D8-47A9B3439993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43000" y="1389240"/>
            <a:ext cx="6705720" cy="48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76E9-BE9F-4280-B63C-557295468F34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4193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2C84-2519-4593-8D9F-D8CA688CEAF9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411280" y="11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z5(2)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481720" cy="58672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2F15-ECDE-4661-B4EC-966E70EB2827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pecification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, semi-formal, 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specification in terms of some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described in term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058F-46E3-4758-807D-70BF9890DB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s for the    end-us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should be used as common reference for producer and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elp removing ambiguity, incompletenes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y be understood by end-us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the starting point for a 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upport some form of animation (e.g., see Petri n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4692-2B14-4709-AC25-1F3311D29D5A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the users need from a system (requirements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of a software system (design and architectur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eatures offered by a system (functional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characteristics of a system (performanc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rnal behavior of a module (module interface specif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rnal structure of a module (internal structural specification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A616-6B9E-4FBF-9196-D399D1C4BE74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 are given via suitable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“ideal”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support communication and interaction between designers and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726F-5CDB-4F96-BF2A-D2526AB6E4F0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 of a geometric figure 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50840" y="243828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an be draw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wo points P1 and P2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tring of a certain length and fix its ends to P1 and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 pencil as show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x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ve the pen clockwise, keeping the string tightly stretched, until you reach the point where you started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0" y="556272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is an operatio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EE26-8A87-453A-B0BC-B3F9049055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C711-8146-4C50-A78C-77159D14A99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scriptiv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ometric figure E is describe by the following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x2 + by2 + 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a, b, and c are suitable consta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6F23-7ED9-4C5E-A683-776475A46B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t a be an array of n elements. Th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 of its sorting is an array b of n elements such that the first element of b is the minimum of a (if several elements of a have the same value, any one of them is acceptable); the second element of b is the minimum of the array of n-1 elements obtained from a by removing its minimum element; and so on until all n elements of a have been removed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1814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sult of sorting array a is an array b which is a permutation of a and is sort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551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4B3F-D41E-4FFC-9879-F70D21E4DC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verify a specific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” dynamic behavior of specified system (simulation, prototyping, “testing” spe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perties of the specifi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y with traditional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A2CB-7265-4E22-BEFD-CF2B8EAE310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of the term "specificatio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Data Flow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(Some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UML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tri Net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Entity 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ogic-based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ic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for modular specification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3528-3DD5-4A87-8BD7-680980804B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Diagrams (DFD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emi-formal operational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ystem viewed as collection of data manipulated by “function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be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stored i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re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represented by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FDs have a graphica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330A-74C3-42FF-AB86-79F9F1BD390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cal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bubbl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data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open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persistent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closed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I/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614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757404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454A-CFF5-4D5B-B3F8-936ACEA891C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6290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2120" y="1066680"/>
            <a:ext cx="6096240" cy="537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2920" y="2819520"/>
            <a:ext cx="33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 + b) * (c + a * d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D65D-E8EA-470A-B2C7-EC4D52650EC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048120"/>
          <a:ext cx="6345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6345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444320" y="181764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rt from the “context”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1DA8-4623-4E16-B136-4AB097AF36E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133720"/>
          <a:ext cx="5867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914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ed by refinements until you reach        “elementary” functions (preserve balanc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AD46-440E-4AF6-9583-CF6A3DBBE79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brar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027080"/>
          <a:ext cx="624852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27080"/>
                    <a:ext cx="62485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0FA4-15DE-40AE-9894-0B27E4BB76A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ine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Get a book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371600"/>
          <a:ext cx="72392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239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2668-D0C1-4068-9E0A-227B68E9CF9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ient monitoring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7400" y="121932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urpose is to monitor the patients’ vital factors--blo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sure, temperature, …--reading them at specified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analog devices and storing readings in a DB. If readings 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side the range specified for patient or device fails an ala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sent to a nurse. The system also provides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352680"/>
          <a:ext cx="6324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324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0867-AA43-4FA4-A803-75449958C2F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914400"/>
          <a:ext cx="80391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39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18AC-E161-4C68-A76D-A556ED9526A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8001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01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C3F1-46EE-4C2A-BA79-7D998432E93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ad term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at different stages of software development for different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a statement of agreement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betw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 and consumer of 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r and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desirable qualities must be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51B2-2D76-4671-A39F-5FA58F6185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read, 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fine leaf func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200400"/>
          <a:ext cx="393696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3936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03960" y="39625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rom A, B, C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or E and F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d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E74A-1056-4B40-85AB-F1D177A751B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formation is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2743200"/>
          <a:ext cx="2895480" cy="6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8954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880" y="3538440"/>
            <a:ext cx="795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interpre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duces datum, waits until B consum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an read the datum many time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ipe is inserted between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73B8-714B-4DB2-BC17-A59D649AFE1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ization/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te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 (e.g., for real-time syste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2976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5DE6-F8B6-4105-8CC0-EF6AF17201D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use-cas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unctions on basis of actors and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9560" y="2103480"/>
            <a:ext cx="6051960" cy="3882960"/>
            <a:chOff x="1339560" y="2103480"/>
            <a:chExt cx="6051960" cy="3882960"/>
          </a:xfrm>
        </p:grpSpPr>
        <p:sp>
          <p:nvSpPr>
            <p:cNvPr id="145" name=""/>
            <p:cNvSpPr/>
            <p:nvPr/>
          </p:nvSpPr>
          <p:spPr>
            <a:xfrm>
              <a:off x="1339560" y="210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40280"/>
              <a:ext cx="18756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42307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1240" y="4381560"/>
              <a:ext cx="25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6840" y="4545000"/>
              <a:ext cx="266760" cy="20016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4051440"/>
              <a:ext cx="18756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2960" y="42451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4395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8600" y="4559400"/>
              <a:ext cx="266760" cy="19980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8400" y="2765520"/>
              <a:ext cx="2428920" cy="32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3360" y="2921040"/>
              <a:ext cx="1224000" cy="80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080" y="308772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4880" y="332424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33760" y="3324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978360"/>
              <a:ext cx="1222560" cy="80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960" y="4148280"/>
              <a:ext cx="53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800" y="438768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3120" y="43876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2160" y="4976640"/>
              <a:ext cx="1222200" cy="80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1760" y="5143680"/>
              <a:ext cx="5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1760" y="5380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0600" y="5380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92520" y="3505320"/>
              <a:ext cx="836640" cy="74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0440" y="4416480"/>
              <a:ext cx="77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745160" y="3470400"/>
              <a:ext cx="1008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779720" y="4441680"/>
              <a:ext cx="9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7080" y="4676760"/>
              <a:ext cx="8985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800" y="4383000"/>
              <a:ext cx="123372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7880" y="4451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1440" y="4451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5040" y="4745160"/>
              <a:ext cx="123336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6200" y="481320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5560" y="4813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0E53-4E79-40C6-A3F1-BA78828DF64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objects interact by exchanging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dynamic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631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03AE-DF40-47BC-8AE4-6E5014C83D6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collaboration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object interactions and their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838080" y="2895480"/>
            <a:ext cx="1135368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B595-0B71-4273-B0F5-64C5209A672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te state machines (FSM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pecify control flow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" y="2971800"/>
            <a:ext cx="61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states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inputs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nsition function d : Q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 can be a partial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37479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FAC6-9FF0-40CC-B87D-2F9F3E48BD2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l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4862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1932120"/>
            <a:ext cx="51814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ABA8-40F7-41E1-9CB6-A5202C3D949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lant contr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2133720"/>
          <a:ext cx="5410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410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9929-E9D7-475C-BFA4-EADD6C1DADE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371600"/>
          <a:ext cx="662940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E1B3-D98D-4EB0-A219-6443C7BC9EC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ailures occur because of misunderstandings between the producer and the us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 hardest single part of building a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ystem is deciding precisely what to bu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(F. Broo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5DFF-B92D-401B-8A77-2D19C2E651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es of F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stic/nondetermin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final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transdu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set of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6EA4-DDCC-4319-A3A4-09EB243F5A9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5225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155000" cy="2779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8640" y="5334120"/>
            <a:ext cx="237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s a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4901-84C6-4BC6-9D5A-487E185B6CC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8465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BE9C-EE37-4FFA-BFEC-889F5BE893C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xplo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number of FSMs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…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, their composition is a FSM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…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rowth is exponential with the number of FSMs, not linear (we would like it to b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…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E6B0-24C7-4F5A-AD7D-989CEAC6F64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explosion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1371600"/>
          <a:ext cx="487512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48751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FF49-EEEE-48A3-91FE-2C790839EA9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sulting F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789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9F90-D9B7-47E4-9350-37A917F7B21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quadruple (P,T,F,W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: places  T: transitions (P, T are finit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: flow rela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                             W: weight func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: 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 – {0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perties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=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2) 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3)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)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: 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N-{0}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value of W is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fined by marking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: P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F8C6-85BD-42E9-BC4A-4F0820837F8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43000" y="914400"/>
          <a:ext cx="6172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172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219320" y="1981080"/>
            <a:ext cx="6400800" cy="4533840"/>
            <a:chOff x="1219320" y="1981080"/>
            <a:chExt cx="6400800" cy="4533840"/>
          </a:xfrm>
        </p:grpSpPr>
        <p:sp>
          <p:nvSpPr>
            <p:cNvPr id="222" name=""/>
            <p:cNvSpPr/>
            <p:nvPr/>
          </p:nvSpPr>
          <p:spPr>
            <a:xfrm>
              <a:off x="26701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32320" y="3143160"/>
              <a:ext cx="58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4491000"/>
              <a:ext cx="68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090960" y="3986280"/>
              <a:ext cx="536400" cy="458640"/>
              <a:chOff x="3090960" y="3986280"/>
              <a:chExt cx="536400" cy="45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74360" y="4307400"/>
                <a:ext cx="153000" cy="1375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90960" y="3986280"/>
                <a:ext cx="40896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07000" y="3943440"/>
              <a:ext cx="508680" cy="501120"/>
              <a:chOff x="3807000" y="3943440"/>
              <a:chExt cx="508680" cy="501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807000" y="43534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7400" y="3943440"/>
                <a:ext cx="4582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65760" y="4467240"/>
              <a:ext cx="434520" cy="410760"/>
              <a:chOff x="3065760" y="4467240"/>
              <a:chExt cx="434520" cy="41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5760" y="47638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60" h="100">
                    <a:moveTo>
                      <a:pt x="0" y="100"/>
                    </a:moveTo>
                    <a:lnTo>
                      <a:pt x="40" y="0"/>
                    </a:lnTo>
                    <a:lnTo>
                      <a:pt x="40" y="40"/>
                    </a:lnTo>
                    <a:lnTo>
                      <a:pt x="60" y="6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16520" y="4467240"/>
                <a:ext cx="383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43520" y="5106960"/>
              <a:ext cx="431280" cy="568080"/>
              <a:chOff x="3143520" y="5106960"/>
              <a:chExt cx="431280" cy="56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8080" y="5538600"/>
                <a:ext cx="126720" cy="13644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4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43520" y="5106960"/>
                <a:ext cx="329760" cy="4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63520" y="1981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39800" y="3074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2120" y="359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3160" y="266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44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440" y="4740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8080" y="51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680" y="28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30760" y="460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7960" y="209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2440" y="323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0640" y="38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79320" y="492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28880" y="52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3633840"/>
              <a:ext cx="4586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4560" y="3611520"/>
              <a:ext cx="459000" cy="40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8240" y="4911840"/>
              <a:ext cx="45864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5120" y="5697360"/>
              <a:ext cx="688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7480" y="2308320"/>
              <a:ext cx="1024560" cy="39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791" swAng="5492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791" swAng="5492822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2600" y="5100120"/>
              <a:ext cx="510840" cy="113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3" y="21599"/>
                  </a:moveTo>
                  <a:arcTo wR="10800" hR="10800" stAng="5443603" swAng="5373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3" y="21599"/>
                  </a:moveTo>
                  <a:arcTo wR="10800" hR="10800" stAng="5443603" swAng="5373408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4467240"/>
              <a:ext cx="6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749840" y="4010040"/>
              <a:ext cx="534600" cy="456840"/>
              <a:chOff x="4749840" y="4010040"/>
              <a:chExt cx="534600" cy="456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31800" y="4330800"/>
                <a:ext cx="152640" cy="1360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120" y="119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9840" y="4010040"/>
                <a:ext cx="407520" cy="36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411880" y="3943440"/>
              <a:ext cx="510840" cy="501120"/>
              <a:chOff x="5411880" y="3943440"/>
              <a:chExt cx="510840" cy="50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5411880" y="4353480"/>
                <a:ext cx="10224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462640" y="3943440"/>
                <a:ext cx="4600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438880" y="4467240"/>
              <a:ext cx="431280" cy="570960"/>
              <a:chOff x="5438880" y="4467240"/>
              <a:chExt cx="431280" cy="57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5743440" y="4901400"/>
                <a:ext cx="126720" cy="13680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2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8880" y="4467240"/>
                <a:ext cx="32976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807160" y="4935600"/>
              <a:ext cx="45900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697360"/>
              <a:ext cx="6890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9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45320" y="3143160"/>
              <a:ext cx="587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8680" y="3633840"/>
              <a:ext cx="4604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513400" y="5262480"/>
              <a:ext cx="306000" cy="388800"/>
              <a:chOff x="5513400" y="5262480"/>
              <a:chExt cx="306000" cy="388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13400" y="5445360"/>
                <a:ext cx="178560" cy="205920"/>
              </a:xfrm>
              <a:custGeom>
                <a:avLst/>
                <a:gdLst/>
                <a:ahLst/>
                <a:rect l="l" t="t" r="r" b="b"/>
                <a:pathLst>
                  <a:path w="140" h="180">
                    <a:moveTo>
                      <a:pt x="0" y="180"/>
                    </a:moveTo>
                    <a:lnTo>
                      <a:pt x="60" y="0"/>
                    </a:lnTo>
                    <a:lnTo>
                      <a:pt x="60" y="80"/>
                    </a:lnTo>
                    <a:lnTo>
                      <a:pt x="140" y="6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589720" y="5262480"/>
                <a:ext cx="22968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86040" y="2757600"/>
              <a:ext cx="127080" cy="339120"/>
              <a:chOff x="2786040" y="2757600"/>
              <a:chExt cx="127080" cy="339120"/>
            </a:xfrm>
          </p:grpSpPr>
          <p:sp>
            <p:nvSpPr>
              <p:cNvPr id="276" name=""/>
              <p:cNvSpPr/>
              <p:nvPr/>
            </p:nvSpPr>
            <p:spPr>
              <a:xfrm>
                <a:off x="2786040" y="289368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62000" y="2757600"/>
                <a:ext cx="144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86040" y="3097080"/>
              <a:ext cx="127080" cy="479520"/>
              <a:chOff x="2786040" y="3097080"/>
              <a:chExt cx="127080" cy="47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786040" y="337104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2000" y="309708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50160" y="2781360"/>
              <a:ext cx="127080" cy="361440"/>
              <a:chOff x="6050160" y="2781360"/>
              <a:chExt cx="127080" cy="36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6050160" y="294012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59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6120" y="2781360"/>
                <a:ext cx="144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050160" y="3143160"/>
              <a:ext cx="127080" cy="479520"/>
              <a:chOff x="6050160" y="3143160"/>
              <a:chExt cx="127080" cy="479520"/>
            </a:xfrm>
          </p:grpSpPr>
          <p:sp>
            <p:nvSpPr>
              <p:cNvPr id="285" name=""/>
              <p:cNvSpPr/>
              <p:nvPr/>
            </p:nvSpPr>
            <p:spPr>
              <a:xfrm>
                <a:off x="6050160" y="341712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26120" y="314316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43480" y="3965400"/>
              <a:ext cx="127080" cy="364680"/>
              <a:chOff x="4443480" y="3965400"/>
              <a:chExt cx="127080" cy="364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43480" y="3965400"/>
                <a:ext cx="127080" cy="22824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60" y="0"/>
                    </a:moveTo>
                    <a:lnTo>
                      <a:pt x="100" y="200"/>
                    </a:lnTo>
                    <a:lnTo>
                      <a:pt x="60" y="140"/>
                    </a:lnTo>
                    <a:lnTo>
                      <a:pt x="0" y="20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519800" y="4124520"/>
                <a:ext cx="1080" cy="20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6300360" y="2011320"/>
              <a:ext cx="12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07360" y="373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360" y="48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24120" y="2171520"/>
              <a:ext cx="9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9720" y="3897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7080" y="505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84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4960" y="4284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4960" y="549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30480" y="31208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6640" y="4421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66640" y="560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59400" y="2573280"/>
              <a:ext cx="2160720" cy="3941640"/>
            </a:xfrm>
            <a:custGeom>
              <a:avLst/>
              <a:gdLst/>
              <a:ahLst/>
              <a:rect l="l" t="t" r="r" b="b"/>
              <a:pathLst>
                <a:path w="1088" h="2144">
                  <a:moveTo>
                    <a:pt x="8" y="1680"/>
                  </a:moveTo>
                  <a:cubicBezTo>
                    <a:pt x="4" y="1764"/>
                    <a:pt x="0" y="1848"/>
                    <a:pt x="56" y="1920"/>
                  </a:cubicBezTo>
                  <a:cubicBezTo>
                    <a:pt x="112" y="1992"/>
                    <a:pt x="208" y="2144"/>
                    <a:pt x="344" y="2112"/>
                  </a:cubicBezTo>
                  <a:cubicBezTo>
                    <a:pt x="480" y="2080"/>
                    <a:pt x="760" y="2032"/>
                    <a:pt x="872" y="1728"/>
                  </a:cubicBezTo>
                  <a:cubicBezTo>
                    <a:pt x="984" y="1424"/>
                    <a:pt x="1088" y="576"/>
                    <a:pt x="1016" y="288"/>
                  </a:cubicBezTo>
                  <a:cubicBezTo>
                    <a:pt x="944" y="0"/>
                    <a:pt x="692" y="0"/>
                    <a:pt x="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8080" y="3984480"/>
              <a:ext cx="666720" cy="2354400"/>
            </a:xfrm>
            <a:custGeom>
              <a:avLst/>
              <a:gdLst/>
              <a:ahLst/>
              <a:rect l="l" t="t" r="r" b="b"/>
              <a:pathLst>
                <a:path w="336" h="1280">
                  <a:moveTo>
                    <a:pt x="336" y="912"/>
                  </a:moveTo>
                  <a:cubicBezTo>
                    <a:pt x="332" y="1064"/>
                    <a:pt x="328" y="1216"/>
                    <a:pt x="288" y="1248"/>
                  </a:cubicBezTo>
                  <a:cubicBezTo>
                    <a:pt x="248" y="1280"/>
                    <a:pt x="136" y="1208"/>
                    <a:pt x="96" y="1104"/>
                  </a:cubicBezTo>
                  <a:cubicBezTo>
                    <a:pt x="56" y="1000"/>
                    <a:pt x="64" y="808"/>
                    <a:pt x="48" y="624"/>
                  </a:cubicBezTo>
                  <a:cubicBezTo>
                    <a:pt x="32" y="440"/>
                    <a:pt x="16" y="2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573280"/>
              <a:ext cx="2351160" cy="3927600"/>
            </a:xfrm>
            <a:custGeom>
              <a:avLst/>
              <a:gdLst/>
              <a:ahLst/>
              <a:rect l="l" t="t" r="r" b="b"/>
              <a:pathLst>
                <a:path w="1184" h="2136">
                  <a:moveTo>
                    <a:pt x="1136" y="1680"/>
                  </a:moveTo>
                  <a:cubicBezTo>
                    <a:pt x="1160" y="1816"/>
                    <a:pt x="1184" y="1952"/>
                    <a:pt x="1088" y="2016"/>
                  </a:cubicBezTo>
                  <a:cubicBezTo>
                    <a:pt x="992" y="2080"/>
                    <a:pt x="704" y="2136"/>
                    <a:pt x="560" y="2064"/>
                  </a:cubicBezTo>
                  <a:cubicBezTo>
                    <a:pt x="416" y="1992"/>
                    <a:pt x="304" y="1856"/>
                    <a:pt x="224" y="1584"/>
                  </a:cubicBezTo>
                  <a:cubicBezTo>
                    <a:pt x="144" y="1312"/>
                    <a:pt x="0" y="696"/>
                    <a:pt x="80" y="432"/>
                  </a:cubicBezTo>
                  <a:cubicBezTo>
                    <a:pt x="160" y="168"/>
                    <a:pt x="432" y="84"/>
                    <a:pt x="7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92480" y="2286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8E33-4694-4187-8D07-752B7FB5971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: dynamic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 is enabled 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's input plac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(p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fires: produces a new marking M’ in places that are either t's input or output places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input place: M'(p) = M(p) -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output place: M'(p) = M(p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both an input and an output place:        M'(p) = M(p) - W(&lt;p,t&gt;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1CD9-93CB-48E3-8B72-07515E5A082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of the enabled transitions may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does not specify which fires, nor when it f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6837-22D3-40E4-B0DA-DFE689BC848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 of the interface between the machine and the controlled environm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rious undesirable effects can result due to misunderstandings between software engineers and domain experts about the phenomena affecting the control function to be implemented by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BCFB-F117-450A-A139-F2994EBF78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with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s represent distributed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represent actions or events that may occur when system is in a certai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occur as certain conditions hold on th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FC6C-9CA3-488B-B1BC-5043AC058A3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62120" y="609480"/>
          <a:ext cx="7983360" cy="66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83360" cy="66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267200" y="15228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(a) either (b) or (c) may occur, and then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AF49-CA00-4CD5-93C0-7239145DBB9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and the firing of one does nor prevent the other from fi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but the firing of one prevents the other from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els a  shared resource between two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icy exists to resolve conflict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fai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never get a resour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FD22-789E-4829-8969-49527F8CCFA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void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51928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559480" cy="472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56640" y="26668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s 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650C-4F50-4352-B027-58E49F9D42F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flict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7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4730760" cy="548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571440" y="201456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e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6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67652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09B0-B361-4329-8A01-EFFD2F26DA1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adlock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1291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2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C22E-5ED5-4454-81B8-F74406CD2A72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of partial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33072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9596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4992-E0A3-4885-8EF3-D10D46636A25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1066680"/>
          <a:ext cx="601992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60199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6000" y="3657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E702-9970-499A-A117-82A788CCD8CC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762120"/>
          <a:ext cx="505008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62120"/>
                    <a:ext cx="5050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624960" y="297180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net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1C9B-98F8-4ADB-9499-C5F6C7885FFB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 and 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703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40320" cy="2241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06280" y="4495680"/>
            <a:ext cx="73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 represents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 wish to say that the delivery channel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tri nets cannot specify selection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2202-D73D-4DE3-9847-2AA953D444FC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requirements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process is a chain of specification (i.e., definition)–implementation–verification step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s specific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definition of external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specification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ign 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efers to definition of the softwa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27D8-3ADF-462C-AD63-406682A417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ing values to tok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have associated predicates an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ate refers to values of tokens in input places selected for f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define values of tokens produced in output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7374-80B0-472A-938A-A546F188CDC1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34200" cy="3562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51240" y="1523880"/>
            <a:ext cx="28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2 &gt;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2 +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3 = 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5 := P2 + P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160" y="533412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ing of t1 by using &lt;3,7&gt; would produc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 10 in P4.  t2 can then fire using &lt;4,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1A95-D801-4417-8122-AC5A9606889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ior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iority function pri from transitions to natural numb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: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al transitions are enabled, only the ones with maximum priority are allowed to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ng them, the one to fire is chosen nondetermini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2353-AF8B-4496-9F2B-37AC20166690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d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air of constants &lt;tmin, tmax&gt; is associated with each transiti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e a transition is enabled, it must wait for at least tmin to elapse before it can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 enabled, it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fire before tmax has elapsed, unless it is disabled by the firing of another transition before t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0B01-90B6-4C85-9A73-FE60594634F6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priorities an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146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35940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B54F-1A94-4AEE-A706-F2173111B208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113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04160" cy="6024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51480" y="388620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5171-B3FD-4EE3-8A1B-EEE6C8001B7B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09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76200" y="304920"/>
            <a:ext cx="5310360" cy="6126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842000" y="38098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0E3D-0393-4113-AF93-D5F8543A38EA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 n elevator system to be installed in a building with m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atural language specs contain several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mal specification using PNs removes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cification will be provided in a stepwis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ll use modules, each encapsulating fragments of PNs which describe certain system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AF0B-F67C-4AE7-B025-C0BB1C1F79C9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informal spec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2762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 illumination is cancelled when the elevator visits the floor and is either moving in the desired direction, or 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2 different interpretations (case of up ca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s the elevator arrives at the floor from below (obvious restrictions for 1st and last flo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fter the elevators starts mov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 practice you may observe the two c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E24C-AF01-487C-957B-E2B15AF8355F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analysis of informal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lgorithm to decide which to service first should minimize the waiting time for both request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 other way can you satisfy either request in a short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inimizing for one may require longer for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m of both is mi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the su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BDFF-64D1-46D9-85B8-39C624CE961E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point dur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 only changes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and perfective maintenance occur because of requirements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specification must change according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6D0D-8BDF-4B4F-AA0E-C889951D5A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 sketch of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7590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5324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1523-0A0D-4570-ADE5-AFB6671C85F0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on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71560" y="1790640"/>
          <a:ext cx="582948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90640"/>
                    <a:ext cx="58294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941B-02D6-4E3E-A1AF-80C77737A2FC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ator position (sketch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28800" y="838080"/>
          <a:ext cx="529740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2974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C3C9-FA0D-469B-8A45-AF1DF4C391FD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37920" y="55785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j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30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8600" y="784080"/>
            <a:ext cx="6907320" cy="5637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200" y="2286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ecise description of elevato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0398-6DDE-4F54-9B64-AF9528210DE7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internal button o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57440"/>
          <a:ext cx="746748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57440"/>
                    <a:ext cx="746748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C82E-F085-40D4-BA3E-4FFFCE9F1141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8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external button of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1295280"/>
            <a:ext cx="6573240" cy="4344840"/>
            <a:chOff x="990720" y="1295280"/>
            <a:chExt cx="6573240" cy="4344840"/>
          </a:xfrm>
        </p:grpSpPr>
        <p:sp>
          <p:nvSpPr>
            <p:cNvPr id="389" name=""/>
            <p:cNvSpPr/>
            <p:nvPr/>
          </p:nvSpPr>
          <p:spPr>
            <a:xfrm>
              <a:off x="1398240" y="1557360"/>
              <a:ext cx="679320" cy="657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9824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9760" y="3520800"/>
              <a:ext cx="68076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2272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7440" y="28400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0" y="0"/>
                  </a:moveTo>
                  <a:lnTo>
                    <a:pt x="0" y="23"/>
                  </a:lnTo>
                  <a:lnTo>
                    <a:pt x="427" y="25"/>
                  </a:lnTo>
                  <a:lnTo>
                    <a:pt x="4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6560" y="25304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76560" y="44942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0960" y="2857320"/>
              <a:ext cx="13140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47" y="0"/>
                  </a:moveTo>
                  <a:lnTo>
                    <a:pt x="83" y="161"/>
                  </a:lnTo>
                  <a:lnTo>
                    <a:pt x="47" y="161"/>
                  </a:lnTo>
                  <a:lnTo>
                    <a:pt x="0" y="16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725480" y="3112560"/>
              <a:ext cx="2880" cy="39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0960" y="2205000"/>
              <a:ext cx="131400" cy="253800"/>
            </a:xfrm>
            <a:custGeom>
              <a:avLst/>
              <a:gdLst/>
              <a:ahLst/>
              <a:rect l="l" t="t" r="r" b="b"/>
              <a:pathLst>
                <a:path w="83" h="160">
                  <a:moveTo>
                    <a:pt x="47" y="0"/>
                  </a:moveTo>
                  <a:lnTo>
                    <a:pt x="83" y="160"/>
                  </a:lnTo>
                  <a:lnTo>
                    <a:pt x="47" y="160"/>
                  </a:lnTo>
                  <a:lnTo>
                    <a:pt x="0" y="16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725480" y="2458440"/>
              <a:ext cx="2880" cy="39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4640" y="2403360"/>
              <a:ext cx="3744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2280" y="2366640"/>
              <a:ext cx="435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2369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68840" y="5259240"/>
              <a:ext cx="62028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9560" y="5208480"/>
              <a:ext cx="1791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8840" y="5213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0440" y="5213160"/>
              <a:ext cx="22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920" y="521316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0720" y="2639880"/>
              <a:ext cx="190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1240" y="2603520"/>
              <a:ext cx="245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10520" y="2608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3560" y="2608200"/>
              <a:ext cx="4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60280" y="4186080"/>
              <a:ext cx="207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80800" y="4149720"/>
              <a:ext cx="2840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9360" y="41544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8040" y="1330200"/>
              <a:ext cx="261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5680" y="1295280"/>
              <a:ext cx="323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4240" y="1298520"/>
              <a:ext cx="22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9400" y="4295520"/>
              <a:ext cx="3376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6680" y="4259160"/>
              <a:ext cx="398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6680" y="42624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0560" y="4295520"/>
              <a:ext cx="339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19640" y="4259160"/>
              <a:ext cx="37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20360" y="4262400"/>
              <a:ext cx="28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76480" y="3477960"/>
              <a:ext cx="245880" cy="198720"/>
            </a:xfrm>
            <a:custGeom>
              <a:avLst/>
              <a:gdLst/>
              <a:ahLst/>
              <a:rect l="l" t="t" r="r" b="b"/>
              <a:pathLst>
                <a:path w="155" h="125">
                  <a:moveTo>
                    <a:pt x="0" y="125"/>
                  </a:moveTo>
                  <a:lnTo>
                    <a:pt x="120" y="0"/>
                  </a:lnTo>
                  <a:lnTo>
                    <a:pt x="131" y="33"/>
                  </a:lnTo>
                  <a:lnTo>
                    <a:pt x="155" y="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984560" y="3020760"/>
              <a:ext cx="80928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4200" y="2857320"/>
              <a:ext cx="26460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0" y="0"/>
                  </a:moveTo>
                  <a:lnTo>
                    <a:pt x="167" y="34"/>
                  </a:lnTo>
                  <a:lnTo>
                    <a:pt x="142" y="69"/>
                  </a:lnTo>
                  <a:lnTo>
                    <a:pt x="12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200" y="2966400"/>
              <a:ext cx="960120" cy="54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67480" y="4003560"/>
              <a:ext cx="244080" cy="2188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154" y="0"/>
                  </a:moveTo>
                  <a:lnTo>
                    <a:pt x="60" y="138"/>
                  </a:lnTo>
                  <a:lnTo>
                    <a:pt x="35" y="103"/>
                  </a:lnTo>
                  <a:lnTo>
                    <a:pt x="0" y="8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793840" y="4167000"/>
              <a:ext cx="828360" cy="820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2120" y="4624200"/>
              <a:ext cx="261720" cy="1983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65" y="125"/>
                  </a:moveTo>
                  <a:lnTo>
                    <a:pt x="0" y="80"/>
                  </a:lnTo>
                  <a:lnTo>
                    <a:pt x="23" y="45"/>
                  </a:lnTo>
                  <a:lnTo>
                    <a:pt x="35" y="0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606560" y="4166640"/>
              <a:ext cx="9615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895400" y="2695320"/>
              <a:ext cx="1080" cy="16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8954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3360" y="2205000"/>
              <a:ext cx="423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20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5440" y="3240000"/>
              <a:ext cx="131400" cy="27288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7" y="172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83" y="0"/>
                  </a:lnTo>
                  <a:lnTo>
                    <a:pt x="47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9960" y="2695320"/>
              <a:ext cx="2880" cy="54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95400" y="4167000"/>
              <a:ext cx="26316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166" y="46"/>
                  </a:lnTo>
                  <a:lnTo>
                    <a:pt x="142" y="81"/>
                  </a:lnTo>
                  <a:lnTo>
                    <a:pt x="12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0760" y="4295520"/>
              <a:ext cx="1130040" cy="69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2120" y="4913280"/>
              <a:ext cx="261720" cy="12852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165" y="47"/>
                  </a:moveTo>
                  <a:lnTo>
                    <a:pt x="0" y="8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1160" y="4987800"/>
              <a:ext cx="228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03360" y="3841560"/>
              <a:ext cx="1694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0000" y="1457280"/>
              <a:ext cx="5763960" cy="4182840"/>
              <a:chOff x="1800000" y="1457280"/>
              <a:chExt cx="5763960" cy="4182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0000" y="2857320"/>
                <a:ext cx="169920" cy="255600"/>
              </a:xfrm>
              <a:custGeom>
                <a:avLst/>
                <a:gdLst/>
                <a:ahLst/>
                <a:rect l="l" t="t" r="r" b="b"/>
                <a:pathLst>
                  <a:path w="107" h="161">
                    <a:moveTo>
                      <a:pt x="0" y="0"/>
                    </a:moveTo>
                    <a:lnTo>
                      <a:pt x="107" y="127"/>
                    </a:lnTo>
                    <a:lnTo>
                      <a:pt x="71" y="138"/>
                    </a:lnTo>
                    <a:lnTo>
                      <a:pt x="36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912680" y="3076200"/>
                <a:ext cx="395280" cy="765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65160" y="1549080"/>
                <a:ext cx="338040" cy="3764160"/>
              </a:xfrm>
              <a:custGeom>
                <a:avLst/>
                <a:gdLst/>
                <a:ahLst/>
                <a:rect l="l" t="t" r="r" b="b"/>
                <a:pathLst>
                  <a:path w="213" h="2371">
                    <a:moveTo>
                      <a:pt x="213" y="0"/>
                    </a:moveTo>
                    <a:lnTo>
                      <a:pt x="0" y="205"/>
                    </a:lnTo>
                    <a:lnTo>
                      <a:pt x="0" y="237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65160" y="1549080"/>
                <a:ext cx="3898800" cy="4091040"/>
              </a:xfrm>
              <a:custGeom>
                <a:avLst/>
                <a:gdLst/>
                <a:ahLst/>
                <a:rect l="l" t="t" r="r" b="b"/>
                <a:pathLst>
                  <a:path w="2456" h="2577">
                    <a:moveTo>
                      <a:pt x="0" y="2371"/>
                    </a:moveTo>
                    <a:lnTo>
                      <a:pt x="213" y="2577"/>
                    </a:lnTo>
                    <a:lnTo>
                      <a:pt x="2242" y="2577"/>
                    </a:lnTo>
                    <a:lnTo>
                      <a:pt x="2349" y="2475"/>
                    </a:lnTo>
                    <a:lnTo>
                      <a:pt x="2456" y="2371"/>
                    </a:lnTo>
                    <a:lnTo>
                      <a:pt x="2456" y="205"/>
                    </a:lnTo>
                    <a:lnTo>
                      <a:pt x="2242" y="0"/>
                    </a:lnTo>
                    <a:lnTo>
                      <a:pt x="2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68440" y="1493640"/>
                <a:ext cx="39672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8960" y="1457280"/>
                <a:ext cx="4730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7160" y="1460520"/>
                <a:ext cx="351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UPj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173880" y="54864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time nee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 to enter + pushing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3C89-BD4D-4569-B7BE-D8D203E27672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672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150920" y="3135240"/>
          <a:ext cx="689616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3135240"/>
                    <a:ext cx="689616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1160" y="121932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“fair”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ep the direction unchanged as long as ther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 that require elevator to go in tha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840" y="33400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26680" y="31561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25760" y="2638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4560" y="51530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720" y="576252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7, t8, t9 have higher priority than t10, t11,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DE4B-E49B-48E2-AF4F-9C5F21F8D1D6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eneral schedu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37306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14920" cy="2467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" y="4038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h transition has predicate OK(Sched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 in SCHEDULER stores information about the state of the system that is useful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eduling transi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f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ken is “permanent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odu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the firing of any tran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D535-2467-4624-92B9-771D13DCCE65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larative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diagrams: semiformal spe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70CE-5016-4584-8D52-706EF7805073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used as a complement to DFD to describe conceptual data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entities, relationships,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he ancestors of class diagrams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B537-699B-4401-8076-2476B4DBC935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, clear, un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CBB5-041A-437C-ACCB-D52545AD1F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00400" y="1981080"/>
          <a:ext cx="240048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240048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2203-4EC5-428A-A14A-E08D6E998C1E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par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annotated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3200400"/>
          <a:ext cx="4572000" cy="294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00400"/>
                    <a:ext cx="4572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B5EF-247A-4C78-9418-A8C3627644FC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 binary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62120" y="2057400"/>
          <a:ext cx="7429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429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9A8D-AC1A-4F22-85A4-C242FB38A277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amples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-order theory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y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= y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, y, z (x &gt; y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+ 1 &lt; x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(y = x + z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3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lt;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7097-DCF8-419D-80DC-8E2A68FC1E11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omplet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ert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,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P is specified as a formula of th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610640" y="3048120"/>
            <a:ext cx="6246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re (i1, i2,..., in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ost (o1, o2,..., om, i1, i2,..., in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6000" y="51814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: pre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: post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3237-5F77-4E74-8BAB-9BA7050DF9D0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o compute greatest common di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3125880"/>
            <a:ext cx="73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i1 &gt; 0 and i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(exists z1, z2 (i1 = o *  z1 and i2 = o * z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not (exists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xists z1, z2 (i1 = h * z1 and i2 = h * z2) and h &gt; o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A706-7863-4A89-B5F6-4E3A5EE221AF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917640" y="2057400"/>
            <a:ext cx="753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} -- n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search (table: in integer_array; n: i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: in integer; found: out Boole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un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ists i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 and table (i) = element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5120" y="4114800"/>
            <a:ext cx="77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reverse (a: in out integer_array; n: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r all i (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) implies (a (i) 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n - i +1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C810-7F91-43CA-9985-6FF80E81A2E7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predicates and pre/post conditions for ea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invariant specifying an array implementing AD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862920" y="4191120"/>
            <a:ext cx="75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i, j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 IMPL[i]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 duplicates are st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F7FE-A38D-4BAF-A23D-B080C62BD832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non-terminating behav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ducer+consumer+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specifies that whatever has been produced is the concatenation of what has been taken from the buffer and what is kept in the 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969840" y="46483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_sequence = append (output_sequ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(CHAR_BUFF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683E-C25F-4109-A62E-AB37BC4CB885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-study using 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outline the elevat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t (E, F,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is at floor F at time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 (E, F, T, u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left floor F at time T moving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t (E, F, T) and on (EB,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) and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&gt; F) implies start (E, F, T,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B5CF-88FF-49F1-9400-487B1693C64B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r, unambiguous, understan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100160" y="2819520"/>
            <a:ext cx="7495920" cy="2654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ng is the process of design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s of the document that you w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 on. Most editing and 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 require two steps: first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what you want to work 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h as text or graphics; t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te the appropriate action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520" y="57150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n area be scatt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CAA5-F8CA-4CBF-BC99-9C9BAA7933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 are partitioned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, having non-null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ing(E, F, T1, T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closed at left, open at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aneous (caused state change occurs at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predicates that hold only at a particular time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d (E, F, 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implicity, 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decis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ultaneou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4472-36D1-49E8-8EB5-ABBE27D20F21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rrival (E, F, T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(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nitial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oes not say if it will stop or will proceed, nor where it come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eparture(E, F, D, T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D in {up, down}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op (E, F, T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 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pecifies stop to serve an internal or external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E4EE-D55D-413E-829F-353CD26A53D1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w_list (E, L, 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 in [1..n], L in [1.. m]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 is the list of floors to visit associated with elevator (scheduling is performed by the control component of th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ll(F, D, T)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xternal call  (with restriction for 1,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est(E, F, T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l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2556-E5BE-4F2D-98E0-A72624F7E22A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(E, F, D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ing (E, F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(E, L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mplicitly assume that state predicates hold for any sub- interval (i.e., the rules that describe this are assumed to be automatically ad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prevents that it holds for larger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35A7-21AC-4370-9019-83707C6A2760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les relating events an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-74880" y="1744560"/>
            <a:ext cx="9522360" cy="1607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When E arrives at floor F, it continues to move if the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 request for service from F and the list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floor to serve is higher, it moves upw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therwise it moves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208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3960" y="3387600"/>
            <a:ext cx="31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600" y="5638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rule describes downward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0E4C-4003-4873-A403-2B9C16146244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17440" y="452520"/>
            <a:ext cx="8575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2: Upon arrival at F, E stops if F must be serviced (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ppears as first of th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39160" y="1440000"/>
            <a:ext cx="2803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5480" y="3657600"/>
            <a:ext cx="7993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3: E stops at F if it gets there with an empt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343400"/>
            <a:ext cx="5730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8D35-F85C-4C0E-B7DF-2AA9B26ADD9B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258480" y="297000"/>
            <a:ext cx="993384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4: Assume that elevators have a fixed time to service a fl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list is not empty at the end of such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levator leaves the flo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3040" y="1523880"/>
            <a:ext cx="379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35440" y="3657600"/>
            <a:ext cx="9424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5: If the elevator has no floors to service, it stops until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st becomes non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7840" y="4495680"/>
            <a:ext cx="635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40FB-0B16-4281-870B-CA109D0CA867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-82800" y="1058760"/>
            <a:ext cx="95180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6: Assume that the time to move from on floo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xt is known and fixed. The rule describes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48880" y="20494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 + 1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11960" y="3809880"/>
            <a:ext cx="9612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7: The event of stopping initiates standing for at least 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4000" y="4495680"/>
            <a:ext cx="341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, T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8AA9-E8C3-466A-AD54-057098A1798F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14480" y="677880"/>
            <a:ext cx="95572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8: At the end of the minimum stop interval Dts, E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nding if there are no floors to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99480" y="1557360"/>
            <a:ext cx="338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4840" y="3657600"/>
            <a:ext cx="5448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9: Departure cause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91280" y="425916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D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oving (E, F, D, T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EF59-E37E-4899-B680-5DC8D6ED7288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87000" y="1744560"/>
            <a:ext cx="84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the scheduling strategy (by describing “new_li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nd “lis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quests are inserted in the list from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r to top if the elevator is mov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alls are inserted in the list of the closest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 moving in the correct direction, or in a sta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D423-EA1C-43E2-90F1-4EDEF0DC7D7D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06:23Z</dcterms:created>
  <dc:creator>Carlo Ghezzi</dc:creator>
  <dc:description/>
  <dc:language>en-US</dc:language>
  <cp:lastModifiedBy>jazayeri</cp:lastModifiedBy>
  <dcterms:modified xsi:type="dcterms:W3CDTF">2002-02-20T10:06:32Z</dcterms:modified>
  <cp:revision>18</cp:revision>
  <dc:subject/>
  <dc:title>Specification</dc:title>
</cp:coreProperties>
</file>