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366A-1C36-4E14-8B05-767209026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C1D1-680D-438F-95EA-F30BB2E5D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423B-7DDB-4882-AD06-815C048DB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C246-1A12-4ACD-AD0E-7558E08A6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D12F-9581-43F4-A0DE-A1F940D1A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2CAE-963F-4E1D-A7AE-DE38F32BF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6745-DA68-4137-9C2E-0AF8F02BB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2540-97E6-413E-9167-218DF4F17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2650-A0F9-4A4F-B88B-50CDC8BB7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D1FE-D6D7-4C2F-9CC7-3443781A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253A-71FF-463B-B931-713CD354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F092-C5DF-4ABD-9A4E-403B2C96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8DDDD-C21F-4E2A-AA16-932284052A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-380880" y="1523880"/>
          <a:ext cx="11658600" cy="354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1523880"/>
                    <a:ext cx="11658600" cy="35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46Z</dcterms:modified>
  <cp:revision>2</cp:revision>
  <dc:subject/>
  <dc:title>PowerPoint Presentation</dc:title>
</cp:coreProperties>
</file>