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00E9-9F08-48D0-8C9B-722EF7DCD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C700-C1C3-46E5-9F63-FEA93B960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432F-AA8D-491D-99F7-699B78F74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C319-E144-45F4-8D52-A09C2063C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9973-BA0F-41AD-89CF-11585382D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3FF4-BE23-4CC5-A85A-A95633C58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A174-335F-4B32-9994-36ACA4639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C10A-59DC-4C6B-88DB-324F98BD7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37A1-5896-4937-BD44-C1F61DD18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0A5D-88A0-4F00-B210-B5B21AD4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3D66-1D55-4328-995E-735AC1AF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DBD3-723B-419C-A775-3B974755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76EBF-7A24-4A48-8455-741508CACF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3:25Z</dcterms:modified>
  <cp:revision>6</cp:revision>
  <dc:subject/>
  <dc:title>PowerPoint Presentation</dc:title>
</cp:coreProperties>
</file>