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4149-6BC5-4A9B-94C9-AAD8762A3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461F-D926-4D0F-A8BF-345248B65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FAE4-7273-439F-B77E-C73089BF2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68E5-35A4-4A16-98FA-351B73E92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E77F-03C1-4E7D-A46B-195988549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4A75-F092-4257-B7DA-ED5D6E5DA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79F1-754A-4375-A9ED-33F787ADB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65EC-BE2D-41E8-9B98-6FF7D6CAB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6AF4-0B6B-48A4-B323-4C9F05FF7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9446-422B-4031-8DAF-271482973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D456-5357-4754-BAA1-160901B99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BD5A-51CD-4919-880A-5868DA279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8E4DC-1565-403B-B8B6-52E866D48E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69720" y="3397320"/>
          <a:ext cx="5578560" cy="276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9720" y="3397320"/>
                    <a:ext cx="5578560" cy="27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 flipH="1">
            <a:off x="7314840" y="3568680"/>
            <a:ext cx="12600" cy="237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892840" y="4749840"/>
            <a:ext cx="29210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277040" y="46735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048440" y="46609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6438960" y="4673520"/>
            <a:ext cx="114120" cy="1144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92840" y="4673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505640" y="46609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102520" y="468648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724960" y="46609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64440" y="4889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77040" y="52196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264440" y="574056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251840" y="440676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277040" y="39751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277040" y="35942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30920" y="43052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81760" y="378468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759800" y="5105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56680" y="5816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67560" y="518148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956200" y="572760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051760" y="416556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458200" y="36194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595920" y="5430960"/>
            <a:ext cx="90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x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147160" y="4795920"/>
            <a:ext cx="9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y =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04:21:28Z</dcterms:created>
  <dc:creator>Spencer Smith</dc:creator>
  <dc:description/>
  <dc:language>en-US</dc:language>
  <cp:lastModifiedBy>Spencer Smith</cp:lastModifiedBy>
  <dcterms:modified xsi:type="dcterms:W3CDTF">2008-03-28T04:22:58Z</dcterms:modified>
  <cp:revision>1</cp:revision>
  <dc:subject/>
  <dc:title>PowerPoint Presentation</dc:title>
</cp:coreProperties>
</file>