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16DD5-76B9-4DD0-AED4-761238A220F6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he logarithmic model is not def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: it is late: wrong order of the folowing slides: f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24674-9C8A-4F63-93F4-6181992F5058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8563D-5DAC-453B-9309-E077EF7D9754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4E6E7-84EB-435B-B5DC-7144D86A2F76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03422-2F52-4228-A2CD-9C1CDFB8FB8A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3826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114800"/>
            <a:ext cx="5486400" cy="450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Wrt </a:t>
            </a:r>
            <a:r>
              <a:rPr b="0" lang="it-IT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w.r.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901A-5464-436A-AFBF-8859EFF26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E850-91EE-42E1-81DD-D97D8B8EB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4A26-2C92-40B0-B79B-34ADC2F4C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946F-4B6F-474F-BD7F-D17C11F68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3EBC-8989-466E-957E-19D2493B2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591B-EA4E-4579-9CC6-988E29736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ED53-6343-42BD-8B3E-602D975F7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5533-DEF5-4ACF-AEE1-B6B007EB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009F-2326-4DFA-B489-C39FC5759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44DE-556B-43F4-8031-7BBF4599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3DCA-0B34-42C1-8C81-28C8AA84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A499-C58C-47BC-8EC6-7F1BA50D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3F1C4-AA8A-4318-B479-54601CE48E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FD3B-0FFF-4F18-850D-179852DA33E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help isolate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facilitate debug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repea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ing the same experiment, we should get the same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may not be true because of the effect of execution environment on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cause of nondetermi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accu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00B4-7D17-4714-880D-A8BFF8F94E1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182880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553080" cy="481500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1062720" y="380880"/>
            <a:ext cx="69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SM representing markings of a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F199-5C0B-445F-988E-A7695459DD79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4348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5943600" cy="530532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2803680" y="380880"/>
            <a:ext cx="311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riginal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14CD-23B0-44EC-AAE9-8F69192FD65E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and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operty to be verified given through a formula (in temporal log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, one can pro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always a computation that allows the left process to enter the critical reg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no guarantee that the left process accesses the shared resource unless it already owns 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9A42-3B1D-4E54-8294-B22371AC3544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o many approaches to testing and analysi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versus (correctness)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mal versus informal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-box versus black-box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iques in the small/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ully automatic vs. semiautomatic techniques (for undecidable properti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iew all these as complement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D0F0-3CB2-421A-8E6D-145116BC3F87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tivity of locating and correctin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t can start once a failure has been detect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goal is closing up the gap between a fault and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 dumps, watch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assertions can hel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A965-1079-40C3-92E1-8B76C5F83FC8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other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C702-FD37-4F80-9B1C-53B4FF28DDF7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rst case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is on proving that the system response time is bounded by some function of the external reques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s. average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ndard devi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tical vs. experimental approach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D482-97EE-4F2F-9946-AE69D461ABF5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approach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measuring reliability on a probabilistic basis, as in other engineering fie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nfortunately there are some difficulties with this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ependence of failures does not hold for softwar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0096-8180-4EAA-BA2A-48E79052ADE1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liability is concerned with measuring the probability of the occurrence of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aningful parameters includ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total number of failures observed at time t: AF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 intensity: FI(t)=AF'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 time to failure at time t: MTTF(t)=1/FI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in the model can be execution or clock or calendar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B239-59B1-4320-B07E-3EBEC4355CC7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sic reliabil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that the decrement per failure experienced (i.e., the derivative with respect to the number of detected failures) of the failure intensity function is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.e., FI is a function of A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1 - AF/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initial failure intensity and 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total number of fail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el is based on optimistic hypothesi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a decrease in failures is due to the fixing of the errors that were sources of fail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252F-469D-4642-BEBC-406414E2C90B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oretical foundation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f test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2592-6F47-4488-A607-7E6DF61728C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arithmic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umes, more conservatively, that the decrement per failure of FI decreases exponenti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xp (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F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failure intensity decay paramet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6A6F-CCA4-4633-B7B6-183D2CA63A7F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278136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1766880" y="1117440"/>
            <a:ext cx="125280" cy="5356440"/>
            <a:chOff x="1766880" y="1117440"/>
            <a:chExt cx="125280" cy="5356440"/>
          </a:xfrm>
        </p:grpSpPr>
        <p:sp>
          <p:nvSpPr>
            <p:cNvPr id="735" name=""/>
            <p:cNvSpPr/>
            <p:nvPr/>
          </p:nvSpPr>
          <p:spPr>
            <a:xfrm>
              <a:off x="1766880" y="1117440"/>
              <a:ext cx="125280" cy="252720"/>
            </a:xfrm>
            <a:custGeom>
              <a:avLst/>
              <a:gdLst/>
              <a:ahLst/>
              <a:rect l="l" t="t" r="r" b="b"/>
              <a:pathLst>
                <a:path w="79" h="159">
                  <a:moveTo>
                    <a:pt x="45" y="0"/>
                  </a:moveTo>
                  <a:lnTo>
                    <a:pt x="79" y="159"/>
                  </a:lnTo>
                  <a:lnTo>
                    <a:pt x="45" y="159"/>
                  </a:lnTo>
                  <a:lnTo>
                    <a:pt x="0" y="159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838160" y="1370160"/>
              <a:ext cx="1800" cy="5103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1027080" y="5427720"/>
            <a:ext cx="6005520" cy="127080"/>
            <a:chOff x="1027080" y="5427720"/>
            <a:chExt cx="6005520" cy="127080"/>
          </a:xfrm>
        </p:grpSpPr>
        <p:sp>
          <p:nvSpPr>
            <p:cNvPr id="738" name=""/>
            <p:cNvSpPr/>
            <p:nvPr/>
          </p:nvSpPr>
          <p:spPr>
            <a:xfrm>
              <a:off x="6762600" y="5427720"/>
              <a:ext cx="270000" cy="127080"/>
            </a:xfrm>
            <a:custGeom>
              <a:avLst/>
              <a:gdLst/>
              <a:ahLst/>
              <a:rect l="l" t="t" r="r" b="b"/>
              <a:pathLst>
                <a:path w="170" h="80">
                  <a:moveTo>
                    <a:pt x="170" y="46"/>
                  </a:moveTo>
                  <a:lnTo>
                    <a:pt x="0" y="80"/>
                  </a:lnTo>
                  <a:lnTo>
                    <a:pt x="0" y="46"/>
                  </a:lnTo>
                  <a:lnTo>
                    <a:pt x="0" y="0"/>
                  </a:lnTo>
                  <a:lnTo>
                    <a:pt x="17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1027080" y="5500800"/>
              <a:ext cx="57355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1838160" y="2903400"/>
            <a:ext cx="3895920" cy="25974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838160" y="2903400"/>
            <a:ext cx="325440" cy="1785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404720" y="1227240"/>
            <a:ext cx="226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412040" y="528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197800" y="4707000"/>
            <a:ext cx="13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243080" y="2633760"/>
            <a:ext cx="4078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788080" y="555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17040" y="560880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073680" y="3516480"/>
            <a:ext cx="1387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506200" y="4653000"/>
            <a:ext cx="2081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ogarithm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786040" y="194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828800" y="2895480"/>
            <a:ext cx="4724280" cy="2210040"/>
          </a:xfrm>
          <a:custGeom>
            <a:avLst/>
            <a:gdLst/>
            <a:ahLst/>
            <a:rect l="l" t="t" r="r" b="b"/>
            <a:pathLst>
              <a:path w="2976" h="1392">
                <a:moveTo>
                  <a:pt x="0" y="0"/>
                </a:moveTo>
                <a:cubicBezTo>
                  <a:pt x="32" y="136"/>
                  <a:pt x="64" y="272"/>
                  <a:pt x="96" y="384"/>
                </a:cubicBezTo>
                <a:cubicBezTo>
                  <a:pt x="128" y="496"/>
                  <a:pt x="144" y="576"/>
                  <a:pt x="192" y="672"/>
                </a:cubicBezTo>
                <a:cubicBezTo>
                  <a:pt x="240" y="768"/>
                  <a:pt x="256" y="872"/>
                  <a:pt x="384" y="960"/>
                </a:cubicBezTo>
                <a:cubicBezTo>
                  <a:pt x="512" y="1048"/>
                  <a:pt x="696" y="1136"/>
                  <a:pt x="960" y="1200"/>
                </a:cubicBezTo>
                <a:cubicBezTo>
                  <a:pt x="1224" y="1264"/>
                  <a:pt x="1632" y="1312"/>
                  <a:pt x="1968" y="1344"/>
                </a:cubicBezTo>
                <a:cubicBezTo>
                  <a:pt x="2304" y="1376"/>
                  <a:pt x="2640" y="1384"/>
                  <a:pt x="2976" y="139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FFF4-AD98-4FBC-8164-E2B8EDDA1812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"/>
          <p:cNvGrpSpPr/>
          <p:nvPr/>
        </p:nvGrpSpPr>
        <p:grpSpPr>
          <a:xfrm>
            <a:off x="2104920" y="1359000"/>
            <a:ext cx="115920" cy="4944960"/>
            <a:chOff x="2104920" y="1359000"/>
            <a:chExt cx="115920" cy="4944960"/>
          </a:xfrm>
        </p:grpSpPr>
        <p:sp>
          <p:nvSpPr>
            <p:cNvPr id="754" name=""/>
            <p:cNvSpPr/>
            <p:nvPr/>
          </p:nvSpPr>
          <p:spPr>
            <a:xfrm>
              <a:off x="2104920" y="1359000"/>
              <a:ext cx="115920" cy="233280"/>
            </a:xfrm>
            <a:custGeom>
              <a:avLst/>
              <a:gdLst/>
              <a:ahLst/>
              <a:rect l="l" t="t" r="r" b="b"/>
              <a:pathLst>
                <a:path w="73" h="147">
                  <a:moveTo>
                    <a:pt x="42" y="0"/>
                  </a:moveTo>
                  <a:lnTo>
                    <a:pt x="73" y="147"/>
                  </a:lnTo>
                  <a:lnTo>
                    <a:pt x="42" y="147"/>
                  </a:lnTo>
                  <a:lnTo>
                    <a:pt x="0" y="14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171880" y="1592280"/>
              <a:ext cx="1440" cy="4711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1420560" y="5337000"/>
            <a:ext cx="5550120" cy="133560"/>
            <a:chOff x="1420560" y="5337000"/>
            <a:chExt cx="5550120" cy="133560"/>
          </a:xfrm>
        </p:grpSpPr>
        <p:sp>
          <p:nvSpPr>
            <p:cNvPr id="757" name=""/>
            <p:cNvSpPr/>
            <p:nvPr/>
          </p:nvSpPr>
          <p:spPr>
            <a:xfrm>
              <a:off x="6719760" y="5337000"/>
              <a:ext cx="250920" cy="133560"/>
            </a:xfrm>
            <a:custGeom>
              <a:avLst/>
              <a:gdLst/>
              <a:ahLst/>
              <a:rect l="l" t="t" r="r" b="b"/>
              <a:pathLst>
                <a:path w="158" h="84">
                  <a:moveTo>
                    <a:pt x="158" y="42"/>
                  </a:moveTo>
                  <a:lnTo>
                    <a:pt x="0" y="84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1420560" y="5403960"/>
              <a:ext cx="5298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2171880" y="3006720"/>
            <a:ext cx="53989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2179800" y="3465360"/>
            <a:ext cx="6448320" cy="3597120"/>
            <a:chOff x="2179800" y="3465360"/>
            <a:chExt cx="6448320" cy="3597120"/>
          </a:xfrm>
        </p:grpSpPr>
        <p:sp>
          <p:nvSpPr>
            <p:cNvPr id="761" name=""/>
            <p:cNvSpPr/>
            <p:nvPr/>
          </p:nvSpPr>
          <p:spPr>
            <a:xfrm>
              <a:off x="2179800" y="3763800"/>
              <a:ext cx="2399400" cy="32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38"/>
                  </a:moveTo>
                  <a:arcTo wR="10800" hR="10800" stAng="-10780269" swAng="53576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38"/>
                  </a:moveTo>
                  <a:arcTo wR="10800" hR="10800" stAng="-10780269" swAng="535765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630520" y="3465360"/>
              <a:ext cx="5997600" cy="14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62"/>
                  </a:moveTo>
                  <a:arcTo wR="10800" hR="10800" stAng="-10756175" swAng="53453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62"/>
                  </a:moveTo>
                  <a:arcTo wR="10800" hR="10800" stAng="-10756175" swAng="534537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1754280" y="115884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604880" y="27576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815120" y="290664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103880" y="51703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513040" y="3556080"/>
            <a:ext cx="1442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198520" y="2569680"/>
            <a:ext cx="3768840" cy="569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64"/>
                </a:moveTo>
                <a:arcTo wR="10800" hR="10800" stAng="-10788446" swAng="2690683"/>
                <a:lnTo>
                  <a:pt x="10800" y="10800"/>
                </a:lnTo>
                <a:close/>
              </a:path>
              <a:path fill="none" w="21600" h="21600">
                <a:moveTo>
                  <a:pt x="0" y="10764"/>
                </a:moveTo>
                <a:arcTo wR="10800" hR="10800" stAng="-10788446" swAng="269068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661720" y="1608120"/>
            <a:ext cx="149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eneva"/>
              </a:rPr>
              <a:t>Logarithm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690880" y="182556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743200" y="2438280"/>
            <a:ext cx="2743200" cy="990720"/>
          </a:xfrm>
          <a:custGeom>
            <a:avLst/>
            <a:gdLst/>
            <a:ahLst/>
            <a:rect l="l" t="t" r="r" b="b"/>
            <a:pathLst>
              <a:path w="1728" h="624">
                <a:moveTo>
                  <a:pt x="0" y="624"/>
                </a:moveTo>
                <a:cubicBezTo>
                  <a:pt x="28" y="576"/>
                  <a:pt x="56" y="528"/>
                  <a:pt x="96" y="480"/>
                </a:cubicBezTo>
                <a:cubicBezTo>
                  <a:pt x="136" y="432"/>
                  <a:pt x="168" y="384"/>
                  <a:pt x="240" y="336"/>
                </a:cubicBezTo>
                <a:cubicBezTo>
                  <a:pt x="312" y="288"/>
                  <a:pt x="400" y="232"/>
                  <a:pt x="528" y="192"/>
                </a:cubicBezTo>
                <a:cubicBezTo>
                  <a:pt x="656" y="152"/>
                  <a:pt x="808" y="128"/>
                  <a:pt x="1008" y="96"/>
                </a:cubicBezTo>
                <a:cubicBezTo>
                  <a:pt x="1208" y="64"/>
                  <a:pt x="1608" y="1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5BFE-E08E-4A4B-83E0-F668F8E339F9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ubjective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notions lik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city, reusability, understandabi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science (due to Halstead) has been an attem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B65C-3DD7-47A9-82AB-423A0BC50692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lstead's software scienc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es to measure some software qualities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on level, effort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easuring some quantities on code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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, number of distinct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distinct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occurrences of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occurrences of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196B-79C1-4A27-AA20-58909D571DF4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cCabe's source code metri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yclomatic complexity of the control grap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 = e - n + 2 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 is # edges, n is # nodes, p is # connected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cCabe contends that well-structured modules have C in range 3 .. 7, and C = 10 is a reasonable upper limit for the complexity of a single modu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firmed by empirical evid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FB72-C305-47E0-BD15-1896ECFEDF2E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-question-metric (GQM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m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metrics must be used to analyze software qualities, not to evaluate peo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quality evaluation must be of end product, intermediate products,  and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 must be defined in the context of a complete and well-designed quality improvement paradigm (Q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767C-7D0A-430E-96EA-6E60D19B3404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Q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 concerned with measuring a single quantity or group of qua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yclomatic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method that is intended to lead from a precise definition of the objectives of measuring qual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a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to the quant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whose measures are used to verify the achievement of such qualities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6394-6B5A-4270-9539-43B3E48A92D0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etho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goal precisely—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information system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th the purpose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stimating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point of view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context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 major software hou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suitable set o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questi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imed at achieving the stated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 a precis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with every question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E331-1FA1-4267-9EFC-7BCD296D5124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 (program), D (input domain), R (output domai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: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 (may be partia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defined by 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(d) correct if &lt;d, P(d)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 correct if all P(d) are 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E482-3527-4730-BB4D-19AA9FF5447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(d) is not 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undefined (error state) or may be the wrong res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(DEFE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thing that may cause a 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ing mist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grammer forgot to test “x = 0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rrect intermediate state entered by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74CF-F8C0-492D-A2C3-C9E6D17A414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case 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lemen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finite subse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is successful if P(t) is 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successful if P correct for all t in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58C9-088E-48A2-9EE0-C164C9C1ABB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4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al test set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n element of T such that P(d) is in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f an ideal test set exists for any program, we could prove program correctness by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9CC4-BEE2-4939-87B2-C7903C43F18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riterion C defines finite subsets of D (test se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est set T satisfies C if it is an element of 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 = {&lt;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...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 |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, j, k, (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0)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5, 0, 22&gt; is a test set that satisfies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10, 2, 8, 33, 0, -19&gt; also do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1, 3, 99&gt; does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3629-073D-4A38-8A69-87D6DB51659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airs T1, T2 satisfying C, T1 is successful iff T2 is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either of them provides the “same”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 test set T of C that is not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 and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an ideal test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orrectness to be proved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D6DB-CD0A-48EF-81FC-D3D0035FF94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1 is finer than C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rogram 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y T1 satisfying C1 there is a subset T2 of T1 which satisfies C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980E-C34F-4925-8715-2D2C15EEC29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e is effective, i.e., no algorithms exist to state if a program, test set, or criterion has that prope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particular, there is no algorithm to derive a test set that would prove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structive criterion that is consistent and 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9927-C968-4D18-8854-D3F2AA0524B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goals of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kind of assurance do we get through testing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testing be done systematicall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we remove defects (debugging)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software analysi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vs. fo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9543-F23B-450F-BA2B-4CAF300A06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mpirical test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tempted compromise between the impossible and the inadequa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strategy to select significant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=has high potential of uncovering presence of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C6E7-6290-4B8A-8BDB-4604469D8E2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y to group elements of D into subdomains D1, D2, …, Dn where any element of each Di is likely to have similar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= D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one test as a representative of the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j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k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all j, k (partition), any element can be chosen from each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choose representatives to minimize number of tests, yet fulfilling the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3C0E-71A8-457F-B32C-5A6B56DD345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89320" y="1676520"/>
            <a:ext cx="46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example of a part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08D8-8CFD-44DF-8AEE-21A09336093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sm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test individu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ACK BOX (function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the module’s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is supposed to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TE BOX (structur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module’s internal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do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60E2-C0AB-4BF0-BFDB-08BDAFFE83D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te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program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F6BC-91C7-4A25-9F94-593BD5122BD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uctural Coverag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7310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In)adequacy criteri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ignificant parts of program structure are not tested, testing i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coverage crite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dition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D48D-03D6-4B49-9E9C-5110544C3EA3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ment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lementary statement in P is execut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put datum executes many statement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ry to minimize the number of test cases still preserving the desired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9295-A3B2-4277-A1DC-86BFD74A28E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746280" y="193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208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79920" y="1905120"/>
            <a:ext cx="498744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4889-E231-4FDF-A2CE-7A2B16D12420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 of th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120024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8824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D8EE-677C-4F36-81E2-D6EA973C4D5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ge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(branch) of the control flow is exercis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equires formalizing the concept of the control graph, and how to construc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dges represent stat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 at the ends of an edge represent entry into the statement and ex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9FCF-23BC-4BD5-9CB1-59A01E55EEA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eed for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ers are fallible even if they are skilled and follow sound princi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rything must be verified, every required quality, process and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verification itself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C9F2-2E73-46F3-949D-D3F972A6008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639880" y="10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171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188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200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205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218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226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3400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240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243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256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259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53312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265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396324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774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1456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745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6760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964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1960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1484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8344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2996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165320" y="249120"/>
            <a:ext cx="71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trol graph construction 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A731-3B5F-404E-8371-0D45EACFEFF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pl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622080" y="2057400"/>
            <a:ext cx="82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edges can be collapsed into just one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488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1B73-7392-4276-A2EA-C447CF32CA2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360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830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215360" y="249120"/>
            <a:ext cx="608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emple: Euclid's algorit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318A-3AE2-4A9C-8F52-C3308EDA1E6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&lt;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not discover error (&lt; instead of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≤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570E-94CD-4BC4-914D-5E9058D9C74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dition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of P’s control flow is traversed and all possible values of the constituents of compound conditions are exercised at least o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D57A-CE17-4661-A8F6-D2AA7A77E52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382392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8712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B764-2E69-4B37-82E1-9BDFCB99EEE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h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which traverses all paths from the initial to the final node of P’s contro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previous kinds of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ever, number of paths may be too large, or even infinite (see while loo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constraints must be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D225-9B5F-40CF-9714-37A9AF42DC6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infeasibility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ctically indicated behaviors (statements, edges, etc.) are often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achable code, infeasible edges, path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equacy criteria may be impossible to satisf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al justification for omitting each impossible test c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equacy “scores” based on cover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95% statement cover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E79A-E470-40E5-93BF-72FD74024669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f the code omits the implementation of some part of the spec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 box test cases derived from the code will ignore that part of the specific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F517-04D8-48A5-8CA3-7560CBEB499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lack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76E6-DE53-4DB2-B5E9-C9CD505A129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not be binary (OK, not O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rity of defect is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defects may be tol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subjective or o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mplicit qualities should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cause requirements are often in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obust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B708-4C0B-40E8-8F20-8840D260A9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"/>
          <p:cNvSpPr/>
          <p:nvPr/>
        </p:nvSpPr>
        <p:spPr>
          <a:xfrm>
            <a:off x="340560" y="1905120"/>
            <a:ext cx="8177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gram receives as input a record describ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. (A detailed description of the forma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record is given.) The invoice must be inser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o a file of invoices that is sorted by date. The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inserted in the appropriate position: If 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s exist in the file with the same date, the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 should be inserted after the last one. Als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consistency checks must be performed: The prog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hould verify whether the customer is already in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sponding file of customers, whether the customer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 the two files match, etc.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3D67-0BAB-4DC9-AC1F-BCBABFC713F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d you consider these cas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-67320" y="1828800"/>
            <a:ext cx="9423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before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This might be even forbidden by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case, in turn, can be split into the tw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llowing subcas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same as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existing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does not exist in 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viously recorded in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everal incorrect invoices, checking different typ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consist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FDA1-06AB-400F-8120-CEBA904C36D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ematic black-box techniq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driven by logic specifications (pre and postconditi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ax-drive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ision table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use-effect graph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0A3A-4A20-457E-BF71-DBCD64E8B22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267920" y="304920"/>
            <a:ext cx="682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ogic specification of inser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f invoice record in a 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95200" y="1752480"/>
            <a:ext cx="8626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x in Invoices, f in Invoice_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not exist j, k (j ≠ k and f(j) =f(k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(x, 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old_f(k) = z implies exists j (f(j) = z)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ists j (f(j). date = x. date and f(j) ≠ x)  implies j &lt; pos(x, f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customer belongs_to customer_fil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rn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 belongs_to old_f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A41D-5CAF-40B4-9565-741183CF5FD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92960" y="990720"/>
            <a:ext cx="8402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UE impl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ed_by_date(f) and for all k old_f(k) = 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exists j (f(j) = z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.customer belongs_to customer_fil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t (x.customer belongs_to customer_file  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not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belongs_to old_y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46200" y="15228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y coverage criterion to postconditio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write in a more convenient wa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70B1-8A9C-4643-8947-A4C59AAAF43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testing an interpreter of the follow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424440" y="3436920"/>
            <a:ext cx="721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::= &lt;expression&gt; + &lt;term&gt;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- &lt;term&gt; | &lt;ter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term&gt; ::= &lt;term&gt; * &lt;factor&gt; | &lt;term&gt; 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| &lt;facto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::= ident | ( &lt;expression&gt;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7788-252F-4453-893B-98315788466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complete coverage principle to all grammar r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ate a test case for each rule of the gramm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e, however that the test case might also cover other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the specification is formal, and test generation can be autom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AA90-F07D-4192-8E1D-9425AD34992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ision-table-base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New Century Schlb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word-processor may present portions of text in three different formats: plain text (p), boldface (b), italics (i). The following commands may be applied to each portion of text: make text plain (P), make boldface (B), make italics (I), emphasize (E), super emphasize (SE). Commands are available to dynamically set E to mean either B or I (we denote such commands as E=B and E=I, respectively.) Similarly, SE can be dynamically set to mean either B (command SE=B) or I (command SE=I), or B and I (command SE=B+I.)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425D-FEB1-434F-B17A-A2E5E7BE0BF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143000" y="142920"/>
          <a:ext cx="6172200" cy="591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42920"/>
                    <a:ext cx="617220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B6E6-05B3-43CA-96DC-B490686A5189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use effect grap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981080" y="1219320"/>
          <a:ext cx="5164200" cy="340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219320"/>
                    <a:ext cx="516420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254880" y="5105520"/>
            <a:ext cx="88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D/OR graph represents the correspondence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an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BB72-A37D-4587-B71F-50EC183333FD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roaches to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ment with behavior of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ple behaviors vi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al is to find "counterexample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duct to deduce its adequ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tic study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E6BE-67A6-4B7D-8976-BCC7445A367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constra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"/>
          <p:cNvSpPr/>
          <p:nvPr/>
        </p:nvSpPr>
        <p:spPr>
          <a:xfrm>
            <a:off x="522000" y="982800"/>
            <a:ext cx="804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Both B and I exclude P (i.e., one cannot ask both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plain text and, say, italics for the same portion of text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and SE are mutually exclusiv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447920" y="2209680"/>
          <a:ext cx="5106960" cy="415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09680"/>
                    <a:ext cx="510696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745920" y="2479680"/>
            <a:ext cx="10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945600" y="2174760"/>
            <a:ext cx="103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94000" y="4384800"/>
            <a:ext cx="175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and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65440" y="423216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19000" y="438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9C64-E917-407F-A5A8-2E91C490216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457200" y="884160"/>
          <a:ext cx="8191440" cy="463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84160"/>
                    <a:ext cx="8191440" cy="46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3565440" y="568008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m Y = X implies not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802C-332A-46EF-BD16-335B128E97D2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te all possible input combinations and check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reduce the number by going backwards from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node with tru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tru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node with fals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fals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0C77-9032-418E-9165-7978CEE3F6FC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boundary cond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criteria partition input domain in classes, assuming that behavior is "similar" for all data within a 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typical programming errors, however, just happen to be at the boundary between different 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72AD-B0B2-4529-BA3D-A60B73CA13B6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partitioning the input domain D into several classes, test the program using input values not only “inside” the classes, but also at their bound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applies to both white-box and black-box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AEA5-D51A-45B1-A812-8064948666A6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oracle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to inspect the results of test executions to reveal fail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required at each stage of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d test oracles are required for running large amounts of t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difficult to design - no universal reci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E675-7D9F-41D3-82CB-8DEE056C9DE5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a singl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 of modules and sub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the entir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ptanc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by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6309-9907-4A75-9DE3-0025D5DE47CA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affolding needed to create the environment in which the module should be tes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s used by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 activating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FB57-1ECE-4259-8AB5-CBD9AEB56720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 functional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"/>
          <p:cNvSpPr/>
          <p:nvPr/>
        </p:nvSpPr>
        <p:spPr>
          <a:xfrm>
            <a:off x="2389320" y="254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3334-4085-421C-977E-47EB7EF870E7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g-bang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test individual modules in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test integrat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are progressively integrated and t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ceed both top-down and bottom-up according to the USES re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12E6-DE49-47D4-8627-72FE1DEB79C8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nd lack of "continuity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samples behaviors by examining "test case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ossible to extrapolate behavior of software from a finite set of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continuity of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exhibit correct behavior in infinitely many cases, but may still be incorrect in some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5910-A6A1-4122-8A6D-EAEED20AC5F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 and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98000" y="2514600"/>
            <a:ext cx="3745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integration and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ed bottom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, if we proc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-down only stub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7391-EAC2-4053-8545-DD1BF04D15C0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7478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623040" y="228600"/>
            <a:ext cx="20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26680" y="2514600"/>
            <a:ext cx="78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1 USES M2 and M2 IS_COMPOSED_OF {M2,1, M2,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0240" y="3048120"/>
            <a:ext cx="794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oviding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provide an implementation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4000" y="4267080"/>
            <a:ext cx="830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by using a driver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the combina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i.e., M2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using a 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ly, 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wi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sing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7358-E673-4AE6-BA54-8485220AF0E7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OO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heri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olymorph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ynamic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n problems still ex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DE55-0DA0-434B-9D5E-2537D3309BA4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"/>
          <p:cNvSpPr/>
          <p:nvPr/>
        </p:nvSpPr>
        <p:spPr>
          <a:xfrm>
            <a:off x="1978200" y="218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383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9548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6656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2088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9616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4976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ar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7424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0F82-697F-4305-AD54-C6DF0DE3D570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test classes of the hierarch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lattening” the whole hierarchy and considering every class as a totally independent compon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exploit increment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ing an ad-hoc way to take advantage of the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7E3A-2EBA-4C77-969A-B96A982C72D6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sample strateg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est that does not have to be repeated for any he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performed for heir class X and all of its further he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redone by applying the same input data, but verifying that the output is not (o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chan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modified by adding other input parameters and verifying that the output changes according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C3E1-5BBB-4653-A63F-01E78947A448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e concerns i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for functionality is not enoug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loa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ress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e testing with the purpose of verifying possibl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gress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of software during its life—that is, degradations of correctness or other qualities due to later modificat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DDD8-6A5F-41F4-BAE4-5D5B81F59896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concurrent and real-time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determinism inherent in concurrency affects repeat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real-time systems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case consists not only of input data, but also of the times when such data are suppli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D182-5F28-441A-81D0-DC7EF4F80543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E1B8-639E-4E02-AFA2-0A3009D78FAE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vs.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ng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exec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la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xecutions; it is based o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have complementary advantages and disadvant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1984-324D-4741-AFF0-44A1898E5669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 in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 of bridg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est assures infinite correct situ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4673520"/>
            <a:ext cx="4800600" cy="889200"/>
          </a:xfrm>
          <a:custGeom>
            <a:avLst/>
            <a:gdLst/>
            <a:ahLst/>
            <a:rect l="l" t="t" r="r" b="b"/>
            <a:pathLst>
              <a:path w="3024" h="560">
                <a:moveTo>
                  <a:pt x="0" y="560"/>
                </a:moveTo>
                <a:cubicBezTo>
                  <a:pt x="284" y="388"/>
                  <a:pt x="568" y="216"/>
                  <a:pt x="816" y="128"/>
                </a:cubicBezTo>
                <a:cubicBezTo>
                  <a:pt x="1064" y="40"/>
                  <a:pt x="1264" y="40"/>
                  <a:pt x="1488" y="32"/>
                </a:cubicBezTo>
                <a:cubicBezTo>
                  <a:pt x="1712" y="24"/>
                  <a:pt x="1904" y="0"/>
                  <a:pt x="2160" y="80"/>
                </a:cubicBezTo>
                <a:cubicBezTo>
                  <a:pt x="2416" y="160"/>
                  <a:pt x="2720" y="336"/>
                  <a:pt x="3024" y="5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914040" y="5562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781680" y="5486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3657600"/>
            <a:ext cx="457200" cy="1066680"/>
          </a:xfrm>
          <a:prstGeom prst="downArrow">
            <a:avLst>
              <a:gd name="adj1" fmla="val 50000"/>
              <a:gd name="adj2" fmla="val 58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A695-63F4-47AD-B4F1-C8BAA6F0543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walkthroug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mmended prescri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people (three to fi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 receive written documentation from the designer a few days before the mee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efined duration of meeting (a few hou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ove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rrors, not on fixing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: designer, moderator, and a secret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ster cooperation; no evaluation of peo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erience shows that most errors are discovered by the designer during the presentation, while trying to explain the design to other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4450-35DD-4E22-88C0-CE9E43F02DCF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insp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ading technique aiming at error disco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checklists; e.g.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uninitialized variable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mps into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nterminating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ay indexes out of bound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11FD-B2B8-45B1-BE0F-D8055C67CFE4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56B6-EAFA-4C29-B27D-03C70BCDD9A0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d its specification (Hoare notation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"/>
          <p:cNvSpPr/>
          <p:nvPr/>
        </p:nvSpPr>
        <p:spPr>
          <a:xfrm>
            <a:off x="2414520" y="2548080"/>
            <a:ext cx="3981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a); read (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 +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utput = input1 + input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974880" y="541008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of by backwards substit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43F9-C79D-4E59-9D0F-7D801392861C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819520" y="4038480"/>
            <a:ext cx="2133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35053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1, Clai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22480" y="1905120"/>
            <a:ext cx="783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Claim 1 and Claim 2 have been prove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ne c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duce 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E9E2-D848-4C89-A5EA-E333633F1126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 for a langu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"/>
          <p:cNvSpPr/>
          <p:nvPr/>
        </p:nvSpPr>
        <p:spPr>
          <a:xfrm>
            <a:off x="1676520" y="19051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{F2}, {F2}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;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752480" y="2438280"/>
            <a:ext cx="3200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61480" y="2014560"/>
            <a:ext cx="15552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42720" y="3581280"/>
            <a:ext cx="779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 and cond} S1 {Post},{Pre and not cond} S2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} if cond then S1 ; else S 2 ; end if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96720" y="4005360"/>
            <a:ext cx="769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80880" y="3124080"/>
            <a:ext cx="1789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-then-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606720" y="4648320"/>
            <a:ext cx="14090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-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9520" y="4800600"/>
            <a:ext cx="699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 and cond} S {I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} while cond loop S; end loop; {I and not con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01640" y="522432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005840" y="5791320"/>
            <a:ext cx="2266920" cy="459720"/>
          </a:xfrm>
          <a:prstGeom prst="rect">
            <a:avLst/>
          </a:prstGeom>
          <a:noFill/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oop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ED2F-C8C3-4F1D-8FB8-2CF328397062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idity of {Pre} Program {Post} guarantees that if the Pre holds before the execution of Program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if the program ever termin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, then Post will be achie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 guarantees Program’s terminatio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truth of P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se problems are undecidable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85FF-FA6D-4843-BE56-A95DAA6880FA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"/>
          <p:cNvSpPr/>
          <p:nvPr/>
        </p:nvSpPr>
        <p:spPr>
          <a:xfrm>
            <a:off x="821160" y="1785960"/>
            <a:ext cx="6135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&gt; 0 and input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x =y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div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rite (div); 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= output1 * input2 + output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0 =output2 &lt; input2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22A2-DE15-4206-9E78-9566BEC0660F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vention of loop invaria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and creative ste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not be constructed auto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1 = div * y + x and x =0 and y = input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78A7-C05E-4C16-BEB7-8C008ABCA74A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"/>
          <p:cNvSpPr/>
          <p:nvPr/>
        </p:nvSpPr>
        <p:spPr>
          <a:xfrm>
            <a:off x="1321560" y="2395440"/>
            <a:ext cx="44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Pre} a(i) := expression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6440" y="3309840"/>
            <a:ext cx="690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assertion obtained from P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y substituting every occurrence of an inde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riable a(j) by the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j = i then expression else a(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148C-7F5E-498C-91ED-711ECC578BBF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D467-B77C-488F-B90F-9805561E4F8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"/>
          <p:cNvSpPr/>
          <p:nvPr/>
        </p:nvSpPr>
        <p:spPr>
          <a:xfrm>
            <a:off x="916560" y="685800"/>
            <a:ext cx="7562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 =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1; j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i =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table (i) = x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j) := table (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; j := j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:= j -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ot exists m (1 =m =n and table (m) = x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=exists m (1 =m =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and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m) = x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932360" y="1447920"/>
            <a:ext cx="3792600" cy="1922760"/>
          </a:xfrm>
          <a:prstGeom prst="rect">
            <a:avLst/>
          </a:prstGeom>
          <a:noFill/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t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stants den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g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lues of table and of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fore exec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f the program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476D-DF79-4B1D-BBC0-CA5E97C53568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one by using the following loop invaria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(j =i) and (i =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 + 1)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not exists m (1 =m &lt; j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 (m) = x)) and (n 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)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nd = exists m (1 =m &lt; i and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(m) = x)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3AEB-9C27-4C2B-A4EA-A660AE2CDDD9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            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 prove correctness of operations (e.g., operations on an abstract data typ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use the result of the proof in proving fragments that operate on objects of the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BDBC-413E-4CA6-B97D-2C6EAB423AAF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"/>
          <p:cNvSpPr/>
          <p:nvPr/>
        </p:nvSpPr>
        <p:spPr>
          <a:xfrm>
            <a:off x="277920" y="1371600"/>
            <a:ext cx="8593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odule TAB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ype Table_Type (max_size: NATURAL): ?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no more than max_size entries may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tored in a table;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er modules must guarantee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Insert (Table: in out TableType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Delete (Table: in out TableTyp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unction Size (Table: in Table_Type) return NATUR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rovides the current size of a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4FB7-FA60-4966-A1E5-22CB45EC86A5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473840" y="1252440"/>
            <a:ext cx="364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lete (Table, Elemen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Size (Table) &lt; max_siz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sert (Table, El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6080" y="566640"/>
            <a:ext cx="31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ving proved th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03680" y="227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39120" y="4071960"/>
            <a:ext cx="811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then prove properties of programs using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ample, that after executing the sequ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ete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is not present in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F55F-6AEE-41E5-A2F2-6F8745A330C5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 assess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not used in pract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e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used for very critical por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rtions may be the basis for a systematic way of inserting runtime che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ofs may become more practical as more powerful support tools are develop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nowledge of correctness theory helps programmers being rigoro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3B82-5202-448C-8C33-1C1D140EFC62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iewed as a middle way between testing and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s the program on symbolic val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symbolic execution corresponds to many actual exec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8978-4482-49E5-8E55-B2D6BA4EB3C0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01640" y="19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"/>
          <p:cNvSpPr/>
          <p:nvPr/>
        </p:nvSpPr>
        <p:spPr>
          <a:xfrm>
            <a:off x="384480" y="1981080"/>
            <a:ext cx="6325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executing the following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x=X, y=Y, a=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y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x &gt; a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 := a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y := x +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+ a +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40668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4439160" y="1260360"/>
            <a:ext cx="3713400" cy="4987800"/>
            <a:chOff x="4439160" y="1260360"/>
            <a:chExt cx="3713400" cy="4987800"/>
          </a:xfrm>
        </p:grpSpPr>
        <p:sp>
          <p:nvSpPr>
            <p:cNvPr id="487" name=""/>
            <p:cNvSpPr/>
            <p:nvPr/>
          </p:nvSpPr>
          <p:spPr>
            <a:xfrm>
              <a:off x="6664680" y="17269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796000" y="36072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920000" y="36928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03520" y="54021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045200" y="172692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y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439160" y="3436560"/>
              <a:ext cx="1075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 := a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919560" y="326556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 := x +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348520" y="5402160"/>
              <a:ext cx="1465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x + a + 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346880" y="2222280"/>
              <a:ext cx="560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&gt;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767280" y="4853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784200" y="2268000"/>
              <a:ext cx="36792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750360" y="5861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20200" y="1260360"/>
              <a:ext cx="367560" cy="384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6881040" y="1653840"/>
              <a:ext cx="139320" cy="622440"/>
              <a:chOff x="6881040" y="1653840"/>
              <a:chExt cx="139320" cy="622440"/>
            </a:xfrm>
          </p:grpSpPr>
          <p:sp>
            <p:nvSpPr>
              <p:cNvPr id="501" name=""/>
              <p:cNvSpPr/>
              <p:nvPr/>
            </p:nvSpPr>
            <p:spPr>
              <a:xfrm>
                <a:off x="6881040" y="200232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950520" y="1653840"/>
                <a:ext cx="1800" cy="3484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6864120" y="5229720"/>
              <a:ext cx="139320" cy="604800"/>
              <a:chOff x="6864120" y="5229720"/>
              <a:chExt cx="139320" cy="604800"/>
            </a:xfrm>
          </p:grpSpPr>
          <p:sp>
            <p:nvSpPr>
              <p:cNvPr id="504" name=""/>
              <p:cNvSpPr/>
              <p:nvPr/>
            </p:nvSpPr>
            <p:spPr>
              <a:xfrm>
                <a:off x="6864120" y="556056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933600" y="5229720"/>
                <a:ext cx="1440" cy="330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786280" y="2620080"/>
              <a:ext cx="1364760" cy="241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10" y="21600"/>
                  </a:moveTo>
                  <a:arcTo wR="10800" hR="10800" stAng="5428724" swAng="53915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10" y="21600"/>
                  </a:moveTo>
                  <a:arcTo wR="10800" hR="10800" stAng="5428724" swAng="539153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6443640" y="4955400"/>
              <a:ext cx="331560" cy="127800"/>
              <a:chOff x="6443640" y="4955400"/>
              <a:chExt cx="331560" cy="127800"/>
            </a:xfrm>
          </p:grpSpPr>
          <p:sp>
            <p:nvSpPr>
              <p:cNvPr id="508" name=""/>
              <p:cNvSpPr/>
              <p:nvPr/>
            </p:nvSpPr>
            <p:spPr>
              <a:xfrm>
                <a:off x="6530400" y="4955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144" y="41"/>
                    </a:moveTo>
                    <a:lnTo>
                      <a:pt x="0" y="72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44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443640" y="5028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5769360" y="2506680"/>
              <a:ext cx="196092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7"/>
                  </a:moveTo>
                  <a:arcTo wR="10800" hR="10800" stAng="-10783213" swAng="5362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7"/>
                  </a:moveTo>
                  <a:arcTo wR="10800" hR="10800" stAng="-10783213" swAng="5362223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7126200" y="4937400"/>
              <a:ext cx="331200" cy="127800"/>
              <a:chOff x="7126200" y="4937400"/>
              <a:chExt cx="331200" cy="127800"/>
            </a:xfrm>
          </p:grpSpPr>
          <p:sp>
            <p:nvSpPr>
              <p:cNvPr id="512" name=""/>
              <p:cNvSpPr/>
              <p:nvPr/>
            </p:nvSpPr>
            <p:spPr>
              <a:xfrm>
                <a:off x="7126200" y="4937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0" y="41"/>
                    </a:moveTo>
                    <a:lnTo>
                      <a:pt x="144" y="0"/>
                    </a:lnTo>
                    <a:lnTo>
                      <a:pt x="144" y="41"/>
                    </a:lnTo>
                    <a:lnTo>
                      <a:pt x="144" y="72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7370640" y="5010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6190560" y="2524680"/>
              <a:ext cx="196020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2" y="0"/>
                  </a:moveTo>
                  <a:arcTo wR="10800" hR="10800" stAng="-5424945" swAng="540792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2" y="0"/>
                  </a:moveTo>
                  <a:arcTo wR="10800" hR="10800" stAng="-5424945" swAng="540792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784560" y="2599200"/>
              <a:ext cx="1368000" cy="241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6"/>
                  </a:moveTo>
                  <a:arcTo wR="10800" hR="10800" stAng="-17173" swAng="545158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6"/>
                  </a:moveTo>
                  <a:arcTo wR="10800" hR="10800" stAng="-17173" swAng="545158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3474-0268-4D29-BF73-65C7CF247281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control reaches the conditional, symbolic values do not allow execution to select a bran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can choose a branch, and record the choice i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ul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{a = A, y = Y + 5, x = 2 * Y + A + 7}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1, 3, 4&gt;, Y + 2 ≤ A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"/>
          <p:cNvSpPr/>
          <p:nvPr/>
        </p:nvSpPr>
        <p:spPr>
          <a:xfrm>
            <a:off x="1143000" y="54864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971800" y="5486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071720" y="544356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797200" y="544356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4BD8-1217-4979-B38F-140C1F7FE79E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x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moves any existing binding for x and adds  binding x = X, where X is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ly introduc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symbolic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expressi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utput(n) = computed_symbolic_value (n counter initialized to 1 and automatically incremented after each output stat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92880" y="1143000"/>
            <a:ext cx="8935920" cy="8254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ic st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&lt;symbolic_variable_values, execution_path, path_condition&gt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B4F4-31C8-4DE2-91DC-60DD5624D7AC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how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ese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bugs (Dijkstra, 1987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ests do detect failures, we cannot conclude that software is defect-f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, we need to do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sound and systematic princi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0C3C-496B-4D0F-81A9-E6402A983CB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x:= express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uct symbolic value of expression, SV; replace previous binding for x with x = 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execution of the last statement of a sequence that corresponds to an edge of control graph, append the edge to executio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A2B7-301E-45AF-ABF7-5A8271E9F85C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nd then S1; else S2; end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ond loop…end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dition is symbolically evaluat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val (cond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f eval (cond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rue or false then execution proceeds by following the appropriate bran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wise, make nondeterministic choice of true or false, and conjoin eval (cond) (resp.,  not eval (cond)) to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B608-7ED7-4EDC-971B-66BCD1650161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et A1 be the symbolic value of array a when statement a(i)= exp is execu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n, after execution of the statement, a receives the new symbolic value A2, denoted as A2 = A1&lt;i, exp&gt;, a shorthand f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k if k = i then A2(k) = ex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A2(k) = A1(k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2D7A-988B-4299-8BBE-80233971092C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of concurrent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"/>
          <p:cNvSpPr/>
          <p:nvPr/>
        </p:nvSpPr>
        <p:spPr>
          <a:xfrm>
            <a:off x="2446200" y="211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81312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210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01640" y="4695840"/>
            <a:ext cx="11145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726000" y="1808280"/>
            <a:ext cx="7142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19280" y="23652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609560" y="2373480"/>
            <a:ext cx="559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3240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4752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85160" y="2365200"/>
            <a:ext cx="5061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128000" y="2373480"/>
            <a:ext cx="541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091040" y="4695840"/>
            <a:ext cx="10969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24600" y="4695840"/>
            <a:ext cx="10954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042440" y="1447920"/>
            <a:ext cx="22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essage_re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44680" y="495288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832440" y="432432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263680" y="4343400"/>
            <a:ext cx="397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588400" y="4343400"/>
            <a:ext cx="1175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1881360" y="2903400"/>
            <a:ext cx="172800" cy="1792440"/>
            <a:chOff x="1881360" y="2903400"/>
            <a:chExt cx="172800" cy="1792440"/>
          </a:xfrm>
        </p:grpSpPr>
        <p:sp>
          <p:nvSpPr>
            <p:cNvPr id="551" name=""/>
            <p:cNvSpPr/>
            <p:nvPr/>
          </p:nvSpPr>
          <p:spPr>
            <a:xfrm>
              <a:off x="194940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11"/>
                  </a:lnTo>
                  <a:lnTo>
                    <a:pt x="22" y="11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881360" y="2903400"/>
              <a:ext cx="10296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2176560" y="2643120"/>
            <a:ext cx="104760" cy="2052720"/>
            <a:chOff x="2176560" y="2643120"/>
            <a:chExt cx="104760" cy="2052720"/>
          </a:xfrm>
        </p:grpSpPr>
        <p:sp>
          <p:nvSpPr>
            <p:cNvPr id="554" name=""/>
            <p:cNvSpPr/>
            <p:nvPr/>
          </p:nvSpPr>
          <p:spPr>
            <a:xfrm>
              <a:off x="2176560" y="448632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44" y="132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246400" y="2643120"/>
              <a:ext cx="144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4091040" y="2903400"/>
            <a:ext cx="401760" cy="1792440"/>
            <a:chOff x="4091040" y="2903400"/>
            <a:chExt cx="401760" cy="1792440"/>
          </a:xfrm>
        </p:grpSpPr>
        <p:sp>
          <p:nvSpPr>
            <p:cNvPr id="557" name=""/>
            <p:cNvSpPr/>
            <p:nvPr/>
          </p:nvSpPr>
          <p:spPr>
            <a:xfrm>
              <a:off x="4387680" y="4468680"/>
              <a:ext cx="10512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66" y="143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66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91040" y="2903400"/>
              <a:ext cx="34920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4770360" y="2782800"/>
            <a:ext cx="696960" cy="1913040"/>
            <a:chOff x="4770360" y="2782800"/>
            <a:chExt cx="696960" cy="1913040"/>
          </a:xfrm>
        </p:grpSpPr>
        <p:sp>
          <p:nvSpPr>
            <p:cNvPr id="560" name=""/>
            <p:cNvSpPr/>
            <p:nvPr/>
          </p:nvSpPr>
          <p:spPr>
            <a:xfrm>
              <a:off x="4770360" y="4468680"/>
              <a:ext cx="122400" cy="22716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0" y="143"/>
                  </a:moveTo>
                  <a:lnTo>
                    <a:pt x="11" y="0"/>
                  </a:lnTo>
                  <a:lnTo>
                    <a:pt x="44" y="11"/>
                  </a:lnTo>
                  <a:lnTo>
                    <a:pt x="77" y="3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4840200" y="2782800"/>
              <a:ext cx="627120" cy="1703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4370400" y="2782800"/>
            <a:ext cx="2192400" cy="1913040"/>
            <a:chOff x="4370400" y="2782800"/>
            <a:chExt cx="2192400" cy="1913040"/>
          </a:xfrm>
        </p:grpSpPr>
        <p:sp>
          <p:nvSpPr>
            <p:cNvPr id="563" name=""/>
            <p:cNvSpPr/>
            <p:nvPr/>
          </p:nvSpPr>
          <p:spPr>
            <a:xfrm>
              <a:off x="6372360" y="4521240"/>
              <a:ext cx="190440" cy="174600"/>
            </a:xfrm>
            <a:custGeom>
              <a:avLst/>
              <a:gdLst/>
              <a:ahLst/>
              <a:rect l="l" t="t" r="r" b="b"/>
              <a:pathLst>
                <a:path w="120" h="110">
                  <a:moveTo>
                    <a:pt x="120" y="110"/>
                  </a:moveTo>
                  <a:lnTo>
                    <a:pt x="0" y="44"/>
                  </a:lnTo>
                  <a:lnTo>
                    <a:pt x="22" y="11"/>
                  </a:lnTo>
                  <a:lnTo>
                    <a:pt x="33" y="0"/>
                  </a:lnTo>
                  <a:lnTo>
                    <a:pt x="12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370400" y="2782800"/>
              <a:ext cx="2036880" cy="1755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6684840" y="2643120"/>
            <a:ext cx="434880" cy="2052720"/>
            <a:chOff x="6684840" y="2643120"/>
            <a:chExt cx="434880" cy="2052720"/>
          </a:xfrm>
        </p:grpSpPr>
        <p:sp>
          <p:nvSpPr>
            <p:cNvPr id="566" name=""/>
            <p:cNvSpPr/>
            <p:nvPr/>
          </p:nvSpPr>
          <p:spPr>
            <a:xfrm>
              <a:off x="668484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11" y="143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6" y="22"/>
                  </a:lnTo>
                  <a:lnTo>
                    <a:pt x="11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6737040" y="2643120"/>
              <a:ext cx="38268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1881360" y="5391000"/>
            <a:ext cx="52200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889280" y="5398920"/>
            <a:ext cx="5569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335480" y="53910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378320" y="5398920"/>
            <a:ext cx="54144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49960" y="53910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292800" y="5398920"/>
            <a:ext cx="5587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243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4021200" y="1808280"/>
            <a:ext cx="104760" cy="556920"/>
            <a:chOff x="4021200" y="1808280"/>
            <a:chExt cx="104760" cy="556920"/>
          </a:xfrm>
        </p:grpSpPr>
        <p:sp>
          <p:nvSpPr>
            <p:cNvPr id="576" name=""/>
            <p:cNvSpPr/>
            <p:nvPr/>
          </p:nvSpPr>
          <p:spPr>
            <a:xfrm>
              <a:off x="4021200" y="21384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091040" y="1808280"/>
              <a:ext cx="1440" cy="330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520560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958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4578480" y="4695840"/>
            <a:ext cx="104760" cy="695160"/>
            <a:chOff x="4578480" y="4695840"/>
            <a:chExt cx="104760" cy="695160"/>
          </a:xfrm>
        </p:grpSpPr>
        <p:sp>
          <p:nvSpPr>
            <p:cNvPr id="581" name=""/>
            <p:cNvSpPr/>
            <p:nvPr/>
          </p:nvSpPr>
          <p:spPr>
            <a:xfrm>
              <a:off x="4578480" y="51642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33" y="143"/>
                  </a:moveTo>
                  <a:lnTo>
                    <a:pt x="0" y="0"/>
                  </a:lnTo>
                  <a:lnTo>
                    <a:pt x="33" y="0"/>
                  </a:lnTo>
                  <a:lnTo>
                    <a:pt x="66" y="0"/>
                  </a:lnTo>
                  <a:lnTo>
                    <a:pt x="3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30680" y="4695840"/>
              <a:ext cx="180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6512040" y="4695840"/>
            <a:ext cx="102960" cy="695160"/>
            <a:chOff x="6512040" y="4695840"/>
            <a:chExt cx="102960" cy="695160"/>
          </a:xfrm>
        </p:grpSpPr>
        <p:sp>
          <p:nvSpPr>
            <p:cNvPr id="584" name=""/>
            <p:cNvSpPr/>
            <p:nvPr/>
          </p:nvSpPr>
          <p:spPr>
            <a:xfrm>
              <a:off x="6512040" y="5164200"/>
              <a:ext cx="102960" cy="226800"/>
            </a:xfrm>
            <a:custGeom>
              <a:avLst/>
              <a:gdLst/>
              <a:ahLst/>
              <a:rect l="l" t="t" r="r" b="b"/>
              <a:pathLst>
                <a:path w="65" h="143">
                  <a:moveTo>
                    <a:pt x="32" y="143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65" y="0"/>
                  </a:lnTo>
                  <a:lnTo>
                    <a:pt x="32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62800" y="4695840"/>
              <a:ext cx="144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984960" y="4800600"/>
            <a:ext cx="1235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n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62636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55848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784080" y="5668920"/>
            <a:ext cx="109728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784080" y="2573280"/>
            <a:ext cx="817560" cy="104760"/>
            <a:chOff x="784080" y="2573280"/>
            <a:chExt cx="817560" cy="104760"/>
          </a:xfrm>
        </p:grpSpPr>
        <p:sp>
          <p:nvSpPr>
            <p:cNvPr id="591" name=""/>
            <p:cNvSpPr/>
            <p:nvPr/>
          </p:nvSpPr>
          <p:spPr>
            <a:xfrm>
              <a:off x="1376280" y="2573280"/>
              <a:ext cx="225360" cy="104760"/>
            </a:xfrm>
            <a:custGeom>
              <a:avLst/>
              <a:gdLst/>
              <a:ahLst/>
              <a:rect l="l" t="t" r="r" b="b"/>
              <a:pathLst>
                <a:path w="142" h="66">
                  <a:moveTo>
                    <a:pt x="142" y="44"/>
                  </a:moveTo>
                  <a:lnTo>
                    <a:pt x="0" y="66"/>
                  </a:lnTo>
                  <a:lnTo>
                    <a:pt x="0" y="44"/>
                  </a:lnTo>
                  <a:lnTo>
                    <a:pt x="0" y="0"/>
                  </a:lnTo>
                  <a:lnTo>
                    <a:pt x="14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84080" y="2643120"/>
              <a:ext cx="592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644400" y="469584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784080" y="2643120"/>
            <a:ext cx="1800" cy="2052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910040" y="5791320"/>
            <a:ext cx="835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5484600" y="4468680"/>
            <a:ext cx="5569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5675400" y="4486320"/>
            <a:ext cx="104760" cy="1304640"/>
            <a:chOff x="5675400" y="4486320"/>
            <a:chExt cx="104760" cy="1304640"/>
          </a:xfrm>
        </p:grpSpPr>
        <p:sp>
          <p:nvSpPr>
            <p:cNvPr id="598" name=""/>
            <p:cNvSpPr/>
            <p:nvPr/>
          </p:nvSpPr>
          <p:spPr>
            <a:xfrm>
              <a:off x="5675400" y="4486320"/>
              <a:ext cx="104760" cy="277920"/>
            </a:xfrm>
            <a:custGeom>
              <a:avLst/>
              <a:gdLst/>
              <a:ahLst/>
              <a:rect l="l" t="t" r="r" b="b"/>
              <a:pathLst>
                <a:path w="66" h="175">
                  <a:moveTo>
                    <a:pt x="44" y="0"/>
                  </a:moveTo>
                  <a:lnTo>
                    <a:pt x="66" y="175"/>
                  </a:lnTo>
                  <a:lnTo>
                    <a:pt x="44" y="175"/>
                  </a:lnTo>
                  <a:lnTo>
                    <a:pt x="0" y="17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5745240" y="4763880"/>
              <a:ext cx="1440" cy="1027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5675400" y="2903400"/>
            <a:ext cx="104760" cy="1565280"/>
            <a:chOff x="5675400" y="2903400"/>
            <a:chExt cx="104760" cy="1565280"/>
          </a:xfrm>
        </p:grpSpPr>
        <p:sp>
          <p:nvSpPr>
            <p:cNvPr id="601" name=""/>
            <p:cNvSpPr/>
            <p:nvPr/>
          </p:nvSpPr>
          <p:spPr>
            <a:xfrm>
              <a:off x="5675400" y="2903400"/>
              <a:ext cx="104760" cy="192240"/>
            </a:xfrm>
            <a:custGeom>
              <a:avLst/>
              <a:gdLst/>
              <a:ahLst/>
              <a:rect l="l" t="t" r="r" b="b"/>
              <a:pathLst>
                <a:path w="66" h="121">
                  <a:moveTo>
                    <a:pt x="44" y="0"/>
                  </a:moveTo>
                  <a:lnTo>
                    <a:pt x="66" y="121"/>
                  </a:lnTo>
                  <a:lnTo>
                    <a:pt x="44" y="121"/>
                  </a:lnTo>
                  <a:lnTo>
                    <a:pt x="0" y="12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5745240" y="3095640"/>
              <a:ext cx="1440" cy="1373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6842160" y="5791320"/>
            <a:ext cx="13748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7939080" y="483408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8164440" y="4834080"/>
            <a:ext cx="104760" cy="956880"/>
            <a:chOff x="8164440" y="4834080"/>
            <a:chExt cx="104760" cy="956880"/>
          </a:xfrm>
        </p:grpSpPr>
        <p:sp>
          <p:nvSpPr>
            <p:cNvPr id="606" name=""/>
            <p:cNvSpPr/>
            <p:nvPr/>
          </p:nvSpPr>
          <p:spPr>
            <a:xfrm>
              <a:off x="8164440" y="483408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33" y="0"/>
                  </a:moveTo>
                  <a:lnTo>
                    <a:pt x="66" y="132"/>
                  </a:lnTo>
                  <a:lnTo>
                    <a:pt x="33" y="132"/>
                  </a:lnTo>
                  <a:lnTo>
                    <a:pt x="0" y="13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217000" y="5043240"/>
              <a:ext cx="1440" cy="747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 flipV="1">
            <a:off x="8217000" y="2643120"/>
            <a:ext cx="1440" cy="2190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11160" y="2590920"/>
            <a:ext cx="103320" cy="871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364520" y="264312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710320" y="260820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2298600" y="4695840"/>
            <a:ext cx="417600" cy="1650960"/>
            <a:chOff x="2298600" y="4695840"/>
            <a:chExt cx="417600" cy="1650960"/>
          </a:xfrm>
        </p:grpSpPr>
        <p:sp>
          <p:nvSpPr>
            <p:cNvPr id="613" name=""/>
            <p:cNvSpPr/>
            <p:nvPr/>
          </p:nvSpPr>
          <p:spPr>
            <a:xfrm>
              <a:off x="2593800" y="6121440"/>
              <a:ext cx="122400" cy="225360"/>
            </a:xfrm>
            <a:custGeom>
              <a:avLst/>
              <a:gdLst/>
              <a:ahLst/>
              <a:rect l="l" t="t" r="r" b="b"/>
              <a:pathLst>
                <a:path w="77" h="142">
                  <a:moveTo>
                    <a:pt x="77" y="142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77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98600" y="4695840"/>
              <a:ext cx="347760" cy="1442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5972040" y="4695840"/>
            <a:ext cx="172800" cy="1511280"/>
            <a:chOff x="5972040" y="4695840"/>
            <a:chExt cx="172800" cy="1511280"/>
          </a:xfrm>
        </p:grpSpPr>
        <p:sp>
          <p:nvSpPr>
            <p:cNvPr id="616" name=""/>
            <p:cNvSpPr/>
            <p:nvPr/>
          </p:nvSpPr>
          <p:spPr>
            <a:xfrm>
              <a:off x="5972040" y="5981760"/>
              <a:ext cx="103320" cy="225360"/>
            </a:xfrm>
            <a:custGeom>
              <a:avLst/>
              <a:gdLst/>
              <a:ahLst/>
              <a:rect l="l" t="t" r="r" b="b"/>
              <a:pathLst>
                <a:path w="65" h="142">
                  <a:moveTo>
                    <a:pt x="33" y="142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5" y="11"/>
                  </a:lnTo>
                  <a:lnTo>
                    <a:pt x="3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6024240" y="4695840"/>
              <a:ext cx="120600" cy="130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3033000" y="1828800"/>
            <a:ext cx="88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:=  f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21904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62320" y="472752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2246040" y="2643120"/>
            <a:ext cx="15145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6736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7624800" y="2590920"/>
            <a:ext cx="557280" cy="122040"/>
            <a:chOff x="7624800" y="2590920"/>
            <a:chExt cx="557280" cy="122040"/>
          </a:xfrm>
        </p:grpSpPr>
        <p:sp>
          <p:nvSpPr>
            <p:cNvPr id="624" name=""/>
            <p:cNvSpPr/>
            <p:nvPr/>
          </p:nvSpPr>
          <p:spPr>
            <a:xfrm>
              <a:off x="7624800" y="2590920"/>
              <a:ext cx="209520" cy="122040"/>
            </a:xfrm>
            <a:custGeom>
              <a:avLst/>
              <a:gdLst/>
              <a:ahLst/>
              <a:rect l="l" t="t" r="r" b="b"/>
              <a:pathLst>
                <a:path w="132" h="77">
                  <a:moveTo>
                    <a:pt x="0" y="33"/>
                  </a:moveTo>
                  <a:lnTo>
                    <a:pt x="132" y="0"/>
                  </a:lnTo>
                  <a:lnTo>
                    <a:pt x="132" y="33"/>
                  </a:lnTo>
                  <a:lnTo>
                    <a:pt x="132" y="77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834320" y="2643120"/>
              <a:ext cx="3477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207072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561640" y="48769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091920" y="21747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43080" y="48006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78104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696960" y="4695840"/>
            <a:ext cx="122040" cy="973080"/>
            <a:chOff x="696960" y="4695840"/>
            <a:chExt cx="122040" cy="973080"/>
          </a:xfrm>
        </p:grpSpPr>
        <p:sp>
          <p:nvSpPr>
            <p:cNvPr id="632" name=""/>
            <p:cNvSpPr/>
            <p:nvPr/>
          </p:nvSpPr>
          <p:spPr>
            <a:xfrm>
              <a:off x="696960" y="4695840"/>
              <a:ext cx="122040" cy="243000"/>
            </a:xfrm>
            <a:custGeom>
              <a:avLst/>
              <a:gdLst/>
              <a:ahLst/>
              <a:rect l="l" t="t" r="r" b="b"/>
              <a:pathLst>
                <a:path w="77" h="153">
                  <a:moveTo>
                    <a:pt x="44" y="0"/>
                  </a:moveTo>
                  <a:lnTo>
                    <a:pt x="77" y="153"/>
                  </a:lnTo>
                  <a:lnTo>
                    <a:pt x="44" y="153"/>
                  </a:lnTo>
                  <a:lnTo>
                    <a:pt x="0" y="153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66800" y="4938840"/>
              <a:ext cx="1440" cy="73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2089080" y="4695840"/>
            <a:ext cx="122400" cy="695160"/>
            <a:chOff x="2089080" y="4695840"/>
            <a:chExt cx="122400" cy="695160"/>
          </a:xfrm>
        </p:grpSpPr>
        <p:sp>
          <p:nvSpPr>
            <p:cNvPr id="635" name=""/>
            <p:cNvSpPr/>
            <p:nvPr/>
          </p:nvSpPr>
          <p:spPr>
            <a:xfrm>
              <a:off x="2089080" y="5146560"/>
              <a:ext cx="122400" cy="244440"/>
            </a:xfrm>
            <a:custGeom>
              <a:avLst/>
              <a:gdLst/>
              <a:ahLst/>
              <a:rect l="l" t="t" r="r" b="b"/>
              <a:pathLst>
                <a:path w="77" h="154">
                  <a:moveTo>
                    <a:pt x="44" y="154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77" y="0"/>
                  </a:lnTo>
                  <a:lnTo>
                    <a:pt x="44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158920" y="4695840"/>
              <a:ext cx="1800" cy="450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4021200" y="4695840"/>
            <a:ext cx="436680" cy="1477800"/>
            <a:chOff x="4021200" y="4695840"/>
            <a:chExt cx="436680" cy="1477800"/>
          </a:xfrm>
        </p:grpSpPr>
        <p:sp>
          <p:nvSpPr>
            <p:cNvPr id="638" name=""/>
            <p:cNvSpPr/>
            <p:nvPr/>
          </p:nvSpPr>
          <p:spPr>
            <a:xfrm>
              <a:off x="4021200" y="5911920"/>
              <a:ext cx="122040" cy="261720"/>
            </a:xfrm>
            <a:custGeom>
              <a:avLst/>
              <a:gdLst/>
              <a:ahLst/>
              <a:rect l="l" t="t" r="r" b="b"/>
              <a:pathLst>
                <a:path w="77" h="165">
                  <a:moveTo>
                    <a:pt x="0" y="165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77" y="22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4073400" y="4695840"/>
              <a:ext cx="384480" cy="1233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705D-FFD7-4427-8FFE-C7BD83820E2E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fying assumption: no more than one token in a 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atomic steps can be modeled by a firing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resolves the nondeterminism that is due to several transitions being enab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riple &lt;symbolic_variable_values, execution_path, path_condition&gt; can be used to model the symbolic state of the interpreter (execution_path is the firing sequen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25C1-AE72-42B6-AE50-CB46211BA0E8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an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ath condition describes the data that traverse a certai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in test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bolically execut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hesize data that satisfy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will execute tha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C789-5CC1-4C2E-AD7E-B73E908C6630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2532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"/>
          <p:cNvSpPr/>
          <p:nvPr/>
        </p:nvSpPr>
        <p:spPr>
          <a:xfrm>
            <a:off x="514440" y="1523880"/>
            <a:ext cx="7991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exists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does not ex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CFDA-5C7C-401E-B6E5-FEE84DB626AE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"/>
          <p:cNvSpPr/>
          <p:nvPr/>
        </p:nvSpPr>
        <p:spPr>
          <a:xfrm>
            <a:off x="257184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21120" y="110340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21120" y="2201760"/>
            <a:ext cx="264960" cy="2732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3978360" y="1370160"/>
            <a:ext cx="115920" cy="823680"/>
            <a:chOff x="3978360" y="1370160"/>
            <a:chExt cx="115920" cy="823680"/>
          </a:xfrm>
        </p:grpSpPr>
        <p:sp>
          <p:nvSpPr>
            <p:cNvPr id="651" name=""/>
            <p:cNvSpPr/>
            <p:nvPr/>
          </p:nvSpPr>
          <p:spPr>
            <a:xfrm>
              <a:off x="3978360" y="196524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2" y="144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73" y="0"/>
                  </a:lnTo>
                  <a:lnTo>
                    <a:pt x="42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044960" y="1370160"/>
              <a:ext cx="1440" cy="59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"/>
          <p:cNvSpPr/>
          <p:nvPr/>
        </p:nvSpPr>
        <p:spPr>
          <a:xfrm>
            <a:off x="5770440" y="5342040"/>
            <a:ext cx="26352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5845320" y="4525920"/>
            <a:ext cx="114120" cy="822240"/>
            <a:chOff x="5845320" y="4525920"/>
            <a:chExt cx="114120" cy="822240"/>
          </a:xfrm>
        </p:grpSpPr>
        <p:sp>
          <p:nvSpPr>
            <p:cNvPr id="655" name=""/>
            <p:cNvSpPr/>
            <p:nvPr/>
          </p:nvSpPr>
          <p:spPr>
            <a:xfrm>
              <a:off x="5845320" y="5119560"/>
              <a:ext cx="11412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41" y="144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910120" y="4525920"/>
              <a:ext cx="1800" cy="593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5770440" y="274968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4176720" y="2330280"/>
            <a:ext cx="1585800" cy="549360"/>
            <a:chOff x="4176720" y="2330280"/>
            <a:chExt cx="1585800" cy="549360"/>
          </a:xfrm>
        </p:grpSpPr>
        <p:sp>
          <p:nvSpPr>
            <p:cNvPr id="659" name=""/>
            <p:cNvSpPr/>
            <p:nvPr/>
          </p:nvSpPr>
          <p:spPr>
            <a:xfrm>
              <a:off x="5546880" y="2757600"/>
              <a:ext cx="215640" cy="122040"/>
            </a:xfrm>
            <a:custGeom>
              <a:avLst/>
              <a:gdLst/>
              <a:ahLst/>
              <a:rect l="l" t="t" r="r" b="b"/>
              <a:pathLst>
                <a:path w="136" h="77">
                  <a:moveTo>
                    <a:pt x="136" y="77"/>
                  </a:moveTo>
                  <a:lnTo>
                    <a:pt x="0" y="57"/>
                  </a:lnTo>
                  <a:lnTo>
                    <a:pt x="11" y="29"/>
                  </a:lnTo>
                  <a:lnTo>
                    <a:pt x="21" y="0"/>
                  </a:lnTo>
                  <a:lnTo>
                    <a:pt x="136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176720" y="2330280"/>
              <a:ext cx="1387440" cy="473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5845320" y="3032280"/>
            <a:ext cx="114120" cy="1218960"/>
            <a:chOff x="5845320" y="3032280"/>
            <a:chExt cx="114120" cy="1218960"/>
          </a:xfrm>
        </p:grpSpPr>
        <p:sp>
          <p:nvSpPr>
            <p:cNvPr id="662" name=""/>
            <p:cNvSpPr/>
            <p:nvPr/>
          </p:nvSpPr>
          <p:spPr>
            <a:xfrm>
              <a:off x="5845320" y="4129200"/>
              <a:ext cx="114120" cy="12204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41" y="77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910120" y="3032280"/>
              <a:ext cx="1800" cy="10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3046320" y="474660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38760" y="15825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31120" y="22683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62880" y="32288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654880" y="34732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53320" y="40370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721480" y="4708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964240" y="3565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337120" y="53481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888000" y="52117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430080" y="5913360"/>
            <a:ext cx="5060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element exists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51320" y="5791320"/>
            <a:ext cx="202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17120" y="5989680"/>
            <a:ext cx="202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lement does no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58880" y="6186600"/>
            <a:ext cx="1928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xist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597720" y="3549600"/>
            <a:ext cx="1436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nd :=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842080" y="4678200"/>
            <a:ext cx="249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unter := counter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391000" y="2978280"/>
            <a:ext cx="1188720" cy="143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33" y="0"/>
                </a:moveTo>
                <a:arcTo wR="10800" hR="10800" stAng="-5421423" swAng="5403237"/>
                <a:lnTo>
                  <a:pt x="10800" y="10800"/>
                </a:lnTo>
                <a:close/>
              </a:path>
              <a:path fill="none" w="21600" h="21600">
                <a:moveTo>
                  <a:pt x="10733" y="0"/>
                </a:moveTo>
                <a:arcTo wR="10800" hR="10800" stAng="-5421423" swAng="5403237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802480" y="424332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985360" y="3071160"/>
            <a:ext cx="594360" cy="131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43"/>
                </a:moveTo>
                <a:arcTo wR="10800" hR="10800" stAng="-18127" swAng="5466143"/>
                <a:lnTo>
                  <a:pt x="10800" y="10800"/>
                </a:lnTo>
                <a:close/>
              </a:path>
              <a:path fill="none" w="21600" h="21600">
                <a:moveTo>
                  <a:pt x="21600" y="10743"/>
                </a:moveTo>
                <a:arcTo wR="10800" hR="10800" stAng="-18127" swAng="546614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6041880" y="4341960"/>
            <a:ext cx="231840" cy="107640"/>
            <a:chOff x="6041880" y="4341960"/>
            <a:chExt cx="231840" cy="107640"/>
          </a:xfrm>
        </p:grpSpPr>
        <p:sp>
          <p:nvSpPr>
            <p:cNvPr id="684" name=""/>
            <p:cNvSpPr/>
            <p:nvPr/>
          </p:nvSpPr>
          <p:spPr>
            <a:xfrm>
              <a:off x="6041880" y="4341960"/>
              <a:ext cx="231840" cy="107640"/>
            </a:xfrm>
            <a:custGeom>
              <a:avLst/>
              <a:gdLst/>
              <a:ahLst/>
              <a:rect l="l" t="t" r="r" b="b"/>
              <a:pathLst>
                <a:path w="146" h="68">
                  <a:moveTo>
                    <a:pt x="0" y="29"/>
                  </a:moveTo>
                  <a:lnTo>
                    <a:pt x="146" y="0"/>
                  </a:lnTo>
                  <a:lnTo>
                    <a:pt x="146" y="29"/>
                  </a:lnTo>
                  <a:lnTo>
                    <a:pt x="146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257880" y="4387680"/>
              <a:ext cx="158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4052880" y="2750040"/>
            <a:ext cx="34347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9" y="21600"/>
                </a:moveTo>
                <a:arcTo wR="10800" hR="10800" stAng="5416147" swAng="5403840"/>
                <a:lnTo>
                  <a:pt x="10800" y="10800"/>
                </a:lnTo>
                <a:close/>
              </a:path>
              <a:path fill="none" w="21600" h="21600">
                <a:moveTo>
                  <a:pt x="10749" y="21600"/>
                </a:moveTo>
                <a:arcTo wR="10800" hR="10800" stAng="5416147" swAng="5403840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3962520" y="2452680"/>
            <a:ext cx="131760" cy="1630440"/>
            <a:chOff x="3962520" y="2452680"/>
            <a:chExt cx="131760" cy="1630440"/>
          </a:xfrm>
        </p:grpSpPr>
        <p:sp>
          <p:nvSpPr>
            <p:cNvPr id="688" name=""/>
            <p:cNvSpPr/>
            <p:nvPr/>
          </p:nvSpPr>
          <p:spPr>
            <a:xfrm>
              <a:off x="3962520" y="2452680"/>
              <a:ext cx="131760" cy="212760"/>
            </a:xfrm>
            <a:custGeom>
              <a:avLst/>
              <a:gdLst/>
              <a:ahLst/>
              <a:rect l="l" t="t" r="r" b="b"/>
              <a:pathLst>
                <a:path w="83" h="134">
                  <a:moveTo>
                    <a:pt x="42" y="0"/>
                  </a:moveTo>
                  <a:lnTo>
                    <a:pt x="83" y="134"/>
                  </a:lnTo>
                  <a:lnTo>
                    <a:pt x="42" y="134"/>
                  </a:lnTo>
                  <a:lnTo>
                    <a:pt x="0" y="13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4029120" y="2665440"/>
              <a:ext cx="1440" cy="1417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3160800" y="2354400"/>
            <a:ext cx="1551960" cy="417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58"/>
                </a:moveTo>
                <a:arcTo wR="10800" hR="10800" stAng="-10786766" swAng="5351509"/>
                <a:lnTo>
                  <a:pt x="10800" y="10800"/>
                </a:lnTo>
                <a:close/>
              </a:path>
              <a:path fill="none" w="21600" h="21600">
                <a:moveTo>
                  <a:pt x="0" y="10758"/>
                </a:moveTo>
                <a:arcTo wR="10800" hR="10800" stAng="-10786766" swAng="5351509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3087720" y="4373640"/>
            <a:ext cx="131760" cy="380880"/>
            <a:chOff x="3087720" y="4373640"/>
            <a:chExt cx="131760" cy="380880"/>
          </a:xfrm>
        </p:grpSpPr>
        <p:sp>
          <p:nvSpPr>
            <p:cNvPr id="692" name=""/>
            <p:cNvSpPr/>
            <p:nvPr/>
          </p:nvSpPr>
          <p:spPr>
            <a:xfrm>
              <a:off x="3087720" y="4540320"/>
              <a:ext cx="131760" cy="214200"/>
            </a:xfrm>
            <a:custGeom>
              <a:avLst/>
              <a:gdLst/>
              <a:ahLst/>
              <a:rect l="l" t="t" r="r" b="b"/>
              <a:pathLst>
                <a:path w="83" h="135">
                  <a:moveTo>
                    <a:pt x="41" y="13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83" y="0"/>
                  </a:lnTo>
                  <a:lnTo>
                    <a:pt x="41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152880" y="4373640"/>
              <a:ext cx="1440" cy="166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2600280" y="4732560"/>
            <a:ext cx="530280" cy="1308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0" y="21599"/>
                </a:moveTo>
                <a:arcTo wR="10800" hR="10800" stAng="5454071" swAng="5367221"/>
                <a:lnTo>
                  <a:pt x="10800" y="10800"/>
                </a:lnTo>
                <a:close/>
              </a:path>
              <a:path fill="none" w="21600" h="21600">
                <a:moveTo>
                  <a:pt x="10630" y="21599"/>
                </a:moveTo>
                <a:arcTo wR="10800" hR="10800" stAng="5454071" swAng="5367221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600280" y="4898880"/>
            <a:ext cx="891720" cy="9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43"/>
                </a:moveTo>
                <a:arcTo wR="10800" hR="10800" stAng="-10781960" swAng="5362925"/>
                <a:lnTo>
                  <a:pt x="10800" y="10800"/>
                </a:lnTo>
                <a:close/>
              </a:path>
              <a:path fill="none" w="21600" h="21600">
                <a:moveTo>
                  <a:pt x="0" y="10743"/>
                </a:moveTo>
                <a:arcTo wR="10800" hR="10800" stAng="-10781960" swAng="5362925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913480" y="4884840"/>
            <a:ext cx="859680" cy="1310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15" y="0"/>
                </a:moveTo>
                <a:arcTo wR="10800" hR="10800" stAng="-5427084" swAng="5405193"/>
                <a:lnTo>
                  <a:pt x="10800" y="10800"/>
                </a:lnTo>
                <a:close/>
              </a:path>
              <a:path fill="none" w="21600" h="21600">
                <a:moveTo>
                  <a:pt x="10715" y="0"/>
                </a:moveTo>
                <a:arcTo wR="10800" hR="10800" stAng="-5427084" swAng="540519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979720" y="5997600"/>
            <a:ext cx="26496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44600" y="4991760"/>
            <a:ext cx="628560" cy="109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31"/>
                </a:moveTo>
                <a:arcTo wR="10800" hR="10800" stAng="-22094" swAng="5453833"/>
                <a:lnTo>
                  <a:pt x="10800" y="10800"/>
                </a:lnTo>
                <a:close/>
              </a:path>
              <a:path fill="none" w="21600" h="21600">
                <a:moveTo>
                  <a:pt x="21600" y="10731"/>
                </a:moveTo>
                <a:arcTo wR="10800" hR="10800" stAng="-22094" swAng="545383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2757600" y="5958000"/>
            <a:ext cx="247680" cy="108000"/>
            <a:chOff x="2757600" y="5958000"/>
            <a:chExt cx="247680" cy="108000"/>
          </a:xfrm>
        </p:grpSpPr>
        <p:sp>
          <p:nvSpPr>
            <p:cNvPr id="700" name=""/>
            <p:cNvSpPr/>
            <p:nvPr/>
          </p:nvSpPr>
          <p:spPr>
            <a:xfrm>
              <a:off x="2757600" y="5958000"/>
              <a:ext cx="247680" cy="108000"/>
            </a:xfrm>
            <a:custGeom>
              <a:avLst/>
              <a:gdLst/>
              <a:ahLst/>
              <a:rect l="l" t="t" r="r" b="b"/>
              <a:pathLst>
                <a:path w="156" h="68">
                  <a:moveTo>
                    <a:pt x="156" y="58"/>
                  </a:moveTo>
                  <a:lnTo>
                    <a:pt x="0" y="68"/>
                  </a:lnTo>
                  <a:lnTo>
                    <a:pt x="10" y="29"/>
                  </a:lnTo>
                  <a:lnTo>
                    <a:pt x="21" y="0"/>
                  </a:lnTo>
                  <a:lnTo>
                    <a:pt x="156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 flipV="1">
              <a:off x="2773080" y="6004080"/>
              <a:ext cx="66600" cy="15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3252960" y="6033960"/>
            <a:ext cx="230040" cy="108000"/>
            <a:chOff x="3252960" y="6033960"/>
            <a:chExt cx="230040" cy="108000"/>
          </a:xfrm>
        </p:grpSpPr>
        <p:sp>
          <p:nvSpPr>
            <p:cNvPr id="703" name=""/>
            <p:cNvSpPr/>
            <p:nvPr/>
          </p:nvSpPr>
          <p:spPr>
            <a:xfrm>
              <a:off x="3252960" y="6033960"/>
              <a:ext cx="230040" cy="108000"/>
            </a:xfrm>
            <a:custGeom>
              <a:avLst/>
              <a:gdLst/>
              <a:ahLst/>
              <a:rect l="l" t="t" r="r" b="b"/>
              <a:pathLst>
                <a:path w="145" h="68">
                  <a:moveTo>
                    <a:pt x="0" y="29"/>
                  </a:moveTo>
                  <a:lnTo>
                    <a:pt x="145" y="0"/>
                  </a:lnTo>
                  <a:lnTo>
                    <a:pt x="145" y="29"/>
                  </a:lnTo>
                  <a:lnTo>
                    <a:pt x="145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33680" y="6080040"/>
              <a:ext cx="49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1E4C-FB49-46E5-B2FC-50A5106A2C67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 check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verification, in general, is an undecidable probl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 checking is a rather recent verification technique based on the fact that most interesting system properties become decidable (i.e., algorithmically verifiable) when the system is modeled as a finite state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E4F0-4CCA-46E0-BF94-47D682A89750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cribe a given system—software or otherwise—as an F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ress a given property of interest as a suitable formu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erify whether the system’s behavior does indeed satisfy the desired proper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step can be performed automa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del checker either provid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at the property holds or giv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examp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 the form of a test case that exposes the system’s failure to behave according to the proper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24AC-E5CA-493C-802A-A723789C08F5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46:31Z</dcterms:created>
  <dc:creator>Carlo Ghezzi</dc:creator>
  <dc:description/>
  <dc:language>en-US</dc:language>
  <cp:lastModifiedBy>jazayeri</cp:lastModifiedBy>
  <dcterms:modified xsi:type="dcterms:W3CDTF">2002-02-19T18:10:32Z</dcterms:modified>
  <cp:revision>27</cp:revision>
  <dc:subject/>
  <dc:title>PowerPoint Presentation</dc:title>
</cp:coreProperties>
</file>