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DA14F-C9D9-442B-AEBF-14B42BCA8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57E08-4307-4F28-B974-7C7F2BD9E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4F320-0A7B-460C-9690-B74F474EE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E0F69-C827-4322-A595-78346EA54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F33B9-E045-4381-B710-CB990714D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8FABA-D4A8-40CC-BD14-57A3298A4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457B0-7026-4CEF-BA6A-7B2AE00B8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F7B70-2711-424A-B2F8-43E235BC6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FA911-C41D-4124-A8B3-BD0024D12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76DD3-F066-4D35-AC53-3A0BBAD53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142BE-9693-418B-9D23-B30BC4214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42AE1-239E-4087-B317-26DBE1E09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28F72-EAFB-4F44-8688-8311969A75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572EB-845A-458E-8887-88010226529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utomating a law offi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F3FBF-2D93-431E-A969-BC5EFF7CB2D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Good intuition and technical skills are not enough to guarantee su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arketing analysis and process organization must be planned carefully before committing to the pro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hanges in schedules and project sourcing after serious problems are encountered can be difficult and expensive, if not impossible to implem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1F1C9-F756-409F-A9A1-D166D6EB462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uilding a family of compil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BF2B6-55CF-402B-AB5D-3B93B3DA867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Good engineers are essential to the success of a pro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Use of standard test suites helps obtain objective measures of the completion status of a pro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Transparency of process helps entire organization in plan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Revising a schedule on the basis of objective data helps the schedule become more reali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Reuse of large software components on the basis of clear specifications is possible and advantageou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C06B8-8765-4466-BFE7-7B24BA70223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cremental deliver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FA3C9-FA36-4472-B227-0CA6AD33C2E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Prototyping i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A throw-away prototype may be used by clients to start on their project while they await the final produ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A throw-away prototype enables parallel development by clients and develop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throw-away prototype may be used to prune an initial set of requirements on the basis of actual usage and need for featur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E3284-1155-407F-9B18-EDB5E372609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pplying formal methods in industry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38261-10C8-4074-BFF0-544AAD474AF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7524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Formal methods can be effective in practice and their use results in increased reliability and reduced development and verification costs which compensate for the increased effort in the specification ph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Industrial environments are reluctant to adopt them, even after successful pilot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they are afraid of the special training required, which causes organizational efforts and economic invest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“lightweight approach” may be possible which exploits the incrementality principl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71728-E808-4068-BC6C-72AE157FED2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31T16:29:53Z</dcterms:created>
  <dc:creator>Carlo Ghezzi</dc:creator>
  <dc:description/>
  <dc:language>en-US</dc:language>
  <cp:lastModifiedBy>jazayeri</cp:lastModifiedBy>
  <dcterms:modified xsi:type="dcterms:W3CDTF">2002-02-20T10:09:00Z</dcterms:modified>
  <cp:revision>4</cp:revision>
  <dc:subject/>
  <dc:title>Case studies</dc:title>
</cp:coreProperties>
</file>