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8C86A-5A02-465C-B943-49548950D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725DD-3AD5-4A3B-9F7D-77C09D747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E5A8F-07C6-4757-8AF8-D645F4A8E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33BC9-EAF7-40FD-84E5-ADCE24142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69E51-04BD-414E-B5F9-76201B83B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0F5BA-F122-44C3-B398-2B3E130E0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9AA83-729F-460E-9427-CB8E6281E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15BE8-04A9-465A-A130-A9A741C6E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565C9-EE06-4C9E-B6B4-76144DDFB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D628D-47CD-4762-AB45-671D60811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57CD0-E345-40AA-A999-640F4CA29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7ECEA-BBC6-44A5-AF15-5FD05CCB3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8B98A-6D57-4A26-9E04-440979D00C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990720" y="1600200"/>
          <a:ext cx="7353360" cy="3968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600200"/>
                    <a:ext cx="7353360" cy="396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5T15:14:48Z</dcterms:created>
  <dc:creator>Spencer Smith</dc:creator>
  <dc:description/>
  <dc:language>en-US</dc:language>
  <cp:lastModifiedBy>Spencer Smith</cp:lastModifiedBy>
  <dcterms:modified xsi:type="dcterms:W3CDTF">2008-02-15T15:16:01Z</dcterms:modified>
  <cp:revision>1</cp:revision>
  <dc:subject/>
  <dc:title>PowerPoint Presentation</dc:title>
</cp:coreProperties>
</file>