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5EA2-29EC-4037-8100-98D4733DB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800C-342A-4325-BC9A-2D01A5C6D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EEBD-3408-4A1D-9821-52181C317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4C3E-DDC9-4569-9F86-6D604CC6E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B17E-CAA0-4DEC-B22C-EA95EA7CD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EC60-1AC2-4AB3-95FB-62E99B074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AB7C-92AD-4113-B52C-D7EA0C15D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2F06-3713-4D6F-B814-0AD2CEE03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F5D8-48CC-404C-A94D-CD2488D23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4D20-2583-454E-91D4-45C90E6A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F434-2064-4E1C-BF87-AD8C1306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8DE0-3A6D-4838-8AED-3BED3838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134C3-5B41-48D3-8082-C8C8C19864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3248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09:16Z</dcterms:modified>
  <cp:revision>3</cp:revision>
  <dc:subject/>
  <dc:title>PowerPoint Presentation</dc:title>
</cp:coreProperties>
</file>