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C803-B628-4A0D-8B55-0FE2F9902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3357-0DDE-4843-8FF3-4E2237E22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F26A-AF32-4F33-8096-FAA88A508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8EF2-E0BB-4CBE-876F-B50EB73AD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7041-CA8B-4E37-A623-11B6D3CF1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43F2-62C5-4237-A1AD-FD119F10D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6B42-58E6-484C-9F44-C9524F869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5B2C-BA6E-4286-B25D-9AAB37056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51B4-B665-4FFE-BB13-CE2B2FA69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79C3-2931-48A5-A9FB-CBD401B24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2052-442B-4F72-A31E-12E8DE821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2AA9-8B44-4E6E-8728-7A15108D9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180E1-095D-45B5-A80F-4878A95C4A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pilogu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840F-0A7E-499E-93B6-6AA5FD22817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ill be the future of the fiel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the impact of SE on socie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ethical issues are raised by S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7C13-F4C0-40E7-A9A2-1D1C0C1ABFF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ound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requires the application of engineering principles guided by informed manage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inciples must be rooted in sound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igorous approaches must be combined with experimentation, intuition, and common sen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o “silver bullets”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CBDF-71AB-49F5-AC8B-A36EBEF74D3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ess expec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spec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ization is a sign of maturity of a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onent-based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domain-specific architec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re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tributed virtual te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4845-D632-4102-85D3-8F77172427F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cial responsi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defects may cost lives or tremendous business lo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hould try to prevent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hould study them when they occur, to avoid failures in the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creates new opportunities for  increasing productivity and services, but also opportunities for criminal fraud and sabotage (e.g., virus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uilding reliable software is not only a technical goal; it has ethical and social implications for the serious profession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78DA-4B4A-4595-AAE0-D50BB5BCE29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CM and IEEE Computer Society have developed a “Software engineering code of ethics and professional practices”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“public interest” is central to the code, which emphasizes the professional’s obligation to the public at lar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imary concern for the health, safety, and welfare of th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97DC-E69E-4CCF-A38C-3BA09097115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ct consistently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lient and Emplo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ct in a manner that is in the best interests of their client and employer, consistent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ensure that their products and related modifications meet the highest professional standards possi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ud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maintain integrity and independence in their professional jud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F3FB-F5B5-4B64-9CBD-931A0C90027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 princip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ing managers and leaders shall subscribe to and promote an ethical approach to the management of software development and mainten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f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dvance the integrity and reputation of the profession, consistent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lleag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be fair to, and supportive of, their colleag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participate in lifelong learning regarding the practice of their profession and shall promote an ethical approach to the practice of the profess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A18B-0F37-46F5-971B-BC73E00369A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5:27:45Z</dcterms:created>
  <dc:creator>Carlo Ghezzi</dc:creator>
  <dc:description/>
  <dc:language>en-US</dc:language>
  <cp:lastModifiedBy>jazayeri</cp:lastModifiedBy>
  <dcterms:modified xsi:type="dcterms:W3CDTF">2002-02-19T18:44:34Z</dcterms:modified>
  <cp:revision>5</cp:revision>
  <dc:subject/>
  <dc:title>PowerPoint Presentation</dc:title>
</cp:coreProperties>
</file>