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E568-18D1-45E3-8712-39BA21578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C0EC-20CD-4115-A611-3DD3A2836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533D-6D84-4986-837C-EE704269C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8461-2985-4162-96F3-E0556BA5A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3302-30A6-4E6F-9B57-DAB7604C0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A404-CDA8-4741-A3D7-68897BBAF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650A-0FFD-4C73-B4BA-7849BF23E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A5BC-08C9-4671-89E6-C91EC27B6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9C57-8C16-4A88-90CF-1BF16A54D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A5E7-5BB1-4BAF-A544-1E7C8EF2C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BE43-5CF7-42A4-99AC-C3D7F3DC1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ABFC-5866-451D-8680-32067CFA2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5584C-3133-4A98-9932-FB7C3F6059A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s Nature and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C5A7-18DD-4B2F-B1EB-5CA01E8AC2E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fficient use of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, processing time,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ver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lexity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evaluation (on a model, via simul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formance can affect scal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olution that works on a small local network may not work on a large intr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841B-F7FD-4E68-9044-1DE5C45C497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cted users find the system easy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term: user-friend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ther subjective, difficult to evalu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ffected mostly by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ser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visual vs. text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BC8D-7A02-4347-B2C9-A72B4050EBC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easy it is to verify proper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an inter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external as well (e.g., security critical applic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E3DF-3DD4-404A-BCE8-42599AD90DD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ain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ainability: ease of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enance: changes after relea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aintenance costs exceed 60% of total cost of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ree main categories of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removing residual errors (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dap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adjusting to environment changes (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erfec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quality improvements (&gt;5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EE4F-1787-4BCF-80A4-7676380379E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ain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decomposed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air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to correct defects in reasonabl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v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to adapt sw to environment changes and to improve it in reasonabl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8E02-9A63-4C32-8B1C-1A437153435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us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sting product (or components) used (with minor modifications) to build another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imilar to evolvabilit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applies to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use of standard parts measure of maturity of the fie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A95D-A53D-41F9-8F0D-31F04C88900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rt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can run on different hw platforms or sw environ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ains relevant as new platforms and environments are introduced (e.g. digital assistan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evant when downloading software in a heterogeneous network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CC63-5738-49A1-BB02-A1FE4F7F86E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derstand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se of understanding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 modification requires program understa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EF25-DB6E-42F0-BF4A-031905FAB47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oper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bility of a system to coexist and cooperate with other system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word processor and spreadshe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60AB-FC10-4437-8213-36DB3697F15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process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otes its efficiency an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ime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bility to deliver a product 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isi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ll of its steps and current status are documented clearly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0395-2A23-44B5-A4F4-71F4E214340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ftware engineer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(SE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n intellectual activity and thus human-intens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is built to meet a certain functional goal and satisfy certain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processes also must meet certain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qualities are sometimes referred to as “ilities”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6DA2-9451-402F-9977-D6AD968F3F1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liness: 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 the development process does not follow the evolution of user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ismatch occurs between user requirements and status of the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B1C4-7C07-4370-9DA2-6411CA485DC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liness: a visual description of the mismatch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"/>
          <p:cNvSpPr/>
          <p:nvPr/>
        </p:nvSpPr>
        <p:spPr>
          <a:xfrm>
            <a:off x="2408400" y="212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7650000" cy="460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1953-167C-4CC5-B710-B2912D8F4C7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-specific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, information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ransaction performance.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C02B-7E5C-421D-8658-7E053E14CFC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ality measur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y qualities are subje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standard metrics defined for most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7CA9-4BB0-4613-95AE-C4E6631FCAC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from traditional types of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ang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describe and evalu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lle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man intens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lves only trivial “manufacturing”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7485-C22D-46B5-95C7-6249C2AE72E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ification of sw qualiti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"ilities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vs. exter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isible to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cern develop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vs.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r goal is to develop software produ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cess is how we do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qualities affect external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quality affects product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5F4C-0FE0-4067-89CD-66172BC6D0E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07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is correct if it satisfies the functional requirements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that specification exist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specifications are formal, since programs are formal objects, correctness can be defined form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can be proven as a theorem or disproved by counterexamples (tes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8710-2CC3-4866-91D4-E18C454B47E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limits of correc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an absolute (yes/no) qu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cept of “degree of correctnes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cept of severity of dev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f specifications are wro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e.g., they derive from incorrect requirements or errors in domain knowledg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1A71-F722-4EB3-9F92-7C6E599AEE6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ly, user can rely on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defined mathematically as “probability of absence of failures for a certain time perio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pecs are correct, all correct software is reliable, but not vice-versa (in practice, however, specs can be incorrect 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DC8A-B85C-476B-96B3-B9A8DFF8021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dealized situ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are corr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362320" y="2514600"/>
          <a:ext cx="4952880" cy="402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514600"/>
                    <a:ext cx="4952880" cy="40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9D23-13AA-49C4-AD27-B92DC9BEF1C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bus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6858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behaves “reasonably” even in unforeseen circumstances (e.g., incorrect input, hardware failu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"/>
          <p:cNvSpPr/>
          <p:nvPr/>
        </p:nvSpPr>
        <p:spPr>
          <a:xfrm>
            <a:off x="404352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9D41-6113-4F74-8EB3-704E54BE139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09:36:44Z</dcterms:created>
  <dc:creator>Carlo Ghezzi</dc:creator>
  <dc:description/>
  <dc:language>en-US</dc:language>
  <cp:lastModifiedBy>jazayeri</cp:lastModifiedBy>
  <cp:lastPrinted>1999-03-04T17:52:08Z</cp:lastPrinted>
  <dcterms:modified xsi:type="dcterms:W3CDTF">2002-02-19T18:24:53Z</dcterms:modified>
  <cp:revision>36</cp:revision>
  <dc:subject/>
  <dc:title>Software Engineering</dc:title>
</cp:coreProperties>
</file>