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1F0D-A8CF-4710-99CE-520AB5FEB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8EBF-98B7-4B39-BBF7-B5A55ADAE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E293-07C3-4BA1-810E-4FE233D73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74C9-9BA4-4129-BAFD-722ADD937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924C-CF2D-4842-BC71-C5E29270F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1C8E-138E-4F26-8A8F-0F76E8F5E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4C0A-E6DA-4ED8-A35B-2C8E1974D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70BE-A29D-4039-8143-7749E2A11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459E-E239-4E93-8305-56050DF61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B770-2E70-4BD2-835F-E0FF445B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F76B-2E2C-411E-B128-0644854B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8368-0D93-4AFC-A04C-26C3E814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AB7D0-CE21-48E5-9E4C-EE174B26B3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432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0:59Z</dcterms:modified>
  <cp:revision>5</cp:revision>
  <dc:subject/>
  <dc:title>PowerPoint Presentation</dc:title>
</cp:coreProperties>
</file>