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E1FB-2E01-4448-ABB5-6FD71DA1C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B210-705D-4193-9DA5-FB75A56F7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B7B0-EFCD-4A91-9234-205B161BF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05BC-F947-4FFA-BF98-2EAC0735C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C0F6-70BB-4A90-AFEB-EBF5A6FB3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20EE-4D20-4BB5-83FA-D82AA9053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CB6F-5D07-4FD1-8246-A5BF06268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D02E-0265-49F5-BA6B-DCB87C596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96AD-6AEE-4CF1-9E41-E1D136488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A3D4-1AD5-4EB4-BBD1-FA8D6CB1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F8F7-BD73-42C3-B81F-D3EF0455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703C-BC21-4604-95FE-F09A53EC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D4B87-C12A-429E-9522-52CB3FB2CF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2248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8928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4:25Z</dcterms:modified>
  <cp:revision>7</cp:revision>
  <dc:subject/>
  <dc:title>PowerPoint Presentation</dc:title>
</cp:coreProperties>
</file>