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6180-0B28-42B4-B4B6-EE2356EB0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92A8-1B60-4AFA-8415-FD7C7D5E3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931C-60CE-4C35-BDC0-9402E81C7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ED42-0446-49E5-8997-089AF772B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F4AC-809B-4258-9B23-246A90C4C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5F17-7A5B-449A-B7E7-C3DEDA459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9625-5143-4825-A096-D4849D935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0767-7BA6-490A-820C-504722DD7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96EB-CBC4-4FED-B7B6-80C5A5591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386A-1D36-49C1-8F7F-C8F66D039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67CF-B006-4C38-8414-1F647DE2B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7E9F-4AEF-461A-A8DC-594F9773F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AFB1D-318F-4C75-8247-73411E547A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01520" y="2239920"/>
          <a:ext cx="9045720" cy="3749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520" y="2239920"/>
                    <a:ext cx="9045720" cy="374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5:54:07Z</dcterms:created>
  <dc:creator>Spencer Smith</dc:creator>
  <dc:description/>
  <dc:language>en-US</dc:language>
  <cp:lastModifiedBy>Spencer Smith</cp:lastModifiedBy>
  <dcterms:modified xsi:type="dcterms:W3CDTF">2008-03-12T15:54:41Z</dcterms:modified>
  <cp:revision>1</cp:revision>
  <dc:subject/>
  <dc:title>PowerPoint Presentation</dc:title>
</cp:coreProperties>
</file>