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E67C-7A2C-4C09-B7F5-61A86932E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F39A-C147-4BFD-834C-D6DFD0429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BE03-CD50-4BE7-9FE8-CDC1FA09F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6057-A8D7-4754-8159-2B5C94C9B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B693-5A60-4275-82C6-E7E394A5D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D71B-F0CE-4DBC-9AE0-FAA7D6503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55BA-F1A6-4A54-BA0F-0B9F94956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CC95-FEA7-4FB2-9DD0-A03D2160D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8EB9-A065-4D1D-859D-3A285315F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AE68-3358-48AA-AC2E-6D0390FD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C29A-4485-4C71-A97F-902A8798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5129-1E1A-49FA-931A-FD38FCE8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1C1BD-23E6-4B3E-BF89-5319832A4C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3:45:13Z</dcterms:created>
  <dc:creator>Spencer Smith</dc:creator>
  <dc:description/>
  <dc:language>en-US</dc:language>
  <cp:lastModifiedBy>Spencer Smith</cp:lastModifiedBy>
  <dcterms:modified xsi:type="dcterms:W3CDTF">2008-03-13T03:46:39Z</dcterms:modified>
  <cp:revision>1</cp:revision>
  <dc:subject/>
  <dc:title>PowerPoint Presentation</dc:title>
</cp:coreProperties>
</file>