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0D01-B771-4147-AA53-E7DDBADA5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E8B6-D85C-48A2-B9B2-676780322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F17A-0D3C-41BD-BD86-2FF7CFF33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9617-86E0-42EF-9AD0-9D1BABCBF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B005-2816-4EB5-84C5-3A3C0B4C9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E3CA-F80C-4EA8-8AE5-509BCEE8B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68C2-1481-4B0F-8AA0-3B8C56B76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104C-6403-401D-B15D-08AB7CF57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91C5-6E04-4A3C-A11C-43614E2A1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2E03-C33D-4184-96BF-6BAFE032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E40E-D571-4560-9F61-2EDD3438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A926-DB80-47E5-8D82-672C599C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A3F69-F0BB-45C4-8545-C043206390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1520" y="2239920"/>
          <a:ext cx="9045720" cy="374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20" y="2239920"/>
                    <a:ext cx="9045720" cy="37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54:07Z</dcterms:created>
  <dc:creator>Spencer Smith</dc:creator>
  <dc:description/>
  <dc:language>en-US</dc:language>
  <cp:lastModifiedBy>Spencer Smith</cp:lastModifiedBy>
  <dcterms:modified xsi:type="dcterms:W3CDTF">2008-03-12T15:54:41Z</dcterms:modified>
  <cp:revision>1</cp:revision>
  <dc:subject/>
  <dc:title>PowerPoint Presentation</dc:title>
</cp:coreProperties>
</file>