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9.wmf" ContentType="image/x-wmf"/>
  <Override PartName="/ppt/media/image16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13.wmf" ContentType="image/x-wmf"/>
  <Override PartName="/ppt/media/image5.png" ContentType="image/png"/>
  <Override PartName="/ppt/media/image14.wmf" ContentType="image/x-wmf"/>
  <Override PartName="/ppt/media/image6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C36B-B816-40E2-987B-3CAFED6E6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AB33-0150-4DA7-8800-7B171129E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73F9-9570-41FD-A115-65CCDCBC8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CBFA-3F37-478F-8867-DDF766F89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4BBA-2103-4E72-B21F-2C9A9EA87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08A3-E751-4EBF-867E-C0740E942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450E-9069-4CAD-AE9C-4A4621DB9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0E0C-221F-428C-9405-C9E238E76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C30F-9CEA-4021-B00B-64FA7C913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BE27-C74B-426B-A37C-177E36A93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60CF-1487-4322-B8AE-7642AE144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ADF1-4B58-4E00-8E14-B7257D70D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F6661-6DAA-4111-BC12-A48FAEE3D3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7.png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 of Software 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4131-0346-4170-AB83-A14028CA28B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ize of co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ze of code produced per unit of time as productivity meas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efine exactly what "size of code" me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livered source instructions (DSI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oncommented source statements (NCS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. but how good is this metric?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B977-2451-45B4-A790-DB300D2AAAF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actors affecting produ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fessionals' capabi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duct complex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hedule constrai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vious experi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Overly aggressive scheduling may have negative effec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38F5-2000-4D1E-B445-3E6D220E249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ople and produ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cause software engineering is predominantly an intellectual activity, the most important ingredient for producing high-quality software efficiently is peopl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Large variability in productivity between engineer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7FD5-4DAD-4ECE-AFED-2113AC83B4E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st estim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e nee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edictiv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methods to estimate the complexity of software before it has been develop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edict size of the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se it as input for deriving the required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B443-634D-4AF6-A0F2-844F0F6F497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neric formula for effor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"/>
          <p:cNvSpPr/>
          <p:nvPr/>
        </p:nvSpPr>
        <p:spPr>
          <a:xfrm>
            <a:off x="2922480" y="2286000"/>
            <a:ext cx="3143520" cy="6426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  <a:ea typeface="Times New Roman"/>
              </a:rPr>
              <a:t>PM = c.KLOC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k</a:t>
            </a:r>
            <a:r>
              <a:rPr b="0" lang="it-IT" sz="3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4960" y="2971800"/>
            <a:ext cx="4467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g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M: person mon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LOC: K lines of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, k depend on th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&gt;1 (non-linear growt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162080" y="5257800"/>
            <a:ext cx="6991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estimate then calibrated using a numb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"cost drivers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8A74-E8C3-4B4C-A6F2-561FF952FDF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ypical cost driver categor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du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reliability requirements or inherent complex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re there execution time or storage constraint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erso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re the personnel experienced in the application area or the programming language being used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re sophisticated software tools being used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520E-9701-4658-A356-1B61B731048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st estimation proced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stimate software size, and use it in the model’s formula to get initial effort estim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vise estimate by using the cost driver or other scaling factors given by the mod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pply the model’s tools to the estimate derived in step 2 to determine the total effort, activity distribution, etc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F558-8F0F-4123-8389-DDB69A9D035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COMO model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Constructive Cost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114200" y="3862440"/>
            <a:ext cx="6629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by B. Boe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ved from COCOMO to COCOMO I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3D96-759F-4562-9D9B-B9DD57F4A03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COM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ize estimate based on delivered source instructions, KDS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tegorizes the software as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mideta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mbe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ach has an associated formula for nominal development effort based on estimated code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D67B-F308-42E7-B537-8B940349D62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771560" y="723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575480" y="618156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575480" y="6181560"/>
            <a:ext cx="9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575480" y="618156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575480" y="618156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575480" y="6181560"/>
            <a:ext cx="9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575480" y="618156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65720" y="620064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882720" y="1077840"/>
            <a:ext cx="7923960" cy="5125320"/>
            <a:chOff x="882720" y="1077840"/>
            <a:chExt cx="7923960" cy="5125320"/>
          </a:xfrm>
        </p:grpSpPr>
        <p:grpSp>
          <p:nvGrpSpPr>
            <p:cNvPr id="92" name=""/>
            <p:cNvGrpSpPr/>
            <p:nvPr/>
          </p:nvGrpSpPr>
          <p:grpSpPr>
            <a:xfrm>
              <a:off x="882720" y="1077840"/>
              <a:ext cx="7923960" cy="4662360"/>
              <a:chOff x="882720" y="1077840"/>
              <a:chExt cx="7923960" cy="4662360"/>
            </a:xfrm>
          </p:grpSpPr>
          <p:sp>
            <p:nvSpPr>
              <p:cNvPr id="93" name=""/>
              <p:cNvSpPr/>
              <p:nvPr/>
            </p:nvSpPr>
            <p:spPr>
              <a:xfrm>
                <a:off x="961560" y="11257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4429440" y="1105920"/>
                <a:ext cx="45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6313680" y="1104120"/>
                <a:ext cx="4366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Mod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6844320" y="1108440"/>
                <a:ext cx="45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464600" y="1105920"/>
                <a:ext cx="45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882720" y="107784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8272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82720" y="107784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82720" y="1077840"/>
                <a:ext cx="13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8272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896400" y="1077840"/>
                <a:ext cx="34538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96400" y="1077840"/>
                <a:ext cx="34538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4350600" y="107784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350600" y="1077840"/>
                <a:ext cx="13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435060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364640" y="1077840"/>
                <a:ext cx="139500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364640" y="1077840"/>
                <a:ext cx="13950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759640" y="107784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5759640" y="1077840"/>
                <a:ext cx="13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75964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5773320" y="1077840"/>
                <a:ext cx="16120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773320" y="1077840"/>
                <a:ext cx="1612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7385760" y="107784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7385760" y="1077840"/>
                <a:ext cx="118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738576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398000" y="1077840"/>
                <a:ext cx="139680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398000" y="1077840"/>
                <a:ext cx="13968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794800" y="107784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794800" y="1077840"/>
                <a:ext cx="216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794800" y="107784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8794800" y="1077840"/>
                <a:ext cx="118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8794800" y="1077840"/>
                <a:ext cx="216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882720" y="1092960"/>
                <a:ext cx="136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82720" y="1092960"/>
                <a:ext cx="144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794800" y="1092960"/>
                <a:ext cx="118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794800" y="1092960"/>
                <a:ext cx="216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962280" y="1416960"/>
                <a:ext cx="5493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0000"/>
                    </a:solidFill>
                    <a:latin typeface="Times New Roman"/>
                  </a:rPr>
                  <a:t>Featur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623240" y="1416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430520" y="1416960"/>
                <a:ext cx="5767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0000"/>
                    </a:solidFill>
                    <a:latin typeface="Times New Roman"/>
                  </a:rPr>
                  <a:t>Organi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124960" y="1416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5839920" y="1416960"/>
                <a:ext cx="9792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0000"/>
                    </a:solidFill>
                    <a:latin typeface="Times New Roman"/>
                  </a:rPr>
                  <a:t>Semidetached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7020000" y="1416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7466040" y="1416960"/>
                <a:ext cx="7596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0000"/>
                    </a:solidFill>
                    <a:latin typeface="Times New Roman"/>
                  </a:rPr>
                  <a:t>Embedded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379720" y="1416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82720" y="137268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82720" y="137268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350600" y="137268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350600" y="137268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350600" y="1372680"/>
                <a:ext cx="1368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350600" y="1372680"/>
                <a:ext cx="136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350600" y="1372680"/>
                <a:ext cx="1440" cy="13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364640" y="1372680"/>
                <a:ext cx="139500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364640" y="1372680"/>
                <a:ext cx="139500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5759640" y="1372680"/>
                <a:ext cx="1368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5759640" y="1372680"/>
                <a:ext cx="136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5759640" y="1372680"/>
                <a:ext cx="1440" cy="13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5773320" y="1372680"/>
                <a:ext cx="161208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5773320" y="1372680"/>
                <a:ext cx="16120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385760" y="1372680"/>
                <a:ext cx="1188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385760" y="1372680"/>
                <a:ext cx="118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85760" y="1372680"/>
                <a:ext cx="1440" cy="13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98000" y="1372680"/>
                <a:ext cx="139680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398000" y="1372680"/>
                <a:ext cx="139680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794800" y="137268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794800" y="1372680"/>
                <a:ext cx="216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82720" y="1388160"/>
                <a:ext cx="13680" cy="277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82720" y="1388160"/>
                <a:ext cx="1440" cy="277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350600" y="1388160"/>
                <a:ext cx="13680" cy="277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350600" y="1388160"/>
                <a:ext cx="1440" cy="277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794800" y="1388160"/>
                <a:ext cx="11880" cy="277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94800" y="1388160"/>
                <a:ext cx="2160" cy="277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64080" y="1713960"/>
                <a:ext cx="21726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Organizational understanding of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124640" y="1994040"/>
                <a:ext cx="1212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product objective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2585520" y="19940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430520" y="1713960"/>
                <a:ext cx="649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Thorough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5213880" y="1713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838480" y="171396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6885720" y="1713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7465320" y="1713960"/>
                <a:ext cx="5220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Genera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091000" y="1713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82720" y="166572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82720" y="166572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896400" y="1665720"/>
                <a:ext cx="34538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96400" y="1665720"/>
                <a:ext cx="34538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4350600" y="166572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4350600" y="166572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4364640" y="1665720"/>
                <a:ext cx="139500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4364640" y="1665720"/>
                <a:ext cx="139500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759640" y="166572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5759640" y="1665720"/>
                <a:ext cx="136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759640" y="166572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773320" y="1665720"/>
                <a:ext cx="16120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773320" y="1665720"/>
                <a:ext cx="16120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7385760" y="166572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7385760" y="1665720"/>
                <a:ext cx="118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7385760" y="166572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7398000" y="1665720"/>
                <a:ext cx="139680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7398000" y="1665720"/>
                <a:ext cx="139680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794800" y="166572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794800" y="1665720"/>
                <a:ext cx="216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82720" y="168120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82720" y="168120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4350600" y="168120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350600" y="168120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794800" y="1681200"/>
                <a:ext cx="118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794800" y="1681200"/>
                <a:ext cx="216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964800" y="2271600"/>
                <a:ext cx="2364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xperience in working with related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1123560" y="2551320"/>
                <a:ext cx="1130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software system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2485080" y="25513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4430520" y="2271600"/>
                <a:ext cx="649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xtensiv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5213880" y="22716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838480" y="227160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6885720" y="22716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464960" y="2271600"/>
                <a:ext cx="631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Moderat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8225640" y="22716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82720" y="2238840"/>
                <a:ext cx="13680" cy="559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82720" y="2238840"/>
                <a:ext cx="1440" cy="559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350600" y="2238840"/>
                <a:ext cx="13680" cy="559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350600" y="2238840"/>
                <a:ext cx="1440" cy="559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794800" y="2238840"/>
                <a:ext cx="11880" cy="559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794800" y="2238840"/>
                <a:ext cx="2160" cy="559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965160" y="2831400"/>
                <a:ext cx="24649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Need for software conformance with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123560" y="3109320"/>
                <a:ext cx="2109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pr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378440" y="3109320"/>
                <a:ext cx="55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442880" y="3109320"/>
                <a:ext cx="1378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608840" y="3109320"/>
                <a:ext cx="1495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tablished requirement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3413520" y="31093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429080" y="2831400"/>
                <a:ext cx="366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Basi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870080" y="28314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5838480" y="283140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6885720" y="28314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7464960" y="2831400"/>
                <a:ext cx="266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Ful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7784640" y="28314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882720" y="279828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82720" y="279828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4350600" y="279828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4350600" y="279828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794800" y="2798280"/>
                <a:ext cx="118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8794800" y="2798280"/>
                <a:ext cx="216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965160" y="3389040"/>
                <a:ext cx="24649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Need for software conformance with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1125360" y="3669120"/>
                <a:ext cx="20948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xternal interface specification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3650760" y="36691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4429080" y="3389040"/>
                <a:ext cx="366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Basi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4870080" y="33890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5838480" y="338904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6885720" y="33890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7464960" y="3389040"/>
                <a:ext cx="266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Ful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784640" y="33890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882720" y="3356280"/>
                <a:ext cx="13680" cy="55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882720" y="3356280"/>
                <a:ext cx="1440" cy="55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4350600" y="3356280"/>
                <a:ext cx="13680" cy="55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350600" y="3356280"/>
                <a:ext cx="1440" cy="55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8794800" y="3356280"/>
                <a:ext cx="11880" cy="55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8794800" y="3356280"/>
                <a:ext cx="2160" cy="55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963720" y="3946680"/>
                <a:ext cx="18525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current development of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124280" y="4224600"/>
                <a:ext cx="19666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associated new hardware and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124640" y="4504320"/>
                <a:ext cx="1504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operational procedure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2937240" y="45043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430160" y="3946680"/>
                <a:ext cx="375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Som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881960" y="3946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838480" y="3946680"/>
                <a:ext cx="631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Moderat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6599160" y="3946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465680" y="3946680"/>
                <a:ext cx="649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xtensiv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8247240" y="3946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882720" y="3913560"/>
                <a:ext cx="13680" cy="83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882720" y="3913560"/>
                <a:ext cx="1440" cy="83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4350600" y="3913560"/>
                <a:ext cx="13680" cy="83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350600" y="3913560"/>
                <a:ext cx="1440" cy="83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8794800" y="3913560"/>
                <a:ext cx="11880" cy="83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8794800" y="3913560"/>
                <a:ext cx="2160" cy="83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963000" y="4783680"/>
                <a:ext cx="8326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Need for inn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1965960" y="4783680"/>
                <a:ext cx="15872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ovative data processing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1125360" y="5061960"/>
                <a:ext cx="16282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architectures, algorithm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3087720" y="5061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429800" y="4783680"/>
                <a:ext cx="5677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Minima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113080" y="4783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838480" y="4783680"/>
                <a:ext cx="375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Som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291000" y="4783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464600" y="478368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8511840" y="4783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882720" y="475128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882720" y="475128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350600" y="475128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4350600" y="475128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8794800" y="4751280"/>
                <a:ext cx="118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8794800" y="4751280"/>
                <a:ext cx="216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964440" y="5343840"/>
                <a:ext cx="196200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Premium on early completion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Product size rang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3328920" y="53438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4430160" y="5343840"/>
                <a:ext cx="68364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Low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&lt;50 KDSI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4793040" y="53438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5839920" y="5343840"/>
                <a:ext cx="76572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Medium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&lt;300 KDSI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6510240" y="53438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7464600" y="5343840"/>
                <a:ext cx="329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High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861680" y="5343840"/>
                <a:ext cx="61344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All sizes</a:t>
                </a: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882720" y="5308920"/>
                <a:ext cx="136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882720" y="5308920"/>
                <a:ext cx="144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350600" y="5308920"/>
                <a:ext cx="136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4350600" y="5308920"/>
                <a:ext cx="144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8794800" y="5308920"/>
                <a:ext cx="118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8794800" y="5308920"/>
                <a:ext cx="216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3" name=""/>
            <p:cNvSpPr/>
            <p:nvPr/>
          </p:nvSpPr>
          <p:spPr>
            <a:xfrm>
              <a:off x="882720" y="5486400"/>
              <a:ext cx="7904520" cy="716760"/>
            </a:xfrm>
            <a:custGeom>
              <a:avLst/>
              <a:gdLst/>
              <a:ahLst/>
              <a:rect l="l" t="t" r="r" b="b"/>
              <a:pathLst>
                <a:path w="4032" h="288">
                  <a:moveTo>
                    <a:pt x="0" y="0"/>
                  </a:moveTo>
                  <a:lnTo>
                    <a:pt x="0" y="288"/>
                  </a:lnTo>
                  <a:lnTo>
                    <a:pt x="4032" y="288"/>
                  </a:lnTo>
                  <a:lnTo>
                    <a:pt x="4032" y="48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350600" y="5464800"/>
              <a:ext cx="0" cy="725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06F3-F0D8-4715-BD99-52F52CEBB9F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is 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nagement need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are the main tasks of manager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is special in the case of softwar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ow can productivity be measur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ich tools may be used for planning and monitor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ow can teams be organiz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ow can organizations' capabilities be defined and measur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2579-58CA-426A-92D2-A2FA543351D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COMO nominal effort and schedule equ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"/>
          <p:cNvSpPr/>
          <p:nvPr/>
        </p:nvSpPr>
        <p:spPr>
          <a:xfrm>
            <a:off x="1771560" y="292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457200" y="2951280"/>
            <a:ext cx="8190000" cy="1819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D570-359B-419A-8468-A5FD4B1FD57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1733400" y="14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733400" y="3903840"/>
            <a:ext cx="9720" cy="355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413480" y="3903840"/>
            <a:ext cx="9720" cy="355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733400" y="425916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413480" y="425916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733400" y="443700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413480" y="443700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733400" y="4614840"/>
            <a:ext cx="9720" cy="355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413480" y="4614840"/>
            <a:ext cx="9720" cy="355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733400" y="497052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413480" y="497052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733400" y="5148360"/>
            <a:ext cx="9720" cy="355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733400" y="5504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733400" y="5504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413480" y="5148360"/>
            <a:ext cx="9720" cy="355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413480" y="5504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413480" y="5504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189000" y="166680"/>
            <a:ext cx="7208280" cy="6321240"/>
            <a:chOff x="189000" y="166680"/>
            <a:chExt cx="7208280" cy="6321240"/>
          </a:xfrm>
        </p:grpSpPr>
        <p:grpSp>
          <p:nvGrpSpPr>
            <p:cNvPr id="316" name=""/>
            <p:cNvGrpSpPr/>
            <p:nvPr/>
          </p:nvGrpSpPr>
          <p:grpSpPr>
            <a:xfrm>
              <a:off x="189000" y="166680"/>
              <a:ext cx="7207920" cy="1644120"/>
              <a:chOff x="189000" y="166680"/>
              <a:chExt cx="7207920" cy="1644120"/>
            </a:xfrm>
          </p:grpSpPr>
          <p:sp>
            <p:nvSpPr>
              <p:cNvPr id="317" name=""/>
              <p:cNvSpPr/>
              <p:nvPr/>
            </p:nvSpPr>
            <p:spPr>
              <a:xfrm>
                <a:off x="451800" y="2008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012480" y="186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913200" y="186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381200" y="182880"/>
                <a:ext cx="500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200" spc="-1" strike="noStrike">
                    <a:solidFill>
                      <a:srgbClr val="000000"/>
                    </a:solidFill>
                    <a:latin typeface="Times New Roman"/>
                  </a:rPr>
                  <a:t>Rating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5015520" y="1828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664960" y="1828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6350760" y="186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7042680" y="186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18900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18900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18900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8900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18900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201240" y="166680"/>
                <a:ext cx="23083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201240" y="166680"/>
                <a:ext cx="23083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250992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250992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50992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2522160" y="166680"/>
                <a:ext cx="983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2522160" y="166680"/>
                <a:ext cx="9831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350532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350532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3505320" y="166680"/>
                <a:ext cx="180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517560" y="166680"/>
                <a:ext cx="79380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517560" y="166680"/>
                <a:ext cx="7938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311720" y="166680"/>
                <a:ext cx="97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311720" y="166680"/>
                <a:ext cx="97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431172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4321800" y="166680"/>
                <a:ext cx="9835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4321800" y="166680"/>
                <a:ext cx="983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305320" y="166680"/>
                <a:ext cx="115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5305320" y="166680"/>
                <a:ext cx="11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5305320" y="166680"/>
                <a:ext cx="180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5317200" y="166680"/>
                <a:ext cx="68148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5317200" y="166680"/>
                <a:ext cx="6814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599904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599904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99904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6011640" y="166680"/>
                <a:ext cx="6811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6011640" y="166680"/>
                <a:ext cx="6811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6692760" y="166680"/>
                <a:ext cx="104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6692760" y="166680"/>
                <a:ext cx="104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669276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6703200" y="166680"/>
                <a:ext cx="6811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6703200" y="166680"/>
                <a:ext cx="6811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738468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38468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738468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738468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738468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189000" y="1774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189000" y="1774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7384680" y="1774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7384680" y="1774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448920" y="415080"/>
                <a:ext cx="715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Cost Driver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1354680" y="4150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2650680" y="400320"/>
                <a:ext cx="570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Very lo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3376440" y="400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3736440" y="400320"/>
                <a:ext cx="279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Lo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4089960" y="400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4475160" y="400320"/>
                <a:ext cx="53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Nomina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152320" y="400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5471280" y="40032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Hig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5860080" y="400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6158880" y="400320"/>
                <a:ext cx="342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Very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6157800" y="60156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Hig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6543720" y="60156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6834960" y="400320"/>
                <a:ext cx="367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Extra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6848640" y="60156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Hig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7235640" y="60156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18900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18900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201240" y="380520"/>
                <a:ext cx="23083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01240" y="380520"/>
                <a:ext cx="23083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250992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2509920" y="38052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250992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2522160" y="380520"/>
                <a:ext cx="98316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522160" y="380520"/>
                <a:ext cx="983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50532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3505320" y="38052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3505320" y="380520"/>
                <a:ext cx="180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3517560" y="380520"/>
                <a:ext cx="7938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3517560" y="380520"/>
                <a:ext cx="7938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4311720" y="380520"/>
                <a:ext cx="97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4311720" y="380520"/>
                <a:ext cx="97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431172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4321800" y="380520"/>
                <a:ext cx="9835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4321800" y="380520"/>
                <a:ext cx="983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5305320" y="380520"/>
                <a:ext cx="115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5305320" y="380520"/>
                <a:ext cx="11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5305320" y="380520"/>
                <a:ext cx="180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5317200" y="380520"/>
                <a:ext cx="68148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5317200" y="380520"/>
                <a:ext cx="6814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599904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5999040" y="38052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599904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6011640" y="380520"/>
                <a:ext cx="6811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6011640" y="380520"/>
                <a:ext cx="681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6692760" y="380520"/>
                <a:ext cx="104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6692760" y="380520"/>
                <a:ext cx="10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669276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6703200" y="380520"/>
                <a:ext cx="6811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6703200" y="380520"/>
                <a:ext cx="681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738468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738468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189000" y="3913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189000" y="3913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7384680" y="3913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7384680" y="3913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447840" y="831600"/>
                <a:ext cx="11055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Product attribute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1845360" y="83304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301248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391320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481428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566496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635076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04268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8900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18900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201240" y="797040"/>
                <a:ext cx="23083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201240" y="797040"/>
                <a:ext cx="23083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250992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2509920" y="79704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250992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522160" y="797040"/>
                <a:ext cx="983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2522160" y="797040"/>
                <a:ext cx="983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350532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3505320" y="79704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505320" y="797040"/>
                <a:ext cx="180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517560" y="797040"/>
                <a:ext cx="79380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517560" y="797040"/>
                <a:ext cx="7938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4311720" y="797040"/>
                <a:ext cx="97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4311720" y="797040"/>
                <a:ext cx="97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31172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4321800" y="797040"/>
                <a:ext cx="9835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4321800" y="797040"/>
                <a:ext cx="983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5305320" y="797040"/>
                <a:ext cx="115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5305320" y="797040"/>
                <a:ext cx="11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5305320" y="797040"/>
                <a:ext cx="180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5317200" y="797040"/>
                <a:ext cx="68148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317200" y="797040"/>
                <a:ext cx="6814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599904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5999040" y="79704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599904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6011640" y="797040"/>
                <a:ext cx="6811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6011640" y="797040"/>
                <a:ext cx="681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6692760" y="797040"/>
                <a:ext cx="104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6692760" y="797040"/>
                <a:ext cx="10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669276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6703200" y="797040"/>
                <a:ext cx="6811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6703200" y="797040"/>
                <a:ext cx="681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738468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738468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189000" y="808200"/>
                <a:ext cx="12240" cy="20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189000" y="808200"/>
                <a:ext cx="2160" cy="20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7384680" y="808200"/>
                <a:ext cx="12240" cy="20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7384680" y="808200"/>
                <a:ext cx="2160" cy="20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47120" y="1034640"/>
                <a:ext cx="1070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Required software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446760" y="1237320"/>
                <a:ext cx="5508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reliabilit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1143720" y="123732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2891880" y="10180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7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313272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3790800" y="10180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403416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4645440" y="10180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498312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5496480" y="10180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583596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6181920" y="10180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4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651960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704268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189000" y="10105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189000" y="10105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7384680" y="10105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7384680" y="10105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447840" y="1440360"/>
                <a:ext cx="805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Data base siz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466280" y="144036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301248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3790800" y="14238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9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403416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4645440" y="1423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498312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5496480" y="1423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583596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6181920" y="1423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651960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704268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189000" y="14166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189000" y="14166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7384680" y="14166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7384680" y="14166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446040" y="1643040"/>
                <a:ext cx="1107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Product complexit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1847160" y="164304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2891880" y="162684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7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313272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3790800" y="162684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403416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4645440" y="16268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498312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7" name=""/>
            <p:cNvGrpSpPr/>
            <p:nvPr/>
          </p:nvGrpSpPr>
          <p:grpSpPr>
            <a:xfrm>
              <a:off x="189000" y="1619640"/>
              <a:ext cx="7207920" cy="3234600"/>
              <a:chOff x="189000" y="1619640"/>
              <a:chExt cx="7207920" cy="3234600"/>
            </a:xfrm>
          </p:grpSpPr>
          <p:sp>
            <p:nvSpPr>
              <p:cNvPr id="518" name=""/>
              <p:cNvSpPr/>
              <p:nvPr/>
            </p:nvSpPr>
            <p:spPr>
              <a:xfrm>
                <a:off x="5496480" y="16268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583596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6181920" y="16268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3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651960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6873840" y="16268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6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721152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189000" y="161964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189000" y="161964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7384680" y="161964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7384680" y="161964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451800" y="184572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301248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391320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81428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66496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35076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704268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189000" y="182232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189000" y="182232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7384680" y="182232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7384680" y="182232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451440" y="2048760"/>
                <a:ext cx="4914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Comput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1069200" y="2048760"/>
                <a:ext cx="747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er attribute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2012400" y="205092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301248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391320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481428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566496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635076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704268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189000" y="202536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189000" y="202536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7384680" y="202536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7384680" y="202536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442080" y="2250000"/>
                <a:ext cx="1503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Execution time constraint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2342160" y="225000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301248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391320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4645440" y="2235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498312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5496480" y="2235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583596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6181920" y="2235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3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651960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6873840" y="2235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6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721152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189000" y="22284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189000" y="22284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7384680" y="22284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7384680" y="22284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443520" y="2454480"/>
                <a:ext cx="1386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Main storage constraint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2195280" y="24544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301248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391320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4645440" y="24382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498312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5496480" y="24382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583596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6181920" y="24382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2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651960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6873840" y="24382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5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21152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189000" y="24310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189000" y="24310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7384680" y="24310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7384680" y="24310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41000" y="2657520"/>
                <a:ext cx="15278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Virtual machine volatility*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2372040" y="265752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301248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3790800" y="26413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403416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4645440" y="26413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498312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5496480" y="26413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583596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6181920" y="26413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3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651960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704268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189000" y="2634120"/>
                <a:ext cx="12240" cy="20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189000" y="2634120"/>
                <a:ext cx="2160" cy="20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7384680" y="2634120"/>
                <a:ext cx="12240" cy="20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7384680" y="2634120"/>
                <a:ext cx="2160" cy="20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443520" y="2860560"/>
                <a:ext cx="1501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Computer turnaround tim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2344320" y="286056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301248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3790800" y="28440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403416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4645440" y="28440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498312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5496480" y="28440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583596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6181920" y="28440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651960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704268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189000" y="28368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189000" y="28368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7384680" y="28368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7384680" y="28368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451800" y="306360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301248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391320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481428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566496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635076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704268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189000" y="303984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189000" y="303984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7384680" y="303984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7384680" y="303984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446040" y="3266280"/>
                <a:ext cx="1215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Personnel attribute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1983960" y="32680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301248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391320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481428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566496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635076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704268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189000" y="324252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189000" y="324252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7384680" y="324252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7384680" y="324252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451440" y="34689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Anal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792000" y="3468960"/>
                <a:ext cx="7567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yst capabilit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1748880" y="346896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2842560" y="34531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4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318132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3742560" y="34531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408240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4645440" y="34531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498312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5544720" y="34531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578772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6230520" y="34531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7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647136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04268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189000" y="344556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189000" y="344556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7384680" y="344556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7384680" y="344556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444960" y="3672000"/>
                <a:ext cx="13647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Applications experienc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2169360" y="367200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2842560" y="3655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2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318132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3742560" y="3655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408240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4645440" y="3655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498312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5544720" y="36558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9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578772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6230520" y="36558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647136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704268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189000" y="36486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189000" y="36486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7384680" y="36486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7384680" y="36486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443160" y="3875040"/>
                <a:ext cx="1296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Programmer capabilit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2083680" y="387504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2842560" y="38584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4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318132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3742560" y="38584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408240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4645440" y="38584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498312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5544720" y="38584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578772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6230520" y="38584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7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647136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704268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189000" y="38512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189000" y="38512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7384680" y="38512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7384680" y="38512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446760" y="4077720"/>
                <a:ext cx="947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Virtual machine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449280" y="4280760"/>
                <a:ext cx="6804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experience*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1309320" y="428076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2842560" y="40615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2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318132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3742560" y="40615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408240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4645440" y="40615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498312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5544720" y="40615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9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578772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635076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704268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189000" y="40543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189000" y="40543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7384680" y="40543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7384680" y="40543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444960" y="4483800"/>
                <a:ext cx="13525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Programming language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449280" y="4686480"/>
                <a:ext cx="6102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experienc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1220040" y="46864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2842560" y="4467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3181320" y="4467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3742560" y="4467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4082400" y="4467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4645440" y="4467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4983120" y="4467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5544720" y="446724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9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8" name=""/>
            <p:cNvSpPr/>
            <p:nvPr/>
          </p:nvSpPr>
          <p:spPr>
            <a:xfrm>
              <a:off x="5788080" y="44679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6351120" y="44679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043040" y="44679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89000" y="4460760"/>
              <a:ext cx="2160" cy="40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7385040" y="4460760"/>
              <a:ext cx="2160" cy="40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451800" y="48902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01248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391320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481464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66532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35112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04304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189000" y="486648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385040" y="486648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50360" y="5093280"/>
              <a:ext cx="473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oject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043280" y="5093280"/>
              <a:ext cx="587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100" spc="-1" strike="noStrike">
                  <a:solidFill>
                    <a:srgbClr val="000000"/>
                  </a:solidFill>
                  <a:latin typeface="Times New Roman"/>
                </a:rPr>
                <a:t>attribut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1785240" y="509472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301248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91320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481464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566532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635112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704304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189000" y="506916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7385040" y="506916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48560" y="5295600"/>
              <a:ext cx="870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Use of modern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443160" y="5498640"/>
              <a:ext cx="1303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programming practic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091600" y="54986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842560" y="52797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2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18132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3742560" y="52797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408240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4645800" y="52797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498348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5544720" y="527976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9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78808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6230520" y="527976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8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647172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704304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189000" y="5272200"/>
              <a:ext cx="2160" cy="405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7385040" y="5272200"/>
              <a:ext cx="2160" cy="405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445680" y="5701680"/>
              <a:ext cx="1200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Use of software tool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1965240" y="570168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2842560" y="568512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2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8132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742560" y="568512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08240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4645800" y="568512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498348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5544720" y="568512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9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578808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230520" y="568512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8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647172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704304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89000" y="567828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7385040" y="567828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445680" y="5904720"/>
              <a:ext cx="1312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Required development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49280" y="6107760"/>
              <a:ext cx="492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schedul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073520" y="61077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84256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2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18132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4256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408240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464580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498348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549684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583632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618228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51996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704304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189000" y="5881320"/>
              <a:ext cx="2160" cy="405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18900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18900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18900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18900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201240" y="6287040"/>
              <a:ext cx="23144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01240" y="6287040"/>
              <a:ext cx="2314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2503800" y="6287040"/>
              <a:ext cx="11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503800" y="6287040"/>
              <a:ext cx="1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503800" y="6287040"/>
              <a:ext cx="180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515680" y="6287040"/>
              <a:ext cx="99540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2515680" y="6287040"/>
              <a:ext cx="995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3499560" y="6287040"/>
              <a:ext cx="11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3499560" y="6287040"/>
              <a:ext cx="1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3499560" y="6287040"/>
              <a:ext cx="180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511440" y="6287040"/>
              <a:ext cx="80676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511440" y="6287040"/>
              <a:ext cx="806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305960" y="6287040"/>
              <a:ext cx="122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30596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30596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318200" y="6287040"/>
              <a:ext cx="9932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318200" y="6287040"/>
              <a:ext cx="993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5299920" y="6287040"/>
              <a:ext cx="11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5299920" y="6287040"/>
              <a:ext cx="1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5299920" y="6287040"/>
              <a:ext cx="180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5311800" y="6287040"/>
              <a:ext cx="69336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5311800" y="6287040"/>
              <a:ext cx="693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5993640" y="6287040"/>
              <a:ext cx="11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93640" y="6287040"/>
              <a:ext cx="1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993640" y="6287040"/>
              <a:ext cx="180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6005520" y="6287040"/>
              <a:ext cx="69408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005520" y="6287040"/>
              <a:ext cx="694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6687360" y="6287040"/>
              <a:ext cx="122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68736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668736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6699600" y="6287040"/>
              <a:ext cx="6854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699600" y="6287040"/>
              <a:ext cx="685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7385040" y="5881320"/>
              <a:ext cx="2160" cy="405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738504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738504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738504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738504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647280" y="630504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1" name=""/>
          <p:cNvSpPr/>
          <p:nvPr/>
        </p:nvSpPr>
        <p:spPr>
          <a:xfrm>
            <a:off x="7562160" y="2060640"/>
            <a:ext cx="163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COM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ca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a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9775-D58A-4CCF-B2CD-7F991A57992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wards COCOMO I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COMO's deficienc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trictly geared toward traditional development life cycle mod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ustom software built from precisely stated specificatio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lies on lines of cod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ED8A-1678-4EEC-B5C7-656B4CCD4D2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COMO I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3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Composition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rly Design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t-Architectur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D470-8D86-41A2-8C5E-48D588D38A4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15440" y="415440"/>
            <a:ext cx="840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lication Composition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uitable for software built around graphical user interface (GUI) and modern GUI-builder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bject poin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as a size metr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tension of function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unt of the screens, reports, and modules, weighted by a three-level factor (simple, medium, difficult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E5E6-73A6-44C7-80E9-5AF102C3877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arly Design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d once requirements are known and alternative software architectures have been explo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ost prediction based on function points and coarse-grained cost dri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personnel capability and experienc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1806-0FB0-4902-8981-12628D6D18F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ost-Architecture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volves actual software construction and software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st prediction based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ize (either as source instructions or function points, with modifiers to account for reu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7 multiplicative cost dr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5 factors that determine the non linear growth of person-month costs in terms of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09EE-EBA0-427A-815E-F545FECB9D1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ject contro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C7AD-1D83-48B8-BB33-EE7C4D84101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ork Breakdown Stru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BS describes a break down of project goal into intermediate go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ach in turn broken down in a hierarchical struct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1B00-812D-4C19-90D2-E598CA1B87D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"/>
          <p:cNvSpPr/>
          <p:nvPr/>
        </p:nvSpPr>
        <p:spPr>
          <a:xfrm>
            <a:off x="3246480" y="250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7" name="" descr=""/>
          <p:cNvPicPr/>
          <p:nvPr/>
        </p:nvPicPr>
        <p:blipFill>
          <a:blip r:embed="rId1"/>
          <a:stretch/>
        </p:blipFill>
        <p:spPr>
          <a:xfrm>
            <a:off x="1273320" y="1533600"/>
            <a:ext cx="6619680" cy="4641840"/>
          </a:xfrm>
          <a:prstGeom prst="rect">
            <a:avLst/>
          </a:prstGeom>
          <a:ln w="0">
            <a:noFill/>
          </a:ln>
        </p:spPr>
      </p:pic>
      <p:sp>
        <p:nvSpPr>
          <p:cNvPr id="848" name=""/>
          <p:cNvSpPr/>
          <p:nvPr/>
        </p:nvSpPr>
        <p:spPr>
          <a:xfrm>
            <a:off x="1449360" y="471600"/>
            <a:ext cx="614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: a compiler proje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AFCE-9FF9-4815-8E0A-706800800E9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35809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oftware engineering projects involve many software engine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Management is needed to coordinate the activities and resources involved in 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"/>
          <p:cNvSpPr/>
          <p:nvPr/>
        </p:nvSpPr>
        <p:spPr>
          <a:xfrm>
            <a:off x="220320" y="1752480"/>
            <a:ext cx="8684640" cy="1557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"The creation and maintenance of an internal environ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 an enterprise where individuals, working together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roups, can perform efficiently and effectively toward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ttainment of group goals"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Koontz et al, 198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979B-B278-4EB6-B2C8-589B85C941D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antt 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project control techniqu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d by Henry L. Gant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sed for several purposes, including scheduling, budgeting, and resource planning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C615-ED35-4B38-91B8-852B55A17B7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1828800" y="195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2" name="" descr=""/>
          <p:cNvPicPr/>
          <p:nvPr/>
        </p:nvPicPr>
        <p:blipFill>
          <a:blip r:embed="rId1"/>
          <a:stretch/>
        </p:blipFill>
        <p:spPr>
          <a:xfrm>
            <a:off x="927000" y="1852560"/>
            <a:ext cx="7315200" cy="3922920"/>
          </a:xfrm>
          <a:prstGeom prst="rect">
            <a:avLst/>
          </a:prstGeom>
          <a:ln w="0">
            <a:noFill/>
          </a:ln>
        </p:spPr>
      </p:pic>
      <p:sp>
        <p:nvSpPr>
          <p:cNvPr id="853" name=""/>
          <p:cNvSpPr/>
          <p:nvPr/>
        </p:nvSpPr>
        <p:spPr>
          <a:xfrm>
            <a:off x="1449360" y="471600"/>
            <a:ext cx="614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: a compiler proje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FBB7-E1EF-4E07-A0F9-ADE517C5744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"/>
          <p:cNvSpPr/>
          <p:nvPr/>
        </p:nvSpPr>
        <p:spPr>
          <a:xfrm>
            <a:off x="1828800" y="195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1828800" y="19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6" name=""/>
          <p:cNvGrpSpPr/>
          <p:nvPr/>
        </p:nvGrpSpPr>
        <p:grpSpPr>
          <a:xfrm>
            <a:off x="1028160" y="1452600"/>
            <a:ext cx="7342200" cy="4111200"/>
            <a:chOff x="1028160" y="1452600"/>
            <a:chExt cx="7342200" cy="4111200"/>
          </a:xfrm>
        </p:grpSpPr>
        <p:sp>
          <p:nvSpPr>
            <p:cNvPr id="857" name=""/>
            <p:cNvSpPr/>
            <p:nvPr/>
          </p:nvSpPr>
          <p:spPr>
            <a:xfrm>
              <a:off x="1028160" y="14526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1608120" y="1693440"/>
              <a:ext cx="133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1/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1781640" y="16779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2977920" y="1693440"/>
              <a:ext cx="133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4/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150360" y="16779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4287960" y="1693440"/>
              <a:ext cx="133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7/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4460040" y="16779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5598000" y="1693440"/>
              <a:ext cx="185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10/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5838120" y="16779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1878480" y="2070720"/>
              <a:ext cx="1260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67" name="" descr=""/>
            <p:cNvPicPr/>
            <p:nvPr/>
          </p:nvPicPr>
          <p:blipFill>
            <a:blip r:embed="rId1"/>
            <a:stretch/>
          </p:blipFill>
          <p:spPr>
            <a:xfrm>
              <a:off x="1876680" y="2070720"/>
              <a:ext cx="1476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8" name=""/>
            <p:cNvSpPr/>
            <p:nvPr/>
          </p:nvSpPr>
          <p:spPr>
            <a:xfrm>
              <a:off x="3203640" y="2070720"/>
              <a:ext cx="1512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69" name="" descr=""/>
            <p:cNvPicPr/>
            <p:nvPr/>
          </p:nvPicPr>
          <p:blipFill>
            <a:blip r:embed="rId2"/>
            <a:stretch/>
          </p:blipFill>
          <p:spPr>
            <a:xfrm>
              <a:off x="3203640" y="2070720"/>
              <a:ext cx="1260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0" name=""/>
            <p:cNvSpPr/>
            <p:nvPr/>
          </p:nvSpPr>
          <p:spPr>
            <a:xfrm>
              <a:off x="4544280" y="2070720"/>
              <a:ext cx="1476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1" name="" descr=""/>
            <p:cNvPicPr/>
            <p:nvPr/>
          </p:nvPicPr>
          <p:blipFill>
            <a:blip r:embed="rId3"/>
            <a:stretch/>
          </p:blipFill>
          <p:spPr>
            <a:xfrm>
              <a:off x="4544280" y="2070720"/>
              <a:ext cx="1260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2" name=""/>
            <p:cNvSpPr/>
            <p:nvPr/>
          </p:nvSpPr>
          <p:spPr>
            <a:xfrm>
              <a:off x="5897880" y="2070720"/>
              <a:ext cx="1512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3" name="" descr=""/>
            <p:cNvPicPr/>
            <p:nvPr/>
          </p:nvPicPr>
          <p:blipFill>
            <a:blip r:embed="rId4"/>
            <a:stretch/>
          </p:blipFill>
          <p:spPr>
            <a:xfrm>
              <a:off x="5897880" y="2070720"/>
              <a:ext cx="1512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4" name=""/>
            <p:cNvSpPr/>
            <p:nvPr/>
          </p:nvSpPr>
          <p:spPr>
            <a:xfrm>
              <a:off x="7253280" y="2070720"/>
              <a:ext cx="1512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5" name="" descr=""/>
            <p:cNvPicPr/>
            <p:nvPr/>
          </p:nvPicPr>
          <p:blipFill>
            <a:blip r:embed="rId5"/>
            <a:stretch/>
          </p:blipFill>
          <p:spPr>
            <a:xfrm>
              <a:off x="7253280" y="2070720"/>
              <a:ext cx="1512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6" name=""/>
            <p:cNvSpPr/>
            <p:nvPr/>
          </p:nvSpPr>
          <p:spPr>
            <a:xfrm>
              <a:off x="1878480" y="2219760"/>
              <a:ext cx="1260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1922400" y="2618280"/>
              <a:ext cx="86292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1922400" y="2618280"/>
              <a:ext cx="878040" cy="208080"/>
            </a:xfrm>
            <a:custGeom>
              <a:avLst/>
              <a:gdLst/>
              <a:ahLst/>
              <a:rect l="l" t="t" r="r" b="b"/>
              <a:pathLst>
                <a:path w="1203" h="284">
                  <a:moveTo>
                    <a:pt x="0" y="0"/>
                  </a:moveTo>
                  <a:lnTo>
                    <a:pt x="1203" y="0"/>
                  </a:lnTo>
                  <a:lnTo>
                    <a:pt x="1203" y="284"/>
                  </a:lnTo>
                  <a:lnTo>
                    <a:pt x="0" y="284"/>
                  </a:lnTo>
                  <a:lnTo>
                    <a:pt x="0" y="0"/>
                  </a:lnTo>
                  <a:close/>
                  <a:moveTo>
                    <a:pt x="20" y="21"/>
                  </a:moveTo>
                  <a:lnTo>
                    <a:pt x="1182" y="21"/>
                  </a:lnTo>
                  <a:lnTo>
                    <a:pt x="1182" y="263"/>
                  </a:lnTo>
                  <a:lnTo>
                    <a:pt x="20" y="263"/>
                  </a:lnTo>
                  <a:lnTo>
                    <a:pt x="2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9" name="" descr=""/>
            <p:cNvPicPr/>
            <p:nvPr/>
          </p:nvPicPr>
          <p:blipFill>
            <a:blip r:embed="rId6"/>
            <a:stretch/>
          </p:blipFill>
          <p:spPr>
            <a:xfrm>
              <a:off x="1922400" y="2618280"/>
              <a:ext cx="87804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0" name=""/>
            <p:cNvSpPr/>
            <p:nvPr/>
          </p:nvSpPr>
          <p:spPr>
            <a:xfrm>
              <a:off x="1922400" y="2618280"/>
              <a:ext cx="878040" cy="208080"/>
            </a:xfrm>
            <a:custGeom>
              <a:avLst/>
              <a:gdLst/>
              <a:ahLst/>
              <a:rect l="l" t="t" r="r" b="b"/>
              <a:pathLst>
                <a:path w="1203" h="284">
                  <a:moveTo>
                    <a:pt x="0" y="0"/>
                  </a:moveTo>
                  <a:lnTo>
                    <a:pt x="1203" y="0"/>
                  </a:lnTo>
                  <a:lnTo>
                    <a:pt x="1203" y="284"/>
                  </a:lnTo>
                  <a:lnTo>
                    <a:pt x="0" y="28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937520" y="2633760"/>
              <a:ext cx="847800" cy="177120"/>
            </a:xfrm>
            <a:custGeom>
              <a:avLst/>
              <a:gdLst/>
              <a:ahLst/>
              <a:rect l="l" t="t" r="r" b="b"/>
              <a:pathLst>
                <a:path w="1162" h="242">
                  <a:moveTo>
                    <a:pt x="0" y="0"/>
                  </a:moveTo>
                  <a:lnTo>
                    <a:pt x="1162" y="0"/>
                  </a:lnTo>
                  <a:lnTo>
                    <a:pt x="1162" y="242"/>
                  </a:lnTo>
                  <a:lnTo>
                    <a:pt x="0" y="24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1922400" y="2618280"/>
              <a:ext cx="878040" cy="208080"/>
            </a:xfrm>
            <a:custGeom>
              <a:avLst/>
              <a:gdLst/>
              <a:ahLst/>
              <a:rect l="l" t="t" r="r" b="b"/>
              <a:pathLst>
                <a:path w="1203" h="284">
                  <a:moveTo>
                    <a:pt x="0" y="0"/>
                  </a:moveTo>
                  <a:lnTo>
                    <a:pt x="1203" y="0"/>
                  </a:lnTo>
                  <a:lnTo>
                    <a:pt x="1203" y="284"/>
                  </a:lnTo>
                  <a:lnTo>
                    <a:pt x="0" y="284"/>
                  </a:lnTo>
                  <a:lnTo>
                    <a:pt x="0" y="0"/>
                  </a:lnTo>
                  <a:lnTo>
                    <a:pt x="0" y="0"/>
                  </a:lnTo>
                  <a:close/>
                  <a:moveTo>
                    <a:pt x="20" y="21"/>
                  </a:moveTo>
                  <a:lnTo>
                    <a:pt x="1182" y="21"/>
                  </a:lnTo>
                  <a:lnTo>
                    <a:pt x="1182" y="263"/>
                  </a:lnTo>
                  <a:lnTo>
                    <a:pt x="20" y="263"/>
                  </a:lnTo>
                  <a:lnTo>
                    <a:pt x="20" y="21"/>
                  </a:lnTo>
                  <a:lnTo>
                    <a:pt x="2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3" name="" descr=""/>
            <p:cNvPicPr/>
            <p:nvPr/>
          </p:nvPicPr>
          <p:blipFill>
            <a:blip r:embed="rId7"/>
            <a:stretch/>
          </p:blipFill>
          <p:spPr>
            <a:xfrm>
              <a:off x="1922400" y="2618280"/>
              <a:ext cx="87804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4" name=""/>
            <p:cNvSpPr/>
            <p:nvPr/>
          </p:nvSpPr>
          <p:spPr>
            <a:xfrm>
              <a:off x="2844720" y="3017520"/>
              <a:ext cx="35892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2853000" y="3025800"/>
              <a:ext cx="35712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1996920" y="3019320"/>
              <a:ext cx="4244760" cy="19080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003400" y="3025800"/>
              <a:ext cx="424476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844720" y="3418560"/>
              <a:ext cx="119124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2853000" y="3425040"/>
              <a:ext cx="119124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2025000" y="3418560"/>
              <a:ext cx="4216320" cy="19260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2034000" y="3425040"/>
              <a:ext cx="421380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2844720" y="4215960"/>
              <a:ext cx="180216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2853000" y="4224960"/>
              <a:ext cx="180288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1965960" y="4218120"/>
              <a:ext cx="4244760" cy="19080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1974960" y="4224960"/>
              <a:ext cx="424476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8355600" y="5015520"/>
              <a:ext cx="1476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1087200" y="2653560"/>
              <a:ext cx="29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Dariu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1472760" y="26402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1087560" y="3052080"/>
              <a:ext cx="261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art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1428840" y="30391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1088280" y="345132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e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1310760" y="34376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1087920" y="3849840"/>
              <a:ext cx="238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Ry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1398240" y="38368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086480" y="4250880"/>
              <a:ext cx="246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ilvi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06880" y="42379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1088280" y="4649760"/>
              <a:ext cx="25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aur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1428840" y="46371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1996920" y="2618280"/>
              <a:ext cx="4244760" cy="19260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2003400" y="2627280"/>
              <a:ext cx="4244760" cy="1900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1996920" y="3817080"/>
              <a:ext cx="4244760" cy="19260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2003400" y="3826080"/>
              <a:ext cx="4244760" cy="1908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1965960" y="4617000"/>
              <a:ext cx="4244760" cy="19260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1974960" y="4623480"/>
              <a:ext cx="424476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5229720" y="3078360"/>
              <a:ext cx="667800" cy="13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5236200" y="3084840"/>
              <a:ext cx="66996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5242680" y="308304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5741640" y="30700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4559400" y="3477600"/>
              <a:ext cx="67032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566240" y="3484080"/>
              <a:ext cx="66996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4572360" y="348192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5071320" y="34686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3619800" y="387612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3626280" y="3885120"/>
              <a:ext cx="669960" cy="1314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3634920" y="388044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4131720" y="38678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3619800" y="427536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3626280" y="4284000"/>
              <a:ext cx="66996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3634920" y="427968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4131720" y="42663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2949480" y="4676400"/>
              <a:ext cx="670320" cy="13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2956320" y="4682880"/>
              <a:ext cx="66996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2964600" y="468072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3461760" y="46674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2012040" y="4676400"/>
              <a:ext cx="669960" cy="13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2018520" y="468288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2025360" y="468072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2464920" y="46674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2012040" y="427536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2018520" y="428400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2025360" y="427968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2464920" y="42663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2012040" y="387612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2018520" y="3885120"/>
              <a:ext cx="670320" cy="1314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2025360" y="388044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2464920" y="38678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2012040" y="347760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018520" y="348408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2025360" y="348192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2464920" y="34686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2012040" y="3078360"/>
              <a:ext cx="669960" cy="13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2018520" y="308484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2025360" y="308304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2464920" y="30700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2012040" y="267732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2018520" y="268380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2025360" y="268200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2464920" y="26690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1072440" y="1494000"/>
              <a:ext cx="2160" cy="532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1072440" y="1494000"/>
              <a:ext cx="643500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1072440" y="2026800"/>
              <a:ext cx="643500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2" name=""/>
          <p:cNvSpPr/>
          <p:nvPr/>
        </p:nvSpPr>
        <p:spPr>
          <a:xfrm>
            <a:off x="1450440" y="471600"/>
            <a:ext cx="658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: scheduling activ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066A-4580-4AE5-A427-271F5A2D827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T 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ERT (Program Evaluation and Review Technique) cha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etwork of boxes (or cir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presenting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rrow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ependenci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ng activ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y at the head of an arrow cannot start until the activity at the tail of the arrow is finishe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B0D3-704D-43FB-9335-078513EB6AF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"/>
          <p:cNvSpPr/>
          <p:nvPr/>
        </p:nvSpPr>
        <p:spPr>
          <a:xfrm>
            <a:off x="1905120" y="15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6" name="" descr=""/>
          <p:cNvPicPr/>
          <p:nvPr/>
        </p:nvPicPr>
        <p:blipFill>
          <a:blip r:embed="rId1"/>
          <a:stretch/>
        </p:blipFill>
        <p:spPr>
          <a:xfrm>
            <a:off x="1027080" y="1116000"/>
            <a:ext cx="7280280" cy="5095800"/>
          </a:xfrm>
          <a:prstGeom prst="rect">
            <a:avLst/>
          </a:prstGeom>
          <a:ln w="0">
            <a:noFill/>
          </a:ln>
        </p:spPr>
      </p:pic>
      <p:sp>
        <p:nvSpPr>
          <p:cNvPr id="967" name=""/>
          <p:cNvSpPr/>
          <p:nvPr/>
        </p:nvSpPr>
        <p:spPr>
          <a:xfrm>
            <a:off x="1550880" y="493560"/>
            <a:ext cx="614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: a compiler proje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2A26-0395-45E5-8D5E-A4AA04860D7C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alysis of PERT 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itical path for the project (shown in bol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y delay in any activity in the path causes a delay in the entire projec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ies on the critical path must be monitored more closely than other activiti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D4F2-E9B6-4846-A2EE-44787E372064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antt &amp; PERT 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622440" y="1789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ce the manager to p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how interrelationships among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ERT clearly identifies the critical path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ERT exposes parallelism in the activ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helps in allocating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llow scheduling and simulation of alternative sche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nable the manager to monitor and control project progress and detect devia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7654-F822-4334-83F4-220D0083AF52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rganiz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n organization structure is used to structure the communication patterns among members of a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Traditional team organization is hierarchical with a manager supervising a group or groups of grou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Other organizations have been tried in software engineering with some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108E-DCD0-4EA4-ADFC-209CADF7BCF6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377640" y="60912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hief-programmer te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way to centralize the control of a software development tea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chief programmer (CF) responsible for design + reports to peer manager responsible for administratio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ther members are a software librarian and programm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eport to CF and are added to team when neede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Best when the solution may be understood and controlled by one chief archi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28D3-D3C5-488F-AB67-BF9283423E7E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"/>
          <p:cNvSpPr/>
          <p:nvPr/>
        </p:nvSpPr>
        <p:spPr>
          <a:xfrm>
            <a:off x="3200400" y="257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7" name="" descr=""/>
          <p:cNvPicPr/>
          <p:nvPr/>
        </p:nvPicPr>
        <p:blipFill>
          <a:blip r:embed="rId1"/>
          <a:stretch/>
        </p:blipFill>
        <p:spPr>
          <a:xfrm>
            <a:off x="1577880" y="1438200"/>
            <a:ext cx="6310440" cy="3943440"/>
          </a:xfrm>
          <a:prstGeom prst="rect">
            <a:avLst/>
          </a:prstGeom>
          <a:ln w="0">
            <a:noFill/>
          </a:ln>
        </p:spPr>
      </p:pic>
      <p:sp>
        <p:nvSpPr>
          <p:cNvPr id="978" name=""/>
          <p:cNvSpPr/>
          <p:nvPr/>
        </p:nvSpPr>
        <p:spPr>
          <a:xfrm>
            <a:off x="378000" y="609480"/>
            <a:ext cx="808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am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FAFA-E639-49F4-9CC6-DFE08469727F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 task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lan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rganiz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aff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irec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ntroll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nd dealing with deviations from the pl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"/>
          <p:cNvSpPr/>
          <p:nvPr/>
        </p:nvSpPr>
        <p:spPr>
          <a:xfrm>
            <a:off x="1319040" y="5562720"/>
            <a:ext cx="6231240" cy="581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lan the work and work the plan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1A41-CB00-4C2E-AF87-35E1132953B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entralized team organiz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ecisions are made by consensus, and all work is considered group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embers review each other’s work and are responsible as a group for what every member produce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Best when the problem or solution is not well-understood and requires the contribution of several people to clarify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B899-4CEE-4532-85FC-95179F1EB640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"/>
          <p:cNvSpPr/>
          <p:nvPr/>
        </p:nvSpPr>
        <p:spPr>
          <a:xfrm>
            <a:off x="3009960" y="263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2" name="" descr=""/>
          <p:cNvPicPr/>
          <p:nvPr/>
        </p:nvPicPr>
        <p:blipFill>
          <a:blip r:embed="rId1"/>
          <a:stretch/>
        </p:blipFill>
        <p:spPr>
          <a:xfrm>
            <a:off x="806400" y="1735200"/>
            <a:ext cx="6859800" cy="3478320"/>
          </a:xfrm>
          <a:prstGeom prst="rect">
            <a:avLst/>
          </a:prstGeom>
          <a:ln w="0">
            <a:noFill/>
          </a:ln>
        </p:spPr>
      </p:pic>
      <p:sp>
        <p:nvSpPr>
          <p:cNvPr id="983" name=""/>
          <p:cNvSpPr/>
          <p:nvPr/>
        </p:nvSpPr>
        <p:spPr>
          <a:xfrm>
            <a:off x="378000" y="609480"/>
            <a:ext cx="808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am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518040" y="5267160"/>
            <a:ext cx="374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nagement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4999680" y="525456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unication patt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3855-766A-492F-9822-A407C94763AA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ixed-control team organiz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ttempts to combine the benefits of centralized and decentralized contro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fferentiates engineers into senior and jun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nior engineer leads a group of juniors and reports to a project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rol vested in the project manager and senior programm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munication decentralized among each set of individuals, peers, and their immediate superviso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96A9-AA38-4BEE-8AB3-939857056BE4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"/>
          <p:cNvSpPr/>
          <p:nvPr/>
        </p:nvSpPr>
        <p:spPr>
          <a:xfrm>
            <a:off x="259560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9" name="" descr=""/>
          <p:cNvPicPr/>
          <p:nvPr/>
        </p:nvPicPr>
        <p:blipFill>
          <a:blip r:embed="rId1"/>
          <a:stretch/>
        </p:blipFill>
        <p:spPr>
          <a:xfrm>
            <a:off x="585720" y="1703520"/>
            <a:ext cx="7908840" cy="3657600"/>
          </a:xfrm>
          <a:prstGeom prst="rect">
            <a:avLst/>
          </a:prstGeom>
          <a:ln w="0">
            <a:noFill/>
          </a:ln>
        </p:spPr>
      </p:pic>
      <p:sp>
        <p:nvSpPr>
          <p:cNvPr id="990" name=""/>
          <p:cNvSpPr/>
          <p:nvPr/>
        </p:nvSpPr>
        <p:spPr>
          <a:xfrm>
            <a:off x="531000" y="5396040"/>
            <a:ext cx="374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nagement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5012280" y="538308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unication patt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338040" y="455760"/>
            <a:ext cx="8080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am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3469-1A38-47C4-A75B-BB3E3E5DFDDD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85800" y="33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pen source develop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eliance on volunteer developers and the lack of organized schedul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eam organization is a mixed mod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ach module has a responsible person , who is the ultimate arbiter of what goes into the eventual release of the mo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yone may review the module and send in corrections and other contributions to the responsible pers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D101-EB36-40C4-9351-DDB63B3A85CB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assess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07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eam organization depends on the go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o team organization is appropriate for all task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ecentralized control best when communication is necessary to achieve a good 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ntralized control best when development speed is key and problem is well understoo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 appropriate organization limits the amount of communication to what is necessary to achieve the goals—no more and no 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5B37-FA73-4A2B-A6A4-023DBC28F40C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okia software factor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8140-7CD8-434F-8E60-03D28BF99D0F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47640" y="501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undational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79520" y="1555920"/>
            <a:ext cx="80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lvl="1" marL="434520" indent="-17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ographically distributed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ypical project: 100 developers working in three to four si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ynchronous work not possible (differences in time zon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34520" indent="-17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duct family archite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rchitecture developed for an entire family, and components developed to be used in all family member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34520" indent="-17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current engine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mponents developed concurrently at different sites, retrieved from the various sites and combined in a central lo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34520" indent="-17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 of tool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ss is tool supported (for requirements engineering, design, coding, version management, configuration management, and testing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A1DD-F582-424B-8D87-F35E4C5A937F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isk 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topic of management the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dentifies project risks, assesses their impact, and monitors and controls the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9689-9D7F-428E-A803-D270BEF865EC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"/>
          <p:cNvSpPr/>
          <p:nvPr/>
        </p:nvSpPr>
        <p:spPr>
          <a:xfrm>
            <a:off x="1711440" y="122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4230720" y="131760"/>
            <a:ext cx="936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5" name=""/>
          <p:cNvGrpSpPr/>
          <p:nvPr/>
        </p:nvGrpSpPr>
        <p:grpSpPr>
          <a:xfrm>
            <a:off x="523800" y="1657440"/>
            <a:ext cx="8079840" cy="4323960"/>
            <a:chOff x="523800" y="1657440"/>
            <a:chExt cx="8079840" cy="4323960"/>
          </a:xfrm>
        </p:grpSpPr>
        <p:sp>
          <p:nvSpPr>
            <p:cNvPr id="1006" name=""/>
            <p:cNvSpPr/>
            <p:nvPr/>
          </p:nvSpPr>
          <p:spPr>
            <a:xfrm>
              <a:off x="816840" y="1677600"/>
              <a:ext cx="546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ISK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1397880" y="16776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4366440" y="1677600"/>
              <a:ext cx="3368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ISK MANAGEMENT TECHNIQ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7939800" y="16776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52380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52380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52380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523800" y="1657440"/>
              <a:ext cx="12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52380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536760" y="1657440"/>
              <a:ext cx="353592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536760" y="1657440"/>
              <a:ext cx="3535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4073040" y="1670760"/>
              <a:ext cx="12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407304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4073040" y="1657440"/>
              <a:ext cx="12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407304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4086000" y="1657440"/>
              <a:ext cx="450468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4086000" y="1657440"/>
              <a:ext cx="450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859068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859068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859068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8590680" y="1657440"/>
              <a:ext cx="12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859068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523800" y="1670760"/>
              <a:ext cx="12960" cy="258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523800" y="1670760"/>
              <a:ext cx="1800" cy="258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4073040" y="1670760"/>
              <a:ext cx="12960" cy="258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4073040" y="1670760"/>
              <a:ext cx="1800" cy="258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8590680" y="1670760"/>
              <a:ext cx="12960" cy="258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8590680" y="1670760"/>
              <a:ext cx="1800" cy="258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819360" y="2173320"/>
              <a:ext cx="1811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1. Personnel shortfal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2734200" y="217332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4151160" y="217332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4231440" y="2173320"/>
              <a:ext cx="365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Staffing with top talent; job matching; team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4258800" y="2431800"/>
              <a:ext cx="1081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building; ke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5401800" y="243180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5477400" y="2431800"/>
              <a:ext cx="2289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personnel agreements; cro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7898040" y="243180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4260960" y="2690280"/>
              <a:ext cx="999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training; p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5316120" y="269028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5388120" y="2690280"/>
              <a:ext cx="1820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scheduling key peo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7313760" y="269028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523800" y="19292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523800" y="19292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536760" y="1929240"/>
              <a:ext cx="353592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536760" y="1929240"/>
              <a:ext cx="3535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4073040" y="19292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4073040" y="19292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4086000" y="1929240"/>
              <a:ext cx="450468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4086000" y="1929240"/>
              <a:ext cx="450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8590680" y="19292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8590680" y="19292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523800" y="1942920"/>
              <a:ext cx="12960" cy="99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523800" y="1942920"/>
              <a:ext cx="1800" cy="99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4073040" y="1942920"/>
              <a:ext cx="12960" cy="99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4073040" y="1942920"/>
              <a:ext cx="1800" cy="99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8590680" y="1942920"/>
              <a:ext cx="12960" cy="99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8590680" y="1942920"/>
              <a:ext cx="1800" cy="99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819720" y="3183840"/>
              <a:ext cx="1985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2. Unrealistic schedule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1032120" y="3442320"/>
              <a:ext cx="979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and budge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2066400" y="344232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4151160" y="318384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4228920" y="3183840"/>
              <a:ext cx="2948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Detailed multisource cost &amp; sched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7350120" y="3183840"/>
              <a:ext cx="19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4266720" y="3442320"/>
              <a:ext cx="3186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estimation; design to cost; incremental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4266720" y="3700440"/>
              <a:ext cx="3549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development; software reuse; requirement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4258080" y="3958560"/>
              <a:ext cx="803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scrubb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5108400" y="395856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523800" y="293904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523800" y="293904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536760" y="2939040"/>
              <a:ext cx="353592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536760" y="2939040"/>
              <a:ext cx="35359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4073040" y="293904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4073040" y="293904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4086000" y="2939040"/>
              <a:ext cx="450468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4086000" y="2939040"/>
              <a:ext cx="450468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8590680" y="293904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590680" y="293904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523800" y="2953080"/>
              <a:ext cx="12960" cy="1251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523800" y="2953080"/>
              <a:ext cx="1800" cy="1251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4073040" y="2953080"/>
              <a:ext cx="12960" cy="1251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4073040" y="2953080"/>
              <a:ext cx="1800" cy="1251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8590680" y="2953080"/>
              <a:ext cx="12960" cy="1251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8590680" y="2953080"/>
              <a:ext cx="1800" cy="1251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816840" y="4452120"/>
              <a:ext cx="207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3. Developing the wrong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1035720" y="4710600"/>
              <a:ext cx="1506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software func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2628000" y="47106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151160" y="445212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4227840" y="4452120"/>
              <a:ext cx="365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Organization analysis; mission analysis; op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8090280" y="445212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4264560" y="4710600"/>
              <a:ext cx="3923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concept formulation; user surveys; prototyping;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4263120" y="4968720"/>
              <a:ext cx="1667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early users’ manu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6025680" y="496872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523800" y="420516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523800" y="420516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536760" y="4205160"/>
              <a:ext cx="35359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4073040" y="420516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4073040" y="420516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4086000" y="4205160"/>
              <a:ext cx="450468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8590680" y="420516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8590680" y="420516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523800" y="4221360"/>
              <a:ext cx="12960" cy="993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523800" y="4221360"/>
              <a:ext cx="1800" cy="993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4073040" y="4221360"/>
              <a:ext cx="12960" cy="993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4073040" y="4221360"/>
              <a:ext cx="1800" cy="993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8590680" y="4221360"/>
              <a:ext cx="12960" cy="993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8590680" y="4221360"/>
              <a:ext cx="1800" cy="993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816840" y="5462640"/>
              <a:ext cx="207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4. Developing the wrong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1036440" y="5718240"/>
              <a:ext cx="1098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user interfa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2196360" y="571824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4151160" y="546264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4228200" y="5462640"/>
              <a:ext cx="351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Prototyping; scenarios; task analysis; user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4267440" y="5718240"/>
              <a:ext cx="3873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characterization (functionality, style, workloa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8364600" y="571824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523800" y="521568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523800" y="521568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536760" y="5215680"/>
              <a:ext cx="3535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4073040" y="521568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4073040" y="521568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4086000" y="5215680"/>
              <a:ext cx="450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8590680" y="521568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8590680" y="521568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523800" y="5231880"/>
              <a:ext cx="12960" cy="735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523800" y="5231880"/>
              <a:ext cx="180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4073040" y="5231880"/>
              <a:ext cx="12960" cy="735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4073040" y="5231880"/>
              <a:ext cx="180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8590680" y="5231880"/>
              <a:ext cx="12960" cy="735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8590680" y="5231880"/>
              <a:ext cx="180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523800" y="596736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523800" y="596736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536760" y="5967360"/>
              <a:ext cx="353592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536760" y="5967360"/>
              <a:ext cx="35359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4073040" y="596736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4073040" y="596736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4086000" y="5967360"/>
              <a:ext cx="450468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4086000" y="5967360"/>
              <a:ext cx="450468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8590680" y="596736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8590680" y="596736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2" name=""/>
          <p:cNvSpPr/>
          <p:nvPr/>
        </p:nvSpPr>
        <p:spPr>
          <a:xfrm>
            <a:off x="544680" y="192240"/>
            <a:ext cx="8145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ypical SE risks (Boehm 1989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7247-39FF-4053-B51D-6BF90A07F0B6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 challeng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alance conflicting go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liver a high-quality product with limited resour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e an activity that is fundamentally intellectu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his complicates the traditional techniques for productivity measurement, project planning, cost and schedule estim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53EC-020D-4426-8FBE-5F9F047478C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3" name=""/>
          <p:cNvGrpSpPr/>
          <p:nvPr/>
        </p:nvGrpSpPr>
        <p:grpSpPr>
          <a:xfrm>
            <a:off x="642960" y="461880"/>
            <a:ext cx="7511400" cy="5867640"/>
            <a:chOff x="642960" y="461880"/>
            <a:chExt cx="7511400" cy="5867640"/>
          </a:xfrm>
        </p:grpSpPr>
        <p:grpSp>
          <p:nvGrpSpPr>
            <p:cNvPr id="1144" name=""/>
            <p:cNvGrpSpPr/>
            <p:nvPr/>
          </p:nvGrpSpPr>
          <p:grpSpPr>
            <a:xfrm>
              <a:off x="642960" y="2440440"/>
              <a:ext cx="7511400" cy="3889080"/>
              <a:chOff x="642960" y="2440440"/>
              <a:chExt cx="7511400" cy="3889080"/>
            </a:xfrm>
          </p:grpSpPr>
          <p:sp>
            <p:nvSpPr>
              <p:cNvPr id="1145" name=""/>
              <p:cNvSpPr/>
              <p:nvPr/>
            </p:nvSpPr>
            <p:spPr>
              <a:xfrm>
                <a:off x="8142120" y="244044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8142120" y="244044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917640" y="3537360"/>
                <a:ext cx="1201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8. Shortfalls i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2101680" y="3537360"/>
                <a:ext cx="913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externally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1119600" y="3822120"/>
                <a:ext cx="1302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performed task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2399760" y="382212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4015080" y="35373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4084200" y="3537360"/>
                <a:ext cx="20232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Reference checking; pr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6075720" y="35373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6144480" y="3537360"/>
                <a:ext cx="16344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award audits; awar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7753320" y="35373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7819920" y="3537360"/>
                <a:ext cx="2980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fee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4120920" y="3822120"/>
                <a:ext cx="37087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contracts; competitive design or prototyping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4116240" y="4110120"/>
                <a:ext cx="11239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team build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5220000" y="411012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642960" y="3260160"/>
                <a:ext cx="12240" cy="1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642960" y="3260160"/>
                <a:ext cx="1800" cy="1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655200" y="3260160"/>
                <a:ext cx="328716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655200" y="326016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3942360" y="3260160"/>
                <a:ext cx="12240" cy="1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3942360" y="3260160"/>
                <a:ext cx="1800" cy="1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3954600" y="3260160"/>
                <a:ext cx="418752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3954600" y="326016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8142120" y="3260160"/>
                <a:ext cx="12240" cy="1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8142120" y="3260160"/>
                <a:ext cx="1800" cy="1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642960" y="3277440"/>
                <a:ext cx="12240" cy="110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642960" y="3277440"/>
                <a:ext cx="1800" cy="110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3942360" y="3277440"/>
                <a:ext cx="12240" cy="110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3942360" y="3277440"/>
                <a:ext cx="1800" cy="110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8142120" y="3277440"/>
                <a:ext cx="12240" cy="110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8142120" y="3277440"/>
                <a:ext cx="1800" cy="110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915120" y="4656960"/>
                <a:ext cx="5752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9. Rea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1482840" y="46569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1553760" y="4656960"/>
                <a:ext cx="14850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time performance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1118520" y="4947840"/>
                <a:ext cx="7567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shortfall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1860480" y="49478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4015080" y="46569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4086360" y="4656960"/>
                <a:ext cx="31935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Simulation; benchmarking; modeling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4118400" y="4947840"/>
                <a:ext cx="29617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prototyping; instrumentation; tun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7026120" y="49478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642960" y="438516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642960" y="438516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655200" y="4385160"/>
                <a:ext cx="328716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655200" y="438516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3942360" y="438516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3942360" y="438516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3954600" y="4385160"/>
                <a:ext cx="418752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3954600" y="438516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8142120" y="438516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8142120" y="438516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642960" y="4400280"/>
                <a:ext cx="12240" cy="82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642960" y="4400280"/>
                <a:ext cx="1800" cy="822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3942360" y="4400280"/>
                <a:ext cx="12240" cy="82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3942360" y="4400280"/>
                <a:ext cx="1800" cy="822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8142120" y="4400280"/>
                <a:ext cx="12240" cy="82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8142120" y="4400280"/>
                <a:ext cx="1800" cy="822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914760" y="5495040"/>
                <a:ext cx="4183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10. 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1330200" y="5495040"/>
                <a:ext cx="15004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training computer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1121040" y="5782680"/>
                <a:ext cx="15735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science capabilitie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2664720" y="578268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4015080" y="549504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4084560" y="5495040"/>
                <a:ext cx="19911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Technical analysis; cos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6043320" y="549504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–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6146640" y="5495040"/>
                <a:ext cx="13770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benefit analysis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4118040" y="5782680"/>
                <a:ext cx="2595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prototyping; reference check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6671520" y="578268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642960" y="522288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642960" y="522288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655200" y="5222880"/>
                <a:ext cx="328716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655200" y="522288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3942360" y="522288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3942360" y="522288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3954600" y="5222880"/>
                <a:ext cx="418752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3954600" y="522288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8142120" y="522288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8142120" y="522288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642960" y="523800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642960" y="523800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64296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64296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64296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64296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64296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64296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655200" y="6057720"/>
                <a:ext cx="328716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655200" y="605772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3942360" y="523800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3942360" y="523800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394236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394236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394236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3954600" y="6057720"/>
                <a:ext cx="418752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3954600" y="605772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8142120" y="523800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8142120" y="523800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814212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814212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814212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814212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814212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814212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1117080" y="608580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7" name=""/>
            <p:cNvGrpSpPr/>
            <p:nvPr/>
          </p:nvGrpSpPr>
          <p:grpSpPr>
            <a:xfrm>
              <a:off x="642960" y="477360"/>
              <a:ext cx="7511400" cy="2782440"/>
              <a:chOff x="642960" y="477360"/>
              <a:chExt cx="7511400" cy="2782440"/>
            </a:xfrm>
          </p:grpSpPr>
          <p:sp>
            <p:nvSpPr>
              <p:cNvPr id="1248" name=""/>
              <p:cNvSpPr/>
              <p:nvPr/>
            </p:nvSpPr>
            <p:spPr>
              <a:xfrm>
                <a:off x="916200" y="734040"/>
                <a:ext cx="12261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5. Gold plat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2120040" y="7340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4015080" y="73404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4085280" y="734040"/>
                <a:ext cx="35244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Requirements scrubbing; prototyping; cos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7548840" y="73404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–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4118400" y="1022040"/>
                <a:ext cx="24955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benefit analysis; design to cos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6571440" y="10220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642960" y="477360"/>
                <a:ext cx="12240" cy="821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642960" y="477360"/>
                <a:ext cx="1800" cy="821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3942360" y="477360"/>
                <a:ext cx="12240" cy="821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3942360" y="477360"/>
                <a:ext cx="1800" cy="821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8142120" y="477360"/>
                <a:ext cx="12240" cy="821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8142120" y="477360"/>
                <a:ext cx="1800" cy="821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917280" y="1571400"/>
                <a:ext cx="19803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6. Continuing stream of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1117800" y="1859040"/>
                <a:ext cx="15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r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1275120" y="1859040"/>
                <a:ext cx="9532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quirement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2210760" y="18590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4015080" y="157140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4086000" y="1571400"/>
                <a:ext cx="36356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High change threshold; information hiding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4124160" y="1859040"/>
                <a:ext cx="3966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incremental development (defer changes to later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4116960" y="2147040"/>
                <a:ext cx="957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increments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5059080" y="21470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642960" y="129924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642960" y="129924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655200" y="1299240"/>
                <a:ext cx="328716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655200" y="129924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3942360" y="129924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3942360" y="129924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3954600" y="1299240"/>
                <a:ext cx="418752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3954600" y="129924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8142120" y="129924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8142120" y="129924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642960" y="1314360"/>
                <a:ext cx="12240" cy="110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642960" y="1314360"/>
                <a:ext cx="1800" cy="110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3942360" y="1314360"/>
                <a:ext cx="12240" cy="110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3942360" y="1314360"/>
                <a:ext cx="1800" cy="110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8142120" y="1314360"/>
                <a:ext cx="12240" cy="110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8142120" y="1314360"/>
                <a:ext cx="1800" cy="110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919800" y="2697120"/>
                <a:ext cx="21146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7. Shortfalls in externally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1117800" y="2986920"/>
                <a:ext cx="18021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furnished component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2887200" y="298692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4015080" y="269712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4088520" y="2697120"/>
                <a:ext cx="40212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Benchmarking; inspections; reference checking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4117680" y="2986920"/>
                <a:ext cx="17899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compatibility analys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5878080" y="298692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642960" y="2424240"/>
                <a:ext cx="12240" cy="1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642960" y="2424240"/>
                <a:ext cx="1800" cy="15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655200" y="2424240"/>
                <a:ext cx="328716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655200" y="2424240"/>
                <a:ext cx="328716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3942360" y="2424240"/>
                <a:ext cx="12240" cy="1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3942360" y="2424240"/>
                <a:ext cx="1800" cy="15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3954600" y="2424240"/>
                <a:ext cx="418752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3954600" y="2424240"/>
                <a:ext cx="418752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8142120" y="2424240"/>
                <a:ext cx="12240" cy="1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8142120" y="2424240"/>
                <a:ext cx="1800" cy="15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642960" y="244008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642960" y="244008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3942360" y="244008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3942360" y="244008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07" name=""/>
            <p:cNvSpPr/>
            <p:nvPr/>
          </p:nvSpPr>
          <p:spPr>
            <a:xfrm>
              <a:off x="655200" y="461880"/>
              <a:ext cx="3287160" cy="2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3954600" y="461880"/>
              <a:ext cx="4187880" cy="2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5CDB-A5F5-4677-B29F-D511352C5816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pability Maturity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MM developed by the Software Engineering Institute to hel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zations which develop softwar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improve their software proc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zations which acquire softwar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assess the quality of their contracto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12AE-41A3-42BF-8ED4-017D5ABF0844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tur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matur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sses are improvised during the course of a project to resolve unanticipated cri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ducts often delivered late and their quality is question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tur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zation-wide standard approach to software processes, known and accepted by all engin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cus on continuous improvement both in performance and produc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qu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1611-EE53-4675-AEC9-D63CF6CC960F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"/>
          <p:cNvSpPr/>
          <p:nvPr/>
        </p:nvSpPr>
        <p:spPr>
          <a:xfrm>
            <a:off x="1920960" y="20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4" name="" descr=""/>
          <p:cNvPicPr/>
          <p:nvPr/>
        </p:nvPicPr>
        <p:blipFill>
          <a:blip r:embed="rId1"/>
          <a:stretch/>
        </p:blipFill>
        <p:spPr>
          <a:xfrm>
            <a:off x="812880" y="1798560"/>
            <a:ext cx="7791480" cy="4073760"/>
          </a:xfrm>
          <a:prstGeom prst="rect">
            <a:avLst/>
          </a:prstGeom>
          <a:ln w="0">
            <a:noFill/>
          </a:ln>
        </p:spPr>
      </p:pic>
      <p:sp>
        <p:nvSpPr>
          <p:cNvPr id="131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MM maturity lev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0D8F-570F-4098-A83C-36E1CECD0FE8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622440" y="390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Key process are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7" name=""/>
          <p:cNvSpPr/>
          <p:nvPr/>
        </p:nvSpPr>
        <p:spPr>
          <a:xfrm>
            <a:off x="1757520" y="180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8" name="" descr=""/>
          <p:cNvPicPr/>
          <p:nvPr/>
        </p:nvPicPr>
        <p:blipFill>
          <a:blip r:embed="rId1"/>
          <a:stretch/>
        </p:blipFill>
        <p:spPr>
          <a:xfrm>
            <a:off x="1401840" y="1479600"/>
            <a:ext cx="8472240" cy="48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41A9-44C1-4D89-9EFB-53368D70FA50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produ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to define/measure i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terms of lines of code produc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tens per d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. but what do engineers d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 to half their time spent in meetings, administrative matters, communication with team memb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82F4-CB7F-41E1-82CD-CE39A586913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unction poi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productivity measure, empirically just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tivation: define and measure th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mount of value (or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alit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) produced per unit 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inciple: determin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omplexit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of an application as it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poi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3789-4023-40B0-A43F-6B4227089DE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unction point defini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weighted sum of 5 characteristic fact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1771560" y="2792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28600" y="3352680"/>
            <a:ext cx="12573000" cy="2857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B693-70FD-4DC5-8DD8-5479C7D6F0E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byprodu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 points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sed to measure the relative power of different langu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pute number of source lines required to code a function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umbers range from 320 (assembler languages), 128 (C), 91 (Pascal), 71 (Ada83), 53 (C++, Java), 6 (“spreadsheet languages”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364E-C441-4E92-9643-AD06B785920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0T11:27:07Z</dcterms:created>
  <dc:creator>Carlo Ghezzi</dc:creator>
  <dc:description/>
  <dc:language>en-US</dc:language>
  <cp:lastModifiedBy>jazayeri</cp:lastModifiedBy>
  <dcterms:modified xsi:type="dcterms:W3CDTF">2002-02-19T15:50:16Z</dcterms:modified>
  <cp:revision>16</cp:revision>
  <dc:subject/>
  <dc:title>PowerPoint Presentation</dc:title>
</cp:coreProperties>
</file>