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66EE-4142-478C-A855-8299CF29A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01A5-DBC0-4178-B751-647314147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2520-5814-496D-A024-AB7F8F438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4AB5-41BC-439C-8ADC-D9E31E404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CE3E-7122-41A8-9FF4-B50039C07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EF10-F4B0-410B-B807-21A58B232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A2DB-BEF5-494E-B1B9-9F9A84FB2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5627-9EFE-41BE-9CBF-ED940D16F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A2B2-79E0-4B21-BC87-946E5A84C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6673-C2C8-4F06-93EF-33A8B587B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96F8-3D12-49E6-8762-EC27F4E61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8549-124A-4923-8874-1FEB7B03B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43991-3460-4C7F-83FE-536368D89C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4320" y="1371600"/>
            <a:ext cx="425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x ≠ y lo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y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y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cd : 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6483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181480" y="1143000"/>
            <a:ext cx="34768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0:59Z</dcterms:modified>
  <cp:revision>5</cp:revision>
  <dc:subject/>
  <dc:title>PowerPoint Presentation</dc:title>
</cp:coreProperties>
</file>