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BD07-F962-44E1-8BD8-3CB77D0B8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9AFA-4266-4089-BDEA-2D51FBC96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9099-5CCA-4754-82CF-14EBC16EA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5A13-6C12-4906-A03D-B0B8FD251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F843-E0F8-4F2D-B940-8D4706C8D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5819-3764-4ABF-BCA5-48C2CCBF6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2AED-47EE-47F9-B91B-2402DE683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53D2-6D7C-4D0B-901F-E2659D32B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D1BD-08E2-433D-88BB-A6AD1F58A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148F-A8C1-422A-A3EF-5F282023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E829-8995-4977-B628-7B6E884A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078A-F16E-4266-AE23-90BC39E7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55CC4-D481-481A-BBA8-691664E895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0" y="1523880"/>
          <a:ext cx="4419720" cy="29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523880"/>
                    <a:ext cx="4419720" cy="29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7:25Z</dcterms:modified>
  <cp:revision>3</cp:revision>
  <dc:subject/>
  <dc:title>PowerPoint Presentation</dc:title>
</cp:coreProperties>
</file>