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6801-5E5D-4969-8F47-EB9F59DAE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7958-E563-40A6-AE33-FFAF232D4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26A3-376A-41AD-8ACF-3F8F31E22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B1FF-4F85-44D2-B14B-8F80C393F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DED2-9E78-4D0A-AD01-0CB5008E7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9790-9912-4D37-A032-978AD784D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3582-3EC1-41D1-895B-D0DC9721A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41E9-277C-42B7-9F63-690A87B73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7DA1-3F85-42E2-93EA-019746AAB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D1C8-5B54-4AA8-B5A9-7F54AB27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8E03-8FA8-4F41-98BE-19E5AFEA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D672-BE0B-4BEF-9CF4-2F0D9567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4B046-E5B7-4E80-B5B2-3CC078D6DF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346560" y="2766960"/>
          <a:ext cx="5514840" cy="138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6560" y="2766960"/>
                    <a:ext cx="551484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146320" y="4179960"/>
            <a:ext cx="4854600" cy="2340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021040" y="1717560"/>
            <a:ext cx="5143320" cy="1816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6400" y="1182600"/>
            <a:ext cx="46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of a table describing f(x,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4440" y="3681360"/>
            <a:ext cx="23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sponding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02360" y="2295360"/>
            <a:ext cx="0" cy="22392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30640" y="2905200"/>
            <a:ext cx="295200" cy="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252200" y="2351160"/>
            <a:ext cx="16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0000" y="15080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56640" y="2087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48920" y="3317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3120" y="1609560"/>
            <a:ext cx="200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ds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95360" y="1920960"/>
            <a:ext cx="265320" cy="61920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95360" y="1909800"/>
            <a:ext cx="1200240" cy="1317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240" y="2282760"/>
            <a:ext cx="20811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=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 R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,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64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502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52400" y="354024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943600" y="3311640"/>
            <a:ext cx="385920" cy="3873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3:04Z</dcterms:created>
  <dc:creator>Spencer Smith</dc:creator>
  <dc:description/>
  <dc:language>en-US</dc:language>
  <cp:lastModifiedBy>Spencer Smith</cp:lastModifiedBy>
  <dcterms:modified xsi:type="dcterms:W3CDTF">2008-03-12T16:04:21Z</dcterms:modified>
  <cp:revision>1</cp:revision>
  <dc:subject/>
  <dc:title>PowerPoint Presentation</dc:title>
</cp:coreProperties>
</file>