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E254-E9F8-4416-A199-DAFD3EFEB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2531-9EFD-4CC9-AEB0-7B3BA191C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1ACA-4E0F-44AE-AD1F-D24B8AB23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83A7-AA95-485B-8402-061CE6472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0AAC-FEAD-46AD-AC40-BC5B94B25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2C90-2C3C-4690-9C16-A568C2283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0A58-840F-45C8-AE56-BB5570CD6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D550-3317-4BB8-8B19-F1FDED440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A46F-D41F-4D67-B34C-7520CD5CF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0314-B496-4DF8-BAE3-97E3CEB4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37D8-EC2E-4CBC-ADFD-E10D1411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64DD-9D9B-4B5B-97BC-E7004E15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21862-8C30-40F6-B7DE-15966F2C53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468360"/>
            <a:ext cx="6997680" cy="58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2:21Z</dcterms:modified>
  <cp:revision>1</cp:revision>
  <dc:subject/>
  <dc:title>PowerPoint Presentation</dc:title>
</cp:coreProperties>
</file>