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9609-53A0-406F-B4A9-0799F4B91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4D28-E17A-4833-B09D-B19964D84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3498-DA5A-41B0-847D-62B950D7C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DD8C-9063-4150-ACB0-08CA051EF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E77B-356A-40B2-A144-26B9CE67E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675C-86C3-48B9-AD7F-98EDA070B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421E-E76F-4BDC-9A18-6B5B19F02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EA8D-3100-46DB-B289-EECB7982D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0226-8D73-4671-B6A4-D68BBD408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B450-195E-4D77-819F-3E06CDCE6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5C34-35A3-4BF5-B230-0B3787FBD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D061-868F-4A79-8E35-92543C816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FF94E-30FD-4476-99B1-B27A644D76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6003720" cy="34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7T15:17:48Z</dcterms:created>
  <dc:creator>Spencer Smith</dc:creator>
  <dc:description/>
  <dc:language>en-US</dc:language>
  <cp:lastModifiedBy>Spencer Smith</cp:lastModifiedBy>
  <dcterms:modified xsi:type="dcterms:W3CDTF">2008-02-27T15:18:27Z</dcterms:modified>
  <cp:revision>1</cp:revision>
  <dc:subject/>
  <dc:title>PowerPoint Presentation</dc:title>
</cp:coreProperties>
</file>