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2A86-5B12-4756-BE2B-CB0175EB7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086E-0C2F-4C9F-9120-B141DD44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9461-5FC2-4915-BB6A-EE4CDBD96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BA46-92CF-408E-A9B1-3316608A5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69FA-22D7-493C-A85F-0E61EF70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1EFD-566C-4B55-80EC-69C68FAD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FBD2-E548-4280-A090-D3842D685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FCAB-4ECF-4886-A675-782719C51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2A88-FE7E-426B-885C-46322834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FFB1-8453-489B-BD5F-FF40FCF2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0FF5-69A8-4AEE-BAB2-4A73764E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5470-00A3-4F63-9D66-48FC7B17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C4CF2-2D1A-4A88-A52A-D1D195BA9D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0" y="1523880"/>
          <a:ext cx="4419720" cy="29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523880"/>
                    <a:ext cx="4419720" cy="29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7:25Z</dcterms:modified>
  <cp:revision>3</cp:revision>
  <dc:subject/>
  <dc:title>PowerPoint Presentation</dc:title>
</cp:coreProperties>
</file>