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2388-F3CF-4BFF-943B-CECCE8DAE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4A3D-1850-4C2A-B530-C5DE3F2F1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3710-1FC1-4CB5-8B9C-7B6BA990E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9C9F-AFF9-4C22-B319-44ED36440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585F-A1AD-4C2C-BE82-CAAC57888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811D-DEB1-477C-9787-27BE3A743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2696-803D-4B0D-932D-A63505926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1F02-39CA-405D-AF6C-00F2EDE6C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4FB2-898C-445C-8265-5C9F739B9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5CDD-0B71-4382-8036-2334285AD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511C-04EA-403A-B3D7-60E87C7AC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0F56-F494-426C-A7FC-0D1EDC324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49BE7-1C30-4071-9F85-CF7A2D6AE7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0" y="1523880"/>
          <a:ext cx="4419720" cy="294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523880"/>
                    <a:ext cx="4419720" cy="294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5:14:48Z</dcterms:created>
  <dc:creator>Spencer Smith</dc:creator>
  <dc:description/>
  <dc:language>en-US</dc:language>
  <cp:lastModifiedBy>Spencer Smith</cp:lastModifiedBy>
  <dcterms:modified xsi:type="dcterms:W3CDTF">2008-02-15T15:17:25Z</dcterms:modified>
  <cp:revision>3</cp:revision>
  <dc:subject/>
  <dc:title>PowerPoint Presentation</dc:title>
</cp:coreProperties>
</file>