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5692-AF11-453E-8531-8723F203C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A6EF-F721-447F-95BA-6A217668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A223-9987-485A-8ABB-C1E2D02C7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272B-A3E5-4166-992C-337A62B62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3988-8A71-403C-8F95-0999397F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68C8-49FA-4454-BEB0-8BC77046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FE0A-D12D-4702-89B0-2DA3CE04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E914-AC77-4D27-8D0D-77C5992DF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6C13-E863-49ED-A27C-D649E736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AB4D-DB71-4401-AD50-2E165E94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CA41-61EC-4302-8D1D-0CC7E7D0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EDA5-1AC0-4152-AD0B-D0D5747E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6B0C-D3C5-4DFB-A2CF-7759E180A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08240" y="1168560"/>
            <a:ext cx="6629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47Z</dcterms:modified>
  <cp:revision>8</cp:revision>
  <dc:subject/>
  <dc:title>PowerPoint Presentation</dc:title>
</cp:coreProperties>
</file>