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A98-76BA-47D2-AF3C-909922148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CAC6-21E0-4096-A031-B3AF6D77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4062-FB7D-4E3D-B16D-985877773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12CA-843F-4E96-B880-9D17285F5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DEE8-CACB-4D3B-B98D-FCEBF194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057E-9940-4826-AFDE-A85CEC2C9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8741-9CEE-4ED4-A9DB-C92C7FC9D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BD68-EB8C-4EE8-8F86-B32C4C8A8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0D5B-E2BA-4A20-B483-464A8C9A2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5E3F-6D5E-4CDA-AB86-0914BE42A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166A-5EBB-4BF9-9B6A-26D7B282A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1092-E865-4910-ABB6-F39291A1D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318D-6BA4-41FD-B737-BA72BE44A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980480" cy="31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8:11Z</dcterms:modified>
  <cp:revision>5</cp:revision>
  <dc:subject/>
  <dc:title>PowerPoint Presentation</dc:title>
</cp:coreProperties>
</file>