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22DA-E7FE-4142-A2DB-7E92E54C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BB2E-7B3E-4ADC-8F60-5DF77C3BA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F9766-CAAF-46C4-A412-27F79CEFB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8E44-A5D4-4CC4-BA86-CD782CFFA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36A7B-A054-474E-A3D4-4B03594D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B5D5-5EBD-4929-B8FF-F549CAB0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2022-709F-4659-BE7F-ED6967246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1B87-93BE-4C09-B6C5-DAF9F78BD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0988-66D0-438A-9967-C3ACC21A0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ED7B-1298-4838-AFB4-8FFEBF0A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D7E2-9BB5-4399-9049-19A6CACB9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4A8A-72F4-40E1-9AD0-D24C0DED0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F3E1-FC73-43A8-A8D2-C9E122053A7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ftware Enginee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Pre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B3B0-4C8E-44FA-B9FD-A8797839054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ement sci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73FA-0D3B-4C6B-B535-BA4FC00E309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Definitions of 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oftware engineering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(S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Historical origins of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s p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art of systems engine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consists of many activities in addition to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programm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E and other disciplin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8A0D9-04A2-4683-BFE3-91778267892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application of engineering to soft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eld of computer science dealing with software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and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by te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ist in many ver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any yea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g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55CAC-863B-41C4-93D4-F5AE3472F8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Defini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of a systematic, disciplined, quantifiable approach to the development, operation, and maintenance of software (IEEE 1990)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-person construction of multi-version software (Parnas 1978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108E-FA89-40FD-9A53-9CC1431597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E in system desig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 part of larger 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bed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requirements to be balanced against oth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telephone switching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ertain requirements  can only be met by hw, sw, and special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F46-9DCA-4ED5-B80C-C9032864A06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Histo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The field of software engineering was born in 1968 in response to chronic failures of large software projects to meet schedule and budget constraints</a:t>
            </a: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ognition of "the software crisi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rm became popular after NATO Conference in Garmisch Partenkirchen (Germany), 1968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07B8-E4A6-4C6F-9EEF-460DE03A412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ole of software engine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gramming skill not enoug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ftware engineering involves "programming-in-the –large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stand requirements and write 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 models and reason about th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ster softwa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 at various abstraction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mber of a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ion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agement ski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1A61-9CB3-459B-917F-9A425DCE87F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software lifecycl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(a preview)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914400" y="1741320"/>
            <a:ext cx="7799400" cy="47959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914080" y="2209680"/>
            <a:ext cx="230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944E-14FB-458E-AB76-7F4DBB1C2E1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lationships betwee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E and other CS disciplin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gramming langu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perating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ta bas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tificial intellig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h.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518E-4325-4493-BB59-6CE1722933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2-23T09:36:44Z</dcterms:created>
  <dc:creator>Carlo Ghezzi</dc:creator>
  <dc:description/>
  <dc:language>en-US</dc:language>
  <cp:lastModifiedBy>Pearson Education</cp:lastModifiedBy>
  <cp:lastPrinted>1999-03-04T17:52:08Z</cp:lastPrinted>
  <dcterms:modified xsi:type="dcterms:W3CDTF">2003-01-02T18:26:56Z</dcterms:modified>
  <cp:revision>35</cp:revision>
  <dc:subject/>
  <dc:title>Software Engineering</dc:title>
</cp:coreProperties>
</file>