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A5DE-1CE5-4CA1-B298-87DCCE8BD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4AAE-31C9-4F30-88FA-02D9363C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4E9F-3447-4CA9-91CB-18EC0A4C4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F68D-33F6-41FF-8A9C-8D90CD9D4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2C0F-4A5F-4CA4-92B2-42C46131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B25E-B5CD-4DA8-9249-7D60AFCF3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DA1A-79EF-4A81-B7AA-4F12F2D8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3624-53CD-4CF8-8C24-34F66AF79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BE71-2BF3-4D1B-9D75-C3AE6AF0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288D-043A-42BD-98C2-8D23A004A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CA8B-9C72-4D35-90F6-7B3370FF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0992-ED84-428B-A3BB-2E094B56C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590920" y="6248520"/>
            <a:ext cx="3962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9BB8-8557-4226-8871-11E93C3293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8879-8337-4289-9D0B-BCAF766D0E9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utomating a law off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4E56-A984-43AD-AB6D-0000CA3F7B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Good intuition and technical skills are not enough to guarantee su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Marketing analysis and process organization must be planned carefully before committing to the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hanges in schedules and project sourcing after serious problems are encountered can be difficult and expensive, if not impossible to implem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6157-69B4-49AE-848E-68D9DFE02EA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uilding a family of compil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DECF-F58B-45D3-A789-E9B158DF5C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Good engineers are essential to the succes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Use of standard test suites helps obtain objective measures of the completion status of a pro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Transparency of process helps entire organization in plan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Revising a schedule on the basis of objective data helps the schedule become more reali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Reuse of large software components on the basis of clear specifications is possible and advantageou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E7F4-EF0E-4F2D-9927-2055437A513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ncremental delive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5EE9-6BC7-4865-9383-C113DCF27B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Prototyping i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may be used by clients to start on their project while they await the final produ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A throw-away prototype enables parallel development by clients and develop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throw-away prototype may be used to prune an initial set of requirements on the basis of actual usage and need for featur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84F4-2277-4899-8982-46BF20DD278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pplying formal methods in industry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41B9-DC9F-41ED-A3B5-CC17F6FA0FA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Formal methods can be effective in practice and their use results in increased reliability and reduced development and verification costs which compensate for the increased effort in the specification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Industrial environments are reluctant to adopt them, even after successful pilot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hey are afraid of the special training required, which causes organizational efforts and economic invest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“lightweight approach” may be possible which exploits the incrementality principl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ase studie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A2C6-31ED-473B-B23E-E933EF8E445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6:29:53Z</dcterms:created>
  <dc:creator>Carlo Ghezzi</dc:creator>
  <dc:description/>
  <dc:language>en-US</dc:language>
  <cp:lastModifiedBy>jazayeri</cp:lastModifiedBy>
  <dcterms:modified xsi:type="dcterms:W3CDTF">2002-02-20T10:09:00Z</dcterms:modified>
  <cp:revision>4</cp:revision>
  <dc:subject/>
  <dc:title>Case studies</dc:title>
</cp:coreProperties>
</file>