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6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13.wmf" ContentType="image/x-wmf"/>
  <Override PartName="/ppt/media/image5.png" ContentType="image/png"/>
  <Override PartName="/ppt/media/image14.wmf" ContentType="image/x-wmf"/>
  <Override PartName="/ppt/media/image6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13D7-7FE3-4216-B73B-9B86B084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26C7-6A77-48AC-AA63-08001EF4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3B810-633B-43B4-92DF-2BB441BD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FF44-AE74-4D01-92E6-C2AF938CB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EB4E-2C12-4F48-BA22-2577BDA6A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501B-3B79-4D83-B53A-6CD8BD109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543E4-1386-4FF6-B602-8BF81014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02ED-A1A6-42CC-89F2-D36469E60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FD9C-0CDA-40A9-B3E6-F92659AD2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1B63-855B-4518-A6B4-ACB0FA5A8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4960-EE13-40C7-B1CC-E98E14AB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461-A0DC-48C7-BEE5-D36F0E47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1763-CE49-4D77-8C29-54EEBA7BD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5.png"/><Relationship Id="rId5" Type="http://schemas.openxmlformats.org/officeDocument/2006/relationships/image" Target="../media/image7.png"/><Relationship Id="rId6" Type="http://schemas.openxmlformats.org/officeDocument/2006/relationships/image" Target="../media/image8.wmf"/><Relationship Id="rId7" Type="http://schemas.openxmlformats.org/officeDocument/2006/relationships/image" Target="../media/image9.wmf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of 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18EAF-61C6-4ADF-B02B-C15E5C36E3A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ze of co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ze of code produced per unit of time as productivity meas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efine exactly what "size of code" me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ed source instructions (DSI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ncommented source statements (NCS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how good is this metric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36DE-B9EB-4ED2-A6EC-B2A274228D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actors affecting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fessionals' capa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complex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vious exper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Overly aggressive scheduling may have negative effec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0FF7-A8FB-45A3-AF2D-178925997E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ople and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cause software engineering is predominantly an intellectual activity, the most important ingredient for producing high-quality software efficiently is peop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rge variability in productivity between engine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9546-3038-4BDC-B86B-30EDA8F9781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1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iv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ethods to estimate the complexity of software before it has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t size of the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it as input for deriving the required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9D60-F5CB-4BA4-8E5E-7E78EC3D13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formula for eff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"/>
          <p:cNvSpPr/>
          <p:nvPr/>
        </p:nvSpPr>
        <p:spPr>
          <a:xfrm>
            <a:off x="2922480" y="2286000"/>
            <a:ext cx="3143520" cy="6426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imes New Roman"/>
              </a:rPr>
              <a:t>PM = c.KLOC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k</a:t>
            </a:r>
            <a:r>
              <a:rPr b="0" lang="it-IT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34960" y="2971800"/>
            <a:ext cx="4467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g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M: person mon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LOC: K lines of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, k depend on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&gt;1 (non-linear growt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162080" y="5257800"/>
            <a:ext cx="699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estimate then calibrated using a numb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"cost drivers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59EB-01F1-40F9-B4E0-08F0300E004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cost driver categ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reliability requirements or inherent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re execution time or storage constraint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so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the personnel experienced in the application area or the programming language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re sophisticated software tools being us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F91D-474C-463F-82AD-DD75A0C4F7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st estimation proced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timate software size, and use it in the model’s formula to get initial effort estim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vise estimate by using the cost driver or other scaling factors given by the mod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the model’s tools to the estimate derived in step 2 to determine the total effort, activity distribution, etc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F8A-5FAF-45F9-AC9D-C0DFBB7EF53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Constructive Cost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114200" y="3862440"/>
            <a:ext cx="6629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by B. Boe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ed from COCOMO to COCOMO I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BFE5-75A7-498B-8C90-CC16351E43C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estimate based on delivered source instructions, KDS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tegorizes the software as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midet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mbe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has an associated formula for nominal development effort based on estimated cod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165C-EBBB-4DFE-BC2F-191DAC843CC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771560" y="7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575480" y="6181560"/>
            <a:ext cx="972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575480" y="6181560"/>
            <a:ext cx="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575480" y="6181560"/>
            <a:ext cx="1800" cy="9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65720" y="6200640"/>
            <a:ext cx="45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882720" y="1077840"/>
            <a:ext cx="7923960" cy="5125320"/>
            <a:chOff x="882720" y="1077840"/>
            <a:chExt cx="7923960" cy="5125320"/>
          </a:xfrm>
        </p:grpSpPr>
        <p:grpSp>
          <p:nvGrpSpPr>
            <p:cNvPr id="92" name=""/>
            <p:cNvGrpSpPr/>
            <p:nvPr/>
          </p:nvGrpSpPr>
          <p:grpSpPr>
            <a:xfrm>
              <a:off x="882720" y="1077840"/>
              <a:ext cx="7923960" cy="4662360"/>
              <a:chOff x="882720" y="1077840"/>
              <a:chExt cx="7923960" cy="4662360"/>
            </a:xfrm>
          </p:grpSpPr>
          <p:sp>
            <p:nvSpPr>
              <p:cNvPr id="93" name=""/>
              <p:cNvSpPr/>
              <p:nvPr/>
            </p:nvSpPr>
            <p:spPr>
              <a:xfrm>
                <a:off x="961560" y="11257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42944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6313680" y="1104120"/>
                <a:ext cx="4366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d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6844320" y="110844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464600" y="1105920"/>
                <a:ext cx="4500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272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8272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8272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896400" y="107784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96400" y="1077840"/>
                <a:ext cx="34538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5060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5060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5060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364640" y="107784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64640" y="1077840"/>
                <a:ext cx="13950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759640" y="107784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759640" y="1077840"/>
                <a:ext cx="13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75964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73320" y="107784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773320" y="1077840"/>
                <a:ext cx="16120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38576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8576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7385760" y="107784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8000" y="107784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98000" y="1077840"/>
                <a:ext cx="1396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794800" y="107784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794800" y="1077840"/>
                <a:ext cx="118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8794800" y="107784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882720" y="109296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2720" y="109296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794800" y="109296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794800" y="109296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62280" y="1416960"/>
                <a:ext cx="5493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Featu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62324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430520" y="1416960"/>
                <a:ext cx="576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12496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39920" y="1416960"/>
                <a:ext cx="9792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Semidetach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702000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66040" y="1416960"/>
                <a:ext cx="759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300" spc="-1" strike="noStrike">
                    <a:solidFill>
                      <a:srgbClr val="000000"/>
                    </a:solidFill>
                    <a:latin typeface="Times New Roman"/>
                  </a:rPr>
                  <a:t>Embedded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379720" y="1416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8272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8272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350600" y="137268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50600" y="137268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35060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5060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35060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364640" y="1372680"/>
                <a:ext cx="13950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364640" y="137268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759640" y="1372680"/>
                <a:ext cx="136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759640" y="137268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75964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773320" y="1372680"/>
                <a:ext cx="16120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773320" y="137268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385760" y="1372680"/>
                <a:ext cx="1188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385760" y="137268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85760" y="1372680"/>
                <a:ext cx="1440" cy="13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98000" y="1372680"/>
                <a:ext cx="1396800" cy="13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398000" y="137268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794800" y="137268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794800" y="137268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8272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8272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350600" y="1388160"/>
                <a:ext cx="136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350600" y="1388160"/>
                <a:ext cx="144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794800" y="1388160"/>
                <a:ext cx="11880" cy="277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94800" y="1388160"/>
                <a:ext cx="2160" cy="277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64080" y="1713960"/>
                <a:ext cx="21726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rganizational understanding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124640" y="1994040"/>
                <a:ext cx="1212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oduct objectiv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2585520" y="1994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430520" y="171396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horou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21388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38480" y="171396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688572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465320" y="1713960"/>
                <a:ext cx="5220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Gener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091000" y="1713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8272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8272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96400" y="1665720"/>
                <a:ext cx="34538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96400" y="1665720"/>
                <a:ext cx="34538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35060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435060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364640" y="1665720"/>
                <a:ext cx="13950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4364640" y="1665720"/>
                <a:ext cx="13950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759640" y="1665720"/>
                <a:ext cx="136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759640" y="1665720"/>
                <a:ext cx="136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75964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773320" y="1665720"/>
                <a:ext cx="16120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773320" y="1665720"/>
                <a:ext cx="16120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38576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385760" y="1665720"/>
                <a:ext cx="1188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385760" y="1665720"/>
                <a:ext cx="144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398000" y="1665720"/>
                <a:ext cx="139680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98000" y="1665720"/>
                <a:ext cx="139680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94800" y="1665720"/>
                <a:ext cx="1188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794800" y="1665720"/>
                <a:ext cx="216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8272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8272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350600" y="168120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350600" y="168120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794800" y="168120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794800" y="168120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964800" y="2271600"/>
                <a:ext cx="2364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perience in working with relate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1123560" y="2551320"/>
                <a:ext cx="1130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software syste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2485080" y="2551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430520" y="227160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1388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38480" y="22716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88572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64960" y="227160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8225640" y="22716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272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8272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350600" y="2238840"/>
                <a:ext cx="136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350600" y="2238840"/>
                <a:ext cx="144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94800" y="2238840"/>
                <a:ext cx="11880" cy="5590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794800" y="2238840"/>
                <a:ext cx="2160" cy="5590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965160" y="283140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1123560" y="3109320"/>
                <a:ext cx="2109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378440" y="3109320"/>
                <a:ext cx="554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442880" y="3109320"/>
                <a:ext cx="1378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608840" y="3109320"/>
                <a:ext cx="1495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tablished requirement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413520" y="3109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429080" y="283140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87008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38480" y="283140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88572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464960" y="283140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784640" y="283140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88272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8272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4350600" y="2798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4350600" y="2798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794800" y="2798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8794800" y="2798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65160" y="3389040"/>
                <a:ext cx="24649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software conformance with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125360" y="3669120"/>
                <a:ext cx="20948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rnal interface specification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650760" y="36691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429080" y="3389040"/>
                <a:ext cx="366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Basic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87008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8480" y="338904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88572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464960" y="3389040"/>
                <a:ext cx="2660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Ful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784640" y="33890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72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8272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350600" y="3356280"/>
                <a:ext cx="136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350600" y="3356280"/>
                <a:ext cx="144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794800" y="3356280"/>
                <a:ext cx="11880" cy="55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8794800" y="3356280"/>
                <a:ext cx="2160" cy="55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963720" y="3946680"/>
                <a:ext cx="18525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current development of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24280" y="4224600"/>
                <a:ext cx="1966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ssociated new hardware and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24640" y="4504320"/>
                <a:ext cx="1504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perational procedure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937240" y="450432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430160" y="3946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8819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38480" y="3946680"/>
                <a:ext cx="631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oderat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59916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465680" y="3946680"/>
                <a:ext cx="6498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Extensiv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8247240" y="3946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88272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88272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350600" y="3913560"/>
                <a:ext cx="136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350600" y="3913560"/>
                <a:ext cx="144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8794800" y="3913560"/>
                <a:ext cx="11880" cy="83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8794800" y="3913560"/>
                <a:ext cx="2160" cy="83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963000" y="4783680"/>
                <a:ext cx="8326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Need for in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965960" y="4783680"/>
                <a:ext cx="158724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ovative data processing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125360" y="5061960"/>
                <a:ext cx="16282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architectures, algorithms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087720" y="506196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429800" y="4783680"/>
                <a:ext cx="56772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Minimal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11308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38480" y="4783680"/>
                <a:ext cx="375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Som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29100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464600" y="4783680"/>
                <a:ext cx="86940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Considerabl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8511840" y="478368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272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8272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350600" y="4751280"/>
                <a:ext cx="136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350600" y="4751280"/>
                <a:ext cx="144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794800" y="4751280"/>
                <a:ext cx="11880" cy="5576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8794800" y="4751280"/>
                <a:ext cx="2160" cy="5576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964440" y="5343840"/>
                <a:ext cx="196200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Premium on early completion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Product size range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332892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4430160" y="5343840"/>
                <a:ext cx="6836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5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47930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39920" y="5343840"/>
                <a:ext cx="76572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Medium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&lt;300 KDSI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510240" y="5343840"/>
                <a:ext cx="41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464600" y="5343840"/>
                <a:ext cx="32976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861680" y="5343840"/>
                <a:ext cx="613440" cy="396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Times New Roman"/>
                  </a:rPr>
                  <a:t>All sizes</a:t>
                </a:r>
                <a:r>
                  <a:rPr b="0" lang="it-IT" sz="13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8272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8272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4350600" y="5308920"/>
                <a:ext cx="136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350600" y="5308920"/>
                <a:ext cx="144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8794800" y="5308920"/>
                <a:ext cx="11880" cy="27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8794800" y="5308920"/>
                <a:ext cx="2160" cy="279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3" name=""/>
            <p:cNvSpPr/>
            <p:nvPr/>
          </p:nvSpPr>
          <p:spPr>
            <a:xfrm>
              <a:off x="882720" y="5486400"/>
              <a:ext cx="7904520" cy="716760"/>
            </a:xfrm>
            <a:custGeom>
              <a:avLst/>
              <a:gdLst/>
              <a:ahLst/>
              <a:rect l="l" t="t" r="r" b="b"/>
              <a:pathLst>
                <a:path w="4032" h="288">
                  <a:moveTo>
                    <a:pt x="0" y="0"/>
                  </a:moveTo>
                  <a:lnTo>
                    <a:pt x="0" y="288"/>
                  </a:lnTo>
                  <a:lnTo>
                    <a:pt x="4032" y="288"/>
                  </a:lnTo>
                  <a:lnTo>
                    <a:pt x="4032" y="4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350600" y="5464800"/>
              <a:ext cx="0" cy="725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2C2B-D1B0-42A3-84AE-DFF0F68FE4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is 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gement need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are the main tasks of manag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s special in the case of softwa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productivity be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ch tools may be used for planning and monitor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teams be organiz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ow can organizations' capabilities be defined and measur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061E-763F-4332-9A28-4C27AB94C8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nominal effort and schedule equ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1771560" y="292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457200" y="2951280"/>
            <a:ext cx="8190000" cy="181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28A0-D8AB-4BB9-88DF-923D05F1305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733400" y="141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3340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413480" y="3903840"/>
            <a:ext cx="9720" cy="355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73340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413480" y="425916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73340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3480" y="443700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73340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13480" y="461484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73340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413480" y="4970520"/>
            <a:ext cx="9720" cy="177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3340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73340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13480" y="5148360"/>
            <a:ext cx="9720" cy="355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413480" y="5504040"/>
            <a:ext cx="972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89000" y="166680"/>
            <a:ext cx="7208280" cy="6321240"/>
            <a:chOff x="189000" y="166680"/>
            <a:chExt cx="7208280" cy="6321240"/>
          </a:xfrm>
        </p:grpSpPr>
        <p:grpSp>
          <p:nvGrpSpPr>
            <p:cNvPr id="316" name=""/>
            <p:cNvGrpSpPr/>
            <p:nvPr/>
          </p:nvGrpSpPr>
          <p:grpSpPr>
            <a:xfrm>
              <a:off x="189000" y="166680"/>
              <a:ext cx="7207920" cy="1644120"/>
              <a:chOff x="189000" y="166680"/>
              <a:chExt cx="7207920" cy="1644120"/>
            </a:xfrm>
          </p:grpSpPr>
          <p:sp>
            <p:nvSpPr>
              <p:cNvPr id="317" name=""/>
              <p:cNvSpPr/>
              <p:nvPr/>
            </p:nvSpPr>
            <p:spPr>
              <a:xfrm>
                <a:off x="451800" y="2008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0124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91320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381200" y="182880"/>
                <a:ext cx="500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200" spc="-1" strike="noStrike">
                    <a:solidFill>
                      <a:srgbClr val="000000"/>
                    </a:solidFill>
                    <a:latin typeface="Times New Roman"/>
                  </a:rPr>
                  <a:t>Rating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01552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664960" y="1828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35076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7042680" y="186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8900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8900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8900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01240" y="16668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01240" y="166680"/>
                <a:ext cx="23083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5099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5099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5099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22160" y="16668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22160" y="166680"/>
                <a:ext cx="983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0532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50532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5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517560" y="16668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517560" y="166680"/>
                <a:ext cx="7938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311720" y="16668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311720" y="166680"/>
                <a:ext cx="97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31172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321800" y="16668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21800" y="166680"/>
                <a:ext cx="983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305320" y="16668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305320" y="166680"/>
                <a:ext cx="115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305320" y="16668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317200" y="16668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317200" y="166680"/>
                <a:ext cx="6814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99904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99904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99904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1164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01164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692760" y="16668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692760" y="166680"/>
                <a:ext cx="104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69276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03200" y="16668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703200" y="166680"/>
                <a:ext cx="68112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7384680" y="16668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384680" y="166680"/>
                <a:ext cx="12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384680" y="16668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18900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18900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84680" y="1774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84680" y="1774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48920" y="415080"/>
                <a:ext cx="71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st Driver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354680" y="415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2650680" y="4003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337644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736440" y="400320"/>
                <a:ext cx="279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Lo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08996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475160" y="400320"/>
                <a:ext cx="53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Nom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15232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471280" y="40032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0080" y="400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6158880" y="400320"/>
                <a:ext cx="3420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000000"/>
                    </a:solidFill>
                    <a:latin typeface="Times New Roman"/>
                  </a:rPr>
                  <a:t>Very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615780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654372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834960" y="400320"/>
                <a:ext cx="367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xtra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6848640" y="601560"/>
                <a:ext cx="305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35640" y="60156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8900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8900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201240" y="380520"/>
                <a:ext cx="23083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01240" y="38052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25099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25099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25099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2522160" y="380520"/>
                <a:ext cx="98316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522160" y="38052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50532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350532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5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3517560" y="380520"/>
                <a:ext cx="79380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3517560" y="38052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4311720" y="380520"/>
                <a:ext cx="97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4311720" y="38052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431172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4321800" y="380520"/>
                <a:ext cx="983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4321800" y="38052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305320" y="380520"/>
                <a:ext cx="115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305320" y="38052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305320" y="380520"/>
                <a:ext cx="180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5317200" y="380520"/>
                <a:ext cx="68148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5317200" y="38052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599904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5999040" y="38052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599904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01164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01164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692760" y="380520"/>
                <a:ext cx="104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692760" y="38052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69276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703200" y="380520"/>
                <a:ext cx="68112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703200" y="38052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84680" y="380520"/>
                <a:ext cx="12240" cy="10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84680" y="380520"/>
                <a:ext cx="2160" cy="10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900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18900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384680" y="391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84680" y="391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447840" y="831600"/>
                <a:ext cx="11055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845360" y="83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0124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91320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48142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6649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35076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042680" y="8136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8900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18900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201240" y="797040"/>
                <a:ext cx="23083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201240" y="797040"/>
                <a:ext cx="2308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25099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5099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25099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522160" y="797040"/>
                <a:ext cx="98316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522160" y="797040"/>
                <a:ext cx="983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50532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50532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5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517560" y="797040"/>
                <a:ext cx="79380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517560" y="797040"/>
                <a:ext cx="7938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311720" y="797040"/>
                <a:ext cx="97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311720" y="797040"/>
                <a:ext cx="97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31172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4321800" y="797040"/>
                <a:ext cx="983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4321800" y="797040"/>
                <a:ext cx="983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305320" y="797040"/>
                <a:ext cx="115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305320" y="797040"/>
                <a:ext cx="115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305320" y="797040"/>
                <a:ext cx="180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317200" y="797040"/>
                <a:ext cx="6814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317200" y="797040"/>
                <a:ext cx="6814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99904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999040" y="797040"/>
                <a:ext cx="122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99904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01164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01164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692760" y="797040"/>
                <a:ext cx="104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692760" y="797040"/>
                <a:ext cx="1044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69276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703200" y="797040"/>
                <a:ext cx="68112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703200" y="797040"/>
                <a:ext cx="6811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384680" y="797040"/>
                <a:ext cx="122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384680" y="797040"/>
                <a:ext cx="21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8900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8900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384680" y="80820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7384680" y="80820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47120" y="1034640"/>
                <a:ext cx="1070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quired softwar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46760" y="1237320"/>
                <a:ext cx="5508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reli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43720" y="12373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289188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31327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3790800" y="10180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341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64544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98312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49648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3596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181920" y="10180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51960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7042680" y="1018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900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900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384680" y="10105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84680" y="10105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47840" y="1440360"/>
                <a:ext cx="8053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Data base siz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466280" y="14403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0124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0800" y="1423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0341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64544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98312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49648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8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3596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181920" y="1423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51960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042680" y="1423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8900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8900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384680" y="1416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384680" y="1416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46040" y="1643040"/>
                <a:ext cx="1107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duct complex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847160" y="1643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289188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1327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0800" y="16268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40341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6454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9831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7" name=""/>
            <p:cNvGrpSpPr/>
            <p:nvPr/>
          </p:nvGrpSpPr>
          <p:grpSpPr>
            <a:xfrm>
              <a:off x="189000" y="1619640"/>
              <a:ext cx="7207920" cy="3234600"/>
              <a:chOff x="189000" y="1619640"/>
              <a:chExt cx="7207920" cy="3234600"/>
            </a:xfrm>
          </p:grpSpPr>
          <p:sp>
            <p:nvSpPr>
              <p:cNvPr id="518" name=""/>
              <p:cNvSpPr/>
              <p:nvPr/>
            </p:nvSpPr>
            <p:spPr>
              <a:xfrm>
                <a:off x="549648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3596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18192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51960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73840" y="16268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211520" y="16268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18900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18900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7384680" y="16196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7384680" y="16196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51800" y="18457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0124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391320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142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6649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35076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042680" y="18277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18900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18900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7384680" y="18223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7384680" y="18223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51440" y="2048760"/>
                <a:ext cx="491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1069200" y="2048760"/>
                <a:ext cx="747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er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2012400" y="20509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0124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391320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8142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6649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35076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7042680" y="20322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18900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18900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7384680" y="20253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84680" y="20253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42080" y="2250000"/>
                <a:ext cx="1503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ecution tim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2342160" y="2250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301248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39132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6454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9831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49648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3596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618192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651960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873840" y="2235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6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211520" y="2235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8900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8900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7384680" y="22284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384680" y="22284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43520" y="2454480"/>
                <a:ext cx="138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Main storage constraint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195280" y="2454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01248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9132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6454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49831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49648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3596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18192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51960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873840" y="24382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5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211520" y="24382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8900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8900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7384680" y="24310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384680" y="24310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41000" y="2657520"/>
                <a:ext cx="1527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volatility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372040" y="265752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30124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3790800" y="26413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0341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464544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498312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49648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3596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181920" y="26413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3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651960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042680" y="26413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18900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18900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4680" y="2634120"/>
                <a:ext cx="12240" cy="2023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384680" y="2634120"/>
                <a:ext cx="2160" cy="2023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443520" y="2860560"/>
                <a:ext cx="15019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Computer turnaround tim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344320" y="28605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124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790800" y="28440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0341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64544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498312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49648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596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6181920" y="28440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651960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042680" y="28440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8900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8900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84680" y="28368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84680" y="28368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51800" y="30636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30124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391320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48142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6649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35076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042680" y="30470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18900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18900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84680" y="303984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84680" y="303984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46040" y="3266280"/>
                <a:ext cx="1215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100" spc="-1" strike="noStrike">
                    <a:solidFill>
                      <a:srgbClr val="000000"/>
                    </a:solidFill>
                    <a:latin typeface="Times New Roman"/>
                  </a:rPr>
                  <a:t>Personnel attribut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983960" y="32680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0124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391320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8142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6649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635076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042680" y="32500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8900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900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384680" y="324252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7384680" y="324252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451440" y="3468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nal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792000" y="3468960"/>
                <a:ext cx="7567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yst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1748880" y="34689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28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1813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374256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08240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645440" y="34531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49831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5447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78772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230520" y="34531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7136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042680" y="34531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8900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8900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7384680" y="344556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384680" y="344556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444960" y="3672000"/>
                <a:ext cx="13647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Applications 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169360" y="367200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28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9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1813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374256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08240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645440" y="365580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831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5447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78772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6230520" y="365580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47136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042680" y="365580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8900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8900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7384680" y="364860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7384680" y="364860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443160" y="3875040"/>
                <a:ext cx="12960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er capability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083680" y="387504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8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4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1813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74256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08240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645440" y="385848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9831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47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8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78772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6230520" y="385848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7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647136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7042680" y="385848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8900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8900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7384680" y="3851280"/>
                <a:ext cx="12240" cy="202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384680" y="3851280"/>
                <a:ext cx="2160" cy="2026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446760" y="4077720"/>
                <a:ext cx="9471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Virtual machin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449280" y="4280760"/>
                <a:ext cx="6804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*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309320" y="428076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8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2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31813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374256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08240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645440" y="406152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9831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544720" y="406152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78772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35076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7042680" y="406152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900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18900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7384680" y="4054320"/>
                <a:ext cx="12240" cy="405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7384680" y="4054320"/>
                <a:ext cx="2160" cy="405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44960" y="4483800"/>
                <a:ext cx="135252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Programming languag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449280" y="4686480"/>
                <a:ext cx="6102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100" spc="-1" strike="noStrike">
                    <a:solidFill>
                      <a:srgbClr val="000000"/>
                    </a:solidFill>
                    <a:latin typeface="Times New Roman"/>
                  </a:rPr>
                  <a:t>experienc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1220040" y="4686480"/>
                <a:ext cx="356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28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1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31813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374256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7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408240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4645440" y="4467240"/>
                <a:ext cx="267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.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983120" y="4467240"/>
                <a:ext cx="3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544720" y="4467240"/>
                <a:ext cx="191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95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578808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112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043040" y="4467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18900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385040" y="4460760"/>
              <a:ext cx="2160" cy="4053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451800" y="48902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01248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391320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8146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653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35112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043040" y="487368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18900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385040" y="48664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50360" y="5093280"/>
              <a:ext cx="4730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ojec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1043280" y="5093280"/>
              <a:ext cx="587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100" spc="-1" strike="noStrike">
                  <a:solidFill>
                    <a:srgbClr val="000000"/>
                  </a:solidFill>
                  <a:latin typeface="Times New Roman"/>
                </a:rPr>
                <a:t>attribut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1785240" y="5094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01248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91320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146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56653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12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043040" y="50767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8900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85040" y="506916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8560" y="5295600"/>
              <a:ext cx="87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modern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43160" y="5498640"/>
              <a:ext cx="1303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programming practice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091600" y="54986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8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1813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74256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8240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645800" y="52797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9834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55447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578808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6230520" y="527976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647172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043040" y="5279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8900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385040" y="527220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45680" y="5701680"/>
              <a:ext cx="1200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Use of software too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965240" y="57016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8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813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74256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08240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645800" y="568512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9834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55447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8808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230520" y="5685120"/>
              <a:ext cx="191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47172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043040" y="568512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8900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385040" y="5678280"/>
              <a:ext cx="2160" cy="202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5680" y="5904720"/>
              <a:ext cx="1312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Required development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49280" y="6107760"/>
              <a:ext cx="492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Times New Roman"/>
                </a:rPr>
                <a:t>schedul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073520" y="61077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8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2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181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4256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8240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64580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98348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549684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583632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182280" y="5888160"/>
              <a:ext cx="26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51996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043040" y="5888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8900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18900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900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1240" y="6287040"/>
              <a:ext cx="2314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01240" y="6287040"/>
              <a:ext cx="2314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50380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50380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50380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515680" y="6287040"/>
              <a:ext cx="99540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515680" y="6287040"/>
              <a:ext cx="9954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49956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49956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349956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511440" y="6287040"/>
              <a:ext cx="8067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3511440" y="6287040"/>
              <a:ext cx="8067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3059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059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3059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318200" y="6287040"/>
              <a:ext cx="993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318200" y="6287040"/>
              <a:ext cx="993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29992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29992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29992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11800" y="6287040"/>
              <a:ext cx="693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5311800" y="6287040"/>
              <a:ext cx="6933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993640" y="6287040"/>
              <a:ext cx="11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93640" y="6287040"/>
              <a:ext cx="115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993640" y="6287040"/>
              <a:ext cx="180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6005520" y="6287040"/>
              <a:ext cx="69408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05520" y="6287040"/>
              <a:ext cx="6940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6687360" y="6287040"/>
              <a:ext cx="122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68736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668736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6699600" y="6287040"/>
              <a:ext cx="68544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6699600" y="6287040"/>
              <a:ext cx="6854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7385040" y="5881320"/>
              <a:ext cx="2160" cy="405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7385040" y="6287040"/>
              <a:ext cx="12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385040" y="6287040"/>
              <a:ext cx="2160" cy="10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47280" y="6305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1" name=""/>
          <p:cNvSpPr/>
          <p:nvPr/>
        </p:nvSpPr>
        <p:spPr>
          <a:xfrm>
            <a:off x="7562160" y="2060640"/>
            <a:ext cx="163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COM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ca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2797-80DC-4DCD-97AC-3C8331865E8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wards 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COMO's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rictly geared toward traditional development life cycle mod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ustom software built from precisely stated specification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lies on lines of cod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5950-5DFE-41E1-A98D-3883E8CA4B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COMO II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3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Compositio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rly Design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t-Architectur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9EE7-58CB-4E51-A4C4-1D50A06650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15440" y="415440"/>
            <a:ext cx="8402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Composi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itable for software built around graphical user interface (GUI) and modern GUI-builder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poi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s a size metr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tension of function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 of the screens, reports, and modules, weighted by a three-level factor (simple, medium, difficult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3921-51C1-4F03-A3C4-0082BFFD13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arly Desig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d once requirements are known and alternative software architectures have been explo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 function points and coarse-grained cost dri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personnel capability and experi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2838-91D9-4C94-A045-A200B35ACC0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st-Architecture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volves actual software construction and software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 prediction based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either as source instructions or function points, with modifiers to account for reu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7 multiplicative cost dr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5 factors that determine the non linear growth of person-month costs in terms of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1F02-CA36-4812-98B0-E760B69481F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ject contro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8D7EC-9679-4BAA-B3A6-22DC11D9D8A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k Breakdown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BS describes a break down of project goal into intermediate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in turn broken down in a hierarchical stru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1888-C08D-401D-82EC-BC6BAD0256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"/>
          <p:cNvSpPr/>
          <p:nvPr/>
        </p:nvSpPr>
        <p:spPr>
          <a:xfrm>
            <a:off x="3246480" y="2500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7" name="" descr=""/>
          <p:cNvPicPr/>
          <p:nvPr/>
        </p:nvPicPr>
        <p:blipFill>
          <a:blip r:embed="rId1"/>
          <a:stretch/>
        </p:blipFill>
        <p:spPr>
          <a:xfrm>
            <a:off x="1273320" y="1533600"/>
            <a:ext cx="6619680" cy="4641840"/>
          </a:xfrm>
          <a:prstGeom prst="rect">
            <a:avLst/>
          </a:prstGeom>
          <a:ln w="0">
            <a:noFill/>
          </a:ln>
        </p:spPr>
      </p:pic>
      <p:sp>
        <p:nvSpPr>
          <p:cNvPr id="848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24C0-16DF-45C9-8F50-4FCDFD9F13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3580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engineering projects involve many software engine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ment is needed to coordinate the activities and resources involved in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"/>
          <p:cNvSpPr/>
          <p:nvPr/>
        </p:nvSpPr>
        <p:spPr>
          <a:xfrm>
            <a:off x="220320" y="1752480"/>
            <a:ext cx="8684640" cy="1557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The creation and maintenance of an internal environm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an enterprise where individuals, working together 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roups, can perform efficiently and effectively towar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ttainment of group goals"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Koontz et al, 198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A353-7124-4A21-B78E-9D5FBB15D02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roject control techniqu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by Henry L. Gant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for several purposes, including scheduling, budgeting, and resource plann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9A88-657C-4ABD-85CF-396571C111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927000" y="1852560"/>
            <a:ext cx="7315200" cy="392292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1449360" y="47160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40D-6D28-4114-BF97-8BCC3013895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1828800" y="1959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1828800" y="19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6" name=""/>
          <p:cNvGrpSpPr/>
          <p:nvPr/>
        </p:nvGrpSpPr>
        <p:grpSpPr>
          <a:xfrm>
            <a:off x="1028160" y="1452600"/>
            <a:ext cx="7342200" cy="4111200"/>
            <a:chOff x="1028160" y="1452600"/>
            <a:chExt cx="7342200" cy="4111200"/>
          </a:xfrm>
        </p:grpSpPr>
        <p:sp>
          <p:nvSpPr>
            <p:cNvPr id="857" name=""/>
            <p:cNvSpPr/>
            <p:nvPr/>
          </p:nvSpPr>
          <p:spPr>
            <a:xfrm>
              <a:off x="1028160" y="1452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16081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17816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97792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4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15036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287960" y="1693440"/>
              <a:ext cx="133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7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46004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5598000" y="1693440"/>
              <a:ext cx="185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/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838120" y="16779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1878480" y="2070720"/>
              <a:ext cx="1260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7" name="" descr=""/>
            <p:cNvPicPr/>
            <p:nvPr/>
          </p:nvPicPr>
          <p:blipFill>
            <a:blip r:embed="rId1"/>
            <a:stretch/>
          </p:blipFill>
          <p:spPr>
            <a:xfrm>
              <a:off x="1876680" y="2070720"/>
              <a:ext cx="1476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320364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9" name="" descr=""/>
            <p:cNvPicPr/>
            <p:nvPr/>
          </p:nvPicPr>
          <p:blipFill>
            <a:blip r:embed="rId2"/>
            <a:stretch/>
          </p:blipFill>
          <p:spPr>
            <a:xfrm>
              <a:off x="320364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0" name=""/>
            <p:cNvSpPr/>
            <p:nvPr/>
          </p:nvSpPr>
          <p:spPr>
            <a:xfrm>
              <a:off x="4544280" y="2070720"/>
              <a:ext cx="1476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1" name="" descr=""/>
            <p:cNvPicPr/>
            <p:nvPr/>
          </p:nvPicPr>
          <p:blipFill>
            <a:blip r:embed="rId3"/>
            <a:stretch/>
          </p:blipFill>
          <p:spPr>
            <a:xfrm>
              <a:off x="4544280" y="2070720"/>
              <a:ext cx="1260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2" name=""/>
            <p:cNvSpPr/>
            <p:nvPr/>
          </p:nvSpPr>
          <p:spPr>
            <a:xfrm>
              <a:off x="58978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3" name="" descr=""/>
            <p:cNvPicPr/>
            <p:nvPr/>
          </p:nvPicPr>
          <p:blipFill>
            <a:blip r:embed="rId4"/>
            <a:stretch/>
          </p:blipFill>
          <p:spPr>
            <a:xfrm>
              <a:off x="58978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4" name=""/>
            <p:cNvSpPr/>
            <p:nvPr/>
          </p:nvSpPr>
          <p:spPr>
            <a:xfrm>
              <a:off x="7253280" y="2070720"/>
              <a:ext cx="15120" cy="3493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5" name="" descr=""/>
            <p:cNvPicPr/>
            <p:nvPr/>
          </p:nvPicPr>
          <p:blipFill>
            <a:blip r:embed="rId5"/>
            <a:stretch/>
          </p:blipFill>
          <p:spPr>
            <a:xfrm>
              <a:off x="7253280" y="2070720"/>
              <a:ext cx="15120" cy="349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6" name=""/>
            <p:cNvSpPr/>
            <p:nvPr/>
          </p:nvSpPr>
          <p:spPr>
            <a:xfrm>
              <a:off x="1878480" y="2219760"/>
              <a:ext cx="1260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1922400" y="2618280"/>
              <a:ext cx="862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79" name="" descr=""/>
            <p:cNvPicPr/>
            <p:nvPr/>
          </p:nvPicPr>
          <p:blipFill>
            <a:blip r:embed="rId6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0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937520" y="2633760"/>
              <a:ext cx="847800" cy="177120"/>
            </a:xfrm>
            <a:custGeom>
              <a:avLst/>
              <a:gdLst/>
              <a:ahLst/>
              <a:rect l="l" t="t" r="r" b="b"/>
              <a:pathLst>
                <a:path w="1162" h="242">
                  <a:moveTo>
                    <a:pt x="0" y="0"/>
                  </a:moveTo>
                  <a:lnTo>
                    <a:pt x="1162" y="0"/>
                  </a:lnTo>
                  <a:lnTo>
                    <a:pt x="1162" y="242"/>
                  </a:lnTo>
                  <a:lnTo>
                    <a:pt x="0" y="24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1922400" y="2618280"/>
              <a:ext cx="878040" cy="208080"/>
            </a:xfrm>
            <a:custGeom>
              <a:avLst/>
              <a:gdLst/>
              <a:ahLst/>
              <a:rect l="l" t="t" r="r" b="b"/>
              <a:pathLst>
                <a:path w="1203" h="284">
                  <a:moveTo>
                    <a:pt x="0" y="0"/>
                  </a:moveTo>
                  <a:lnTo>
                    <a:pt x="1203" y="0"/>
                  </a:lnTo>
                  <a:lnTo>
                    <a:pt x="1203" y="284"/>
                  </a:lnTo>
                  <a:lnTo>
                    <a:pt x="0" y="284"/>
                  </a:lnTo>
                  <a:lnTo>
                    <a:pt x="0" y="0"/>
                  </a:lnTo>
                  <a:lnTo>
                    <a:pt x="0" y="0"/>
                  </a:lnTo>
                  <a:close/>
                  <a:moveTo>
                    <a:pt x="20" y="21"/>
                  </a:moveTo>
                  <a:lnTo>
                    <a:pt x="1182" y="21"/>
                  </a:lnTo>
                  <a:lnTo>
                    <a:pt x="1182" y="263"/>
                  </a:lnTo>
                  <a:lnTo>
                    <a:pt x="20" y="263"/>
                  </a:lnTo>
                  <a:lnTo>
                    <a:pt x="20" y="21"/>
                  </a:lnTo>
                  <a:lnTo>
                    <a:pt x="2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3" name="" descr=""/>
            <p:cNvPicPr/>
            <p:nvPr/>
          </p:nvPicPr>
          <p:blipFill>
            <a:blip r:embed="rId7"/>
            <a:stretch/>
          </p:blipFill>
          <p:spPr>
            <a:xfrm>
              <a:off x="1922400" y="2618280"/>
              <a:ext cx="878040" cy="2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4" name=""/>
            <p:cNvSpPr/>
            <p:nvPr/>
          </p:nvSpPr>
          <p:spPr>
            <a:xfrm>
              <a:off x="2844720" y="3017520"/>
              <a:ext cx="35892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2853000" y="3025800"/>
              <a:ext cx="35712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6920" y="3019320"/>
              <a:ext cx="4244760" cy="19080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3400" y="302580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844720" y="3418560"/>
              <a:ext cx="119124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853000" y="3425040"/>
              <a:ext cx="119124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25000" y="3418560"/>
              <a:ext cx="4216320" cy="19260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34000" y="3425040"/>
              <a:ext cx="421380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4720" y="4215960"/>
              <a:ext cx="18021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853000" y="4224960"/>
              <a:ext cx="180288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1965960" y="4218120"/>
              <a:ext cx="4244760" cy="19080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1974960" y="422496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8355600" y="5015520"/>
              <a:ext cx="14760" cy="19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087200" y="2653560"/>
              <a:ext cx="2948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Dari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472760" y="26402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1087560" y="3052080"/>
              <a:ext cx="2613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art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1428840" y="30391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1088280" y="3451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e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1310760" y="34376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1087920" y="3849840"/>
              <a:ext cx="2383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Ry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398240" y="3836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086480" y="4250880"/>
              <a:ext cx="246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ilv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06880" y="423792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88280" y="4649760"/>
              <a:ext cx="25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aur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1428840" y="46371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996920" y="2618280"/>
              <a:ext cx="4244760" cy="192600"/>
            </a:xfrm>
            <a:prstGeom prst="rect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03400" y="2627280"/>
              <a:ext cx="4244760" cy="19008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1996920" y="3817080"/>
              <a:ext cx="4244760" cy="192600"/>
            </a:xfrm>
            <a:prstGeom prst="rect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03400" y="3826080"/>
              <a:ext cx="4244760" cy="1908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1965960" y="4617000"/>
              <a:ext cx="4244760" cy="192600"/>
            </a:xfrm>
            <a:prstGeom prst="rect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1974960" y="4623480"/>
              <a:ext cx="4244760" cy="1926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229720" y="3078360"/>
              <a:ext cx="66780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236200" y="308484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242680" y="30830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574164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59400" y="3477600"/>
              <a:ext cx="67032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66240" y="34840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4572360" y="34819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50713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61980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626280" y="3885120"/>
              <a:ext cx="66996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634920" y="388044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1317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1980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626280" y="428400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634920" y="427968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41317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949480" y="4676400"/>
              <a:ext cx="67032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956320" y="4682880"/>
              <a:ext cx="66996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964600" y="4680720"/>
              <a:ext cx="3816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800" spc="-1" strike="noStrike">
                  <a:solidFill>
                    <a:srgbClr val="000000"/>
                  </a:solidFill>
                  <a:latin typeface="Arial"/>
                </a:rPr>
                <a:t>vac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46176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012040" y="467640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018520" y="46828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025360" y="46807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464920" y="46674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012040" y="427536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018520" y="42840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025360" y="427968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64920" y="426636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012040" y="38761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018520" y="3885120"/>
              <a:ext cx="670320" cy="13140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025360" y="38804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64920" y="38678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012040" y="347760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018520" y="348408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025360" y="348192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64920" y="346860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012040" y="3078360"/>
              <a:ext cx="669960" cy="13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018520" y="308484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025360" y="308304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64920" y="30700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012040" y="2677320"/>
              <a:ext cx="669960" cy="133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018520" y="2683800"/>
              <a:ext cx="670320" cy="133560"/>
            </a:xfrm>
            <a:prstGeom prst="rect">
              <a:avLst/>
            </a:prstGeom>
            <a:noFill/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025360" y="2682000"/>
              <a:ext cx="33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raini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4920" y="266904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072440" y="1494000"/>
              <a:ext cx="2160" cy="53244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1072440" y="14940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72440" y="2026800"/>
              <a:ext cx="6435000" cy="1800"/>
            </a:xfrm>
            <a:prstGeom prst="line">
              <a:avLst/>
            </a:prstGeom>
            <a:ln w="20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2" name=""/>
          <p:cNvSpPr/>
          <p:nvPr/>
        </p:nvSpPr>
        <p:spPr>
          <a:xfrm>
            <a:off x="1450440" y="471600"/>
            <a:ext cx="658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scheduling activ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D9A-752B-4B9F-9D4B-5F1E3DE2A67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(Program Evaluation and Review Technique) cha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of boxes (or cir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esenting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ow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dependenc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ng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at the head of an arrow cannot start until the activity at the tail of the arrow is finish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6D79-782D-472B-A1BC-40277DBFFC1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190512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6" name="" descr=""/>
          <p:cNvPicPr/>
          <p:nvPr/>
        </p:nvPicPr>
        <p:blipFill>
          <a:blip r:embed="rId1"/>
          <a:stretch/>
        </p:blipFill>
        <p:spPr>
          <a:xfrm>
            <a:off x="1027080" y="1116000"/>
            <a:ext cx="7280280" cy="509580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1550880" y="493560"/>
            <a:ext cx="614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a compiler proje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6FB-07E1-43B4-9460-D6C77D0FE30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of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itical path for the project (shown in bol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 delay in any activity in the path causes a delay in the entire projec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ies on the critical path must be monitored more closely than other activiti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C027-79E7-4200-8638-949008139EF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antt &amp; PERT 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22440" y="1789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ce the manager to p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 interrelationships among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clearly identifies the critical pat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ERT exposes parallelism in the activ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in allocating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ow scheduling and simulation of alternative sche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nable the manager to monitor and control project progress and detect devia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B583-089D-439B-8AAA-47D48E5EFD3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n organization structure is used to structure the communication patterns among members of a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raditional team organization is hierarchical with a manager supervising a group or groups of grou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ther organizations have been tried in software engineering with some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3992-2A87-4709-B16A-32C319B931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77640" y="6091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hief-programmer te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way to centralize the control of a software development tea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hief programmer (CF) responsible for design + reports to peer manager responsible for administr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 members are a software librarian and programm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port to CF and are added to team when neede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solution may be understood and controlled by one chief archi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56A6-213B-4D8D-A7DD-09CE2519247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3200400" y="257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7" name="" descr=""/>
          <p:cNvPicPr/>
          <p:nvPr/>
        </p:nvPicPr>
        <p:blipFill>
          <a:blip r:embed="rId1"/>
          <a:stretch/>
        </p:blipFill>
        <p:spPr>
          <a:xfrm>
            <a:off x="1577880" y="1438200"/>
            <a:ext cx="6310440" cy="3943440"/>
          </a:xfrm>
          <a:prstGeom prst="rect">
            <a:avLst/>
          </a:prstGeom>
          <a:ln w="0">
            <a:noFill/>
          </a:ln>
        </p:spPr>
      </p:pic>
      <p:sp>
        <p:nvSpPr>
          <p:cNvPr id="978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7256-7525-4183-8A57-AB3DB02608E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task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ganiz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rec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rol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d dealing with deviations from the pl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"/>
          <p:cNvSpPr/>
          <p:nvPr/>
        </p:nvSpPr>
        <p:spPr>
          <a:xfrm>
            <a:off x="1319040" y="5562720"/>
            <a:ext cx="6231240" cy="581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lan the work and work the pla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05EF-3823-4BAF-A0CD-7F57105D29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entralized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isions are made by consensus, and all work is considered group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mbers review each other’s work and are responsible as a group for what every member produce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Best when the problem or solution is not well-understood and requires the contribution of several people to clarify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BE4C-8D2D-49CF-B6E4-A025779F604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"/>
          <p:cNvSpPr/>
          <p:nvPr/>
        </p:nvSpPr>
        <p:spPr>
          <a:xfrm>
            <a:off x="3009960" y="263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2" name="" descr=""/>
          <p:cNvPicPr/>
          <p:nvPr/>
        </p:nvPicPr>
        <p:blipFill>
          <a:blip r:embed="rId1"/>
          <a:stretch/>
        </p:blipFill>
        <p:spPr>
          <a:xfrm>
            <a:off x="806400" y="1735200"/>
            <a:ext cx="6859800" cy="3478320"/>
          </a:xfrm>
          <a:prstGeom prst="rect">
            <a:avLst/>
          </a:prstGeom>
          <a:ln w="0">
            <a:noFill/>
          </a:ln>
        </p:spPr>
      </p:pic>
      <p:sp>
        <p:nvSpPr>
          <p:cNvPr id="983" name=""/>
          <p:cNvSpPr/>
          <p:nvPr/>
        </p:nvSpPr>
        <p:spPr>
          <a:xfrm>
            <a:off x="378000" y="609480"/>
            <a:ext cx="808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18040" y="526716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4999680" y="525456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C1B9-C553-48BA-A079-3F13C9CE35F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xed-control team 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ttempts to combine the benefits of centralized and decentralized contr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fferentiates engineers into senior and jun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nior engineer leads a group of juniors and reports to a project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rol vested in the project manager and senior programm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decentralized among each set of individuals, peers, and their immediate superviso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D512-C917-4006-B741-A8B4E29148A3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/>
          <p:nvPr/>
        </p:nvSpPr>
        <p:spPr>
          <a:xfrm>
            <a:off x="25956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9" name="" descr=""/>
          <p:cNvPicPr/>
          <p:nvPr/>
        </p:nvPicPr>
        <p:blipFill>
          <a:blip r:embed="rId1"/>
          <a:stretch/>
        </p:blipFill>
        <p:spPr>
          <a:xfrm>
            <a:off x="585720" y="1703520"/>
            <a:ext cx="7908840" cy="3657600"/>
          </a:xfrm>
          <a:prstGeom prst="rect">
            <a:avLst/>
          </a:prstGeom>
          <a:ln w="0">
            <a:noFill/>
          </a:ln>
        </p:spPr>
      </p:pic>
      <p:sp>
        <p:nvSpPr>
          <p:cNvPr id="990" name=""/>
          <p:cNvSpPr/>
          <p:nvPr/>
        </p:nvSpPr>
        <p:spPr>
          <a:xfrm>
            <a:off x="531000" y="5396040"/>
            <a:ext cx="374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5012280" y="538308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unication patte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38040" y="455760"/>
            <a:ext cx="8080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am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FCD9-ACF8-4E03-A8DE-3FDB66E0586D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685800" y="33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 develop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liance on volunteer developers and the lack of organized schedu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is a mixed mod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ach module has a responsible person , who is the ultimate arbiter of what goes into the eventual release of th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yone may review the module and send in corrections and other contributions to the responsible pers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D08F-986E-4BA5-BF3A-EC3A9725947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07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am organization depends on the go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 team organization is appropriate for all task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centralized control best when communication is necessary to achieve a good 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ized control best when development speed is key and problem is well understoo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 appropriate organization limits the amount of communication to what is necessary to achieve the goals—no more and no 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09D8-0601-415E-ACC3-D52BC72A136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kia software facto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086A-DB5A-48A4-A2DE-56925059331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47640" y="50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undational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79520" y="1555920"/>
            <a:ext cx="8069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ographically distributed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ical project: 100 developers working in three to four si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ynchronous work not possible (differences in time zon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 family architec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 developed for an entire family, and components developed to be used in all family member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urrent engine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s developed concurrently at different sites, retrieved from the various sites and combined in a central lo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34520" indent="-17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tool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66520" indent="-258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is tool supported (for requirements engineering, design, coding, version management, configuration management, and testing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ED66-D011-4843-8DD5-87BB995C8F7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sk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opic of management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project risks, assesses their impact, and monitors and controls the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3266-9A8E-4B86-BBAC-05187E3927B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"/>
          <p:cNvSpPr/>
          <p:nvPr/>
        </p:nvSpPr>
        <p:spPr>
          <a:xfrm>
            <a:off x="1711440" y="1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230720" y="131760"/>
            <a:ext cx="9360" cy="1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523800" y="1657440"/>
            <a:ext cx="8079840" cy="4323960"/>
            <a:chOff x="523800" y="1657440"/>
            <a:chExt cx="8079840" cy="4323960"/>
          </a:xfrm>
        </p:grpSpPr>
        <p:sp>
          <p:nvSpPr>
            <p:cNvPr id="1006" name=""/>
            <p:cNvSpPr/>
            <p:nvPr/>
          </p:nvSpPr>
          <p:spPr>
            <a:xfrm>
              <a:off x="816840" y="1677600"/>
              <a:ext cx="546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39788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366440" y="1677600"/>
              <a:ext cx="336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ISK MANAGEMENT TECHNIQ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939800" y="1677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52380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52380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52380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536760" y="16574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36760" y="16574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073040" y="167076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07304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07304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07304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086000" y="16574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086000" y="16574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8590680" y="16574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8590680" y="1657440"/>
              <a:ext cx="1296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8590680" y="16574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2380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2380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7304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407304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8590680" y="1670760"/>
              <a:ext cx="12960" cy="258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8590680" y="1670760"/>
              <a:ext cx="1800" cy="258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819360" y="2173320"/>
              <a:ext cx="1811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1. Personnel shortfal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734200" y="2173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151160" y="21733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231440" y="21733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taffing with top talent; job matching; team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258800" y="243180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building; ke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40180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477400" y="2431800"/>
              <a:ext cx="2289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ersonnel agreements; cros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7898040" y="243180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4260960" y="269028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training; p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120" y="269028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88120" y="2690280"/>
              <a:ext cx="1820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heduling key peo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313760" y="26902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2380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2380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6760" y="1929240"/>
              <a:ext cx="353592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6760" y="192924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07304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407304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4086000" y="1929240"/>
              <a:ext cx="450468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4086000" y="192924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90680" y="1929240"/>
              <a:ext cx="12960" cy="13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90680" y="1929240"/>
              <a:ext cx="1800" cy="133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2380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2380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407304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407304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90680" y="1942920"/>
              <a:ext cx="12960" cy="996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90680" y="1942920"/>
              <a:ext cx="1800" cy="996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819720" y="3183840"/>
              <a:ext cx="1985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2. Unrealistic schedule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032120" y="3442320"/>
              <a:ext cx="979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and budge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066400" y="34423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4151160" y="31838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228920" y="3183840"/>
              <a:ext cx="29484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tailed multisource cost &amp; schedu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350120" y="3183840"/>
              <a:ext cx="19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266720" y="3442320"/>
              <a:ext cx="31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stimation; design to cost; incremental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266720" y="3700440"/>
              <a:ext cx="3549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development; software reuse; requirements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258080" y="3958560"/>
              <a:ext cx="80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crubb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108400" y="395856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2380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2380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6760" y="2939040"/>
              <a:ext cx="353592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6760" y="293904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07304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407304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4086000" y="2939040"/>
              <a:ext cx="4504680" cy="11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4086000" y="293904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8590680" y="293904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590680" y="293904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2380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2380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407304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07304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8590680" y="2953080"/>
              <a:ext cx="12960" cy="1251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8590680" y="2953080"/>
              <a:ext cx="1800" cy="12517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816840" y="445212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3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035720" y="4710600"/>
              <a:ext cx="1506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software func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628000" y="47106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15116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227840" y="4452120"/>
              <a:ext cx="365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Organization analysis; mission analysis; op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8090280" y="445212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4264560" y="4710600"/>
              <a:ext cx="3923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oncept formulation; user surveys; prototyping;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4263120" y="4968720"/>
              <a:ext cx="1667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early users’ manu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6025680" y="496872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2380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2380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536760" y="42051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7304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07304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086000" y="42051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8590680" y="420516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8590680" y="420516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52380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52380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07304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407304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590680" y="4221360"/>
              <a:ext cx="12960" cy="993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590680" y="4221360"/>
              <a:ext cx="1800" cy="993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816840" y="5462640"/>
              <a:ext cx="207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4. Developing the wrong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036440" y="5718240"/>
              <a:ext cx="1098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user interfa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9636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4151160" y="5462640"/>
              <a:ext cx="67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4228200" y="5462640"/>
              <a:ext cx="3510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Prototyping; scenarios; task analysis; use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4267440" y="5718240"/>
              <a:ext cx="387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Times New Roman"/>
                </a:rPr>
                <a:t>characterization (functionality, style, workloa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64600" y="5718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52380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52380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536760" y="5215680"/>
              <a:ext cx="3535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407304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07304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86000" y="5215680"/>
              <a:ext cx="4504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8590680" y="5215680"/>
              <a:ext cx="12960" cy="16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8590680" y="5215680"/>
              <a:ext cx="1800" cy="16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52380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52380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7304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7304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8590680" y="5231880"/>
              <a:ext cx="12960" cy="7351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8590680" y="523188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52380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2380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36760" y="5967360"/>
              <a:ext cx="353592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536760" y="5967360"/>
              <a:ext cx="353592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07304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07304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086000" y="5967360"/>
              <a:ext cx="450468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086000" y="5967360"/>
              <a:ext cx="4504680" cy="2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8590680" y="5967360"/>
              <a:ext cx="12960" cy="1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8590680" y="5967360"/>
              <a:ext cx="1800" cy="140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2" name=""/>
          <p:cNvSpPr/>
          <p:nvPr/>
        </p:nvSpPr>
        <p:spPr>
          <a:xfrm>
            <a:off x="544680" y="192240"/>
            <a:ext cx="8145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SE risks (Boehm 1989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2E40-3BBD-4CAF-B578-490F1167601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nagement challe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alance conflicting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liver a high-quality product with limi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e an activity that is fundamentally intellectu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his complicates the traditional techniques for productivity measurement, project planning, cost and schedule estim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F247-047C-4001-8B5F-A1C8B2B516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3" name=""/>
          <p:cNvGrpSpPr/>
          <p:nvPr/>
        </p:nvGrpSpPr>
        <p:grpSpPr>
          <a:xfrm>
            <a:off x="642960" y="461880"/>
            <a:ext cx="7511400" cy="5867640"/>
            <a:chOff x="642960" y="461880"/>
            <a:chExt cx="7511400" cy="5867640"/>
          </a:xfrm>
        </p:grpSpPr>
        <p:grpSp>
          <p:nvGrpSpPr>
            <p:cNvPr id="1144" name=""/>
            <p:cNvGrpSpPr/>
            <p:nvPr/>
          </p:nvGrpSpPr>
          <p:grpSpPr>
            <a:xfrm>
              <a:off x="642960" y="2440440"/>
              <a:ext cx="7511400" cy="3889080"/>
              <a:chOff x="642960" y="2440440"/>
              <a:chExt cx="7511400" cy="3889080"/>
            </a:xfrm>
          </p:grpSpPr>
          <p:sp>
            <p:nvSpPr>
              <p:cNvPr id="1145" name=""/>
              <p:cNvSpPr/>
              <p:nvPr/>
            </p:nvSpPr>
            <p:spPr>
              <a:xfrm>
                <a:off x="8142120" y="244044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142120" y="244044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917640" y="3537360"/>
                <a:ext cx="1201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8. Shortfalls i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101680" y="3537360"/>
                <a:ext cx="913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1119600" y="3822120"/>
                <a:ext cx="1302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erformed task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2399760" y="3822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401508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4084200" y="3537360"/>
                <a:ext cx="2023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ference checking; p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60757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6144480" y="3537360"/>
                <a:ext cx="163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award audits; award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753320" y="35373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7819920" y="3537360"/>
                <a:ext cx="2980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e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4120920" y="3822120"/>
                <a:ext cx="3708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ntracts; competitive design or prototyp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4116240" y="4110120"/>
                <a:ext cx="1123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eam build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220000" y="41101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429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429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55200" y="3260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55200" y="3260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394236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394236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3954600" y="3260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3954600" y="3260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8142120" y="3260160"/>
                <a:ext cx="12240" cy="172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8142120" y="3260160"/>
                <a:ext cx="1800" cy="17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6429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6429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394236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394236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8142120" y="3277440"/>
                <a:ext cx="12240" cy="1107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8142120" y="3277440"/>
                <a:ext cx="1800" cy="11073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915120" y="4656960"/>
                <a:ext cx="575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9. Real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148284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553760" y="4656960"/>
                <a:ext cx="1485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ime performance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118520" y="4947840"/>
                <a:ext cx="756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hortfall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86048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4015080" y="465696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4086360" y="4656960"/>
                <a:ext cx="319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imulation; benchmarking; model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4118400" y="4947840"/>
                <a:ext cx="29617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instrumentation; tun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7026120" y="49478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429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429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55200" y="438516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5200" y="438516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394236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394236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3954600" y="438516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3954600" y="438516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8142120" y="438516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8142120" y="438516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29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29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394236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394236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8142120" y="4400280"/>
                <a:ext cx="12240" cy="82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8142120" y="4400280"/>
                <a:ext cx="1800" cy="8226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914760" y="5495040"/>
                <a:ext cx="4183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10. 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330200" y="5495040"/>
                <a:ext cx="15004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training compu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1121040" y="5782680"/>
                <a:ext cx="15735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science capabilitie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26647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4015080" y="5495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4084560" y="5495040"/>
                <a:ext cx="1991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Technical analysis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043320" y="5495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146640" y="5495040"/>
                <a:ext cx="13770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4118040" y="5782680"/>
                <a:ext cx="2595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prototyping; reference check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671520" y="578268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429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429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55200" y="522288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55200" y="522288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394236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394236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954600" y="522288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954600" y="522288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8142120" y="522288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8142120" y="522288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6429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6429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429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429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429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5200" y="605772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5200" y="605772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94236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94236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94236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4236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394236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954600" y="605772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954600" y="605772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8142120" y="523800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8142120" y="523800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8142120" y="605772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8142120" y="6057720"/>
                <a:ext cx="1224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8142120" y="605772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1117080" y="608580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7" name=""/>
            <p:cNvGrpSpPr/>
            <p:nvPr/>
          </p:nvGrpSpPr>
          <p:grpSpPr>
            <a:xfrm>
              <a:off x="642960" y="477360"/>
              <a:ext cx="7511400" cy="2782440"/>
              <a:chOff x="642960" y="477360"/>
              <a:chExt cx="7511400" cy="2782440"/>
            </a:xfrm>
          </p:grpSpPr>
          <p:sp>
            <p:nvSpPr>
              <p:cNvPr id="1248" name=""/>
              <p:cNvSpPr/>
              <p:nvPr/>
            </p:nvSpPr>
            <p:spPr>
              <a:xfrm>
                <a:off x="916200" y="734040"/>
                <a:ext cx="1226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5. Gold plating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2120040" y="734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015080" y="73404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4085280" y="734040"/>
                <a:ext cx="35244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Requirements scrubbing; prototyping;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548840" y="734040"/>
                <a:ext cx="102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–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118400" y="1022040"/>
                <a:ext cx="24955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efit analysis; design to cos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571440" y="1022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429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429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394236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94236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8142120" y="477360"/>
                <a:ext cx="12240" cy="821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8142120" y="477360"/>
                <a:ext cx="1800" cy="821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917280" y="1571400"/>
                <a:ext cx="19803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6. Continuing stream of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1117800" y="1859040"/>
                <a:ext cx="15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r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1275120" y="1859040"/>
                <a:ext cx="9532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quirement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2210760" y="1859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015080" y="157140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4086000" y="1571400"/>
                <a:ext cx="3635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High change threshold; information hid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4124160" y="1859040"/>
                <a:ext cx="3966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al development (defer changes to later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4116960" y="2147040"/>
                <a:ext cx="9579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increments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059080" y="214704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429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429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55200" y="1299240"/>
                <a:ext cx="328716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55200" y="1299240"/>
                <a:ext cx="328716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94236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4236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3954600" y="1299240"/>
                <a:ext cx="418752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3954600" y="1299240"/>
                <a:ext cx="4187520" cy="21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8142120" y="1299240"/>
                <a:ext cx="12240" cy="151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8142120" y="1299240"/>
                <a:ext cx="1800" cy="151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429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6429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394236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394236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8142120" y="1314360"/>
                <a:ext cx="12240" cy="110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8142120" y="1314360"/>
                <a:ext cx="1800" cy="1109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919800" y="2697120"/>
                <a:ext cx="211464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7. Shortfalls in externally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1117800" y="2986920"/>
                <a:ext cx="180216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furnished component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288720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4015080" y="2697120"/>
                <a:ext cx="6768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4088520" y="2697120"/>
                <a:ext cx="402120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Benchmarking; inspections; reference checking;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4117680" y="2986920"/>
                <a:ext cx="17899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Times New Roman"/>
                  </a:rPr>
                  <a:t>compatibility analys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78080" y="2986920"/>
                <a:ext cx="51120" cy="2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429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6429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655200" y="2424240"/>
                <a:ext cx="328716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55200" y="2424240"/>
                <a:ext cx="328716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394236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394236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3954600" y="2424240"/>
                <a:ext cx="4187520" cy="12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3954600" y="2424240"/>
                <a:ext cx="4187520" cy="28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8142120" y="2424240"/>
                <a:ext cx="12240" cy="154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8142120" y="2424240"/>
                <a:ext cx="1800" cy="154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6429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429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3942360" y="2440080"/>
                <a:ext cx="12240" cy="81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3942360" y="2440080"/>
                <a:ext cx="1800" cy="8197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07" name=""/>
            <p:cNvSpPr/>
            <p:nvPr/>
          </p:nvSpPr>
          <p:spPr>
            <a:xfrm>
              <a:off x="655200" y="461880"/>
              <a:ext cx="328716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3954600" y="461880"/>
              <a:ext cx="4187880" cy="2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98C3-4BCC-42D7-ADA4-844648023DA4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pability Matur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MM developed by the Software Engineering Institute to hel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develop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improve their software proc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s which acquire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assess the quality of their contracto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026-8711-4351-8B01-BBBE2D130D4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tu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es are improvised during the course of a project to resolve unanticipated cri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ducts often delivered late and their quality is question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tur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ation-wide standard approach to software processes, known and accepted by all engin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continuous improvement both in performance and produc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qu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AFA7-6B04-4060-81C8-F14116ED033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"/>
          <p:cNvSpPr/>
          <p:nvPr/>
        </p:nvSpPr>
        <p:spPr>
          <a:xfrm>
            <a:off x="1920960" y="20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4" name="" descr=""/>
          <p:cNvPicPr/>
          <p:nvPr/>
        </p:nvPicPr>
        <p:blipFill>
          <a:blip r:embed="rId1"/>
          <a:stretch/>
        </p:blipFill>
        <p:spPr>
          <a:xfrm>
            <a:off x="812880" y="1798560"/>
            <a:ext cx="7791480" cy="4073760"/>
          </a:xfrm>
          <a:prstGeom prst="rect">
            <a:avLst/>
          </a:prstGeom>
          <a:ln w="0">
            <a:noFill/>
          </a:ln>
        </p:spPr>
      </p:pic>
      <p:sp>
        <p:nvSpPr>
          <p:cNvPr id="131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M maturity lev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04FA-B67D-4430-B302-9B89DF3DCBF4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22440" y="39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ocess ar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"/>
          <p:cNvSpPr/>
          <p:nvPr/>
        </p:nvSpPr>
        <p:spPr>
          <a:xfrm>
            <a:off x="1757520" y="1809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401840" y="1479600"/>
            <a:ext cx="8472240" cy="48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D61AF-2F1E-43B1-81B5-DF96FAD70D92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/measure i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erms of lines of code produc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tens per d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. but what do engineers d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 to half their time spent in meetings, administrative matters, communication with team memb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A671-88F7-4D14-B00F-953BB77AEC8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oductivity measure, empirically jus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tivation: define and measure th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unt of value (or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a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) produced per unit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inciple: determin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x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an application as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poi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F025-D255-48CC-A84D-C3E4F5C0A9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nction point defin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ighted sum of 5 characteristic fact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1771560" y="279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28600" y="3352680"/>
            <a:ext cx="1257300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3157-8C24-4A5B-8956-72D0F20390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y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 points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sed to measure the relative power of differen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ute number of source lines required to code a function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s range from 320 (assembler languages), 128 (C), 91 (Pascal), 71 (Ada83), 53 (C++, Java), 6 (“spreadsheet languages”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6E23-9EB6-4863-99E8-02E3E781C8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0T11:27:07Z</dcterms:created>
  <dc:creator>Carlo Ghezzi</dc:creator>
  <dc:description/>
  <dc:language>en-US</dc:language>
  <cp:lastModifiedBy>jazayeri</cp:lastModifiedBy>
  <dcterms:modified xsi:type="dcterms:W3CDTF">2002-02-19T15:50:16Z</dcterms:modified>
  <cp:revision>16</cp:revision>
  <dc:subject/>
  <dc:title>PowerPoint Presentation</dc:title>
</cp:coreProperties>
</file>