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FDF2-6F4B-43B5-B884-13D5D39C0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52E65-4880-4D0A-8A46-6D9DAA1BA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06D5-4D1D-4449-ABC0-623587EC1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A0A97-83F9-4F0C-A5A3-260253D39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41F1-580C-4CC6-9EF0-7B66B6EFB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B08B-148B-4E8D-A414-ECB9FBC77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FAAA-E0D2-4A51-A676-660ABEE65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8C8D-A417-4CA3-B957-5EAE23008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0393-A79E-48ED-ACEC-E83D03580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77C6-6FBD-409A-A874-133832035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774A-CF91-4C75-9C0F-83E45670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55F5-1A06-4625-9A60-F1141F91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A5D8A-BB70-4603-9CB1-BD063FA77C5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00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s Nature and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D09C-3DBF-4B53-87EA-26B6BC2FE22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erforman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fficient use of resourc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mory, processing time, commun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ver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xity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evaluation (on a model, via simula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rformance can affect scal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olution that works on a small local network may not work on a large intr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D46E-B466-41D4-9039-454808A1170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pected users find the system easy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term: user-friend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ther subjective, difficult to evalu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fected mostly by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user interfa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visual vs. text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BD24-DD7B-44B9-8C4A-3CD31BB07DC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Verif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easy it is to verify proper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an inter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external as well (e.g., security critical applic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C4E9-E2C6-45E8-AEE5-ED5DAB7DD90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ainability: ease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intenance: changes after releas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Maintenance costs exceed 60% of total cost of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ree main categories of mainten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rr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removing residual error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dap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adjusting to environment changes (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erfectiv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: quality improvements (&gt;5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2E91-F901-4632-B252-B2352FB0DE3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Maintain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n be decomposed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air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correct defects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v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to adapt sw to environment changes and to improve it in reasonabl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E501-5074-4519-937C-76AED0340E5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us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isting product (or components) used (with minor modifications) to build another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imilar to evolvabilit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applies to pro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use of standard parts measure of maturity of the fiel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06C4-1409-42A6-BC9D-CA79B95D1A1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ort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can run on different hw platforms or sw environ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ains relevant as new platforms and environments are introduced (e.g. digital assistant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evant when downloading software in a heterogeneous network environm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7A6A-A7A2-4880-9C9D-753C86EDA76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Understand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ase of understanding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 modification requires program understa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AD6B-FD76-402D-A97D-F4B067035BD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teroper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of a system to coexist and cooperate with other system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, word processor and spreadshe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604BA-404D-4B76-AD03-25A332EA046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ypical process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ductiv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otes its efficiency an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imeli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bility to deliver a product 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isi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ll of its steps and current status are documented clearly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C5F14-C19B-488C-A31F-D136FAC8E76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an intellectual activity and thus human-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is built to meet a certain functional goal and satisfy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processes also must meet certain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ftware qualities are sometimes referred to as “ilities”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3E65-5DEB-4375-8D94-BD511EBA63D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issu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ten the development process does not follow the evolution of user requirem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mismatch occurs between user requirements and status of the produ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42EF-3AEC-422A-BA09-4A1D2D7CB5E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imeliness: a visual description of the mismatc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"/>
          <p:cNvSpPr/>
          <p:nvPr/>
        </p:nvSpPr>
        <p:spPr>
          <a:xfrm>
            <a:off x="2408400" y="212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7650000" cy="460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6837-A4BF-4CAA-80F1-4CFE29DE2D8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pplication-specific qual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.g., information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ta 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ransaction performance.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E621-D317-465C-BA22-BC6B47F42B1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Quality measuremen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qualities are subjectiv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 standard metrics defined for most qu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907A-9873-4733-A18E-EE381C85582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produc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fferent from traditional types of produ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ang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describe and evalu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lle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man intens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lves only trivial “manufacturing”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5BC9-0908-415F-B041-084E7BEC8F4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assification of sw qualit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"ilities"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vs. exter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visible to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cern develop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t vs. pro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r goal is to develop software produc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cess is how we do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qualities affect external qua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quality affects product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6EB3-9840-4F60-ADAE-63CFAC9075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07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is correct if it satisfies the functional requirements specifica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that specification exist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specifications are formal, since programs are formal objects, correctness can be defined formal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can be proven as a theorem or disproved by counterexamples (tes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658E-6B8A-49D9-A26E-EFA58CB036E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limits of correc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an absolute (yes/no) qu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“degree of correctness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is no concept of severity of dev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f specifications are wro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e.g., they derive from incorrect requirements or errors in domain knowledg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85B7-9067-4FF5-B2C9-0618140D0A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iabilit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120" y="18284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lly, user can rely on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defined mathematically as “probability of absence of failures for a certain time perio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pecs are correct, all correct software is reliable, but not vice-versa (in practice, however, specs can be incorrect 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F848-131F-4DD7-8827-C60B7C49DA1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dealized situ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are corr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2362320" y="2514600"/>
          <a:ext cx="4952880" cy="402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514600"/>
                    <a:ext cx="4952880" cy="40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7ADD-CD18-4281-BE31-7A5A535EB3D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bustnes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209320"/>
            <a:ext cx="68580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behaves “reasonably” even in unforeseen circumstances (e.g., incorrect input, hardware failu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4043520" y="2900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2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2503-B3DC-4160-978D-36F4A41433A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jazayeri</cp:lastModifiedBy>
  <cp:lastPrinted>1999-03-04T17:52:08Z</cp:lastPrinted>
  <dcterms:modified xsi:type="dcterms:W3CDTF">2002-02-19T18:24:53Z</dcterms:modified>
  <cp:revision>36</cp:revision>
  <dc:subject/>
  <dc:title>Software Engineering</dc:title>
</cp:coreProperties>
</file>