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251E-8770-46DC-84E6-BE956EB9C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79E5-BB26-4651-B534-E25DBC6D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608-16B4-47F5-BCC4-E5EBD1B9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55C5-3CA1-40C9-9702-664E7328B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A039-A2B4-4C20-80B4-5C1CC98D3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5BCE-2589-45A7-A4A3-2E8D13CAE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7649-2A63-4678-951A-65C140C1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9075-B577-417A-B21D-D1528B85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89156-C59A-4B71-89FB-1514A520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742F-F4F4-45D1-A99C-302C1257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7EB6-E32C-4183-8749-317B68583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C16D-33C3-44A9-82D5-59B99EA9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C0745-FA36-4A8D-8014-B3FF51D375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3T03:45:13Z</dcterms:created>
  <dc:creator>Spencer Smith</dc:creator>
  <dc:description/>
  <dc:language>en-US</dc:language>
  <cp:lastModifiedBy>Spencer Smith</cp:lastModifiedBy>
  <dcterms:modified xsi:type="dcterms:W3CDTF">2008-03-13T03:46:39Z</dcterms:modified>
  <cp:revision>1</cp:revision>
  <dc:subject/>
  <dc:title>PowerPoint Presentation</dc:title>
</cp:coreProperties>
</file>