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B157-56A5-4673-8948-D11D1B3DEC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642B-036F-44BE-98CE-B8384550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780B-3D9C-435D-9BF7-D02273215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00CA-E5E8-465C-BA57-9D13DD2E1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32E7-F2AB-40CE-958B-1BCFF89E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43E3-5F8C-4E22-B287-DDFBB8F6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D839-BCC0-4D63-86B7-C668B4B07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167-796A-4185-A0EC-CC6FC8B7D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312B-4B73-4219-8EBF-1BBE2BB9B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0427-051C-4150-B0A0-EDA0FED0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93B0-15E7-4BB0-9DA4-8F91B571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BB17-A8A4-4E41-AB25-047045D1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0A6CE-AF5B-4E3C-A6F3-E9E80F88E7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24BF-2408-4E02-8EC5-B040F50C292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o through phases one after the other (as in waterfal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separation of concerns by separating activities with respect to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B0D8-B3B6-4863-AE74-8DC7C594084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Keep product requirements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nterface and us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81C4-0582-494A-911B-20C8F3FDB1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complex system may be divided into simpler piece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 system that is composed of modules is called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upports application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aling with a module we can ignore details of other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0946-318D-46BC-AF05-AB7951CD8F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hesion and coupl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ch module should be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ighly cohes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understandable as a meaningfu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of a module are closely related to one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es should exhibit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low coupl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s have low interactions with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standable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D06-6D50-47EA-B20F-21F858AD406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"/>
          <p:cNvSpPr/>
          <p:nvPr/>
        </p:nvSpPr>
        <p:spPr>
          <a:xfrm>
            <a:off x="1962000" y="248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90720" y="2362320"/>
            <a:ext cx="7562880" cy="3200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815040" y="55958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8120" y="5638680"/>
            <a:ext cx="200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u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CE69-1C7F-4675-91AF-78F550B0672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dentify the important aspects of a phenomenon and ignore its detai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al case of 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type of abstraction to apply depends on purpo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Example : the user interface of a watch (its buttons) abstracts from the watch's internals for the purpose of setting time; other abstractions needed to support repair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FAC6-C306-49C1-9A57-A2FE508BF4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gnores detai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quations describing complex circuit (e.g., amplifier) allows designer to reason about signal ampl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quations may approximate description, ignoring details that yield negligible effects (e.g., connectors assumed to be ideal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AB7F-F0E1-40C0-87B9-E0128537EEE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yields model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xample, when requirements are analyzed we produce a model of the proposed ap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el can be a formal or semiformal descrip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n possible to reason about the system by reasoning about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6522-F169-4884-A87D-2DE6489FE87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 semantics described through an abstract machine that ignores details of the real machines used for imple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ion ignores details such as precision of number representation or addressing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43D5-8115-41B1-85AF-F67D4B1357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 in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we do cost estimation we only take some key factors into accou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pply similarity with previous systems, ignoring detail differen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BC2F-CA10-4885-81B7-4ED45668E52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Principles form the basis of methods, techniques, methodologies and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Arial"/>
              </a:rPr>
              <a:t>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Arial"/>
              </a:rPr>
              <a:t>even important principles that may be used in all phases of software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odularity is the cornerstone principle supporting software desig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se studie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6EBC4-AFFC-4EBF-BA5E-6FA0333E16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ility to support software evolution  requires anticipating potential future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the basis for software evolv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et up a configuration management environment for the project (as we will discu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D64B-5FBA-4F12-BDBB-91117C7D61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While solving a problem, try to discover if it is an instance of a more general problem whose solution can be reused in other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Carefully balance generality against performance and cos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ometimes a general problem is easier to solve than a special case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6973-7068-49D7-8C9A-C38D99552C8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ocess proceeds in a stepwise fashion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men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 (proces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subsets of a system early to get early feedback from expected users, then add new features incremen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first with functionality, then turn to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a first prototype and then incrementally add effort to turn prototype into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C145-60DB-4D33-828B-6F0DA92B7B9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: compil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construction is an area where systematic (formal) design methods have been develop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BNF for formal description of languag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6AA8-07A5-4CC8-92AE-DCA06D5C84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 exampl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n designing optimal register allocation algorithm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runtim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effici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no need to worry about runtime diagnostic message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friendlines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6F08-5D78-4E1C-B76E-B59CEDCDDB3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ar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ation process decomposed into ph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xical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 analysis (pars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hases can be associated with modu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5DF4-C020-4437-83FD-6A38A28BE57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presentation of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480" y="1905120"/>
            <a:ext cx="7974000" cy="400356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-20880" y="5410080"/>
            <a:ext cx="508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xes represent mod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ed lines represent inter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3DFB-77D9-4B96-88F2-CBCB6010111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"/>
          <p:cNvSpPr/>
          <p:nvPr/>
        </p:nvSpPr>
        <p:spPr>
          <a:xfrm>
            <a:off x="1932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066680" y="2743200"/>
          <a:ext cx="7215480" cy="36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743200"/>
                    <a:ext cx="7215480" cy="36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784800" y="2133720"/>
            <a:ext cx="744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modularization of code-gener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156E-E33D-4E92-A576-AE428ACB9F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ed in many c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 to neglect syntactic details such a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gin…e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vs. {…} to bracket statemen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machine code (e.g., Java Bytecode) for code port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9D21-5887-4891-AD52-F9336AF615C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sider possible changes o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language (due to standardization committe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A05C-D59C-4BEF-875C-FA7BD6CBC8B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 of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apply to process and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inciples become practice through methods and techniq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methods and techniques are packaged in a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method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ologies can be enforced b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1CEE-868E-484D-A081-E48D59A16E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ameterize with respect to target machine (by defining intermediate c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 compiler generating tools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mpiler compiler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ead of just one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233F-8675-48DA-9CB9-C5C45B3F42B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 develop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first a kernel version for a subset of the source language, then increasingly larger subs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compiler with little or no diagnostics/optimizations, then add diagnostics/optimiz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90E5-12C3-4DE4-AFC2-DE0F963C875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y (system engineering): elevator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many cases, the "software engineering" phase starts after understanding and analyzing the "systems engineering”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elevator case study illustrates the poi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0EEA-8884-442A-9C17-92A87F64FCD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&amp;formality (1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te relevant: it is a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safety critica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carry up to 400 Kg. (safety alarm and no operation if overloa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mergency brakes must be able to stop elevator within 1 m. and 2 sec. in case of cable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ter, verify their fulfill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2EE0-6C64-46CB-8140-5323BBA4A04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separ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bility (e.g, button illumin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though some are strongly rela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reduction by using cheap material can make solution unsaf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33E2-373C-447B-9119-0EA5DA4B6E7C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modular struc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"/>
          <p:cNvSpPr/>
          <p:nvPr/>
        </p:nvSpPr>
        <p:spPr>
          <a:xfrm>
            <a:off x="2697120" y="210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305000" y="3121200"/>
            <a:ext cx="1805040" cy="2255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36960" y="2209680"/>
            <a:ext cx="1244520" cy="6717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219640" y="3271680"/>
            <a:ext cx="390600" cy="7383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97320" y="4422600"/>
            <a:ext cx="435240" cy="71604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219640" y="5551560"/>
            <a:ext cx="477720" cy="6285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795920" y="2870280"/>
            <a:ext cx="412560" cy="5652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56160" y="2892600"/>
            <a:ext cx="630360" cy="17794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38720" y="2870280"/>
            <a:ext cx="892080" cy="29955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3098520" y="2717640"/>
            <a:ext cx="847800" cy="8906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33240" y="3565440"/>
            <a:ext cx="907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Elevator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02560" y="2219400"/>
            <a:ext cx="8863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055040" y="2479680"/>
            <a:ext cx="1026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000000"/>
                </a:solidFill>
                <a:latin typeface="Times New Roman"/>
              </a:rPr>
              <a:t>apparatu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45640" y="3413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367960" y="460692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67960" y="5780160"/>
            <a:ext cx="313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71480" y="4714920"/>
            <a:ext cx="5446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251460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buttons at floor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34F0-D800-4D05-B1F7-714E316B62A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odule decomposition may be iterat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"/>
          <p:cNvSpPr/>
          <p:nvPr/>
        </p:nvSpPr>
        <p:spPr>
          <a:xfrm>
            <a:off x="2247840" y="195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010640" cy="444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45AAB-A1CC-407D-B40C-0E7F7AE34B9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bstrac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modular view we provided does not specify the behavior of the mechanical and electrical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y are abstracted a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A885-8359-495F-AED9-E006A11508A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nticipation of change, gener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the project parametric wrt the number of elevators (and floor button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2610000" y="217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3880" y="2971800"/>
            <a:ext cx="4953240" cy="315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DB0D-B964-42D1-90D1-8041FFCE4CC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 visual represent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"/>
          <p:cNvSpPr/>
          <p:nvPr/>
        </p:nvSpPr>
        <p:spPr>
          <a:xfrm>
            <a:off x="35323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914400" y="2286000"/>
            <a:ext cx="7315200" cy="3724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0A77-DCD4-40E2-9890-D7925ABC0E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Key principl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and form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paration of concer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dular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bstra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ticipation of cha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rement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39603-D0AA-48B5-B222-DD401A0B71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igor and forma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engineering is a creative design activity, B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must be practiced systematic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 is a necessary complement to creativity that increases our confidence in our develop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mality is rigor at the highest degre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 driven and evaluated by mathematical law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EDB7-36DA-4D07-9B3F-290886A89C0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s: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thematical (formal) analysis of program correc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atic (rigorous) test data deriv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42FC-C68B-4374-9402-876233849E8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Example: proc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orous documentation of development steps helps project management and assessment of 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F762-B36E-493F-803E-C3F3994898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paration of concer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o dominate complexity, separate the issues to concentrate on one at a 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"Divide &amp; conquer" 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divide et impera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upports parallelization of efforts and separation of responsib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824C-B9E0-47F3-8837-4AA3B8FD20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6T12:38:55Z</dcterms:created>
  <dc:creator>Carlo Ghezzi</dc:creator>
  <dc:description/>
  <dc:language>en-US</dc:language>
  <cp:lastModifiedBy>jazayeri</cp:lastModifiedBy>
  <dcterms:modified xsi:type="dcterms:W3CDTF">2002-02-19T18:33:08Z</dcterms:modified>
  <cp:revision>9</cp:revision>
  <dc:subject/>
  <dc:title>Software Engineering Principles</dc:title>
</cp:coreProperties>
</file>