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19.wmf" ContentType="image/x-wmf"/>
  <Override PartName="/ppt/media/image20.wmf" ContentType="image/x-wmf"/>
  <Override PartName="/ppt/media/image5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8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42.wmf" ContentType="image/x-wmf"/>
  <Override PartName="/ppt/media/image54.wmf" ContentType="image/x-wmf"/>
  <Override PartName="/ppt/media/image43.wmf" ContentType="image/x-wmf"/>
  <Override PartName="/ppt/media/image55.wmf" ContentType="image/x-wmf"/>
  <Override PartName="/ppt/media/image44.wmf" ContentType="image/x-wmf"/>
  <Override PartName="/ppt/media/image56.wmf" ContentType="image/x-wmf"/>
  <Override PartName="/ppt/media/image40.wmf" ContentType="image/x-wmf"/>
  <Override PartName="/ppt/media/image30.wmf" ContentType="image/x-wmf"/>
  <Override PartName="/ppt/media/image39.wmf" ContentType="image/x-wmf"/>
  <Override PartName="/ppt/media/image9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37.wmf" ContentType="image/x-wmf"/>
  <Override PartName="/ppt/media/image7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88.xml.rels" ContentType="application/vnd.openxmlformats-package.relationships+xml"/>
  <Override PartName="/ppt/slides/_rels/slide115.xml.rels" ContentType="application/vnd.openxmlformats-package.relationships+xml"/>
  <Override PartName="/ppt/slides/_rels/slide82.xml.rels" ContentType="application/vnd.openxmlformats-package.relationships+xml"/>
  <Override PartName="/ppt/slides/_rels/slide38.xml.rels" ContentType="application/vnd.openxmlformats-package.relationships+xml"/>
  <Override PartName="/ppt/slides/_rels/slide11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113.xml.rels" ContentType="application/vnd.openxmlformats-package.relationships+xml"/>
  <Override PartName="/ppt/slides/_rels/slide36.xml.rels" ContentType="application/vnd.openxmlformats-package.relationships+xml"/>
  <Override PartName="/ppt/slides/_rels/slide80.xml.rels" ContentType="application/vnd.openxmlformats-package.relationships+xml"/>
  <Override PartName="/ppt/slides/_rels/slide106.xml.rels" ContentType="application/vnd.openxmlformats-package.relationships+xml"/>
  <Override PartName="/ppt/slides/_rels/slide73.xml.rels" ContentType="application/vnd.openxmlformats-package.relationships+xml"/>
  <Override PartName="/ppt/slides/_rels/slide76.xml.rels" ContentType="application/vnd.openxmlformats-package.relationships+xml"/>
  <Override PartName="/ppt/slides/_rels/slide109.xml.rels" ContentType="application/vnd.openxmlformats-package.relationships+xml"/>
  <Override PartName="/ppt/slides/_rels/slide31.xml.rels" ContentType="application/vnd.openxmlformats-package.relationships+xml"/>
  <Override PartName="/ppt/slides/_rels/slide131.xml.rels" ContentType="application/vnd.openxmlformats-package.relationships+xml"/>
  <Override PartName="/ppt/slides/_rels/slide137.xml.rels" ContentType="application/vnd.openxmlformats-package.relationships+xml"/>
  <Override PartName="/ppt/slides/_rels/slide53.xml.rels" ContentType="application/vnd.openxmlformats-package.relationships+xml"/>
  <Override PartName="/ppt/slides/_rels/slide142.xml.rels" ContentType="application/vnd.openxmlformats-package.relationships+xml"/>
  <Override PartName="/ppt/slides/_rels/slide138.xml.rels" ContentType="application/vnd.openxmlformats-package.relationships+xml"/>
  <Override PartName="/ppt/slides/_rels/slide77.xml.rels" ContentType="application/vnd.openxmlformats-package.relationships+xml"/>
  <Override PartName="/ppt/slides/_rels/slide133.xml.rels" ContentType="application/vnd.openxmlformats-package.relationships+xml"/>
  <Override PartName="/ppt/slides/_rels/slide139.xml.rels" ContentType="application/vnd.openxmlformats-package.relationships+xml"/>
  <Override PartName="/ppt/slides/_rels/slide84.xml.rels" ContentType="application/vnd.openxmlformats-package.relationships+xml"/>
  <Override PartName="/ppt/slides/_rels/slide117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54.xml.rels" ContentType="application/vnd.openxmlformats-package.relationships+xml"/>
  <Override PartName="/ppt/slides/_rels/slide52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12.xml.rels" ContentType="application/vnd.openxmlformats-package.relationships+xml"/>
  <Override PartName="/ppt/slides/_rels/slide44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_rels/slide28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29.xml.rels" ContentType="application/vnd.openxmlformats-package.relationships+xml"/>
  <Override PartName="/ppt/slides/_rels/slide132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29.xml.rels" ContentType="application/vnd.openxmlformats-package.relationships+xml"/>
  <Override PartName="/ppt/slides/_rels/slide96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4.xml.rels" ContentType="application/vnd.openxmlformats-package.relationships+xml"/>
  <Override PartName="/ppt/slides/_rels/slide134.xml.rels" ContentType="application/vnd.openxmlformats-package.relationships+xml"/>
  <Override PartName="/ppt/slides/_rels/slide78.xml.rels" ContentType="application/vnd.openxmlformats-package.relationships+xml"/>
  <Override PartName="/ppt/slides/_rels/slide85.xml.rels" ContentType="application/vnd.openxmlformats-package.relationships+xml"/>
  <Override PartName="/ppt/slides/_rels/slide118.xml.rels" ContentType="application/vnd.openxmlformats-package.relationships+xml"/>
  <Override PartName="/ppt/slides/_rels/slide33.xml.rels" ContentType="application/vnd.openxmlformats-package.relationships+xml"/>
  <Override PartName="/ppt/slides/_rels/slide110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34.xml.rels" ContentType="application/vnd.openxmlformats-package.relationships+xml"/>
  <Override PartName="/ppt/slides/_rels/slide111.xml.rels" ContentType="application/vnd.openxmlformats-package.relationships+xml"/>
  <Override PartName="/ppt/slides/_rels/slide128.xml.rels" ContentType="application/vnd.openxmlformats-package.relationships+xml"/>
  <Override PartName="/ppt/slides/_rels/slide95.xml.rels" ContentType="application/vnd.openxmlformats-package.relationships+xml"/>
  <Override PartName="/ppt/slides/_rels/slide40.xml.rels" ContentType="application/vnd.openxmlformats-package.relationships+xml"/>
  <Override PartName="/ppt/slides/_rels/slide135.xml.rels" ContentType="application/vnd.openxmlformats-package.relationships+xml"/>
  <Override PartName="/ppt/slides/_rels/slide5.xml.rels" ContentType="application/vnd.openxmlformats-package.relationships+xml"/>
  <Override PartName="/ppt/slides/_rels/slide55.xml.rels" ContentType="application/vnd.openxmlformats-package.relationships+xml"/>
  <Override PartName="/ppt/slides/_rels/slide59.xml.rels" ContentType="application/vnd.openxmlformats-package.relationships+xml"/>
  <Override PartName="/ppt/slides/_rels/slide136.xml.rels" ContentType="application/vnd.openxmlformats-package.relationships+xml"/>
  <Override PartName="/ppt/slides/_rels/slide130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4.xml.rels" ContentType="application/vnd.openxmlformats-package.relationships+xml"/>
  <Override PartName="/ppt/slides/_rels/slide86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35.xml.rels" ContentType="application/vnd.openxmlformats-package.relationships+xml"/>
  <Override PartName="/ppt/slides/_rels/slide112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8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3.xml.rels" ContentType="application/vnd.openxmlformats-package.relationships+xml"/>
  <Override PartName="/ppt/slides/_rels/slide46.xml.rels" ContentType="application/vnd.openxmlformats-package.relationships+xml"/>
  <Override PartName="/ppt/slides/_rels/slide90.xml.rels" ContentType="application/vnd.openxmlformats-package.relationships+xml"/>
  <Override PartName="/ppt/slides/_rels/slide19.xml.rels" ContentType="application/vnd.openxmlformats-package.relationships+xml"/>
  <Override PartName="/ppt/slides/_rels/slide127.xml.rels" ContentType="application/vnd.openxmlformats-package.relationships+xml"/>
  <Override PartName="/ppt/slides/_rels/slide94.xml.rels" ContentType="application/vnd.openxmlformats-package.relationships+xml"/>
  <Override PartName="/ppt/slides/_rels/slide124.xml.rels" ContentType="application/vnd.openxmlformats-package.relationships+xml"/>
  <Override PartName="/ppt/slides/_rels/slide47.xml.rels" ContentType="application/vnd.openxmlformats-package.relationships+xml"/>
  <Override PartName="/ppt/slides/_rels/slide91.xml.rels" ContentType="application/vnd.openxmlformats-package.relationships+xml"/>
  <Override PartName="/ppt/slides/_rels/slide62.xml.rels" ContentType="application/vnd.openxmlformats-package.relationships+xml"/>
  <Override PartName="/ppt/slides/_rels/slide140.xml.rels" ContentType="application/vnd.openxmlformats-package.relationships+xml"/>
  <Override PartName="/ppt/slides/_rels/slide63.xml.rels" ContentType="application/vnd.openxmlformats-package.relationships+xml"/>
  <Override PartName="/ppt/slides/_rels/slide141.xml.rels" ContentType="application/vnd.openxmlformats-package.relationships+xml"/>
  <Override PartName="/ppt/slides/_rels/slide64.xml.rels" ContentType="application/vnd.openxmlformats-package.relationships+xml"/>
  <Override PartName="/ppt/slides/_rels/slide65.xml.rels" ContentType="application/vnd.openxmlformats-package.relationships+xml"/>
  <Override PartName="/ppt/slides/_rels/slide121.xml.rels" ContentType="application/vnd.openxmlformats-package.relationships+xml"/>
  <Override PartName="/ppt/slides/_rels/slide66.xml.rels" ContentType="application/vnd.openxmlformats-package.relationships+xml"/>
  <Override PartName="/ppt/slides/_rels/slide122.xml.rels" ContentType="application/vnd.openxmlformats-package.relationships+xml"/>
  <Override PartName="/ppt/slides/_rels/slide67.xml.rels" ContentType="application/vnd.openxmlformats-package.relationships+xml"/>
  <Override PartName="/ppt/slides/_rels/slide125.xml.rels" ContentType="application/vnd.openxmlformats-package.relationships+xml"/>
  <Override PartName="/ppt/slides/_rels/slide48.xml.rels" ContentType="application/vnd.openxmlformats-package.relationships+xml"/>
  <Override PartName="/ppt/slides/_rels/slide92.xml.rels" ContentType="application/vnd.openxmlformats-package.relationships+xml"/>
  <Override PartName="/ppt/slides/_rels/slide120.xml.rels" ContentType="application/vnd.openxmlformats-package.relationships+xml"/>
  <Override PartName="/ppt/slides/_rels/slide83.xml.rels" ContentType="application/vnd.openxmlformats-package.relationships+xml"/>
  <Override PartName="/ppt/slides/_rels/slide116.xml.rels" ContentType="application/vnd.openxmlformats-package.relationships+xml"/>
  <Override PartName="/ppt/slides/_rels/slide39.xml.rels" ContentType="application/vnd.openxmlformats-package.relationships+xml"/>
  <Override PartName="/ppt/slides/_rels/slide68.xml.rels" ContentType="application/vnd.openxmlformats-package.relationships+xml"/>
  <Override PartName="/ppt/slides/_rels/slide126.xml.rels" ContentType="application/vnd.openxmlformats-package.relationships+xml"/>
  <Override PartName="/ppt/slides/_rels/slide93.xml.rels" ContentType="application/vnd.openxmlformats-package.relationships+xml"/>
  <Override PartName="/ppt/slides/_rels/slide49.xml.rels" ContentType="application/vnd.openxmlformats-package.relationships+xml"/>
  <Override PartName="/ppt/slides/_rels/slide69.xml.rels" ContentType="application/vnd.openxmlformats-package.relationships+xml"/>
  <Override PartName="/ppt/slides/_rels/slide23.xml.rels" ContentType="application/vnd.openxmlformats-package.relationships+xml"/>
  <Override PartName="/ppt/slides/_rels/slide100.xml.rels" ContentType="application/vnd.openxmlformats-package.relationships+xml"/>
  <Override PartName="/ppt/slides/_rels/slide24.xml.rels" ContentType="application/vnd.openxmlformats-package.relationships+xml"/>
  <Override PartName="/ppt/slides/_rels/slide101.xml.rels" ContentType="application/vnd.openxmlformats-package.relationships+xml"/>
  <Override PartName="/ppt/slides/_rels/slide25.xml.rels" ContentType="application/vnd.openxmlformats-package.relationships+xml"/>
  <Override PartName="/ppt/slides/_rels/slide102.xml.rels" ContentType="application/vnd.openxmlformats-package.relationships+xml"/>
  <Override PartName="/ppt/slides/_rels/slide71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07.xml.rels" ContentType="application/vnd.openxmlformats-package.relationships+xml"/>
  <Override PartName="/ppt/slides/_rels/slide108.xml.rels" ContentType="application/vnd.openxmlformats-package.relationships+xml"/>
  <Override PartName="/ppt/slides/_rels/slide75.xml.rels" ContentType="application/vnd.openxmlformats-package.relationships+xml"/>
  <Override PartName="/ppt/slides/_rels/slide72.xml.rels" ContentType="application/vnd.openxmlformats-package.relationships+xml"/>
  <Override PartName="/ppt/slides/_rels/slide105.xml.rels" ContentType="application/vnd.openxmlformats-package.relationships+xml"/>
  <Override PartName="/ppt/slides/_rels/slide103.xml.rels" ContentType="application/vnd.openxmlformats-package.relationships+xml"/>
  <Override PartName="/ppt/slides/_rels/slide70.xml.rels" ContentType="application/vnd.openxmlformats-package.relationships+xml"/>
  <Override PartName="/ppt/slides/_rels/slide26.xml.rels" ContentType="application/vnd.openxmlformats-package.relationships+xml"/>
  <Override PartName="/ppt/slides/slide127.xml" ContentType="application/vnd.openxmlformats-officedocument.presentationml.slide+xml"/>
  <Override PartName="/ppt/slides/slide99.xml" ContentType="application/vnd.openxmlformats-officedocument.presentationml.slide+xml"/>
  <Override PartName="/ppt/slides/slide126.xml" ContentType="application/vnd.openxmlformats-officedocument.presentationml.slide+xml"/>
  <Override PartName="/ppt/slides/slide98.xml" ContentType="application/vnd.openxmlformats-officedocument.presentationml.slide+xml"/>
  <Override PartName="/ppt/slides/slide125.xml" ContentType="application/vnd.openxmlformats-officedocument.presentationml.slide+xml"/>
  <Override PartName="/ppt/slides/slide97.xml" ContentType="application/vnd.openxmlformats-officedocument.presentationml.slide+xml"/>
  <Override PartName="/ppt/slides/slide29.xml" ContentType="application/vnd.openxmlformats-officedocument.presentationml.slide+xml"/>
  <Override PartName="/ppt/slides/slide124.xml" ContentType="application/vnd.openxmlformats-officedocument.presentationml.slide+xml"/>
  <Override PartName="/ppt/slides/slide96.xml" ContentType="application/vnd.openxmlformats-officedocument.presentationml.slide+xml"/>
  <Override PartName="/ppt/slides/slide28.xml" ContentType="application/vnd.openxmlformats-officedocument.presentationml.slide+xml"/>
  <Override PartName="/ppt/slides/slide123.xml" ContentType="application/vnd.openxmlformats-officedocument.presentationml.slide+xml"/>
  <Override PartName="/ppt/slides/slide95.xml" ContentType="application/vnd.openxmlformats-officedocument.presentationml.slide+xml"/>
  <Override PartName="/ppt/slides/slide27.xml" ContentType="application/vnd.openxmlformats-officedocument.presentationml.slide+xml"/>
  <Override PartName="/ppt/slides/slide118.xml" ContentType="application/vnd.openxmlformats-officedocument.presentationml.slide+xml"/>
  <Override PartName="/ppt/slides/slide1.xml" ContentType="application/vnd.openxmlformats-officedocument.presentationml.slide+xml"/>
  <Override PartName="/ppt/slides/slide108.xml" ContentType="application/vnd.openxmlformats-officedocument.presentationml.slide+xml"/>
  <Override PartName="/ppt/slides/slide2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109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0.xml" ContentType="application/vnd.openxmlformats-officedocument.presentationml.slide+xml"/>
  <Override PartName="/ppt/slides/slide139.xml" ContentType="application/vnd.openxmlformats-officedocument.presentationml.slide+xml"/>
  <Override PartName="/ppt/slides/slide5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30.xml" ContentType="application/vnd.openxmlformats-officedocument.presentationml.slide+xml"/>
  <Override PartName="/ppt/slides/slide129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53.xml" ContentType="application/vnd.openxmlformats-officedocument.presentationml.slide+xml"/>
  <Override PartName="/ppt/slides/slide56.xml" ContentType="application/vnd.openxmlformats-officedocument.presentationml.slide+xml"/>
  <Override PartName="/ppt/slides/slide51.xml" ContentType="application/vnd.openxmlformats-officedocument.presentationml.slide+xml"/>
  <Override PartName="/ppt/slides/slide128.xml" ContentType="application/vnd.openxmlformats-officedocument.presentationml.slide+xml"/>
  <Override PartName="/ppt/slides/slide8.xml" ContentType="application/vnd.openxmlformats-officedocument.presentationml.slide+xml"/>
  <Override PartName="/ppt/slides/slide12.xml" ContentType="application/vnd.openxmlformats-officedocument.presentationml.slide+xml"/>
  <Override PartName="/ppt/slides/slide80.xml" ContentType="application/vnd.openxmlformats-officedocument.presentationml.slide+xml"/>
  <Override PartName="/ppt/slides/slide43.xml" ContentType="application/vnd.openxmlformats-officedocument.presentationml.slide+xml"/>
  <Override PartName="/ppt/slides/slide5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slide81.xml" ContentType="application/vnd.openxmlformats-officedocument.presentationml.slide+xml"/>
  <Override PartName="/ppt/slides/slide140.xml" ContentType="application/vnd.openxmlformats-officedocument.presentationml.slide+xml"/>
  <Override PartName="/ppt/slides/slide44.xml" ContentType="application/vnd.openxmlformats-officedocument.presentationml.slide+xml"/>
  <Override PartName="/ppt/slides/slide130.xml" ContentType="application/vnd.openxmlformats-officedocument.presentationml.slide+xml"/>
  <Override PartName="/ppt/slides/slide34.xml" ContentType="application/vnd.openxmlformats-officedocument.presentationml.slide+xml"/>
  <Override PartName="/ppt/slides/slide49.xml" ContentType="application/vnd.openxmlformats-officedocument.presentationml.slide+xml"/>
  <Override PartName="/ppt/slides/slide136.xml" ContentType="application/vnd.openxmlformats-officedocument.presentationml.slide+xml"/>
  <Override PartName="/ppt/slides/slide137.xml" ContentType="application/vnd.openxmlformats-officedocument.presentationml.slide+xml"/>
  <Override PartName="/ppt/slides/slide138.xml" ContentType="application/vnd.openxmlformats-officedocument.presentationml.slide+xml"/>
  <Override PartName="/ppt/slides/slide50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117.xml" ContentType="application/vnd.openxmlformats-officedocument.presentationml.slide+xml"/>
  <Override PartName="/ppt/slides/slide89.xml" ContentType="application/vnd.openxmlformats-officedocument.presentationml.slide+xml"/>
  <Override PartName="/ppt/slides/slide48.xml" ContentType="application/vnd.openxmlformats-officedocument.presentationml.slide+xml"/>
  <Override PartName="/ppt/slides/slide39.xml" ContentType="application/vnd.openxmlformats-officedocument.presentationml.slide+xml"/>
  <Override PartName="/ppt/slides/slide135.xml" ContentType="application/vnd.openxmlformats-officedocument.presentationml.slide+xml"/>
  <Override PartName="/ppt/slides/slide47.xml" ContentType="application/vnd.openxmlformats-officedocument.presentationml.slide+xml"/>
  <Override PartName="/ppt/slides/slide38.xml" ContentType="application/vnd.openxmlformats-officedocument.presentationml.slide+xml"/>
  <Override PartName="/ppt/slides/slide134.xml" ContentType="application/vnd.openxmlformats-officedocument.presentationml.slide+xml"/>
  <Override PartName="/ppt/slides/slide142.xml" ContentType="application/vnd.openxmlformats-officedocument.presentationml.slide+xml"/>
  <Override PartName="/ppt/slides/slide46.xml" ContentType="application/vnd.openxmlformats-officedocument.presentationml.slide+xml"/>
  <Override PartName="/ppt/slides/slide37.xml" ContentType="application/vnd.openxmlformats-officedocument.presentationml.slide+xml"/>
  <Override PartName="/ppt/slides/slide133.xml" ContentType="application/vnd.openxmlformats-officedocument.presentationml.slide+xml"/>
  <Override PartName="/ppt/slides/slide141.xml" ContentType="application/vnd.openxmlformats-officedocument.presentationml.slide+xml"/>
  <Override PartName="/ppt/slides/slide45.xml" ContentType="application/vnd.openxmlformats-officedocument.presentationml.slide+xml"/>
  <Override PartName="/ppt/slides/slide36.xml" ContentType="application/vnd.openxmlformats-officedocument.presentationml.slide+xml"/>
  <Override PartName="/ppt/slides/slide132.xml" ContentType="application/vnd.openxmlformats-officedocument.presentationml.slide+xml"/>
  <Override PartName="/ppt/slides/slide107.xml" ContentType="application/vnd.openxmlformats-officedocument.presentationml.slide+xml"/>
  <Override PartName="/ppt/slides/slide79.xml" ContentType="application/vnd.openxmlformats-officedocument.presentationml.slide+xml"/>
  <Override PartName="/ppt/slides/slide131.xml" ContentType="application/vnd.openxmlformats-officedocument.presentationml.slide+xml"/>
  <Override PartName="/ppt/slides/slide35.xml" ContentType="application/vnd.openxmlformats-officedocument.presentationml.slide+xml"/>
  <Override PartName="/ppt/slides/slide57.xml" ContentType="application/vnd.openxmlformats-officedocument.presentationml.slide+xml"/>
  <Override PartName="/ppt/slides/slide14.xml" ContentType="application/vnd.openxmlformats-officedocument.presentationml.slide+xml"/>
  <Override PartName="/ppt/slides/slide110.xml" ContentType="application/vnd.openxmlformats-officedocument.presentationml.slide+xml"/>
  <Override PartName="/ppt/slides/slide82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58.xml" ContentType="application/vnd.openxmlformats-officedocument.presentationml.slide+xml"/>
  <Override PartName="/ppt/slides/slide15.xml" ContentType="application/vnd.openxmlformats-officedocument.presentationml.slide+xml"/>
  <Override PartName="/ppt/slides/slide111.xml" ContentType="application/vnd.openxmlformats-officedocument.presentationml.slide+xml"/>
  <Override PartName="/ppt/slides/slide83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16.xml" ContentType="application/vnd.openxmlformats-officedocument.presentationml.slide+xml"/>
  <Override PartName="/ppt/slides/slide112.xml" ContentType="application/vnd.openxmlformats-officedocument.presentationml.slide+xml"/>
  <Override PartName="/ppt/slides/slide84.xml" ContentType="application/vnd.openxmlformats-officedocument.presentationml.slide+xml"/>
  <Override PartName="/ppt/slides/slide22.xml" ContentType="application/vnd.openxmlformats-officedocument.presentationml.slide+xml"/>
  <Override PartName="/ppt/slides/slide90.xml" ContentType="application/vnd.openxmlformats-officedocument.presentationml.slide+xml"/>
  <Override PartName="/ppt/slides/slide23.xml" ContentType="application/vnd.openxmlformats-officedocument.presentationml.slide+xml"/>
  <Override PartName="/ppt/slides/slide91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6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120.xml" ContentType="application/vnd.openxmlformats-officedocument.presentationml.slide+xml"/>
  <Override PartName="/ppt/slides/slide24.xml" ContentType="application/vnd.openxmlformats-officedocument.presentationml.slide+xml"/>
  <Override PartName="/ppt/slides/slide92.xml" ContentType="application/vnd.openxmlformats-officedocument.presentationml.slide+xml"/>
  <Override PartName="/ppt/slides/slide68.xml" ContentType="application/vnd.openxmlformats-officedocument.presentationml.slide+xml"/>
  <Override PartName="/ppt/slides/slide25.xml" ContentType="application/vnd.openxmlformats-officedocument.presentationml.slide+xml"/>
  <Override PartName="/ppt/slides/slide121.xml" ContentType="application/vnd.openxmlformats-officedocument.presentationml.slide+xml"/>
  <Override PartName="/ppt/slides/slide93.xml" ContentType="application/vnd.openxmlformats-officedocument.presentationml.slide+xml"/>
  <Override PartName="/ppt/slides/slide69.xml" ContentType="application/vnd.openxmlformats-officedocument.presentationml.slide+xml"/>
  <Override PartName="/ppt/slides/slide26.xml" ContentType="application/vnd.openxmlformats-officedocument.presentationml.slide+xml"/>
  <Override PartName="/ppt/slides/slide122.xml" ContentType="application/vnd.openxmlformats-officedocument.presentationml.slide+xml"/>
  <Override PartName="/ppt/slides/slide94.xml" ContentType="application/vnd.openxmlformats-officedocument.presentationml.slide+xml"/>
  <Override PartName="/ppt/slides/slide70.xml" ContentType="application/vnd.openxmlformats-officedocument.presentationml.slide+xml"/>
  <Override PartName="/ppt/slides/slide71.xml" ContentType="application/vnd.openxmlformats-officedocument.presentationml.slide+xml"/>
  <Override PartName="/ppt/slides/slide100.xml" ContentType="application/vnd.openxmlformats-officedocument.presentationml.slide+xml"/>
  <Override PartName="/ppt/slides/slide72.xml" ContentType="application/vnd.openxmlformats-officedocument.presentationml.slide+xml"/>
  <Override PartName="/ppt/slides/slide101.xml" ContentType="application/vnd.openxmlformats-officedocument.presentationml.slide+xml"/>
  <Override PartName="/ppt/slides/slide73.xml" ContentType="application/vnd.openxmlformats-officedocument.presentationml.slide+xml"/>
  <Override PartName="/ppt/slides/slide102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103.xml" ContentType="application/vnd.openxmlformats-officedocument.presentationml.slide+xml"/>
  <Override PartName="/ppt/slides/slide76.xml" ContentType="application/vnd.openxmlformats-officedocument.presentationml.slide+xml"/>
  <Override PartName="/ppt/slides/slide104.xml" ContentType="application/vnd.openxmlformats-officedocument.presentationml.slide+xml"/>
  <Override PartName="/ppt/slides/slide77.xml" ContentType="application/vnd.openxmlformats-officedocument.presentationml.slide+xml"/>
  <Override PartName="/ppt/slides/slide105.xml" ContentType="application/vnd.openxmlformats-officedocument.presentationml.slide+xml"/>
  <Override PartName="/ppt/slides/slide78.xml" ContentType="application/vnd.openxmlformats-officedocument.presentationml.slide+xml"/>
  <Override PartName="/ppt/slides/slide106.xml" ContentType="application/vnd.openxmlformats-officedocument.presentationml.slide+xml"/>
  <Override PartName="/ppt/slides/slide17.xml" ContentType="application/vnd.openxmlformats-officedocument.presentationml.slide+xml"/>
  <Override PartName="/ppt/slides/slide85.xml" ContentType="application/vnd.openxmlformats-officedocument.presentationml.slide+xml"/>
  <Override PartName="/ppt/slides/slide113.xml" ContentType="application/vnd.openxmlformats-officedocument.presentationml.slide+xml"/>
  <Override PartName="/ppt/slides/slide18.xml" ContentType="application/vnd.openxmlformats-officedocument.presentationml.slide+xml"/>
  <Override PartName="/ppt/slides/slide86.xml" ContentType="application/vnd.openxmlformats-officedocument.presentationml.slide+xml"/>
  <Override PartName="/ppt/slides/slide114.xml" ContentType="application/vnd.openxmlformats-officedocument.presentationml.slide+xml"/>
  <Override PartName="/ppt/slides/slide87.xml" ContentType="application/vnd.openxmlformats-officedocument.presentationml.slide+xml"/>
  <Override PartName="/ppt/slides/slide19.xml" ContentType="application/vnd.openxmlformats-officedocument.presentationml.slide+xml"/>
  <Override PartName="/ppt/slides/slide115.xml" ContentType="application/vnd.openxmlformats-officedocument.presentationml.slide+xml"/>
  <Override PartName="/ppt/slides/slide88.xml" ContentType="application/vnd.openxmlformats-officedocument.presentationml.slide+xml"/>
  <Override PartName="/ppt/slides/slide1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  <p:sldId id="374" r:id="rId121"/>
    <p:sldId id="375" r:id="rId122"/>
    <p:sldId id="376" r:id="rId123"/>
    <p:sldId id="377" r:id="rId124"/>
    <p:sldId id="378" r:id="rId125"/>
    <p:sldId id="379" r:id="rId126"/>
    <p:sldId id="380" r:id="rId127"/>
    <p:sldId id="381" r:id="rId128"/>
    <p:sldId id="382" r:id="rId129"/>
    <p:sldId id="383" r:id="rId130"/>
    <p:sldId id="384" r:id="rId131"/>
    <p:sldId id="385" r:id="rId132"/>
    <p:sldId id="386" r:id="rId133"/>
    <p:sldId id="387" r:id="rId134"/>
    <p:sldId id="388" r:id="rId135"/>
    <p:sldId id="389" r:id="rId136"/>
    <p:sldId id="390" r:id="rId137"/>
    <p:sldId id="391" r:id="rId138"/>
    <p:sldId id="392" r:id="rId139"/>
    <p:sldId id="393" r:id="rId140"/>
    <p:sldId id="394" r:id="rId141"/>
    <p:sldId id="395" r:id="rId142"/>
    <p:sldId id="396" r:id="rId143"/>
    <p:sldId id="397" r:id="rId1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slide" Target="slides/slide119.xml"/><Relationship Id="rId122" Type="http://schemas.openxmlformats.org/officeDocument/2006/relationships/slide" Target="slides/slide120.xml"/><Relationship Id="rId123" Type="http://schemas.openxmlformats.org/officeDocument/2006/relationships/slide" Target="slides/slide121.xml"/><Relationship Id="rId124" Type="http://schemas.openxmlformats.org/officeDocument/2006/relationships/slide" Target="slides/slide122.xml"/><Relationship Id="rId125" Type="http://schemas.openxmlformats.org/officeDocument/2006/relationships/slide" Target="slides/slide123.xml"/><Relationship Id="rId126" Type="http://schemas.openxmlformats.org/officeDocument/2006/relationships/slide" Target="slides/slide124.xml"/><Relationship Id="rId127" Type="http://schemas.openxmlformats.org/officeDocument/2006/relationships/slide" Target="slides/slide125.xml"/><Relationship Id="rId128" Type="http://schemas.openxmlformats.org/officeDocument/2006/relationships/slide" Target="slides/slide126.xml"/><Relationship Id="rId129" Type="http://schemas.openxmlformats.org/officeDocument/2006/relationships/slide" Target="slides/slide127.xml"/><Relationship Id="rId130" Type="http://schemas.openxmlformats.org/officeDocument/2006/relationships/slide" Target="slides/slide128.xml"/><Relationship Id="rId131" Type="http://schemas.openxmlformats.org/officeDocument/2006/relationships/slide" Target="slides/slide129.xml"/><Relationship Id="rId132" Type="http://schemas.openxmlformats.org/officeDocument/2006/relationships/slide" Target="slides/slide130.xml"/><Relationship Id="rId133" Type="http://schemas.openxmlformats.org/officeDocument/2006/relationships/slide" Target="slides/slide131.xml"/><Relationship Id="rId134" Type="http://schemas.openxmlformats.org/officeDocument/2006/relationships/slide" Target="slides/slide132.xml"/><Relationship Id="rId135" Type="http://schemas.openxmlformats.org/officeDocument/2006/relationships/slide" Target="slides/slide133.xml"/><Relationship Id="rId136" Type="http://schemas.openxmlformats.org/officeDocument/2006/relationships/slide" Target="slides/slide134.xml"/><Relationship Id="rId137" Type="http://schemas.openxmlformats.org/officeDocument/2006/relationships/slide" Target="slides/slide135.xml"/><Relationship Id="rId138" Type="http://schemas.openxmlformats.org/officeDocument/2006/relationships/slide" Target="slides/slide136.xml"/><Relationship Id="rId139" Type="http://schemas.openxmlformats.org/officeDocument/2006/relationships/slide" Target="slides/slide137.xml"/><Relationship Id="rId140" Type="http://schemas.openxmlformats.org/officeDocument/2006/relationships/slide" Target="slides/slide138.xml"/><Relationship Id="rId141" Type="http://schemas.openxmlformats.org/officeDocument/2006/relationships/slide" Target="slides/slide139.xml"/><Relationship Id="rId142" Type="http://schemas.openxmlformats.org/officeDocument/2006/relationships/slide" Target="slides/slide140.xml"/><Relationship Id="rId143" Type="http://schemas.openxmlformats.org/officeDocument/2006/relationships/slide" Target="slides/slide141.xml"/><Relationship Id="rId144" Type="http://schemas.openxmlformats.org/officeDocument/2006/relationships/slide" Target="slides/slide142.xml"/><Relationship Id="rId1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A7C6-55C6-4355-B155-8AD33CB6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B021-CB68-4C69-9193-2DEE84633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1368-B1DB-4215-BB59-16D1E3AAD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B40-F991-46B4-A203-4C0E81CE0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9098-1F74-4FC0-9E65-07DF8215B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337-DFD7-47F5-BA99-A7307F68A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8D3A-AA31-46D6-87F1-9EDBE600C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4953-A01F-4CCF-B90E-4F5EC39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BF3F-8735-4019-AD12-252B3973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8E7A-D41B-4F43-8995-F2E6C85C4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75836-71E5-4740-B0C9-69028AAD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AB81-495B-418E-A7F9-2FBFA4838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51743-52E5-499D-A077-9A403D044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slideLayout" Target="../slideLayouts/slideLayout5.xml"/>
</Relationships>
</file>

<file path=ppt/slides/_rels/slide1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0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slideLayout" Target="../slideLayouts/slideLayout5.xml"/>
</Relationships>
</file>

<file path=ppt/slides/_rels/slide131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5.xml"/>
</Relationships>
</file>

<file path=ppt/slides/_rels/slide1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4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slideLayout" Target="../slideLayouts/slideLayout3.xml"/>
</Relationships>
</file>

<file path=ppt/slides/_rels/slide135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slideLayout" Target="../slideLayouts/slideLayout5.xml"/>
</Relationships>
</file>

<file path=ppt/slides/_rels/slide136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5.xml"/>
</Relationships>
</file>

<file path=ppt/slides/_rels/slide137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slideLayout" Target="../slideLayouts/slideLayout5.xml"/>
</Relationships>
</file>

<file path=ppt/slides/_rels/slide138.xml.rels><?xml version="1.0" encoding="UTF-8"?>
<Relationships xmlns="http://schemas.openxmlformats.org/package/2006/relationships"><Relationship Id="rId1" Type="http://schemas.openxmlformats.org/officeDocument/2006/relationships/image" Target="../media/image58.wmf"/><Relationship Id="rId2" Type="http://schemas.openxmlformats.org/officeDocument/2006/relationships/slideLayout" Target="../slideLayouts/slideLayout1.xml"/>
</Relationships>
</file>

<file path=ppt/slides/_rels/slide139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4E5-97E5-4894-90F1-B3DC3F9C937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cise, unambiguous, clea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2120" y="16765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other example (from a real safety-critical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718920" y="2971800"/>
            <a:ext cx="7861680" cy="1922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message must be triplicated. The th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pies must be forwarded through thre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ferent physical channels. The receiv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cepts the message on the basis of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wo-out-of-three voting policy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9000" y="5334120"/>
            <a:ext cx="830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 message be accepted as soon as we receive 2 out of 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dentical copies of message or do we need to wait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eceipt of the 3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33B1-6E79-40C9-AE3A-74F4F0179F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-11520" y="1828800"/>
            <a:ext cx="955116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0: Reserving F from inside E, which is not standing at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causes immediate update of L according to previous poli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1312200" y="2971800"/>
            <a:ext cx="70412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F = insert_in_order(L, F, 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R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0792-D164-4047-866A-7CDB6FB8009D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635760" y="990720"/>
            <a:ext cx="598968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1: Effect of arrival of E at floor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1779480" y="1523880"/>
            <a:ext cx="531468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 = first (L) and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= tail (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10640" y="3505320"/>
            <a:ext cx="4276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12: How list cha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1323000" y="4038480"/>
            <a:ext cx="65376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not (new_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&l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8216-D980-44F2-9567-E0E3B34F4574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ystem can be simulated by providing a state (set of facts) and using rules to make dedu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2, 3, 5, 7)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levator 2 at floor 3 at least from instant 5 to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(2, empty, 5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request(2, 8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lnSpc>
                <a:spcPct val="2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(2, {8}, 7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excluding other eve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2, up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 arrival (2, 8, 7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*(8-3)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88F7-F5F5-44E3-A7FF-F24137F93D12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ying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can be stated and proved via dedu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, T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br>
              <a:rPr sz="2400"/>
            </a:b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new_list (E,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F </a:t>
            </a:r>
            <a:r>
              <a:rPr b="0" i="1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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L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ll requests are served eventually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ECE2-0AA6-4B33-BBDD-C59D200FA4B4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criptive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ystem and its properties are described in the same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ng properties, however, cannot be fully mechanized for most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7B0D-0E19-45BD-8382-15A240D33269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eterogene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lgebra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terogeneous = more than 1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pecially useful to specify AD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C587-0F87-40B5-A991-171D90880A29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strings, with operations f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ing new, empty strings (operation n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ing strings (operation appe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ing a new character at the end of a string (operation ad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the length of a given string (operation leng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a string is empty (operation isEmpt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ing whether two strings are equal (operation equ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2C632-1F95-41D8-AF20-3DE96DDB3FD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synta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"/>
          <p:cNvSpPr/>
          <p:nvPr/>
        </p:nvSpPr>
        <p:spPr>
          <a:xfrm>
            <a:off x="1398960" y="1676520"/>
            <a:ext cx="624924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: String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: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: String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9A41-D1E4-45EA-A547-F971A2804173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: proper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"/>
          <p:cNvSpPr/>
          <p:nvPr/>
        </p:nvSpPr>
        <p:spPr>
          <a:xfrm>
            <a:off x="380880" y="1289160"/>
            <a:ext cx="825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, append, add, length, isEmpty, equal so t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s, s1, s2: String; c: Char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 (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new ())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 (add (s, c)) = length (s)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, new ()) = 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 (s1, add (s2,c)) = add (append (s1,s2),c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new ()) 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new (), add (s, c)) = fal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, c), new ()) = false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 (add (s1, c), add (s2, c) = equal (s1,s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D363-68EE-4A05-BC70-D281097256EA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editor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new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reates a new, empty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s whether a file is emp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dds a string of characters to the end of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s a string at a given position of a fi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(t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e rest of the file will be rewritten just after the inserted str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ppend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catenates two file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CE2A-19E4-4A42-BEC6-6040A93B28C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sist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143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"/>
          <p:cNvSpPr/>
          <p:nvPr/>
        </p:nvSpPr>
        <p:spPr>
          <a:xfrm>
            <a:off x="796680" y="2514600"/>
            <a:ext cx="7861680" cy="22885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e whole text should be kept in l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f equal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ength. The length is specifi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y the user. Unless the user gives 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xplicit hyphenation command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 carriage return should occur on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t the end of a wo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5280" y="5334120"/>
            <a:ext cx="81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What if the length of a word exceeds the length of the lin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CAE9-1E2F-4A22-BD7C-1705D22DCF8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235080" y="228600"/>
            <a:ext cx="86799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ebra TextEdit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orts Text, String, Char, Bool,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wF: ()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: Tex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: Text, Nat, String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eteF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Zapf Dingbats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: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: Text, Text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dFC: Text, Char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Tex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This is an auxiliary operation that will be need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define addF and other operations on files.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0D4B-0CFE-4537-B2CB-5AABA3EA035C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670320" y="343080"/>
            <a:ext cx="75171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s newF, isEmptyF, addF, appendF, insertF, delete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 th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extEditor generated by [newF, addFC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or all [f, f1,f2: Text; s: String; c: Char; cursor: Na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EmptyF (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 (f, addS (s, c)) = addFC (addF (f, s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newF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ngthF (addFC (f, c)) = lengthF (f) +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, newF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endF (f1, addFC (f2, c)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ddFC (appendF (f1, f2), c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newF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newF (), addFC (f, c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, c), new ()) = fals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addFC (f1, c1), addFC (f2, c2)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f1, f2) and equalC (c1, c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nsertF (f, cursor, newS ()) = 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(equalF (f, appendF (f1, f2)) and (lengthF (f1) = cursor - 1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mpl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qualF (insertF (f, cursor, s), appendF (addF (f1, s), f2)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nd TextEdit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D65D-7DC0-4832-A9F3-A2DF97257AA1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quirements for a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separate functional specs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spec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-interface spe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 different vie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E9C5-2D1D-48D8-8761-5402A408A797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view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cument produ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724120" y="2378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1295280" y="2438280"/>
            <a:ext cx="6705720" cy="38163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299556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08760" y="1676520"/>
            <a:ext cx="47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view (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57F-DB61-4605-B74B-1DFFB5EB9BFE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flow view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5486400" cy="4557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2CCE-BC4C-4133-881B-FE61EC685FCA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tatic architecture in terms of classes and associ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evolution can be described via Statecharts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tivity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 sequential and parallel composition of method executions, and synchro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2306-73F7-4979-B8DD-BC4794B1F3E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ctivity diagra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"/>
          <p:cNvSpPr/>
          <p:nvPr/>
        </p:nvSpPr>
        <p:spPr>
          <a:xfrm>
            <a:off x="114300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380880" y="1447920"/>
          <a:ext cx="8229600" cy="521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447920"/>
                    <a:ext cx="8229600" cy="521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C7A5-CF06-4C32-84CF-706C14D3AB78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modular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ase of 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combine algebras taken from a lib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organize them in a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F945-CAF8-4626-ACE7-358123F5E885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"/>
          <p:cNvSpPr/>
          <p:nvPr/>
        </p:nvSpPr>
        <p:spPr>
          <a:xfrm>
            <a:off x="537480" y="857160"/>
            <a:ext cx="579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Bool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ru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alse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: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nd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r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: Bool, Bool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true, false, not, and, or, implies,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 generated by [true, false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a, b: Bool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true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ot (false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and b = not (not (a) or not (b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 implies b = not (a) or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BoolAlg.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9326-B604-483F-BDB2-0F0401829347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lgebras used by StringSpec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"/>
          <p:cNvSpPr/>
          <p:nvPr/>
        </p:nvSpPr>
        <p:spPr>
          <a:xfrm>
            <a:off x="1006920" y="1936800"/>
            <a:ext cx="3896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Nat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0: ()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: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+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-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= : Nat, Na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0, Succ, +, -, =,...,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Numb generated by [0, Succ]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NatNum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383800" y="2286000"/>
            <a:ext cx="336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harAlg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har, 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’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‘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’ : ()® Cha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harAl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012C-E924-408B-91BD-A9FE0EC87D83}" type="slidenum">
              <a:t>1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nal complete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efine any new concept or terminology that it 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lossary helpful for this purpo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pecification must document all the needed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: when should one stop?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5DE-D049-44CD-BEAE-10585E881D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ringSpec revisi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"/>
          <p:cNvSpPr/>
          <p:nvPr/>
        </p:nvSpPr>
        <p:spPr>
          <a:xfrm>
            <a:off x="1342440" y="1981080"/>
            <a:ext cx="6351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StringSpec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BoolAlg, NatNumb, CharAl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String, Char, Nat, Bo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String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D30-8BA7-4F32-B8FE-E932B0E14FD2}" type="slidenum">
              <a:t>1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specification of an A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ant to target stacks, queues, se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from "container" and then progressively specialize 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another structuring cla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s inheritance relation among algebr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912D-A851-42D6-A38A-062E70471EA7}" type="slidenum">
              <a:t>1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ainer algebra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"/>
          <p:cNvSpPr/>
          <p:nvPr/>
        </p:nvSpPr>
        <p:spPr>
          <a:xfrm>
            <a:off x="438840" y="1143000"/>
            <a:ext cx="79714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Containe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mports DataType, BoolAlg, NatNum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ew: ()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: Cont, Data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{Data is the sort of algebra DataType, to whi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lements to be stored in Cont belong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Boo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: Cont 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Na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new, insert, isEmpty, size so th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 generated by [new, inser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c: Co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new ()) = tr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isEmpty (insert (c, d)) = fals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ize (new ())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ntaine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385-41B9-431B-A04A-2D42D6A050E4}" type="slidenum">
              <a:t>1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abl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"/>
          <p:cNvSpPr/>
          <p:nvPr/>
        </p:nvSpPr>
        <p:spPr>
          <a:xfrm>
            <a:off x="478440" y="861840"/>
            <a:ext cx="622188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Tabl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s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: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: Table, Tabl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 Table, Data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Tabl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rest, equalT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, d1, d2: Data; t, t1, t2: Tabl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t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rest (insert (t, d)) = 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insert (t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new (), insert (t,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t1,t2) = equalD(last (t1), last (t2)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T (rest (t1),rest (t2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, d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d),d) = delete (t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D(d1, d2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de-DE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t, d1), d2) = insert (delete (t, d2), d1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Tabl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F6E4-E05F-4D27-A190-9F689B716EDB}" type="slidenum">
              <a:t>1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ue specializes Contain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"/>
          <p:cNvSpPr/>
          <p:nvPr/>
        </p:nvSpPr>
        <p:spPr>
          <a:xfrm>
            <a:off x="672120" y="762120"/>
            <a:ext cx="682524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 QueueAlg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assumes Contain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ntrodu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sort Que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: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Dat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: Queue , 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Bool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:Queue </a:t>
            </a:r>
            <a:r>
              <a:rPr b="0" lang="it-IT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 Queue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s last, first, equalQ, delete, isEmpty, new, insert so th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[d: Data; q, q1, q2: Queue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last (insert (q, d)) = d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new(), d) = 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 (insert (q, d)) = if not isEmpty (q) then first (q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new ()) = tru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, d), new (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new (), insert (q, d)) = fals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insert (q1, d1), insert (q2, d2)) = equalD (d1, d2) a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qualQ (q1,q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new (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new (), d)) = new 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if not equalQ (q, new ()) t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delete (insert (q,d)) = insert (delete (q), d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nd QueueAlg.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167B2-9ABF-4299-9388-009817344679}" type="slidenum">
              <a:t>1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"/>
          <p:cNvSpPr/>
          <p:nvPr/>
        </p:nvSpPr>
        <p:spPr>
          <a:xfrm>
            <a:off x="368460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873880" y="1647720"/>
            <a:ext cx="3199680" cy="4366440"/>
            <a:chOff x="2873880" y="1647720"/>
            <a:chExt cx="3199680" cy="4366440"/>
          </a:xfrm>
        </p:grpSpPr>
        <p:sp>
          <p:nvSpPr>
            <p:cNvPr id="590" name=""/>
            <p:cNvSpPr/>
            <p:nvPr/>
          </p:nvSpPr>
          <p:spPr>
            <a:xfrm>
              <a:off x="3992400" y="2946240"/>
              <a:ext cx="843120" cy="8892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114720" y="1647720"/>
              <a:ext cx="753840" cy="8683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192640" y="1746360"/>
              <a:ext cx="754200" cy="80964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52720" y="4341960"/>
              <a:ext cx="754200" cy="8301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2400" y="4341960"/>
              <a:ext cx="771840" cy="85068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084640" y="4381560"/>
              <a:ext cx="862200" cy="90972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96" name=""/>
            <p:cNvGrpSpPr/>
            <p:nvPr/>
          </p:nvGrpSpPr>
          <p:grpSpPr>
            <a:xfrm>
              <a:off x="3768840" y="2308320"/>
              <a:ext cx="573120" cy="630000"/>
              <a:chOff x="3768840" y="2308320"/>
              <a:chExt cx="573120" cy="630000"/>
            </a:xfrm>
          </p:grpSpPr>
          <p:sp>
            <p:nvSpPr>
              <p:cNvPr id="597" name=""/>
              <p:cNvSpPr/>
              <p:nvPr/>
            </p:nvSpPr>
            <p:spPr>
              <a:xfrm>
                <a:off x="4091040" y="2682720"/>
                <a:ext cx="250920" cy="255600"/>
              </a:xfrm>
              <a:custGeom>
                <a:avLst/>
                <a:gdLst/>
                <a:ahLst/>
                <a:rect l="l" t="t" r="r" b="b"/>
                <a:pathLst>
                  <a:path w="158" h="161">
                    <a:moveTo>
                      <a:pt x="158" y="161"/>
                    </a:moveTo>
                    <a:lnTo>
                      <a:pt x="0" y="49"/>
                    </a:lnTo>
                    <a:lnTo>
                      <a:pt x="34" y="24"/>
                    </a:lnTo>
                    <a:lnTo>
                      <a:pt x="79" y="0"/>
                    </a:lnTo>
                    <a:lnTo>
                      <a:pt x="158" y="1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3768840" y="2308320"/>
                <a:ext cx="376200" cy="41256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4557600" y="2406600"/>
              <a:ext cx="627120" cy="550800"/>
              <a:chOff x="4557600" y="2406600"/>
              <a:chExt cx="627120" cy="550800"/>
            </a:xfrm>
          </p:grpSpPr>
          <p:sp>
            <p:nvSpPr>
              <p:cNvPr id="600" name=""/>
              <p:cNvSpPr/>
              <p:nvPr/>
            </p:nvSpPr>
            <p:spPr>
              <a:xfrm>
                <a:off x="4557600" y="2682720"/>
                <a:ext cx="322200" cy="274680"/>
              </a:xfrm>
              <a:custGeom>
                <a:avLst/>
                <a:gdLst/>
                <a:ahLst/>
                <a:rect l="l" t="t" r="r" b="b"/>
                <a:pathLst>
                  <a:path w="203" h="173">
                    <a:moveTo>
                      <a:pt x="0" y="173"/>
                    </a:moveTo>
                    <a:lnTo>
                      <a:pt x="101" y="0"/>
                    </a:lnTo>
                    <a:lnTo>
                      <a:pt x="146" y="24"/>
                    </a:lnTo>
                    <a:lnTo>
                      <a:pt x="203" y="62"/>
                    </a:lnTo>
                    <a:lnTo>
                      <a:pt x="0" y="1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4789440" y="2406600"/>
                <a:ext cx="395280" cy="314280"/>
              </a:xfrm>
              <a:prstGeom prst="line">
                <a:avLst/>
              </a:prstGeom>
              <a:ln w="88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2" name=""/>
            <p:cNvSpPr/>
            <p:nvPr/>
          </p:nvSpPr>
          <p:spPr>
            <a:xfrm>
              <a:off x="5306040" y="1874880"/>
              <a:ext cx="508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757480" y="187488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90920" y="211140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196080" y="1816200"/>
              <a:ext cx="608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750840" y="18162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195360" y="20527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062520" y="4511520"/>
              <a:ext cx="407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oo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428640" y="45115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051000" y="47480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26960" y="3173400"/>
              <a:ext cx="88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5440" y="317340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36680" y="340992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94640" y="4471920"/>
              <a:ext cx="316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377960" y="4471920"/>
              <a:ext cx="107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090680" y="47084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37200" y="4629240"/>
              <a:ext cx="936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Typ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66360" y="4865760"/>
              <a:ext cx="54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202000" y="486576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geb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2873880" y="5554800"/>
              <a:ext cx="733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Legend: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379760" y="5554800"/>
              <a:ext cx="74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por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935240" y="5554800"/>
              <a:ext cx="1005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392000" y="5770440"/>
              <a:ext cx="86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ssu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131080" y="5770440"/>
              <a:ext cx="83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el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5" name=""/>
            <p:cNvGrpSpPr/>
            <p:nvPr/>
          </p:nvGrpSpPr>
          <p:grpSpPr>
            <a:xfrm>
              <a:off x="3714840" y="5810400"/>
              <a:ext cx="555480" cy="196560"/>
              <a:chOff x="3714840" y="5810400"/>
              <a:chExt cx="555480" cy="196560"/>
            </a:xfrm>
          </p:grpSpPr>
          <p:sp>
            <p:nvSpPr>
              <p:cNvPr id="626" name=""/>
              <p:cNvSpPr/>
              <p:nvPr/>
            </p:nvSpPr>
            <p:spPr>
              <a:xfrm>
                <a:off x="4037040" y="5810400"/>
                <a:ext cx="233280" cy="196560"/>
              </a:xfrm>
              <a:custGeom>
                <a:avLst/>
                <a:gdLst/>
                <a:ahLst/>
                <a:rect l="l" t="t" r="r" b="b"/>
                <a:pathLst>
                  <a:path w="147" h="124">
                    <a:moveTo>
                      <a:pt x="147" y="62"/>
                    </a:moveTo>
                    <a:lnTo>
                      <a:pt x="0" y="124"/>
                    </a:lnTo>
                    <a:lnTo>
                      <a:pt x="0" y="62"/>
                    </a:lnTo>
                    <a:lnTo>
                      <a:pt x="0" y="0"/>
                    </a:lnTo>
                    <a:lnTo>
                      <a:pt x="147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3714840" y="5908680"/>
                <a:ext cx="322200" cy="1440"/>
              </a:xfrm>
              <a:prstGeom prst="line">
                <a:avLst/>
              </a:prstGeom>
              <a:ln w="712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8" name=""/>
            <p:cNvGrpSpPr/>
            <p:nvPr/>
          </p:nvGrpSpPr>
          <p:grpSpPr>
            <a:xfrm>
              <a:off x="4341960" y="3822840"/>
              <a:ext cx="107640" cy="511200"/>
              <a:chOff x="4341960" y="3822840"/>
              <a:chExt cx="107640" cy="511200"/>
            </a:xfrm>
          </p:grpSpPr>
          <p:sp>
            <p:nvSpPr>
              <p:cNvPr id="629" name=""/>
              <p:cNvSpPr/>
              <p:nvPr/>
            </p:nvSpPr>
            <p:spPr>
              <a:xfrm>
                <a:off x="4341960" y="4138560"/>
                <a:ext cx="107640" cy="195480"/>
              </a:xfrm>
              <a:custGeom>
                <a:avLst/>
                <a:gdLst/>
                <a:ahLst/>
                <a:rect l="l" t="t" r="r" b="b"/>
                <a:pathLst>
                  <a:path w="68" h="123">
                    <a:moveTo>
                      <a:pt x="34" y="123"/>
                    </a:moveTo>
                    <a:lnTo>
                      <a:pt x="0" y="0"/>
                    </a:lnTo>
                    <a:lnTo>
                      <a:pt x="34" y="37"/>
                    </a:lnTo>
                    <a:lnTo>
                      <a:pt x="68" y="0"/>
                    </a:lnTo>
                    <a:lnTo>
                      <a:pt x="34" y="1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395960" y="3822840"/>
                <a:ext cx="1440" cy="3744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3554280" y="3705120"/>
              <a:ext cx="555480" cy="708120"/>
              <a:chOff x="3554280" y="3705120"/>
              <a:chExt cx="555480" cy="708120"/>
            </a:xfrm>
          </p:grpSpPr>
          <p:sp>
            <p:nvSpPr>
              <p:cNvPr id="632" name=""/>
              <p:cNvSpPr/>
              <p:nvPr/>
            </p:nvSpPr>
            <p:spPr>
              <a:xfrm>
                <a:off x="3554280" y="4237200"/>
                <a:ext cx="160560" cy="176040"/>
              </a:xfrm>
              <a:custGeom>
                <a:avLst/>
                <a:gdLst/>
                <a:ahLst/>
                <a:rect l="l" t="t" r="r" b="b"/>
                <a:pathLst>
                  <a:path w="101" h="111">
                    <a:moveTo>
                      <a:pt x="0" y="111"/>
                    </a:moveTo>
                    <a:lnTo>
                      <a:pt x="45" y="0"/>
                    </a:lnTo>
                    <a:lnTo>
                      <a:pt x="45" y="49"/>
                    </a:lnTo>
                    <a:lnTo>
                      <a:pt x="101" y="37"/>
                    </a:lnTo>
                    <a:lnTo>
                      <a:pt x="0" y="1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3625560" y="3705120"/>
                <a:ext cx="484200" cy="6098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4" name=""/>
            <p:cNvGrpSpPr/>
            <p:nvPr/>
          </p:nvGrpSpPr>
          <p:grpSpPr>
            <a:xfrm>
              <a:off x="4754520" y="3646440"/>
              <a:ext cx="536760" cy="766800"/>
              <a:chOff x="4754520" y="3646440"/>
              <a:chExt cx="536760" cy="766800"/>
            </a:xfrm>
          </p:grpSpPr>
          <p:sp>
            <p:nvSpPr>
              <p:cNvPr id="635" name=""/>
              <p:cNvSpPr/>
              <p:nvPr/>
            </p:nvSpPr>
            <p:spPr>
              <a:xfrm>
                <a:off x="5148360" y="4216320"/>
                <a:ext cx="142920" cy="196920"/>
              </a:xfrm>
              <a:custGeom>
                <a:avLst/>
                <a:gdLst/>
                <a:ahLst/>
                <a:rect l="l" t="t" r="r" b="b"/>
                <a:pathLst>
                  <a:path w="90" h="124">
                    <a:moveTo>
                      <a:pt x="90" y="124"/>
                    </a:moveTo>
                    <a:lnTo>
                      <a:pt x="0" y="50"/>
                    </a:lnTo>
                    <a:lnTo>
                      <a:pt x="45" y="62"/>
                    </a:lnTo>
                    <a:lnTo>
                      <a:pt x="45" y="0"/>
                    </a:lnTo>
                    <a:lnTo>
                      <a:pt x="90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4754520" y="3646440"/>
                <a:ext cx="465120" cy="66852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7" name=""/>
            <p:cNvGrpSpPr/>
            <p:nvPr/>
          </p:nvGrpSpPr>
          <p:grpSpPr>
            <a:xfrm>
              <a:off x="3714840" y="5613480"/>
              <a:ext cx="573120" cy="117360"/>
              <a:chOff x="3714840" y="5613480"/>
              <a:chExt cx="573120" cy="117360"/>
            </a:xfrm>
          </p:grpSpPr>
          <p:sp>
            <p:nvSpPr>
              <p:cNvPr id="638" name=""/>
              <p:cNvSpPr/>
              <p:nvPr/>
            </p:nvSpPr>
            <p:spPr>
              <a:xfrm>
                <a:off x="4110120" y="5613480"/>
                <a:ext cx="177840" cy="117360"/>
              </a:xfrm>
              <a:custGeom>
                <a:avLst/>
                <a:gdLst/>
                <a:ahLst/>
                <a:rect l="l" t="t" r="r" b="b"/>
                <a:pathLst>
                  <a:path w="112" h="74">
                    <a:moveTo>
                      <a:pt x="112" y="37"/>
                    </a:moveTo>
                    <a:lnTo>
                      <a:pt x="0" y="74"/>
                    </a:lnTo>
                    <a:lnTo>
                      <a:pt x="33" y="37"/>
                    </a:lnTo>
                    <a:lnTo>
                      <a:pt x="0" y="0"/>
                    </a:lnTo>
                    <a:lnTo>
                      <a:pt x="112" y="3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714840" y="5672160"/>
                <a:ext cx="447480" cy="144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013E-7FB4-45C0-A76A-DBD1C584D763}" type="slidenum">
              <a:t>1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icher 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"/>
          <p:cNvSpPr/>
          <p:nvPr/>
        </p:nvSpPr>
        <p:spPr>
          <a:xfrm>
            <a:off x="321948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" descr=""/>
          <p:cNvPicPr/>
          <p:nvPr/>
        </p:nvPicPr>
        <p:blipFill>
          <a:blip r:embed="rId1"/>
          <a:stretch/>
        </p:blipFill>
        <p:spPr>
          <a:xfrm>
            <a:off x="2514600" y="1295280"/>
            <a:ext cx="3741840" cy="477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6359-70CE-4C91-8804-44D31FA6597F}" type="slidenum">
              <a:t>1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specs to an implem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 language described so far is based on the "Larch shared language"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ral "interface languages" are available to help transitioning to an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ch/C++, Larch/Pas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5DBC-C6AA-4712-91C5-5924C527F240}" type="slidenum">
              <a:t>1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ing Larch/Pascal for StringSpec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"/>
          <p:cNvSpPr/>
          <p:nvPr/>
        </p:nvSpPr>
        <p:spPr>
          <a:xfrm>
            <a:off x="7920" y="1523880"/>
            <a:ext cx="9012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String exports isEmpty, add, append,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ased on Boolean, integer, charac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Empty (s: String) : Bool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{i.e., it has no side effect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dd (var s : String; c : ch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modif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es only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string parameter s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s: String) : integ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 ]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append (var s1, s2, s3: str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ifies at most [s3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{only s3, the result of the operation, is modified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StringSp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0883-D43A-4083-B24C-A76503E9B9CF}" type="slidenum">
              <a:t>1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finite state mach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charts do th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ave been incorporated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provide the notion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compo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3AE3-C88C-4531-9170-042156267BC9}" type="slidenum">
              <a:t>1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from a sketchy document and progressively add det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ferring to the specificatio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document is structured and can be understood in increm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BB8A-A51C-4D3B-9586-BC959214C9F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decomposit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hemical plant control example--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"/>
          <p:cNvSpPr/>
          <p:nvPr/>
        </p:nvSpPr>
        <p:spPr>
          <a:xfrm>
            <a:off x="201924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838080" y="838080"/>
            <a:ext cx="7848720" cy="585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6F9E-A40B-45FF-BB43-11E1144E91F0}" type="slidenum">
              <a:t>1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rallel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"/>
          <p:cNvSpPr/>
          <p:nvPr/>
        </p:nvSpPr>
        <p:spPr>
          <a:xfrm>
            <a:off x="1714680" y="152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58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E548-41FA-4B86-A24B-2819FFBEB534}" type="slidenum">
              <a:t>1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 state diagram using Statechar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"/>
          <p:cNvSpPr/>
          <p:nvPr/>
        </p:nvSpPr>
        <p:spPr>
          <a:xfrm>
            <a:off x="1687680" y="1562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-534960" y="1828800"/>
            <a:ext cx="9129600" cy="3087720"/>
            <a:chOff x="-534960" y="1828800"/>
            <a:chExt cx="9129600" cy="3087720"/>
          </a:xfrm>
        </p:grpSpPr>
        <p:sp>
          <p:nvSpPr>
            <p:cNvPr id="658" name=""/>
            <p:cNvSpPr/>
            <p:nvPr/>
          </p:nvSpPr>
          <p:spPr>
            <a:xfrm>
              <a:off x="-534960" y="1828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766880" y="3411360"/>
              <a:ext cx="955800" cy="447840"/>
            </a:xfrm>
            <a:custGeom>
              <a:avLst/>
              <a:gdLst/>
              <a:ahLst/>
              <a:rect l="l" t="t" r="r" b="b"/>
              <a:pathLst>
                <a:path w="602" h="282">
                  <a:moveTo>
                    <a:pt x="37" y="0"/>
                  </a:moveTo>
                  <a:lnTo>
                    <a:pt x="29" y="1"/>
                  </a:lnTo>
                  <a:lnTo>
                    <a:pt x="22" y="3"/>
                  </a:lnTo>
                  <a:lnTo>
                    <a:pt x="10" y="10"/>
                  </a:lnTo>
                  <a:lnTo>
                    <a:pt x="3" y="22"/>
                  </a:lnTo>
                  <a:lnTo>
                    <a:pt x="2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2" y="253"/>
                  </a:lnTo>
                  <a:lnTo>
                    <a:pt x="3" y="260"/>
                  </a:lnTo>
                  <a:lnTo>
                    <a:pt x="10" y="272"/>
                  </a:lnTo>
                  <a:lnTo>
                    <a:pt x="22" y="279"/>
                  </a:lnTo>
                  <a:lnTo>
                    <a:pt x="29" y="282"/>
                  </a:lnTo>
                  <a:lnTo>
                    <a:pt x="37" y="282"/>
                  </a:lnTo>
                  <a:lnTo>
                    <a:pt x="564" y="282"/>
                  </a:lnTo>
                  <a:lnTo>
                    <a:pt x="571" y="282"/>
                  </a:lnTo>
                  <a:lnTo>
                    <a:pt x="578" y="279"/>
                  </a:lnTo>
                  <a:lnTo>
                    <a:pt x="591" y="272"/>
                  </a:lnTo>
                  <a:lnTo>
                    <a:pt x="599" y="260"/>
                  </a:lnTo>
                  <a:lnTo>
                    <a:pt x="602" y="253"/>
                  </a:lnTo>
                  <a:lnTo>
                    <a:pt x="602" y="246"/>
                  </a:lnTo>
                  <a:lnTo>
                    <a:pt x="602" y="36"/>
                  </a:lnTo>
                  <a:lnTo>
                    <a:pt x="602" y="29"/>
                  </a:lnTo>
                  <a:lnTo>
                    <a:pt x="599" y="22"/>
                  </a:lnTo>
                  <a:lnTo>
                    <a:pt x="591" y="10"/>
                  </a:lnTo>
                  <a:lnTo>
                    <a:pt x="578" y="3"/>
                  </a:lnTo>
                  <a:lnTo>
                    <a:pt x="571" y="1"/>
                  </a:lnTo>
                  <a:lnTo>
                    <a:pt x="564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018880" y="3502080"/>
              <a:ext cx="576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598840" y="35020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090440" y="3546360"/>
              <a:ext cx="138240" cy="138240"/>
            </a:xfrm>
            <a:prstGeom prst="ellipse">
              <a:avLst/>
            </a:prstGeom>
            <a:solidFill>
              <a:srgbClr val="000000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212840" y="3559320"/>
              <a:ext cx="565200" cy="141120"/>
              <a:chOff x="1212840" y="3559320"/>
              <a:chExt cx="565200" cy="141120"/>
            </a:xfrm>
          </p:grpSpPr>
          <p:sp>
            <p:nvSpPr>
              <p:cNvPr id="664" name=""/>
              <p:cNvSpPr/>
              <p:nvPr/>
            </p:nvSpPr>
            <p:spPr>
              <a:xfrm>
                <a:off x="1212840" y="3629160"/>
                <a:ext cx="56520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627200" y="3559320"/>
                <a:ext cx="150840" cy="141120"/>
              </a:xfrm>
              <a:custGeom>
                <a:avLst/>
                <a:gdLst/>
                <a:ahLst/>
                <a:rect l="l" t="t" r="r" b="b"/>
                <a:pathLst>
                  <a:path w="95" h="89">
                    <a:moveTo>
                      <a:pt x="0" y="89"/>
                    </a:moveTo>
                    <a:lnTo>
                      <a:pt x="95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6" name=""/>
            <p:cNvSpPr/>
            <p:nvPr/>
          </p:nvSpPr>
          <p:spPr>
            <a:xfrm>
              <a:off x="4808520" y="3411360"/>
              <a:ext cx="1203480" cy="447840"/>
            </a:xfrm>
            <a:custGeom>
              <a:avLst/>
              <a:gdLst/>
              <a:ahLst/>
              <a:rect l="l" t="t" r="r" b="b"/>
              <a:pathLst>
                <a:path w="758" h="282">
                  <a:moveTo>
                    <a:pt x="38" y="0"/>
                  </a:moveTo>
                  <a:lnTo>
                    <a:pt x="31" y="1"/>
                  </a:lnTo>
                  <a:lnTo>
                    <a:pt x="23" y="3"/>
                  </a:lnTo>
                  <a:lnTo>
                    <a:pt x="12" y="10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246"/>
                  </a:lnTo>
                  <a:lnTo>
                    <a:pt x="1" y="253"/>
                  </a:lnTo>
                  <a:lnTo>
                    <a:pt x="3" y="260"/>
                  </a:lnTo>
                  <a:lnTo>
                    <a:pt x="12" y="272"/>
                  </a:lnTo>
                  <a:lnTo>
                    <a:pt x="23" y="279"/>
                  </a:lnTo>
                  <a:lnTo>
                    <a:pt x="31" y="282"/>
                  </a:lnTo>
                  <a:lnTo>
                    <a:pt x="38" y="282"/>
                  </a:lnTo>
                  <a:lnTo>
                    <a:pt x="720" y="282"/>
                  </a:lnTo>
                  <a:lnTo>
                    <a:pt x="727" y="282"/>
                  </a:lnTo>
                  <a:lnTo>
                    <a:pt x="734" y="279"/>
                  </a:lnTo>
                  <a:lnTo>
                    <a:pt x="746" y="272"/>
                  </a:lnTo>
                  <a:lnTo>
                    <a:pt x="755" y="260"/>
                  </a:lnTo>
                  <a:lnTo>
                    <a:pt x="756" y="253"/>
                  </a:lnTo>
                  <a:lnTo>
                    <a:pt x="758" y="246"/>
                  </a:lnTo>
                  <a:lnTo>
                    <a:pt x="758" y="36"/>
                  </a:lnTo>
                  <a:lnTo>
                    <a:pt x="756" y="29"/>
                  </a:lnTo>
                  <a:lnTo>
                    <a:pt x="755" y="22"/>
                  </a:lnTo>
                  <a:lnTo>
                    <a:pt x="746" y="10"/>
                  </a:lnTo>
                  <a:lnTo>
                    <a:pt x="734" y="3"/>
                  </a:lnTo>
                  <a:lnTo>
                    <a:pt x="727" y="1"/>
                  </a:lnTo>
                  <a:lnTo>
                    <a:pt x="720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ffff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984200" y="3495600"/>
              <a:ext cx="901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NotEmpt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409360" y="374652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514840" y="37465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0" name=""/>
            <p:cNvGrpSpPr/>
            <p:nvPr/>
          </p:nvGrpSpPr>
          <p:grpSpPr>
            <a:xfrm>
              <a:off x="2719440" y="3476520"/>
              <a:ext cx="2085840" cy="141480"/>
              <a:chOff x="2719440" y="3476520"/>
              <a:chExt cx="2085840" cy="141480"/>
            </a:xfrm>
          </p:grpSpPr>
          <p:sp>
            <p:nvSpPr>
              <p:cNvPr id="671" name=""/>
              <p:cNvSpPr/>
              <p:nvPr/>
            </p:nvSpPr>
            <p:spPr>
              <a:xfrm>
                <a:off x="2719440" y="3546360"/>
                <a:ext cx="2085840" cy="180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4656240" y="3476520"/>
                <a:ext cx="149040" cy="141480"/>
              </a:xfrm>
              <a:custGeom>
                <a:avLst/>
                <a:gdLst/>
                <a:ahLst/>
                <a:rect l="l" t="t" r="r" b="b"/>
                <a:pathLst>
                  <a:path w="94" h="89">
                    <a:moveTo>
                      <a:pt x="0" y="89"/>
                    </a:moveTo>
                    <a:lnTo>
                      <a:pt x="94" y="44"/>
                    </a:lnTo>
                    <a:lnTo>
                      <a:pt x="0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2719440" y="3625920"/>
              <a:ext cx="2085840" cy="141120"/>
              <a:chOff x="2719440" y="3625920"/>
              <a:chExt cx="2085840" cy="141120"/>
            </a:xfrm>
          </p:grpSpPr>
          <p:sp>
            <p:nvSpPr>
              <p:cNvPr id="674" name=""/>
              <p:cNvSpPr/>
              <p:nvPr/>
            </p:nvSpPr>
            <p:spPr>
              <a:xfrm flipH="1">
                <a:off x="2719440" y="3695760"/>
                <a:ext cx="2085840" cy="1440"/>
              </a:xfrm>
              <a:prstGeom prst="line">
                <a:avLst/>
              </a:prstGeom>
              <a:ln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2719440" y="3625920"/>
                <a:ext cx="154080" cy="141120"/>
              </a:xfrm>
              <a:custGeom>
                <a:avLst/>
                <a:gdLst/>
                <a:ahLst/>
                <a:rect l="l" t="t" r="r" b="b"/>
                <a:pathLst>
                  <a:path w="97" h="89">
                    <a:moveTo>
                      <a:pt x="97" y="0"/>
                    </a:moveTo>
                    <a:lnTo>
                      <a:pt x="0" y="46"/>
                    </a:lnTo>
                    <a:lnTo>
                      <a:pt x="97" y="89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6" name=""/>
            <p:cNvSpPr/>
            <p:nvPr/>
          </p:nvSpPr>
          <p:spPr>
            <a:xfrm>
              <a:off x="5437080" y="2685960"/>
              <a:ext cx="145116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646600" y="2751120"/>
              <a:ext cx="34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Top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999040" y="27511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159600" y="3881520"/>
              <a:ext cx="145080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409080" y="394668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367400" y="39466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6440" y="4559400"/>
              <a:ext cx="467820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308480" y="4624560"/>
              <a:ext cx="3224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more than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564320" y="462456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8160" y="3216240"/>
              <a:ext cx="1451160" cy="35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527640" y="3281400"/>
              <a:ext cx="947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ush(item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86320" y="32814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97040" y="3743280"/>
              <a:ext cx="358164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930400" y="3809880"/>
              <a:ext cx="229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Pop[stack contains 1 item]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5256000" y="380988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1" name=""/>
            <p:cNvGrpSpPr/>
            <p:nvPr/>
          </p:nvGrpSpPr>
          <p:grpSpPr>
            <a:xfrm>
              <a:off x="4970520" y="2836800"/>
              <a:ext cx="619200" cy="574560"/>
              <a:chOff x="4970520" y="2836800"/>
              <a:chExt cx="619200" cy="574560"/>
            </a:xfrm>
          </p:grpSpPr>
          <p:sp>
            <p:nvSpPr>
              <p:cNvPr id="692" name=""/>
              <p:cNvSpPr/>
              <p:nvPr/>
            </p:nvSpPr>
            <p:spPr>
              <a:xfrm>
                <a:off x="4970520" y="2836800"/>
                <a:ext cx="619200" cy="574560"/>
              </a:xfrm>
              <a:custGeom>
                <a:avLst/>
                <a:gdLst/>
                <a:ahLst/>
                <a:rect l="l" t="t" r="r" b="b"/>
                <a:pathLst>
                  <a:path w="390" h="362">
                    <a:moveTo>
                      <a:pt x="206" y="362"/>
                    </a:moveTo>
                    <a:lnTo>
                      <a:pt x="151" y="347"/>
                    </a:lnTo>
                    <a:lnTo>
                      <a:pt x="124" y="339"/>
                    </a:lnTo>
                    <a:lnTo>
                      <a:pt x="99" y="329"/>
                    </a:lnTo>
                    <a:lnTo>
                      <a:pt x="76" y="319"/>
                    </a:lnTo>
                    <a:lnTo>
                      <a:pt x="56" y="307"/>
                    </a:lnTo>
                    <a:lnTo>
                      <a:pt x="38" y="292"/>
                    </a:lnTo>
                    <a:lnTo>
                      <a:pt x="24" y="276"/>
                    </a:lnTo>
                    <a:lnTo>
                      <a:pt x="13" y="255"/>
                    </a:lnTo>
                    <a:lnTo>
                      <a:pt x="6" y="232"/>
                    </a:lnTo>
                    <a:lnTo>
                      <a:pt x="2" y="206"/>
                    </a:lnTo>
                    <a:lnTo>
                      <a:pt x="0" y="177"/>
                    </a:lnTo>
                    <a:lnTo>
                      <a:pt x="0" y="150"/>
                    </a:lnTo>
                    <a:lnTo>
                      <a:pt x="3" y="124"/>
                    </a:lnTo>
                    <a:lnTo>
                      <a:pt x="7" y="99"/>
                    </a:lnTo>
                    <a:lnTo>
                      <a:pt x="10" y="89"/>
                    </a:lnTo>
                    <a:lnTo>
                      <a:pt x="15" y="80"/>
                    </a:lnTo>
                    <a:lnTo>
                      <a:pt x="25" y="63"/>
                    </a:lnTo>
                    <a:lnTo>
                      <a:pt x="38" y="48"/>
                    </a:lnTo>
                    <a:lnTo>
                      <a:pt x="54" y="36"/>
                    </a:lnTo>
                    <a:lnTo>
                      <a:pt x="72" y="26"/>
                    </a:lnTo>
                    <a:lnTo>
                      <a:pt x="91" y="17"/>
                    </a:lnTo>
                    <a:lnTo>
                      <a:pt x="111" y="10"/>
                    </a:lnTo>
                    <a:lnTo>
                      <a:pt x="132" y="6"/>
                    </a:lnTo>
                    <a:lnTo>
                      <a:pt x="152" y="2"/>
                    </a:lnTo>
                    <a:lnTo>
                      <a:pt x="174" y="0"/>
                    </a:lnTo>
                    <a:lnTo>
                      <a:pt x="197" y="2"/>
                    </a:lnTo>
                    <a:lnTo>
                      <a:pt x="222" y="5"/>
                    </a:lnTo>
                    <a:lnTo>
                      <a:pt x="248" y="10"/>
                    </a:lnTo>
                    <a:lnTo>
                      <a:pt x="273" y="17"/>
                    </a:lnTo>
                    <a:lnTo>
                      <a:pt x="297" y="25"/>
                    </a:lnTo>
                    <a:lnTo>
                      <a:pt x="317" y="35"/>
                    </a:lnTo>
                    <a:lnTo>
                      <a:pt x="335" y="46"/>
                    </a:lnTo>
                    <a:lnTo>
                      <a:pt x="349" y="59"/>
                    </a:lnTo>
                    <a:lnTo>
                      <a:pt x="361" y="74"/>
                    </a:lnTo>
                    <a:lnTo>
                      <a:pt x="371" y="92"/>
                    </a:lnTo>
                    <a:lnTo>
                      <a:pt x="380" y="110"/>
                    </a:lnTo>
                    <a:lnTo>
                      <a:pt x="386" y="130"/>
                    </a:lnTo>
                    <a:lnTo>
                      <a:pt x="389" y="151"/>
                    </a:lnTo>
                    <a:lnTo>
                      <a:pt x="390" y="172"/>
                    </a:lnTo>
                    <a:lnTo>
                      <a:pt x="389" y="191"/>
                    </a:lnTo>
                    <a:lnTo>
                      <a:pt x="384" y="211"/>
                    </a:lnTo>
                    <a:lnTo>
                      <a:pt x="377" y="232"/>
                    </a:lnTo>
                    <a:lnTo>
                      <a:pt x="365" y="252"/>
                    </a:lnTo>
                    <a:lnTo>
                      <a:pt x="354" y="274"/>
                    </a:lnTo>
                    <a:lnTo>
                      <a:pt x="339" y="296"/>
                    </a:lnTo>
                    <a:lnTo>
                      <a:pt x="323" y="318"/>
                    </a:lnTo>
                    <a:lnTo>
                      <a:pt x="289" y="36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432400" y="3254400"/>
                <a:ext cx="147600" cy="1569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14" y="0"/>
                    </a:moveTo>
                    <a:lnTo>
                      <a:pt x="0" y="99"/>
                    </a:lnTo>
                    <a:lnTo>
                      <a:pt x="93" y="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4" name=""/>
            <p:cNvGrpSpPr/>
            <p:nvPr/>
          </p:nvGrpSpPr>
          <p:grpSpPr>
            <a:xfrm>
              <a:off x="6008760" y="3295800"/>
              <a:ext cx="598320" cy="604800"/>
              <a:chOff x="6008760" y="3295800"/>
              <a:chExt cx="598320" cy="604800"/>
            </a:xfrm>
          </p:grpSpPr>
          <p:sp>
            <p:nvSpPr>
              <p:cNvPr id="695" name=""/>
              <p:cNvSpPr/>
              <p:nvPr/>
            </p:nvSpPr>
            <p:spPr>
              <a:xfrm>
                <a:off x="6008760" y="3295800"/>
                <a:ext cx="598320" cy="604800"/>
              </a:xfrm>
              <a:custGeom>
                <a:avLst/>
                <a:gdLst/>
                <a:ahLst/>
                <a:rect l="l" t="t" r="r" b="b"/>
                <a:pathLst>
                  <a:path w="377" h="381">
                    <a:moveTo>
                      <a:pt x="0" y="150"/>
                    </a:moveTo>
                    <a:lnTo>
                      <a:pt x="41" y="102"/>
                    </a:lnTo>
                    <a:lnTo>
                      <a:pt x="62" y="80"/>
                    </a:lnTo>
                    <a:lnTo>
                      <a:pt x="82" y="59"/>
                    </a:lnTo>
                    <a:lnTo>
                      <a:pt x="103" y="40"/>
                    </a:lnTo>
                    <a:lnTo>
                      <a:pt x="123" y="25"/>
                    </a:lnTo>
                    <a:lnTo>
                      <a:pt x="143" y="13"/>
                    </a:lnTo>
                    <a:lnTo>
                      <a:pt x="164" y="4"/>
                    </a:lnTo>
                    <a:lnTo>
                      <a:pt x="186" y="0"/>
                    </a:lnTo>
                    <a:lnTo>
                      <a:pt x="209" y="2"/>
                    </a:lnTo>
                    <a:lnTo>
                      <a:pt x="234" y="4"/>
                    </a:lnTo>
                    <a:lnTo>
                      <a:pt x="259" y="11"/>
                    </a:lnTo>
                    <a:lnTo>
                      <a:pt x="282" y="20"/>
                    </a:lnTo>
                    <a:lnTo>
                      <a:pt x="304" y="30"/>
                    </a:lnTo>
                    <a:lnTo>
                      <a:pt x="323" y="43"/>
                    </a:lnTo>
                    <a:lnTo>
                      <a:pt x="338" y="55"/>
                    </a:lnTo>
                    <a:lnTo>
                      <a:pt x="349" y="70"/>
                    </a:lnTo>
                    <a:lnTo>
                      <a:pt x="360" y="87"/>
                    </a:lnTo>
                    <a:lnTo>
                      <a:pt x="367" y="106"/>
                    </a:lnTo>
                    <a:lnTo>
                      <a:pt x="373" y="126"/>
                    </a:lnTo>
                    <a:lnTo>
                      <a:pt x="376" y="147"/>
                    </a:lnTo>
                    <a:lnTo>
                      <a:pt x="377" y="169"/>
                    </a:lnTo>
                    <a:lnTo>
                      <a:pt x="377" y="189"/>
                    </a:lnTo>
                    <a:lnTo>
                      <a:pt x="374" y="210"/>
                    </a:lnTo>
                    <a:lnTo>
                      <a:pt x="370" y="230"/>
                    </a:lnTo>
                    <a:lnTo>
                      <a:pt x="363" y="254"/>
                    </a:lnTo>
                    <a:lnTo>
                      <a:pt x="352" y="278"/>
                    </a:lnTo>
                    <a:lnTo>
                      <a:pt x="342" y="302"/>
                    </a:lnTo>
                    <a:lnTo>
                      <a:pt x="329" y="325"/>
                    </a:lnTo>
                    <a:lnTo>
                      <a:pt x="314" y="345"/>
                    </a:lnTo>
                    <a:lnTo>
                      <a:pt x="298" y="362"/>
                    </a:lnTo>
                    <a:lnTo>
                      <a:pt x="291" y="367"/>
                    </a:lnTo>
                    <a:lnTo>
                      <a:pt x="282" y="373"/>
                    </a:lnTo>
                    <a:lnTo>
                      <a:pt x="265" y="378"/>
                    </a:lnTo>
                    <a:lnTo>
                      <a:pt x="243" y="381"/>
                    </a:lnTo>
                    <a:lnTo>
                      <a:pt x="221" y="380"/>
                    </a:lnTo>
                    <a:lnTo>
                      <a:pt x="198" y="376"/>
                    </a:lnTo>
                    <a:lnTo>
                      <a:pt x="174" y="369"/>
                    </a:lnTo>
                    <a:lnTo>
                      <a:pt x="151" y="362"/>
                    </a:lnTo>
                    <a:lnTo>
                      <a:pt x="129" y="355"/>
                    </a:lnTo>
                    <a:lnTo>
                      <a:pt x="110" y="347"/>
                    </a:lnTo>
                    <a:lnTo>
                      <a:pt x="92" y="339"/>
                    </a:lnTo>
                    <a:lnTo>
                      <a:pt x="76" y="329"/>
                    </a:lnTo>
                    <a:lnTo>
                      <a:pt x="49" y="306"/>
                    </a:lnTo>
                    <a:lnTo>
                      <a:pt x="24" y="280"/>
                    </a:lnTo>
                    <a:lnTo>
                      <a:pt x="0" y="25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6012000" y="3699000"/>
                <a:ext cx="155520" cy="152280"/>
              </a:xfrm>
              <a:custGeom>
                <a:avLst/>
                <a:gdLst/>
                <a:ahLst/>
                <a:rect l="l" t="t" r="r" b="b"/>
                <a:pathLst>
                  <a:path w="98" h="96">
                    <a:moveTo>
                      <a:pt x="98" y="37"/>
                    </a:moveTo>
                    <a:lnTo>
                      <a:pt x="0" y="0"/>
                    </a:lnTo>
                    <a:lnTo>
                      <a:pt x="26" y="96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7" name=""/>
            <p:cNvGrpSpPr/>
            <p:nvPr/>
          </p:nvGrpSpPr>
          <p:grpSpPr>
            <a:xfrm>
              <a:off x="4910040" y="3857760"/>
              <a:ext cx="790560" cy="733320"/>
              <a:chOff x="4910040" y="3857760"/>
              <a:chExt cx="790560" cy="733320"/>
            </a:xfrm>
          </p:grpSpPr>
          <p:sp>
            <p:nvSpPr>
              <p:cNvPr id="698" name=""/>
              <p:cNvSpPr/>
              <p:nvPr/>
            </p:nvSpPr>
            <p:spPr>
              <a:xfrm>
                <a:off x="4910040" y="3859200"/>
                <a:ext cx="790560" cy="731880"/>
              </a:xfrm>
              <a:custGeom>
                <a:avLst/>
                <a:gdLst/>
                <a:ahLst/>
                <a:rect l="l" t="t" r="r" b="b"/>
                <a:pathLst>
                  <a:path w="498" h="461">
                    <a:moveTo>
                      <a:pt x="181" y="0"/>
                    </a:moveTo>
                    <a:lnTo>
                      <a:pt x="124" y="37"/>
                    </a:lnTo>
                    <a:lnTo>
                      <a:pt x="98" y="55"/>
                    </a:lnTo>
                    <a:lnTo>
                      <a:pt x="73" y="74"/>
                    </a:lnTo>
                    <a:lnTo>
                      <a:pt x="50" y="94"/>
                    </a:lnTo>
                    <a:lnTo>
                      <a:pt x="32" y="116"/>
                    </a:lnTo>
                    <a:lnTo>
                      <a:pt x="18" y="138"/>
                    </a:lnTo>
                    <a:lnTo>
                      <a:pt x="8" y="163"/>
                    </a:lnTo>
                    <a:lnTo>
                      <a:pt x="2" y="190"/>
                    </a:lnTo>
                    <a:lnTo>
                      <a:pt x="0" y="222"/>
                    </a:lnTo>
                    <a:lnTo>
                      <a:pt x="2" y="255"/>
                    </a:lnTo>
                    <a:lnTo>
                      <a:pt x="8" y="289"/>
                    </a:lnTo>
                    <a:lnTo>
                      <a:pt x="16" y="323"/>
                    </a:lnTo>
                    <a:lnTo>
                      <a:pt x="29" y="353"/>
                    </a:lnTo>
                    <a:lnTo>
                      <a:pt x="44" y="381"/>
                    </a:lnTo>
                    <a:lnTo>
                      <a:pt x="53" y="393"/>
                    </a:lnTo>
                    <a:lnTo>
                      <a:pt x="62" y="403"/>
                    </a:lnTo>
                    <a:lnTo>
                      <a:pt x="72" y="411"/>
                    </a:lnTo>
                    <a:lnTo>
                      <a:pt x="85" y="419"/>
                    </a:lnTo>
                    <a:lnTo>
                      <a:pt x="114" y="434"/>
                    </a:lnTo>
                    <a:lnTo>
                      <a:pt x="146" y="445"/>
                    </a:lnTo>
                    <a:lnTo>
                      <a:pt x="183" y="455"/>
                    </a:lnTo>
                    <a:lnTo>
                      <a:pt x="219" y="460"/>
                    </a:lnTo>
                    <a:lnTo>
                      <a:pt x="254" y="461"/>
                    </a:lnTo>
                    <a:lnTo>
                      <a:pt x="288" y="459"/>
                    </a:lnTo>
                    <a:lnTo>
                      <a:pt x="317" y="453"/>
                    </a:lnTo>
                    <a:lnTo>
                      <a:pt x="330" y="449"/>
                    </a:lnTo>
                    <a:lnTo>
                      <a:pt x="345" y="442"/>
                    </a:lnTo>
                    <a:lnTo>
                      <a:pt x="358" y="434"/>
                    </a:lnTo>
                    <a:lnTo>
                      <a:pt x="371" y="425"/>
                    </a:lnTo>
                    <a:lnTo>
                      <a:pt x="397" y="404"/>
                    </a:lnTo>
                    <a:lnTo>
                      <a:pt x="422" y="378"/>
                    </a:lnTo>
                    <a:lnTo>
                      <a:pt x="446" y="352"/>
                    </a:lnTo>
                    <a:lnTo>
                      <a:pt x="465" y="325"/>
                    </a:lnTo>
                    <a:lnTo>
                      <a:pt x="481" y="299"/>
                    </a:lnTo>
                    <a:lnTo>
                      <a:pt x="491" y="274"/>
                    </a:lnTo>
                    <a:lnTo>
                      <a:pt x="497" y="251"/>
                    </a:lnTo>
                    <a:lnTo>
                      <a:pt x="498" y="227"/>
                    </a:lnTo>
                    <a:lnTo>
                      <a:pt x="495" y="203"/>
                    </a:lnTo>
                    <a:lnTo>
                      <a:pt x="489" y="178"/>
                    </a:lnTo>
                    <a:lnTo>
                      <a:pt x="481" y="155"/>
                    </a:lnTo>
                    <a:lnTo>
                      <a:pt x="470" y="133"/>
                    </a:lnTo>
                    <a:lnTo>
                      <a:pt x="459" y="112"/>
                    </a:lnTo>
                    <a:lnTo>
                      <a:pt x="446" y="94"/>
                    </a:lnTo>
                    <a:lnTo>
                      <a:pt x="432" y="78"/>
                    </a:lnTo>
                    <a:lnTo>
                      <a:pt x="416" y="64"/>
                    </a:lnTo>
                    <a:lnTo>
                      <a:pt x="397" y="51"/>
                    </a:lnTo>
                    <a:lnTo>
                      <a:pt x="378" y="40"/>
                    </a:lnTo>
                    <a:lnTo>
                      <a:pt x="336" y="19"/>
                    </a:lnTo>
                    <a:lnTo>
                      <a:pt x="291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372280" y="3857760"/>
                <a:ext cx="171360" cy="129960"/>
              </a:xfrm>
              <a:custGeom>
                <a:avLst/>
                <a:gdLst/>
                <a:ahLst/>
                <a:rect l="l" t="t" r="r" b="b"/>
                <a:pathLst>
                  <a:path w="108" h="82">
                    <a:moveTo>
                      <a:pt x="108" y="0"/>
                    </a:moveTo>
                    <a:lnTo>
                      <a:pt x="0" y="1"/>
                    </a:lnTo>
                    <a:lnTo>
                      <a:pt x="66" y="82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F743-A280-4446-A4A7-EE2C17AFBCEF}" type="slidenum">
              <a:t>1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zing logic specifications: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 specified by describing state space, using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Z shem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perties of state space described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varia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edic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dicates written in first-order log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s define state transform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FBE5-505C-4D6D-BB9F-98FE4AE4F25F}" type="slidenum">
              <a:t>1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elevator example in Z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"/>
          <a:stretch/>
        </p:blipFill>
        <p:spPr>
          <a:xfrm>
            <a:off x="1600200" y="762120"/>
            <a:ext cx="535608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DE9C-D67C-4262-A480-CDE2D9C12953}" type="slidenum">
              <a:t>1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5" name="" descr=""/>
          <p:cNvPicPr/>
          <p:nvPr/>
        </p:nvPicPr>
        <p:blipFill>
          <a:blip r:embed="rId1"/>
          <a:stretch/>
        </p:blipFill>
        <p:spPr>
          <a:xfrm>
            <a:off x="533520" y="2590920"/>
            <a:ext cx="7308720" cy="192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3825-483F-4DB9-B81B-52D99A2F1E44}" type="slidenum">
              <a:t>1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ttempt #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533520" y="2017800"/>
            <a:ext cx="7619760" cy="4478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AE2C-CACD-4034-ACBA-1E19921E8385}" type="slidenum">
              <a:t>1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lete state spac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"/>
          <a:stretch/>
        </p:blipFill>
        <p:spPr>
          <a:xfrm>
            <a:off x="1143000" y="1389240"/>
            <a:ext cx="6705720" cy="482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43EA-D1C4-4552-BCC9-199B4EB24987}" type="slidenum">
              <a:t>1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2819520" y="152280"/>
            <a:ext cx="4419360" cy="6486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5748-BE1B-47EB-952B-ABFBE5FBA5EF}" type="slidenum">
              <a:t>1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2411280" y="111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z5(2)" descr=""/>
          <p:cNvPicPr/>
          <p:nvPr/>
        </p:nvPicPr>
        <p:blipFill>
          <a:blip r:embed="rId1"/>
          <a:stretch/>
        </p:blipFill>
        <p:spPr>
          <a:xfrm>
            <a:off x="3200400" y="228600"/>
            <a:ext cx="5481720" cy="5867280"/>
          </a:xfrm>
          <a:prstGeom prst="rect">
            <a:avLst/>
          </a:prstGeom>
          <a:ln w="0">
            <a:noFill/>
          </a:ln>
        </p:spPr>
      </p:pic>
      <p:sp>
        <p:nvSpPr>
          <p:cNvPr id="714" name=""/>
          <p:cNvSpPr/>
          <p:nvPr/>
        </p:nvSpPr>
        <p:spPr>
          <a:xfrm>
            <a:off x="438480" y="2658960"/>
            <a:ext cx="2320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pe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3972-E6BC-4CB9-983F-ABFBC950AF22}" type="slidenum">
              <a:t>1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pecification sty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l, semi-formal, form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on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specification in terms of some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havior described in terms of proper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5B52-70DA-49C0-8EB4-F6E31D7269A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s for the    end-us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s should be used as common reference for producer and us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help removing ambiguity, incompleteness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they be understood by end-user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the starting point for a proto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support some form of animation (e.g., see Petri ne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B843-73AB-4767-8346-230727784EB7}" type="slidenum">
              <a:t>1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cations describ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at the users need from a system (requirements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design of a software system (design and architectur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eatures offered by a system (functional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performance characteristics of a system (performance specific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xternal behavior of a module (module interface specification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ternal structure of a module (internal structural specification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76A0-A88C-404A-8D6A-4B173EDD5A63}" type="slidenum">
              <a:t>1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lusion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criptions are given via suitable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“ideal” no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ust be 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support communication and interaction between designers and us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3CC2-94DD-4824-B9F7-7B1F73B942F0}" type="slidenum">
              <a:t>1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cification of a geometric figure 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1050840" y="2438280"/>
            <a:ext cx="7102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can be drawn as follow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lect two points P1 and P2 on a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et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 string of a certain length and fix its ends to P1 and P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osition a pencil as shown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xt fig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ve the pen clockwise, keeping the string tightly stretched, until you reach the point where you started dra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36800" y="5562720"/>
            <a:ext cx="481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his is an operation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8784-10BC-4B91-B3D8-33786862DCF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132000" y="2610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003720" cy="3416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D786-3F1D-4DF4-B4B5-F8479DDAA5F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scriptive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Geometric figure E is describe by the following equ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x2 + by2 + c = 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 a, b, and c are suitable consta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F2D-C06F-4AD6-B6FD-A148CA48CC0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Let a be an array of n elements. The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result of its sorting is an array b of n elements such that the first element of b is the minimum of a (if several elements of a have the same value, any one of them is acceptable); the second element of b is the minimum of the array of n-1 elements obtained from a by removing its minimum element; and so on until all n elements of a have been removed.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5181480"/>
            <a:ext cx="7467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result of sorting array a is an array b which is a permutation of a and is sorted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4920" y="5257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87640" y="2362320"/>
            <a:ext cx="60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4760" y="551988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2694-A3D0-4CB9-95E2-8A691F5555D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verify a specificatio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e” dynamic behavior of specified system (simulation, prototyping, “testing” spec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yze properties of the specified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alogy with traditional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thematical model of a 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664-B056-44C2-A551-A37887D403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of the term "specification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specif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al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Data Flow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(Some)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UML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Finite State Mach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tri Nets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Entity Relationship Diagram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Arial"/>
              </a:rPr>
              <a:t>L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Arial"/>
              </a:rPr>
              <a:t>ogic-based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lgebraic no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guages for modular specification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cha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D03F-8602-46D2-9D54-BA4375DC5A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ata Flow Diagrams (DFD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A semi-formal operational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System viewed as collection of data manipulated by “functions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be per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stored in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reposito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ata can flow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y are represented by </a:t>
            </a:r>
            <a:r>
              <a:rPr b="0" i="1" lang="en-AU" sz="2800" spc="-1" strike="noStrike">
                <a:solidFill>
                  <a:srgbClr val="000000"/>
                </a:solidFill>
                <a:latin typeface="Tahoma"/>
              </a:rPr>
              <a:t>data fl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DFDs have a graphica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098-CA47-443B-BFD3-60B2BA7FEF8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raphical no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bubbl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arc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data flow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open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persistent st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closed boxes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 represent I/O inte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2614680" y="2976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914400" y="4191120"/>
            <a:ext cx="7574040" cy="175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B8B-8E6F-4D7C-B3D4-276B9394BC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262908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762120" y="1066680"/>
            <a:ext cx="6096240" cy="5378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2920" y="2819520"/>
            <a:ext cx="3361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es evaluat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a + b) * (c + a * d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DD8DF-E0F7-4D13-8C41-0A882D79EF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447920" y="3048120"/>
          <a:ext cx="6345000" cy="23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3048120"/>
                    <a:ext cx="634500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"/>
          <p:cNvSpPr/>
          <p:nvPr/>
        </p:nvSpPr>
        <p:spPr>
          <a:xfrm>
            <a:off x="1444320" y="1817640"/>
            <a:ext cx="686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. Start from the “context”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939-49AF-414E-836D-1C39331FDA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struction “method”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2133720"/>
          <a:ext cx="5867640" cy="44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133720"/>
                    <a:ext cx="586764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685800" y="91440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0960" indent="-480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2. Proceed by refinements until you reach        “elementary” functions (preserve balanc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2C30-46FF-4C7B-B1B9-800DAE4776F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library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371600" y="1027080"/>
          <a:ext cx="6248520" cy="551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027080"/>
                    <a:ext cx="6248520" cy="551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12BF-DDA2-4592-83D2-6F316CEAFA9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Refinement of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“Get a book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66680" y="1371600"/>
          <a:ext cx="7239240" cy="4751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71600"/>
                    <a:ext cx="723924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9A2B-528C-4525-B981-CED3E99475B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atient monitoring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527400" y="1219320"/>
            <a:ext cx="834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urpose is to monitor the patients’ vital factors--bloo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sure, temperature, …--reading them at specified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rom analog devices and storing readings in a DB. If readings f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tside the range specified for patient or device fails an alar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st be sent to a nurse. The system also provides repor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1523880" y="3352680"/>
          <a:ext cx="6324840" cy="305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3352680"/>
                    <a:ext cx="6324840" cy="30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98C-2CC5-4372-B636-7E6DAF4D1A5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685800" y="914400"/>
          <a:ext cx="8039160" cy="513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914400"/>
                    <a:ext cx="8039160" cy="513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0D8A-AFF8-401A-8D78-8D7F2E6406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1371600"/>
          <a:ext cx="8001000" cy="46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01000" cy="46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AE9-533A-45E8-ACD6-8C631D5A278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road term that mean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efini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at different stages of software development for different purpo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ly, a statement of agreement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ntra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betwe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r and consumer of a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r and u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l desirable qualities must be spec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31305-D13C-4985-B83A-49AB01E5420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read, but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 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 to define leaf funct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herent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609480" y="3200400"/>
          <a:ext cx="3936960" cy="261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3936960" cy="26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03960" y="3962520"/>
            <a:ext cx="504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rom A, B, C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eed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puts for E and F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d at the same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EAE-D80D-46B8-B477-91F06896F31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valuation of DFD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information is abs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819520" y="2743200"/>
          <a:ext cx="2895480" cy="676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743200"/>
                    <a:ext cx="28954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542880" y="3538440"/>
            <a:ext cx="7959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interpret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a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duces datum, waits until B consumes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b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an read the datum many times with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in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c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ipe is inserted between A and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3DCAE-84F7-4398-90FA-BB20C708A6D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ormalization/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ormaliz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have been attempts 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tend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FDs (e.g., for real-time system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7004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133720" y="3809880"/>
            <a:ext cx="2976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1982-9610-4E5B-A8E3-92C08DBA328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use-cas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 functions on basis of actors and a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2171880" y="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1339560" y="2103480"/>
            <a:ext cx="6051960" cy="3882960"/>
            <a:chOff x="1339560" y="2103480"/>
            <a:chExt cx="6051960" cy="3882960"/>
          </a:xfrm>
        </p:grpSpPr>
        <p:sp>
          <p:nvSpPr>
            <p:cNvPr id="145" name=""/>
            <p:cNvSpPr/>
            <p:nvPr/>
          </p:nvSpPr>
          <p:spPr>
            <a:xfrm>
              <a:off x="1339560" y="21034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84360" y="4040280"/>
              <a:ext cx="187560" cy="1983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581200" y="42307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451240" y="4381560"/>
              <a:ext cx="2584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6840" y="4545000"/>
              <a:ext cx="266760" cy="20016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56120" y="4051440"/>
              <a:ext cx="187560" cy="201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52960" y="4245120"/>
              <a:ext cx="1800" cy="31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23000" y="4395960"/>
              <a:ext cx="2588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08600" y="4559400"/>
              <a:ext cx="266760" cy="199800"/>
            </a:xfrm>
            <a:custGeom>
              <a:avLst/>
              <a:gdLst/>
              <a:ahLst/>
              <a:rect l="l" t="t" r="r" b="b"/>
              <a:pathLst>
                <a:path w="168" h="126">
                  <a:moveTo>
                    <a:pt x="168" y="126"/>
                  </a:moveTo>
                  <a:lnTo>
                    <a:pt x="91" y="0"/>
                  </a:lnTo>
                  <a:lnTo>
                    <a:pt x="0" y="126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8400" y="2765520"/>
              <a:ext cx="2428920" cy="322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3360" y="2921040"/>
              <a:ext cx="1224000" cy="804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952080" y="3087720"/>
              <a:ext cx="637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rrow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34880" y="332424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433760" y="332424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3978360"/>
              <a:ext cx="1222560" cy="8031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008960" y="4148280"/>
              <a:ext cx="535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return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42800" y="4387680"/>
              <a:ext cx="40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oo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443120" y="438768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02160" y="4976640"/>
              <a:ext cx="1222200" cy="803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01760" y="5143680"/>
              <a:ext cx="592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y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01760" y="5380200"/>
              <a:ext cx="543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upd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530600" y="5380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2792520" y="3505320"/>
              <a:ext cx="836640" cy="745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00440" y="4416480"/>
              <a:ext cx="77292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flipV="1">
              <a:off x="4745160" y="3470400"/>
              <a:ext cx="1008000" cy="82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4779720" y="4441680"/>
              <a:ext cx="911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4807080" y="4676760"/>
              <a:ext cx="898560" cy="58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7800" y="4383000"/>
              <a:ext cx="1233720" cy="123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347880" y="4451400"/>
              <a:ext cx="687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libraria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21440" y="44514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805040" y="4745160"/>
              <a:ext cx="1233360" cy="1233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996200" y="4813200"/>
              <a:ext cx="74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725560" y="4813200"/>
              <a:ext cx="51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A508-7193-48DC-B771-358377461C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sequence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 how objects interact by exchanging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 a dynamic vie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1828800" y="13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8229600" cy="6319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8F1F-B522-4AC5-B6F7-73B3BD024A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collaboration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ive object interactions and their or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ivalent to sequence diagra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252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-838080" y="2895480"/>
            <a:ext cx="1135368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0D46-2355-4E78-8F54-1D6CA803525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ite state machines (FSM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769644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specify control flow asp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84480" y="2971800"/>
            <a:ext cx="619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14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states, Q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finite set of inputs,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ransition function d : Q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 can be a partial func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14880" y="23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181480" y="3747960"/>
            <a:ext cx="3048120" cy="253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158B-C195-46EE-98E7-60A96BB9B0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lam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"/>
          <p:cNvSpPr/>
          <p:nvPr/>
        </p:nvSpPr>
        <p:spPr>
          <a:xfrm>
            <a:off x="348624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1828800" y="1932120"/>
            <a:ext cx="5181480" cy="318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391C-ED7F-4928-99FA-41DA17B9BA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other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lant control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600200" y="2133720"/>
          <a:ext cx="541008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133720"/>
                    <a:ext cx="541008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4B82-0046-4AA5-ADA1-1592E40E319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371600"/>
          <a:ext cx="6629400" cy="427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371600"/>
                    <a:ext cx="6629400" cy="427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CD11-DE36-4805-9301-51607DA589C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ment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jor failures occur because of misunderstandings between the producer and the use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The hardest single part of building a softwa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system is deciding precisely what to buil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" (F. Brook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C76C-F1E9-4803-A183-CB1A2A785F2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es of FS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terministic/nondeterminist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final st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SMs as transduc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oduce set of outp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4025-1BD5-453C-80C2-D8D144A2EEC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/>
          <p:nvPr/>
        </p:nvSpPr>
        <p:spPr>
          <a:xfrm>
            <a:off x="2522520" y="2633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1066680" y="2286000"/>
            <a:ext cx="7155000" cy="27795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2978640" y="5334120"/>
            <a:ext cx="237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ahoma"/>
              </a:rPr>
              <a:t>f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is a fin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7B6D-3F5C-4F4E-BB7F-6467F5742C1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SMs as recogniz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/>
          <p:nvPr/>
        </p:nvSpPr>
        <p:spPr>
          <a:xfrm>
            <a:off x="2846520" y="1943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676520" y="1295280"/>
            <a:ext cx="5943600" cy="5118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E8DF-B847-4239-9F35-701D83E43ED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ite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explo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a number of FSMs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…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s, their composition is a FSM with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*… *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.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rowth is exponential with the number of FSMs, not linear (we would like it to be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+… + 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688-FBED-46DA-85A0-6F024AB70AC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 explosion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057400" y="1371600"/>
          <a:ext cx="4875120" cy="517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371600"/>
                    <a:ext cx="4875120" cy="517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FEC9-61C8-4877-B19E-3B2E700F314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resulting F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"/>
          <p:cNvSpPr/>
          <p:nvPr/>
        </p:nvSpPr>
        <p:spPr>
          <a:xfrm>
            <a:off x="2789280" y="21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295280" y="1143000"/>
            <a:ext cx="662940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9320-C8A1-49D3-A07F-DD972BD30EA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 quadruple (P,T,F,W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: places  T: transitions (P, T are finite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F: flow rela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P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}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{T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                             W: weight function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W: F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 – {0}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roperties: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1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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=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2) 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Ø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3)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P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)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(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(4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W: F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N-{0}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ault value of W is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 defined by marking: 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: P </a:t>
            </a:r>
            <a:r>
              <a:rPr b="0" lang="it-IT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5407-955D-4340-8E84-8920BB5BFA9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"/>
          <p:cNvGraphicFramePr/>
          <p:nvPr/>
        </p:nvGraphicFramePr>
        <p:xfrm>
          <a:off x="1143000" y="914400"/>
          <a:ext cx="6172200" cy="471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914400"/>
                    <a:ext cx="6172200" cy="47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1219320" y="1981080"/>
            <a:ext cx="6400800" cy="4533840"/>
            <a:chOff x="1219320" y="1981080"/>
            <a:chExt cx="6400800" cy="4533840"/>
          </a:xfrm>
        </p:grpSpPr>
        <p:sp>
          <p:nvSpPr>
            <p:cNvPr id="222" name=""/>
            <p:cNvSpPr/>
            <p:nvPr/>
          </p:nvSpPr>
          <p:spPr>
            <a:xfrm>
              <a:off x="26701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32320" y="3143160"/>
              <a:ext cx="5857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321000" y="4491000"/>
              <a:ext cx="687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3090960" y="3986280"/>
              <a:ext cx="536400" cy="458640"/>
              <a:chOff x="3090960" y="3986280"/>
              <a:chExt cx="536400" cy="4586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74360" y="4307400"/>
                <a:ext cx="153000" cy="137520"/>
              </a:xfrm>
              <a:custGeom>
                <a:avLst/>
                <a:gdLst/>
                <a:ahLst/>
                <a:rect l="l" t="t" r="r" b="b"/>
                <a:pathLst>
                  <a:path w="120" h="120">
                    <a:moveTo>
                      <a:pt x="120" y="120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090960" y="3986280"/>
                <a:ext cx="408960" cy="36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3807000" y="3943440"/>
              <a:ext cx="508680" cy="501120"/>
              <a:chOff x="3807000" y="3943440"/>
              <a:chExt cx="508680" cy="501120"/>
            </a:xfrm>
          </p:grpSpPr>
          <p:sp>
            <p:nvSpPr>
              <p:cNvPr id="229" name=""/>
              <p:cNvSpPr/>
              <p:nvPr/>
            </p:nvSpPr>
            <p:spPr>
              <a:xfrm>
                <a:off x="3807000" y="4353480"/>
                <a:ext cx="10152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3857400" y="3943440"/>
                <a:ext cx="4582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3065760" y="4467240"/>
              <a:ext cx="434520" cy="410760"/>
              <a:chOff x="3065760" y="4467240"/>
              <a:chExt cx="434520" cy="410760"/>
            </a:xfrm>
          </p:grpSpPr>
          <p:sp>
            <p:nvSpPr>
              <p:cNvPr id="232" name=""/>
              <p:cNvSpPr/>
              <p:nvPr/>
            </p:nvSpPr>
            <p:spPr>
              <a:xfrm>
                <a:off x="3065760" y="4763880"/>
                <a:ext cx="76320" cy="114120"/>
              </a:xfrm>
              <a:custGeom>
                <a:avLst/>
                <a:gdLst/>
                <a:ahLst/>
                <a:rect l="l" t="t" r="r" b="b"/>
                <a:pathLst>
                  <a:path w="60" h="100">
                    <a:moveTo>
                      <a:pt x="0" y="100"/>
                    </a:moveTo>
                    <a:lnTo>
                      <a:pt x="40" y="0"/>
                    </a:lnTo>
                    <a:lnTo>
                      <a:pt x="40" y="40"/>
                    </a:lnTo>
                    <a:lnTo>
                      <a:pt x="60" y="60"/>
                    </a:lnTo>
                    <a:lnTo>
                      <a:pt x="0" y="1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3116520" y="4467240"/>
                <a:ext cx="38376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3143520" y="5106960"/>
              <a:ext cx="431280" cy="568080"/>
              <a:chOff x="3143520" y="5106960"/>
              <a:chExt cx="431280" cy="568080"/>
            </a:xfrm>
          </p:grpSpPr>
          <p:sp>
            <p:nvSpPr>
              <p:cNvPr id="235" name=""/>
              <p:cNvSpPr/>
              <p:nvPr/>
            </p:nvSpPr>
            <p:spPr>
              <a:xfrm>
                <a:off x="3448080" y="5538600"/>
                <a:ext cx="126720" cy="13644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4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3143520" y="5106960"/>
                <a:ext cx="329760" cy="45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2963520" y="198108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339800" y="30747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192120" y="35989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143160" y="266688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728880" y="449100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350440" y="474012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28080" y="51483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217680" y="28224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830760" y="46051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117960" y="209556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92440" y="32353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320640" y="380520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479320" y="49244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28880" y="528624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95680" y="3633840"/>
              <a:ext cx="4586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354560" y="3611520"/>
              <a:ext cx="459000" cy="409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748240" y="4911840"/>
              <a:ext cx="45864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345120" y="5697360"/>
              <a:ext cx="68868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507480" y="2308320"/>
              <a:ext cx="1024560" cy="3925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744"/>
                  </a:moveTo>
                  <a:arcTo wR="10800" hR="10800" stAng="-17791" swAng="549282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744"/>
                  </a:moveTo>
                  <a:arcTo wR="10800" hR="10800" stAng="-17791" swAng="5492822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92600" y="5100120"/>
              <a:ext cx="510840" cy="1133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663" y="21599"/>
                  </a:moveTo>
                  <a:arcTo wR="10800" hR="10800" stAng="5443603" swAng="5373408"/>
                  <a:lnTo>
                    <a:pt x="10800" y="10800"/>
                  </a:lnTo>
                  <a:close/>
                </a:path>
                <a:path fill="none" w="21600" h="21600">
                  <a:moveTo>
                    <a:pt x="10663" y="21599"/>
                  </a:moveTo>
                  <a:arcTo wR="10800" hR="10800" stAng="5443603" swAng="5373408"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54760" y="4467240"/>
              <a:ext cx="6890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4749840" y="4010040"/>
              <a:ext cx="534600" cy="456840"/>
              <a:chOff x="4749840" y="4010040"/>
              <a:chExt cx="534600" cy="456840"/>
            </a:xfrm>
          </p:grpSpPr>
          <p:sp>
            <p:nvSpPr>
              <p:cNvPr id="259" name=""/>
              <p:cNvSpPr/>
              <p:nvPr/>
            </p:nvSpPr>
            <p:spPr>
              <a:xfrm>
                <a:off x="5131800" y="4330800"/>
                <a:ext cx="152640" cy="136080"/>
              </a:xfrm>
              <a:custGeom>
                <a:avLst/>
                <a:gdLst/>
                <a:ahLst/>
                <a:rect l="l" t="t" r="r" b="b"/>
                <a:pathLst>
                  <a:path w="120" h="119">
                    <a:moveTo>
                      <a:pt x="120" y="119"/>
                    </a:moveTo>
                    <a:lnTo>
                      <a:pt x="0" y="60"/>
                    </a:lnTo>
                    <a:lnTo>
                      <a:pt x="20" y="40"/>
                    </a:lnTo>
                    <a:lnTo>
                      <a:pt x="40" y="0"/>
                    </a:lnTo>
                    <a:lnTo>
                      <a:pt x="120" y="1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749840" y="4010040"/>
                <a:ext cx="407520" cy="36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5411880" y="3943440"/>
              <a:ext cx="510840" cy="501120"/>
              <a:chOff x="5411880" y="3943440"/>
              <a:chExt cx="510840" cy="501120"/>
            </a:xfrm>
          </p:grpSpPr>
          <p:sp>
            <p:nvSpPr>
              <p:cNvPr id="262" name=""/>
              <p:cNvSpPr/>
              <p:nvPr/>
            </p:nvSpPr>
            <p:spPr>
              <a:xfrm>
                <a:off x="5411880" y="4353480"/>
                <a:ext cx="102240" cy="91080"/>
              </a:xfrm>
              <a:custGeom>
                <a:avLst/>
                <a:gdLst/>
                <a:ahLst/>
                <a:rect l="l" t="t" r="r" b="b"/>
                <a:pathLst>
                  <a:path w="80" h="80">
                    <a:moveTo>
                      <a:pt x="0" y="80"/>
                    </a:moveTo>
                    <a:lnTo>
                      <a:pt x="20" y="0"/>
                    </a:lnTo>
                    <a:lnTo>
                      <a:pt x="40" y="0"/>
                    </a:lnTo>
                    <a:lnTo>
                      <a:pt x="80" y="2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5462640" y="3943440"/>
                <a:ext cx="460080" cy="410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5438880" y="4467240"/>
              <a:ext cx="431280" cy="570960"/>
              <a:chOff x="5438880" y="4467240"/>
              <a:chExt cx="431280" cy="570960"/>
            </a:xfrm>
          </p:grpSpPr>
          <p:sp>
            <p:nvSpPr>
              <p:cNvPr id="265" name=""/>
              <p:cNvSpPr/>
              <p:nvPr/>
            </p:nvSpPr>
            <p:spPr>
              <a:xfrm>
                <a:off x="5743440" y="4901400"/>
                <a:ext cx="126720" cy="136800"/>
              </a:xfrm>
              <a:custGeom>
                <a:avLst/>
                <a:gdLst/>
                <a:ahLst/>
                <a:rect l="l" t="t" r="r" b="b"/>
                <a:pathLst>
                  <a:path w="100" h="120">
                    <a:moveTo>
                      <a:pt x="100" y="120"/>
                    </a:moveTo>
                    <a:lnTo>
                      <a:pt x="0" y="20"/>
                    </a:lnTo>
                    <a:lnTo>
                      <a:pt x="20" y="20"/>
                    </a:lnTo>
                    <a:lnTo>
                      <a:pt x="40" y="0"/>
                    </a:lnTo>
                    <a:lnTo>
                      <a:pt x="100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438880" y="4467240"/>
                <a:ext cx="329760" cy="456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>
              <a:off x="5807160" y="4935600"/>
              <a:ext cx="459000" cy="4078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79960" y="5697360"/>
              <a:ext cx="689040" cy="3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884920" y="2379600"/>
              <a:ext cx="459000" cy="412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845320" y="3143160"/>
              <a:ext cx="587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908680" y="3633840"/>
              <a:ext cx="460440" cy="4093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513400" y="5262480"/>
              <a:ext cx="306000" cy="388800"/>
              <a:chOff x="5513400" y="5262480"/>
              <a:chExt cx="306000" cy="388800"/>
            </a:xfrm>
          </p:grpSpPr>
          <p:sp>
            <p:nvSpPr>
              <p:cNvPr id="273" name=""/>
              <p:cNvSpPr/>
              <p:nvPr/>
            </p:nvSpPr>
            <p:spPr>
              <a:xfrm>
                <a:off x="5513400" y="5445360"/>
                <a:ext cx="178560" cy="205920"/>
              </a:xfrm>
              <a:custGeom>
                <a:avLst/>
                <a:gdLst/>
                <a:ahLst/>
                <a:rect l="l" t="t" r="r" b="b"/>
                <a:pathLst>
                  <a:path w="140" h="180">
                    <a:moveTo>
                      <a:pt x="0" y="180"/>
                    </a:moveTo>
                    <a:lnTo>
                      <a:pt x="60" y="0"/>
                    </a:lnTo>
                    <a:lnTo>
                      <a:pt x="60" y="80"/>
                    </a:lnTo>
                    <a:lnTo>
                      <a:pt x="140" y="60"/>
                    </a:lnTo>
                    <a:lnTo>
                      <a:pt x="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5589720" y="5262480"/>
                <a:ext cx="229680" cy="27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5" name=""/>
            <p:cNvGrpSpPr/>
            <p:nvPr/>
          </p:nvGrpSpPr>
          <p:grpSpPr>
            <a:xfrm>
              <a:off x="2786040" y="2757600"/>
              <a:ext cx="127080" cy="339120"/>
              <a:chOff x="2786040" y="2757600"/>
              <a:chExt cx="127080" cy="339120"/>
            </a:xfrm>
          </p:grpSpPr>
          <p:sp>
            <p:nvSpPr>
              <p:cNvPr id="276" name=""/>
              <p:cNvSpPr/>
              <p:nvPr/>
            </p:nvSpPr>
            <p:spPr>
              <a:xfrm>
                <a:off x="2786040" y="2893680"/>
                <a:ext cx="127080" cy="20304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2862000" y="2757600"/>
                <a:ext cx="1440" cy="204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8" name=""/>
            <p:cNvGrpSpPr/>
            <p:nvPr/>
          </p:nvGrpSpPr>
          <p:grpSpPr>
            <a:xfrm>
              <a:off x="2786040" y="3097080"/>
              <a:ext cx="127080" cy="479520"/>
              <a:chOff x="2786040" y="3097080"/>
              <a:chExt cx="127080" cy="479520"/>
            </a:xfrm>
          </p:grpSpPr>
          <p:sp>
            <p:nvSpPr>
              <p:cNvPr id="279" name=""/>
              <p:cNvSpPr/>
              <p:nvPr/>
            </p:nvSpPr>
            <p:spPr>
              <a:xfrm>
                <a:off x="2786040" y="337104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862000" y="309708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1" name=""/>
            <p:cNvGrpSpPr/>
            <p:nvPr/>
          </p:nvGrpSpPr>
          <p:grpSpPr>
            <a:xfrm>
              <a:off x="6050160" y="2781360"/>
              <a:ext cx="127080" cy="361440"/>
              <a:chOff x="6050160" y="2781360"/>
              <a:chExt cx="127080" cy="361440"/>
            </a:xfrm>
          </p:grpSpPr>
          <p:sp>
            <p:nvSpPr>
              <p:cNvPr id="282" name=""/>
              <p:cNvSpPr/>
              <p:nvPr/>
            </p:nvSpPr>
            <p:spPr>
              <a:xfrm>
                <a:off x="6050160" y="2940120"/>
                <a:ext cx="127080" cy="202680"/>
              </a:xfrm>
              <a:custGeom>
                <a:avLst/>
                <a:gdLst/>
                <a:ahLst/>
                <a:rect l="l" t="t" r="r" b="b"/>
                <a:pathLst>
                  <a:path w="100" h="179">
                    <a:moveTo>
                      <a:pt x="60" y="179"/>
                    </a:moveTo>
                    <a:lnTo>
                      <a:pt x="0" y="0"/>
                    </a:lnTo>
                    <a:lnTo>
                      <a:pt x="60" y="59"/>
                    </a:lnTo>
                    <a:lnTo>
                      <a:pt x="100" y="0"/>
                    </a:lnTo>
                    <a:lnTo>
                      <a:pt x="6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6120" y="2781360"/>
                <a:ext cx="1440" cy="225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4" name=""/>
            <p:cNvGrpSpPr/>
            <p:nvPr/>
          </p:nvGrpSpPr>
          <p:grpSpPr>
            <a:xfrm>
              <a:off x="6050160" y="3143160"/>
              <a:ext cx="127080" cy="479520"/>
              <a:chOff x="6050160" y="3143160"/>
              <a:chExt cx="127080" cy="479520"/>
            </a:xfrm>
          </p:grpSpPr>
          <p:sp>
            <p:nvSpPr>
              <p:cNvPr id="285" name=""/>
              <p:cNvSpPr/>
              <p:nvPr/>
            </p:nvSpPr>
            <p:spPr>
              <a:xfrm>
                <a:off x="6050160" y="3417120"/>
                <a:ext cx="127080" cy="205560"/>
              </a:xfrm>
              <a:custGeom>
                <a:avLst/>
                <a:gdLst/>
                <a:ahLst/>
                <a:rect l="l" t="t" r="r" b="b"/>
                <a:pathLst>
                  <a:path w="100" h="180">
                    <a:moveTo>
                      <a:pt x="60" y="180"/>
                    </a:moveTo>
                    <a:lnTo>
                      <a:pt x="0" y="0"/>
                    </a:lnTo>
                    <a:lnTo>
                      <a:pt x="60" y="60"/>
                    </a:lnTo>
                    <a:lnTo>
                      <a:pt x="100" y="0"/>
                    </a:lnTo>
                    <a:lnTo>
                      <a:pt x="60" y="1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126120" y="3143160"/>
                <a:ext cx="1440" cy="342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443480" y="3965400"/>
              <a:ext cx="127080" cy="364680"/>
              <a:chOff x="4443480" y="3965400"/>
              <a:chExt cx="127080" cy="364680"/>
            </a:xfrm>
          </p:grpSpPr>
          <p:sp>
            <p:nvSpPr>
              <p:cNvPr id="288" name=""/>
              <p:cNvSpPr/>
              <p:nvPr/>
            </p:nvSpPr>
            <p:spPr>
              <a:xfrm>
                <a:off x="4443480" y="3965400"/>
                <a:ext cx="127080" cy="228240"/>
              </a:xfrm>
              <a:custGeom>
                <a:avLst/>
                <a:gdLst/>
                <a:ahLst/>
                <a:rect l="l" t="t" r="r" b="b"/>
                <a:pathLst>
                  <a:path w="100" h="200">
                    <a:moveTo>
                      <a:pt x="60" y="0"/>
                    </a:moveTo>
                    <a:lnTo>
                      <a:pt x="100" y="200"/>
                    </a:lnTo>
                    <a:lnTo>
                      <a:pt x="60" y="140"/>
                    </a:lnTo>
                    <a:lnTo>
                      <a:pt x="0" y="20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4519800" y="4124520"/>
                <a:ext cx="1080" cy="205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>
              <a:off x="6300360" y="2011320"/>
              <a:ext cx="122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507360" y="373680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354360" y="4878360"/>
              <a:ext cx="102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6324120" y="2171520"/>
              <a:ext cx="91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579720" y="38973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427080" y="50594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508440" y="298296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44960" y="42847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44960" y="5492520"/>
              <a:ext cx="43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30480" y="312084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66640" y="442116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966640" y="56070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459400" y="2573280"/>
              <a:ext cx="2160720" cy="3941640"/>
            </a:xfrm>
            <a:custGeom>
              <a:avLst/>
              <a:gdLst/>
              <a:ahLst/>
              <a:rect l="l" t="t" r="r" b="b"/>
              <a:pathLst>
                <a:path w="1088" h="2144">
                  <a:moveTo>
                    <a:pt x="8" y="1680"/>
                  </a:moveTo>
                  <a:cubicBezTo>
                    <a:pt x="4" y="1764"/>
                    <a:pt x="0" y="1848"/>
                    <a:pt x="56" y="1920"/>
                  </a:cubicBezTo>
                  <a:cubicBezTo>
                    <a:pt x="112" y="1992"/>
                    <a:pt x="208" y="2144"/>
                    <a:pt x="344" y="2112"/>
                  </a:cubicBezTo>
                  <a:cubicBezTo>
                    <a:pt x="480" y="2080"/>
                    <a:pt x="760" y="2032"/>
                    <a:pt x="872" y="1728"/>
                  </a:cubicBezTo>
                  <a:cubicBezTo>
                    <a:pt x="984" y="1424"/>
                    <a:pt x="1088" y="576"/>
                    <a:pt x="1016" y="288"/>
                  </a:cubicBezTo>
                  <a:cubicBezTo>
                    <a:pt x="944" y="0"/>
                    <a:pt x="692" y="0"/>
                    <a:pt x="44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18080" y="3984480"/>
              <a:ext cx="666720" cy="2354400"/>
            </a:xfrm>
            <a:custGeom>
              <a:avLst/>
              <a:gdLst/>
              <a:ahLst/>
              <a:rect l="l" t="t" r="r" b="b"/>
              <a:pathLst>
                <a:path w="336" h="1280">
                  <a:moveTo>
                    <a:pt x="336" y="912"/>
                  </a:moveTo>
                  <a:cubicBezTo>
                    <a:pt x="332" y="1064"/>
                    <a:pt x="328" y="1216"/>
                    <a:pt x="288" y="1248"/>
                  </a:cubicBezTo>
                  <a:cubicBezTo>
                    <a:pt x="248" y="1280"/>
                    <a:pt x="136" y="1208"/>
                    <a:pt x="96" y="1104"/>
                  </a:cubicBezTo>
                  <a:cubicBezTo>
                    <a:pt x="56" y="1000"/>
                    <a:pt x="64" y="808"/>
                    <a:pt x="48" y="624"/>
                  </a:cubicBezTo>
                  <a:cubicBezTo>
                    <a:pt x="32" y="440"/>
                    <a:pt x="16" y="220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19320" y="2573280"/>
              <a:ext cx="2351160" cy="3927600"/>
            </a:xfrm>
            <a:custGeom>
              <a:avLst/>
              <a:gdLst/>
              <a:ahLst/>
              <a:rect l="l" t="t" r="r" b="b"/>
              <a:pathLst>
                <a:path w="1184" h="2136">
                  <a:moveTo>
                    <a:pt x="1136" y="1680"/>
                  </a:moveTo>
                  <a:cubicBezTo>
                    <a:pt x="1160" y="1816"/>
                    <a:pt x="1184" y="1952"/>
                    <a:pt x="1088" y="2016"/>
                  </a:cubicBezTo>
                  <a:cubicBezTo>
                    <a:pt x="992" y="2080"/>
                    <a:pt x="704" y="2136"/>
                    <a:pt x="560" y="2064"/>
                  </a:cubicBezTo>
                  <a:cubicBezTo>
                    <a:pt x="416" y="1992"/>
                    <a:pt x="304" y="1856"/>
                    <a:pt x="224" y="1584"/>
                  </a:cubicBezTo>
                  <a:cubicBezTo>
                    <a:pt x="144" y="1312"/>
                    <a:pt x="0" y="696"/>
                    <a:pt x="80" y="432"/>
                  </a:cubicBezTo>
                  <a:cubicBezTo>
                    <a:pt x="160" y="168"/>
                    <a:pt x="432" y="84"/>
                    <a:pt x="70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2292480" y="228600"/>
            <a:ext cx="37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ical repre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728E-2A19-4920-B9C4-D16E728FD12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mantics: dynamic evolu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t is enabled if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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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's input places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A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M(p)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 fires: produces a new marking M’ in places that are either t's input or output places or bo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input place: M'(p) = M(p) - W(&lt;p,t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an output place: M'(p) = M(p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p is both an input and an output place:        M'(p) = M(p) - W(&lt;p,t&gt;) + W(&lt;t,p&gt;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023C-6F91-4A89-9ED1-9FE96BEB53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 of the enabled transitions may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el does not specify which fires, nor when it fi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EE726-A9F0-40FB-9BCE-F6FF528B7BA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atement of the interface between the machine and the controlled environmen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rious undesirable effects can result due to misunderstandings between software engineers and domain experts about the phenomena affecting the control function to be implemented by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D85C-E87C-49E9-A131-8C7855A24C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eling with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aces represent distributed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represent actions or events that may occur when system is in a certain st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occur as certain conditions hold on the sta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6E85-DE21-4F0D-887C-7A714E6AFE7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2" name=""/>
          <p:cNvGraphicFramePr/>
          <p:nvPr/>
        </p:nvGraphicFramePr>
        <p:xfrm>
          <a:off x="762120" y="609480"/>
          <a:ext cx="7983360" cy="662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983360" cy="662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"/>
          <p:cNvSpPr/>
          <p:nvPr/>
        </p:nvSpPr>
        <p:spPr>
          <a:xfrm>
            <a:off x="1267200" y="152280"/>
            <a:ext cx="693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ter (a) either (b) or (c) may occur, and then 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BC2-E934-44C5-84A6-9AD65828636F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on ca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and the firing of one does nor prevent the other from fi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a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li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transitions are enabled to fire in a given state, but the firing of one prevents the other from f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e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n case (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models a  shared resource between two proces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icy exists to resolve conflicts (known a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unfai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hedu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rocess may never get a resource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sta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D2655-3064-4307-A685-E4C84E73D09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avoid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519280" y="168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5559480" cy="472284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056640" y="2666880"/>
            <a:ext cx="30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es alter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8C8C-CB26-4570-AC32-78388D5673B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onflict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3124080" y="1749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4730760" cy="548964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6571440" y="2014560"/>
            <a:ext cx="184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net c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dloc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i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076640" y="330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6629400" y="3048120"/>
            <a:ext cx="1676520" cy="41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447-2646-4CDF-B4C0-297DB82A775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deadlock-free ne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"/>
          <p:cNvSpPr/>
          <p:nvPr/>
        </p:nvSpPr>
        <p:spPr>
          <a:xfrm>
            <a:off x="3129120" y="170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2209680" y="1143000"/>
            <a:ext cx="4525920" cy="5410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904E-D340-49CF-A68F-0C06F8C724A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 of partial starv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"/>
          <p:cNvSpPr/>
          <p:nvPr/>
        </p:nvSpPr>
        <p:spPr>
          <a:xfrm>
            <a:off x="3330720" y="246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6195960" cy="480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9C87-9678-4C06-A7E7-19089C9CFAC9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2286000" y="1066680"/>
          <a:ext cx="6019920" cy="537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1066680"/>
                    <a:ext cx="6019920" cy="537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6" name=""/>
          <p:cNvSpPr/>
          <p:nvPr/>
        </p:nvSpPr>
        <p:spPr>
          <a:xfrm>
            <a:off x="216000" y="3657600"/>
            <a:ext cx="291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sub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1A3A-C51D-429B-B706-C17B79A6701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er-consumer example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3581280" y="762120"/>
          <a:ext cx="5050080" cy="5843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762120"/>
                    <a:ext cx="5050080" cy="584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0" name=""/>
          <p:cNvSpPr/>
          <p:nvPr/>
        </p:nvSpPr>
        <p:spPr>
          <a:xfrm>
            <a:off x="624960" y="2971800"/>
            <a:ext cx="232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net fo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011-8596-4E62-9DDE-CCF786592E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imitations and extens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70368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5440320" cy="22413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1106280" y="4495680"/>
            <a:ext cx="733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n represents a mess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You wish to say that the delivery channel dep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n conten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ow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Petri nets cannot specify selection polic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3A06-30EB-4926-879A-7C2CA14D74C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ment of requirements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 process is a chain of specification (i.e., definition)–implementation–verification step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s specification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ers to definition of external behavi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ign specification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design specificatio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refers to definition of the software archite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must be verified against 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FCD-6A3F-4C6A-8C4B-3E1C55E6413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1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ssigning values to toke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ons have associated predicates an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dicate refers to values of tokens in input places selected for fi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define values of tokens produced in output pla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3E2-A46B-4A7C-8078-588E3C40E868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317808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5434200" cy="356220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6051240" y="1523880"/>
            <a:ext cx="2832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2 &gt;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2 + P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edicate P3 = P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fun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4 := P3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P2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5 := P2 + P3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ssociated with t2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72160" y="5334120"/>
            <a:ext cx="729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ring of t1 by using &lt;3,7&gt; would produce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alue 10 in P4.  t2 can then fire using &lt;4, 4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71AF-8B9F-4841-AB65-368AB80D6BB0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2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ior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iority function pri from transitions to natural number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i: T </a:t>
            </a:r>
            <a:r>
              <a:rPr b="0" lang="it-IT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e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several transitions are enabled, only the ones with maximum priority are allowed to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mong them, the one to fire is chosen nondeterminis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2EC2-4D76-4BDD-A01B-543D31F5C2B6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tension 3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d Petri ne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pair of constants &lt;tmin, tmax&gt; is associated with each transition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nce a transition is enabled, it must wait for at least tmin to elapse before it can fi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 enabled, it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us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fire before tmax has elapsed, unless it is disabled by the firing of another transition before tma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1458-2A1B-4515-8672-2C973EE7D117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bining priorities and ti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"/>
          <p:cNvSpPr/>
          <p:nvPr/>
        </p:nvSpPr>
        <p:spPr>
          <a:xfrm>
            <a:off x="30146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990720" y="2895480"/>
            <a:ext cx="6359400" cy="2409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12D2-D218-4934-85BF-FE556AAA9E0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/>
          <p:nvPr/>
        </p:nvSpPr>
        <p:spPr>
          <a:xfrm>
            <a:off x="251136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380880" y="304920"/>
            <a:ext cx="6104160" cy="602460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5451480" y="388620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0B50-F9B0-42B3-A9C5-C36B6ABECD0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2709720" y="128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376200" y="304920"/>
            <a:ext cx="5310360" cy="61261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4842000" y="3809880"/>
            <a:ext cx="352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ise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message triplic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 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D1C3-4373-4DB8-BA8F-FE136A398701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n n elevator system to be installed in a building with m flo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atural language specs contain several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Formal specification using PNs removes ambigu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pecification will be provided in a stepwise fash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Will use modules, each encapsulating fragments of PNs which describe certain system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0703-1D07-40E5-A060-7CFD7BAB07BD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76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rom informal spec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61800" y="1276200"/>
            <a:ext cx="851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The illumination is cancelled when the elevator visits the floor and is either moving in the desired direction, or ...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2 different interpretations (case of up ca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s the elevator arrives at the floor from below (obvious restrictions for 1st and last flo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witch off after the elevators starts movin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in practice you may observe the two case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C938-4312-47CA-B69A-DC50B8AE3E29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09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analysis of informal spe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The algorithm to decide which to service first should minimize the waiting time for both requests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3200" spc="-1" strike="noStrike">
                <a:solidFill>
                  <a:srgbClr val="000000"/>
                </a:solidFill>
                <a:latin typeface="Tahoma"/>
              </a:rPr>
              <a:t>what does this mea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no other way can you satisfy either request in a short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minimizing for one may require longer for the oth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um of both is minim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y the sum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86D-999E-402A-9A4F-80D893095C29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es of specification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reference point during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ctive maintenance only changes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and perfective maintenance occur because of requirements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ments specification must change according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1AB7-2B47-43D6-B1A6-3636EB098CB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itial sketch of mov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275904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853240" cy="430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FF99-8246-46D2-A69F-13A625A3AA48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tton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771560" y="1790640"/>
          <a:ext cx="582948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1560" y="1790640"/>
                    <a:ext cx="582948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4D4E-9436-4677-89D5-C7377A6E2FF4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levator position (sketch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828800" y="838080"/>
          <a:ext cx="5297400" cy="5450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838080"/>
                    <a:ext cx="5297400" cy="545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93813-F96C-4710-9ABA-13B9803799E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6037920" y="557856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me j+1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313000" y="158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228600" y="784080"/>
            <a:ext cx="6907320" cy="563724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70200" y="228600"/>
            <a:ext cx="659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ecise description of elevator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4BC-C6E7-4675-8C05-8F74BCB58969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internal button of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5" name=""/>
          <p:cNvGraphicFramePr/>
          <p:nvPr/>
        </p:nvGraphicFramePr>
        <p:xfrm>
          <a:off x="685800" y="1657440"/>
          <a:ext cx="7467480" cy="6343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57440"/>
                    <a:ext cx="7467480" cy="634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CF8F-66DC-45FA-A74C-94CAA660C82E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681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witch external button off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990720" y="1295280"/>
            <a:ext cx="6573240" cy="4344840"/>
            <a:chOff x="990720" y="1295280"/>
            <a:chExt cx="6573240" cy="4344840"/>
          </a:xfrm>
        </p:grpSpPr>
        <p:sp>
          <p:nvSpPr>
            <p:cNvPr id="389" name=""/>
            <p:cNvSpPr/>
            <p:nvPr/>
          </p:nvSpPr>
          <p:spPr>
            <a:xfrm>
              <a:off x="1398240" y="1557360"/>
              <a:ext cx="679320" cy="65700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39824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109760" y="3520800"/>
              <a:ext cx="68076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822720" y="3520800"/>
              <a:ext cx="679320" cy="657360"/>
            </a:xfrm>
            <a:prstGeom prst="ellipse">
              <a:avLst/>
            </a:prstGeom>
            <a:solidFill>
              <a:srgbClr val="ffffff"/>
            </a:solidFill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1387440" y="2840040"/>
              <a:ext cx="677520" cy="39600"/>
            </a:xfrm>
            <a:custGeom>
              <a:avLst/>
              <a:gdLst/>
              <a:ahLst/>
              <a:rect l="l" t="t" r="r" b="b"/>
              <a:pathLst>
                <a:path w="427" h="25">
                  <a:moveTo>
                    <a:pt x="0" y="0"/>
                  </a:moveTo>
                  <a:lnTo>
                    <a:pt x="0" y="23"/>
                  </a:lnTo>
                  <a:lnTo>
                    <a:pt x="427" y="25"/>
                  </a:lnTo>
                  <a:lnTo>
                    <a:pt x="427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776560" y="25304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76560" y="4494240"/>
              <a:ext cx="39600" cy="655560"/>
            </a:xfrm>
            <a:custGeom>
              <a:avLst/>
              <a:gdLst/>
              <a:ahLst/>
              <a:rect l="l" t="t" r="r" b="b"/>
              <a:pathLst>
                <a:path w="25" h="413">
                  <a:moveTo>
                    <a:pt x="24" y="0"/>
                  </a:moveTo>
                  <a:lnTo>
                    <a:pt x="0" y="0"/>
                  </a:lnTo>
                  <a:lnTo>
                    <a:pt x="1" y="413"/>
                  </a:lnTo>
                  <a:lnTo>
                    <a:pt x="25" y="413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650960" y="2857320"/>
              <a:ext cx="131400" cy="255600"/>
            </a:xfrm>
            <a:custGeom>
              <a:avLst/>
              <a:gdLst/>
              <a:ahLst/>
              <a:rect l="l" t="t" r="r" b="b"/>
              <a:pathLst>
                <a:path w="83" h="161">
                  <a:moveTo>
                    <a:pt x="47" y="0"/>
                  </a:moveTo>
                  <a:lnTo>
                    <a:pt x="83" y="161"/>
                  </a:lnTo>
                  <a:lnTo>
                    <a:pt x="47" y="161"/>
                  </a:lnTo>
                  <a:lnTo>
                    <a:pt x="0" y="161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V="1">
              <a:off x="1725480" y="3112560"/>
              <a:ext cx="2880" cy="3999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650960" y="2205000"/>
              <a:ext cx="131400" cy="253800"/>
            </a:xfrm>
            <a:custGeom>
              <a:avLst/>
              <a:gdLst/>
              <a:ahLst/>
              <a:rect l="l" t="t" r="r" b="b"/>
              <a:pathLst>
                <a:path w="83" h="160">
                  <a:moveTo>
                    <a:pt x="47" y="0"/>
                  </a:moveTo>
                  <a:lnTo>
                    <a:pt x="83" y="160"/>
                  </a:lnTo>
                  <a:lnTo>
                    <a:pt x="47" y="160"/>
                  </a:lnTo>
                  <a:lnTo>
                    <a:pt x="0" y="16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725480" y="2458440"/>
              <a:ext cx="2880" cy="3985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984640" y="2403360"/>
              <a:ext cx="37440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2280" y="2366640"/>
              <a:ext cx="435960" cy="33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02280" y="2369880"/>
              <a:ext cx="32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568840" y="5259240"/>
              <a:ext cx="620280" cy="2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389560" y="5208480"/>
              <a:ext cx="1791720" cy="33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388840" y="521316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500440" y="5213160"/>
              <a:ext cx="227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..x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740920" y="5213160"/>
              <a:ext cx="7444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Reset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990720" y="2639880"/>
              <a:ext cx="1900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011240" y="2603520"/>
              <a:ext cx="24552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010520" y="2608200"/>
              <a:ext cx="10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i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123560" y="2608200"/>
              <a:ext cx="417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160280" y="4186080"/>
              <a:ext cx="207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180800" y="4149720"/>
              <a:ext cx="284040" cy="33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179360" y="4154400"/>
              <a:ext cx="1821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238040" y="1330200"/>
              <a:ext cx="26172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255680" y="1295280"/>
              <a:ext cx="323280" cy="32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254240" y="1298520"/>
              <a:ext cx="223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Fj'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89400" y="4295520"/>
              <a:ext cx="3376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306680" y="4259160"/>
              <a:ext cx="39816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306680" y="4262400"/>
              <a:ext cx="28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000560" y="4295520"/>
              <a:ext cx="33948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019640" y="4259160"/>
              <a:ext cx="379080" cy="33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20360" y="4262400"/>
              <a:ext cx="287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ff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776480" y="3477960"/>
              <a:ext cx="245880" cy="198720"/>
            </a:xfrm>
            <a:custGeom>
              <a:avLst/>
              <a:gdLst/>
              <a:ahLst/>
              <a:rect l="l" t="t" r="r" b="b"/>
              <a:pathLst>
                <a:path w="155" h="125">
                  <a:moveTo>
                    <a:pt x="0" y="125"/>
                  </a:moveTo>
                  <a:lnTo>
                    <a:pt x="120" y="0"/>
                  </a:lnTo>
                  <a:lnTo>
                    <a:pt x="131" y="33"/>
                  </a:lnTo>
                  <a:lnTo>
                    <a:pt x="155" y="67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4984560" y="3020760"/>
              <a:ext cx="809280" cy="50976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794200" y="2857320"/>
              <a:ext cx="264600" cy="181080"/>
            </a:xfrm>
            <a:custGeom>
              <a:avLst/>
              <a:gdLst/>
              <a:ahLst/>
              <a:rect l="l" t="t" r="r" b="b"/>
              <a:pathLst>
                <a:path w="167" h="114">
                  <a:moveTo>
                    <a:pt x="0" y="0"/>
                  </a:moveTo>
                  <a:lnTo>
                    <a:pt x="167" y="34"/>
                  </a:lnTo>
                  <a:lnTo>
                    <a:pt x="142" y="69"/>
                  </a:lnTo>
                  <a:lnTo>
                    <a:pt x="120" y="1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 flipV="1">
              <a:off x="6019200" y="2966400"/>
              <a:ext cx="960120" cy="5461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567480" y="4003560"/>
              <a:ext cx="244080" cy="218880"/>
            </a:xfrm>
            <a:custGeom>
              <a:avLst/>
              <a:gdLst/>
              <a:ahLst/>
              <a:rect l="l" t="t" r="r" b="b"/>
              <a:pathLst>
                <a:path w="154" h="138">
                  <a:moveTo>
                    <a:pt x="154" y="0"/>
                  </a:moveTo>
                  <a:lnTo>
                    <a:pt x="60" y="138"/>
                  </a:lnTo>
                  <a:lnTo>
                    <a:pt x="35" y="103"/>
                  </a:lnTo>
                  <a:lnTo>
                    <a:pt x="0" y="81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5793840" y="4167000"/>
              <a:ext cx="828360" cy="820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532120" y="4624200"/>
              <a:ext cx="261720" cy="198360"/>
            </a:xfrm>
            <a:custGeom>
              <a:avLst/>
              <a:gdLst/>
              <a:ahLst/>
              <a:rect l="l" t="t" r="r" b="b"/>
              <a:pathLst>
                <a:path w="165" h="125">
                  <a:moveTo>
                    <a:pt x="165" y="125"/>
                  </a:moveTo>
                  <a:lnTo>
                    <a:pt x="0" y="80"/>
                  </a:lnTo>
                  <a:lnTo>
                    <a:pt x="23" y="45"/>
                  </a:lnTo>
                  <a:lnTo>
                    <a:pt x="35" y="0"/>
                  </a:lnTo>
                  <a:lnTo>
                    <a:pt x="165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 flipV="1">
              <a:off x="4606560" y="4166640"/>
              <a:ext cx="961560" cy="5288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1895400" y="2695320"/>
              <a:ext cx="1080" cy="1620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8954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03360" y="2205000"/>
              <a:ext cx="423828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642000" y="2205000"/>
              <a:ext cx="507600" cy="49032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75440" y="3240000"/>
              <a:ext cx="131400" cy="272880"/>
            </a:xfrm>
            <a:custGeom>
              <a:avLst/>
              <a:gdLst/>
              <a:ahLst/>
              <a:rect l="l" t="t" r="r" b="b"/>
              <a:pathLst>
                <a:path w="83" h="172">
                  <a:moveTo>
                    <a:pt x="47" y="172"/>
                  </a:moveTo>
                  <a:lnTo>
                    <a:pt x="0" y="0"/>
                  </a:lnTo>
                  <a:lnTo>
                    <a:pt x="47" y="0"/>
                  </a:lnTo>
                  <a:lnTo>
                    <a:pt x="83" y="0"/>
                  </a:lnTo>
                  <a:lnTo>
                    <a:pt x="47" y="1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149960" y="2695320"/>
              <a:ext cx="2880" cy="5446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895400" y="4167000"/>
              <a:ext cx="263160" cy="182520"/>
            </a:xfrm>
            <a:custGeom>
              <a:avLst/>
              <a:gdLst/>
              <a:ahLst/>
              <a:rect l="l" t="t" r="r" b="b"/>
              <a:pathLst>
                <a:path w="166" h="115">
                  <a:moveTo>
                    <a:pt x="0" y="0"/>
                  </a:moveTo>
                  <a:lnTo>
                    <a:pt x="166" y="46"/>
                  </a:lnTo>
                  <a:lnTo>
                    <a:pt x="142" y="81"/>
                  </a:lnTo>
                  <a:lnTo>
                    <a:pt x="120" y="1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0760" y="4295520"/>
              <a:ext cx="1130040" cy="69228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532120" y="4913280"/>
              <a:ext cx="261720" cy="128520"/>
            </a:xfrm>
            <a:custGeom>
              <a:avLst/>
              <a:gdLst/>
              <a:ahLst/>
              <a:rect l="l" t="t" r="r" b="b"/>
              <a:pathLst>
                <a:path w="165" h="81">
                  <a:moveTo>
                    <a:pt x="165" y="47"/>
                  </a:moveTo>
                  <a:lnTo>
                    <a:pt x="0" y="81"/>
                  </a:lnTo>
                  <a:lnTo>
                    <a:pt x="0" y="47"/>
                  </a:lnTo>
                  <a:lnTo>
                    <a:pt x="0" y="0"/>
                  </a:lnTo>
                  <a:lnTo>
                    <a:pt x="165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51160" y="4987800"/>
              <a:ext cx="2280600" cy="144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2403360" y="3841560"/>
              <a:ext cx="1694880" cy="1800"/>
            </a:xfrm>
            <a:prstGeom prst="line">
              <a:avLst/>
            </a:prstGeom>
            <a:ln w="176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1800000" y="1457280"/>
              <a:ext cx="5763960" cy="4182840"/>
              <a:chOff x="1800000" y="1457280"/>
              <a:chExt cx="5763960" cy="4182840"/>
            </a:xfrm>
          </p:grpSpPr>
          <p:sp>
            <p:nvSpPr>
              <p:cNvPr id="444" name=""/>
              <p:cNvSpPr/>
              <p:nvPr/>
            </p:nvSpPr>
            <p:spPr>
              <a:xfrm>
                <a:off x="1800000" y="2857320"/>
                <a:ext cx="169920" cy="255600"/>
              </a:xfrm>
              <a:custGeom>
                <a:avLst/>
                <a:gdLst/>
                <a:ahLst/>
                <a:rect l="l" t="t" r="r" b="b"/>
                <a:pathLst>
                  <a:path w="107" h="161">
                    <a:moveTo>
                      <a:pt x="0" y="0"/>
                    </a:moveTo>
                    <a:lnTo>
                      <a:pt x="107" y="127"/>
                    </a:lnTo>
                    <a:lnTo>
                      <a:pt x="71" y="138"/>
                    </a:lnTo>
                    <a:lnTo>
                      <a:pt x="36" y="16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H="1" flipV="1">
                <a:off x="1912680" y="3076200"/>
                <a:ext cx="395280" cy="765000"/>
              </a:xfrm>
              <a:prstGeom prst="line">
                <a:avLst/>
              </a:prstGeom>
              <a:ln w="176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665160" y="1549080"/>
                <a:ext cx="338040" cy="3764160"/>
              </a:xfrm>
              <a:custGeom>
                <a:avLst/>
                <a:gdLst/>
                <a:ahLst/>
                <a:rect l="l" t="t" r="r" b="b"/>
                <a:pathLst>
                  <a:path w="213" h="2371">
                    <a:moveTo>
                      <a:pt x="213" y="0"/>
                    </a:moveTo>
                    <a:lnTo>
                      <a:pt x="0" y="205"/>
                    </a:lnTo>
                    <a:lnTo>
                      <a:pt x="0" y="2371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665160" y="1549080"/>
                <a:ext cx="3898800" cy="4091040"/>
              </a:xfrm>
              <a:custGeom>
                <a:avLst/>
                <a:gdLst/>
                <a:ahLst/>
                <a:rect l="l" t="t" r="r" b="b"/>
                <a:pathLst>
                  <a:path w="2456" h="2577">
                    <a:moveTo>
                      <a:pt x="0" y="2371"/>
                    </a:moveTo>
                    <a:lnTo>
                      <a:pt x="213" y="2577"/>
                    </a:lnTo>
                    <a:lnTo>
                      <a:pt x="2242" y="2577"/>
                    </a:lnTo>
                    <a:lnTo>
                      <a:pt x="2349" y="2475"/>
                    </a:lnTo>
                    <a:lnTo>
                      <a:pt x="2456" y="2371"/>
                    </a:lnTo>
                    <a:lnTo>
                      <a:pt x="2456" y="205"/>
                    </a:lnTo>
                    <a:lnTo>
                      <a:pt x="2242" y="0"/>
                    </a:lnTo>
                    <a:lnTo>
                      <a:pt x="213" y="0"/>
                    </a:lnTo>
                  </a:path>
                </a:pathLst>
              </a:custGeom>
              <a:noFill/>
              <a:ln w="176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268440" y="1493640"/>
                <a:ext cx="396720" cy="254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288960" y="1457280"/>
                <a:ext cx="473040" cy="33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3287160" y="1460520"/>
                <a:ext cx="351360" cy="2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0000"/>
                    </a:solidFill>
                    <a:latin typeface="Arial"/>
                  </a:rPr>
                  <a:t>UPj</a:t>
                </a:r>
                <a:endParaRPr b="0" lang="en-US" sz="1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1" name=""/>
          <p:cNvSpPr/>
          <p:nvPr/>
        </p:nvSpPr>
        <p:spPr>
          <a:xfrm>
            <a:off x="173880" y="5486400"/>
            <a:ext cx="520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time need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person to enter + pushing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485F-110A-4565-982C-D072E50F542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6672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1150920" y="3135240"/>
          <a:ext cx="6896160" cy="664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50920" y="3135240"/>
                    <a:ext cx="689616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5" name=""/>
          <p:cNvSpPr/>
          <p:nvPr/>
        </p:nvSpPr>
        <p:spPr>
          <a:xfrm>
            <a:off x="461160" y="1219320"/>
            <a:ext cx="798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A “fair”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Keep the direction unchanged as long as there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lls that require elevator to go in that dir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09840" y="334008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726680" y="3156120"/>
            <a:ext cx="81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0,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325760" y="26384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354560" y="5153040"/>
            <a:ext cx="78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[x,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395720" y="5762520"/>
            <a:ext cx="678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7, t8, t9 have higher priority than t10, t11, t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BF65-47D4-4E26-9EAD-087E7DD2A1BD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eneral schedu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3730680" y="2884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2514600" y="1371600"/>
            <a:ext cx="3814920" cy="2467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457200" y="4038480"/>
            <a:ext cx="8077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ch transition has predicate OK(Schedul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k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 in SCHEDULER stores information about the state of the system that is useful for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cheduling transition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to fi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7360" indent="-387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oken is “permanent”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(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alway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produc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fter the firing of any trans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18C5A-0E89-42C7-B123-145AE25FAEC3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larative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R diagrams: semiformal spe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g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ebraic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51F-CE2E-4ED1-9B0B-61C303E886D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R dia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used as a complement to DFD to describe conceptual data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ased on entities, relationships, attribut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the ancestors of class diagrams in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9B5C-F849-4CCA-89BB-C9B0F3C6DEF5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ation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cise, clear, unambiguou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let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complete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00DF-640B-415A-874D-8EF8A103E50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3200400" y="1981080"/>
          <a:ext cx="2400480" cy="3759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1981080"/>
                    <a:ext cx="2400480" cy="375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8DB4B-55CA-4559-B1D1-33928D08164F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parti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annotated to def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o m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74" name=""/>
          <p:cNvGraphicFramePr/>
          <p:nvPr/>
        </p:nvGraphicFramePr>
        <p:xfrm>
          <a:off x="3886200" y="3200400"/>
          <a:ext cx="4572000" cy="294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200400"/>
                    <a:ext cx="4572000" cy="29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C2B0-81DA-4DB3-B716-4DC29C4975CB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Non binary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762120" y="2057400"/>
          <a:ext cx="74293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057400"/>
                    <a:ext cx="74293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8652-E0DB-42D3-801E-139C5FA85DA1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amples of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rst-order theory (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mul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y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= y 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1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y =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, y, z (x &gt; y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n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&gt; z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gt; 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+ 1 &lt; x –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(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ist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y (y = x + z)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x &gt; 3 </a:t>
            </a:r>
            <a:r>
              <a:rPr b="1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x &lt; -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523F-0078-43A0-8418-638FEC9261F1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omplete progra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perty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, or </a:t>
            </a:r>
            <a:r>
              <a:rPr b="0" i="1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requirement, 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or P is specified as a formula of the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1610640" y="3048120"/>
            <a:ext cx="6246360" cy="224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re (i1, i2,..., in) 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{Post (o1, o2,..., om, i1, i2,..., in)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66000" y="5181480"/>
            <a:ext cx="294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: pre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t: postco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E27A-2D16-40FF-B18C-992713EA2960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to compute greatest common di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"/>
          <p:cNvSpPr/>
          <p:nvPr/>
        </p:nvSpPr>
        <p:spPr>
          <a:xfrm>
            <a:off x="1062000" y="3125880"/>
            <a:ext cx="733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i1 &gt; 0 and i2 &gt; 0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(exists z1, z2 (i1 = o *  z1 and i2 = o * z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nd not (exists 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(exists z1, z2 (i1 = h * z1 and i2 = h * z2) and h &gt; o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88F1-CFC6-4359-B036-8B39804468A2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proced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"/>
          <p:cNvSpPr/>
          <p:nvPr/>
        </p:nvSpPr>
        <p:spPr>
          <a:xfrm>
            <a:off x="917640" y="2057400"/>
            <a:ext cx="7535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} -- n is a constant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search (table: in integer_array; n: in intege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lement: in integer; found: out Boolean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und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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exists i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 and table (i) = element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15120" y="4114800"/>
            <a:ext cx="77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n &gt; 0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cedure reverse (a: in out integer_array; n: in intege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{for all i (1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) implies (a (i) = 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ld–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(n - i +1))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81A6-A6F5-4B99-8163-DF0B0FA2C2D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class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predicates and pre/post conditions for each meth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of invariant specifying an array implementing ADT s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" name=""/>
          <p:cNvSpPr/>
          <p:nvPr/>
        </p:nvSpPr>
        <p:spPr>
          <a:xfrm>
            <a:off x="862920" y="4191120"/>
            <a:ext cx="751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or all i, j (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1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j 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length and i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ies IMPL[i]</a:t>
            </a:r>
            <a:r>
              <a:rPr b="0" lang="it-IT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[j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no duplicates are stor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E5E0-CEB8-47B2-928B-B6F39FBF2F18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ying non-terminating behavi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ducer+consumer+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variant specifies that whatever has been produced is the concatenation of what has been taken from the buffer and what is kept in the buff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969840" y="4648320"/>
            <a:ext cx="660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put_sequence = append (output_sequenc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tents(CHAR_BUFFER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410-6689-4901-970D-1D44DF8607F4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case-study using logic specific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outline the elevator 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t (E, F, T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is at floor F at time 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rt (E, F, T, up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E left floor F at time T moving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(at (E, F, T) and on (EB,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T) and F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&gt; F) implies start (E, F, T,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05B9-E768-4ED5-94B8-724D6C2CD420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ear, unambiguous, understandab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pecification fragment for a word-proces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"/>
          <p:cNvSpPr/>
          <p:nvPr/>
        </p:nvSpPr>
        <p:spPr>
          <a:xfrm>
            <a:off x="1100160" y="2819520"/>
            <a:ext cx="7495920" cy="26542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ing is the process of designa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s of the document that you w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ork on. Most editing and formatt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s require two steps: first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what you want to work 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ch as text or graphics; then yo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itiate the appropriate action.</a:t>
            </a:r>
            <a:r>
              <a:rPr b="0" lang="it-IT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520" y="5715000"/>
            <a:ext cx="366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can an area be scatter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2E8F-9E35-42FE-97EE-56BAEBF081D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 and ev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mentary predicates are partitioned in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s, having non-null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nding(E, F, T1, T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95444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ssumption: closed at left, open at righ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ntaneous (caused state change occurs at same tim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resented by predicates that hold only at a particular time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rived (E, F, 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simplicity, we as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zero decis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imultaneous ev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1A7-06A3-495B-8E04-37AAF7298DD5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arrival (E, F, T)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, (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initial tim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does not say if it will stop or will proceed, nor where it comes fro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departure(E, F, D, T)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m], D in {up, down}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stop (E, F, T)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E in [1..n], F in [1.. m], T </a:t>
            </a:r>
            <a:r>
              <a:rPr b="0" lang="en-A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ahoma"/>
              </a:rPr>
              <a:t>specifies stop to serve an internal or external re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C4551-E47D-4F33-A034-216F05B99B9C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vents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new_list (E, L, T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 in [1..n], L in [1.. m]</a:t>
            </a:r>
            <a:r>
              <a:rPr b="0" lang="en-AU" sz="2800" spc="-1" strike="noStrike" baseline="30000">
                <a:solidFill>
                  <a:srgbClr val="000000"/>
                </a:solidFill>
                <a:latin typeface="Tahoma"/>
              </a:rPr>
              <a:t>*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, T </a:t>
            </a:r>
            <a:r>
              <a:rPr b="0" lang="en-AU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AU" sz="2800" spc="-1" strike="noStrike" baseline="-25000">
                <a:solidFill>
                  <a:srgbClr val="000000"/>
                </a:solidFill>
                <a:latin typeface="Tahoma"/>
              </a:rPr>
              <a:t>0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 is the list of floors to visit associated with elevator (scheduling is performed by the control component of th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call(F, D, T)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external call  (with restriction for 1, 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</a:rPr>
              <a:t>request(E, F, T)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Tahoma"/>
              </a:rPr>
              <a:t>internal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699F-1731-4BBB-8397-35ED16992F73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ng (E, F, D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ing (E, F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st (E, L, T1, T2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mplicitly assume that state predicates hold for any sub- interval (i.e., the rules that describe this are assumed to be automatically add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hing prevents that it holds for larger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C842-63EF-4454-817C-4845CD6A1F74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ules relating events and stat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"/>
          <p:cNvSpPr/>
          <p:nvPr/>
        </p:nvSpPr>
        <p:spPr>
          <a:xfrm>
            <a:off x="-74880" y="1744560"/>
            <a:ext cx="9522360" cy="16074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AU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:When E arrives at floor F, it continues to move if there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o request for service from F and the list is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floor to serve is higher, it moves upward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otherwise it moves downwa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32080" y="3462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613960" y="3387600"/>
            <a:ext cx="3169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15600" y="563868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milar rule describes downward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0453-E38D-415F-B005-4F53E3353F6A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217440" y="452520"/>
            <a:ext cx="857592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2: Upon arrival at F, E stops if F must be serviced (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appears as first of the li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739160" y="1440000"/>
            <a:ext cx="28033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=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85480" y="3657600"/>
            <a:ext cx="79938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3: E stops at F if it gets there with an empty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752480" y="4343400"/>
            <a:ext cx="57308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5535-ADBF-426A-89FC-256AEA6A17BA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-258480" y="297000"/>
            <a:ext cx="9933840" cy="119124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4: Assume that elevators have a fixed time to service a flo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If the list is not empty at the end of such interva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the elevator leaves the floor immediate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643040" y="1523880"/>
            <a:ext cx="37926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L, T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-235440" y="3657600"/>
            <a:ext cx="942480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5: If the elevator has no floors to service, it stops until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list becomes non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1887840" y="4495680"/>
            <a:ext cx="635544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 list (E, L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&gt;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and 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a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first (L) &gt;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p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5B81-B091-415F-A0C4-282F1B806AAD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-82800" y="1058760"/>
            <a:ext cx="951804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6: Assume that the time to move from on floor to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next is known and fixed. The rule describes movem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748880" y="2049480"/>
            <a:ext cx="323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up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arrival (E, F + 1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-111960" y="3809880"/>
            <a:ext cx="961236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7: The event of stopping initiates standing for at least D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674000" y="4495680"/>
            <a:ext cx="34178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, T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E783B-76E2-4B6B-837F-1A78D66DB07E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-114480" y="677880"/>
            <a:ext cx="9557280" cy="8254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8: At the end of the minimum stop interval Dts, E rem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standing if there are no floors to servi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599480" y="1557360"/>
            <a:ext cx="338580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op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)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list (E, empty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 + D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standing (E, F, T</a:t>
            </a:r>
            <a:r>
              <a:rPr b="0" i="1" lang="en-AU" sz="2400" spc="-1" strike="noStrike" baseline="-25000">
                <a:solidFill>
                  <a:srgbClr val="000000"/>
                </a:solidFill>
                <a:latin typeface="Tahoma"/>
              </a:rPr>
              <a:t>s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4840" y="3657600"/>
            <a:ext cx="5448600" cy="459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87440" indent="-487440">
              <a:lnSpc>
                <a:spcPct val="100000"/>
              </a:lnSpc>
              <a:tabLst>
                <a:tab algn="l" pos="0"/>
                <a:tab algn="l" pos="106200"/>
                <a:tab algn="l" pos="297000"/>
                <a:tab algn="l" pos="487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Tahoma"/>
              </a:rPr>
              <a:t>R9: Departure causes mo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91280" y="4259160"/>
            <a:ext cx="352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departure (E, F, D, 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impl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400" spc="-1" strike="noStrike">
                <a:solidFill>
                  <a:srgbClr val="000000"/>
                </a:solidFill>
                <a:latin typeface="Tahoma"/>
              </a:rPr>
              <a:t>moving (E, F, D, T, T + 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41FE0-58CA-4169-9D59-98C5D29E42B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trol r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"/>
          <p:cNvSpPr/>
          <p:nvPr/>
        </p:nvSpPr>
        <p:spPr>
          <a:xfrm>
            <a:off x="387000" y="1744560"/>
            <a:ext cx="84942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ress the scheduling strategy (by describing “new_list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s and “list” sta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quests are inserted in the list from curr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or to top if the elevator is moving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alls are inserted in the list of the closest 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t is moving in the correct direction, or in a stan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v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801D-5651-4C91-9870-60A9F6E9E794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3T11:06:23Z</dcterms:created>
  <dc:creator>Carlo Ghezzi</dc:creator>
  <dc:description/>
  <dc:language>en-US</dc:language>
  <cp:lastModifiedBy>jazayeri</cp:lastModifiedBy>
  <dcterms:modified xsi:type="dcterms:W3CDTF">2002-02-20T10:06:32Z</dcterms:modified>
  <cp:revision>18</cp:revision>
  <dc:subject/>
  <dc:title>Specification</dc:title>
</cp:coreProperties>
</file>