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A3FA-1436-4493-9549-5AA8606E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5A55-3ECA-45E9-9D5C-B109494B9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FD79-F951-482B-95B0-853BDD9B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D496-CC01-461D-846D-E52222721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49A46-C5E8-4EDB-A2B7-3B12175AD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ED4F-171F-4357-AC86-F44B8BC2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6E4C-A2C9-4FDE-8789-70A236037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741DE-5831-4519-86C2-645C3895F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3C38C-CDFB-4080-8B09-110BF5430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AD86-ED45-446A-AA9E-7851DD6E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9B58-95AC-411D-8288-98FA792D0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7D6E-AEAD-462F-A9E1-EB4B1934C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30C89-A341-45CD-B012-8F1ED915F3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143000"/>
            <a:ext cx="6997680" cy="42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5:49Z</dcterms:modified>
  <cp:revision>2</cp:revision>
  <dc:subject/>
  <dc:title>PowerPoint Presentation</dc:title>
</cp:coreProperties>
</file>