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F8EA-D47C-4636-974A-FC0A0BDEB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1457-8423-4FB4-9C00-10A8A40F0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33E2-30EB-49C2-96A9-7BB013F26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1DEA3-2E0B-4C26-8600-8C7811A98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0402-EE65-48A4-9085-897727FDF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9614-5701-4751-B107-4376AA4B3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B088-69A1-47E5-A507-E20E33BD1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9062-4598-4CFC-A027-4BF456079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E4F0-2B0F-4656-82AA-321170870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E0E9-76D9-4984-8551-67FC57721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46D5-1866-4CB2-BE4E-B7AFB522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708A-BD9E-4A30-B5B3-79D903A2C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53830-B584-48F3-9580-5664522274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03720" cy="34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7T15:17:48Z</dcterms:created>
  <dc:creator>Spencer Smith</dc:creator>
  <dc:description/>
  <dc:language>en-US</dc:language>
  <cp:lastModifiedBy>Spencer Smith</cp:lastModifiedBy>
  <dcterms:modified xsi:type="dcterms:W3CDTF">2008-02-27T15:18:27Z</dcterms:modified>
  <cp:revision>1</cp:revision>
  <dc:subject/>
  <dc:title>PowerPoint Presentation</dc:title>
</cp:coreProperties>
</file>