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9458-CAD1-4138-9A91-7A287390E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0BA3-0E21-4D8C-83BF-FD55EC3F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94D7-7B91-45DC-9512-544DD23D6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0B96-C3BD-4211-A434-6F1C821BF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1160-2B4A-4ED5-BA57-B624ECD38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5A8D-643D-4C5D-8535-91A28D32D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1F0-02CF-4506-BF8E-B63698670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E77A-67D4-4F8B-B348-7E4080D9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DAE8-67E2-4588-89D0-8F6315C69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1569-5000-4065-8188-7710B579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E90C-2F64-4CE6-9674-8CA33E290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850-6A4F-4238-A818-BF96626C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CDCB-4E4A-4E9D-A807-E82AEAC4D8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pilogu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54CB-3CE5-4C4C-BE39-AA3990F3FC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ill be the future of the fiel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the impact of SE on socie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ethical issues are raised by 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B672-7A7C-4E12-9078-9B71F93F6E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ound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requires the application of engineering principles guided by informed manag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s must be rooted in sound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gorous approaches must be combined with experimentation, intuition, and common sen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o “silver bullets”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803A-A90A-4F92-B62F-2615260EB0E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ess expec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spec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ization is a sign of maturity of a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onent-based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domain-specific architec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ased re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buted virtual te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169F-6C1B-4378-B92F-F2F64E474C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cial responsi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fects may cost lives or tremendous business lo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try to prevent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hould study them when they occur, to avoid failures in the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creates new opportunities for  increasing productivity and services, but also opportunities for criminal fraud and sabotage (e.g., virus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uilding reliable software is not only a technical goal; it has ethical and social implications for the serious professiona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A017-EAEC-44E2-8678-62154309B6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M and IEEE Computer Society have developed a “Software engineering code of ethics and professional practices”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“public interest” is central to the code, which emphasizes the professional’s obligation to the public at lar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imary concern for the health, safety, and welfare of th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8B4CE-CACD-4A92-AB7C-7AC7F8B03D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consistently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nd Emplo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ct in a manner that is in the best interests of their client and employer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ensure that their products and related modifications meet the highest professional standards possi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53240" indent="-453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d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maintain integrity and independence in their professional jud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32AF-0747-4AD5-A3CB-EC53B9A7E1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of ethics princip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ing managers and leaders shall subscribe to and promote an ethical approach to the management of software development and mainten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f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advance the integrity and reputation of the profession, consistent with the public inter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lleag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be fair to, and supportive of, their colleag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engineers shall participate in lifelong learning regarding the practice of their profession and shall promote an ethical approach to the practice of the profess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1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3696-AEDF-4D51-8278-2A9A56F477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5:27:45Z</dcterms:created>
  <dc:creator>Carlo Ghezzi</dc:creator>
  <dc:description/>
  <dc:language>en-US</dc:language>
  <cp:lastModifiedBy>jazayeri</cp:lastModifiedBy>
  <dcterms:modified xsi:type="dcterms:W3CDTF">2002-02-19T18:44:34Z</dcterms:modified>
  <cp:revision>5</cp:revision>
  <dc:subject/>
  <dc:title>PowerPoint Presentation</dc:title>
</cp:coreProperties>
</file>