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B11B-C341-488C-A943-2861245D2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98B3-D78E-4A1C-A3DB-D8E7BA216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F685-5703-4AE4-9A66-870B3CF62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A313-7948-498A-AEF6-33361F403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B4C2-0174-4535-BE2A-EF3DC9118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CD94-BF30-43A6-84A2-FB836AC5B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4E34-3C96-48B3-8BF2-10B7FED4E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610B-1DB1-452A-9CF1-0BCE1B873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0ADB-508E-4EEB-B325-BE5A983E6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4A17-EB48-4D00-938F-76AE9F17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2BA8-2889-47EE-9F2C-EAEA21F5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F9B7-F54A-4D0A-B467-5CFB302B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7BE8C-2A06-42DC-A104-32C050C81D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5120" y="762120"/>
          <a:ext cx="487368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762120"/>
                    <a:ext cx="487368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02Z</dcterms:modified>
  <cp:revision>7</cp:revision>
  <dc:subject/>
  <dc:title>PowerPoint Presentation</dc:title>
</cp:coreProperties>
</file>