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4301E-7011-43D6-B120-5B2CE8073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9AE-623D-4901-91FC-CDD800531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4B9A-F7B8-4A2A-A89C-C5530619E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90C-3664-4B76-A378-A86AC4B2A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70E7-3F45-4B0A-9C8E-DB80D8F1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BD7-93D7-4337-9DC3-124F9145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47298-5292-483C-AF48-760AB70F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380-5051-451E-89EA-BF629687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4844-956C-4086-90D1-2CF3F1F49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B9A3-51AA-41FE-84C9-4FED7D6F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84052-3A63-45A9-BA2A-B927527B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3EF5-6C56-45DA-95FC-32FB5E26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613E-9156-4EFF-98E7-DE81D8834F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42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59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71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76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89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1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92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97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3868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111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114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127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130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" name=""/>
            <p:cNvSpPr/>
            <p:nvPr/>
          </p:nvSpPr>
          <p:spPr>
            <a:xfrm>
              <a:off x="53359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5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136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8" name=""/>
            <p:cNvSpPr/>
            <p:nvPr/>
          </p:nvSpPr>
          <p:spPr>
            <a:xfrm>
              <a:off x="397548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900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5032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2871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37228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090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02428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1610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8812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54220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18:58Z</dcterms:modified>
  <cp:revision>3</cp:revision>
  <dc:subject/>
  <dc:title>PowerPoint Presentation</dc:title>
</cp:coreProperties>
</file>