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0607-E7D5-4DC0-BF0E-3EFB11340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E3AC-BF56-4875-9B6C-6CD637056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45F2-9743-4B90-8D49-4659A9F0A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EDBB-7AAC-42BF-A349-5A4D1A176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02FA-1AE1-4B71-B477-8D00D6D4C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AF9E-9D80-4A66-B355-2E22B85B0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E9C4-A421-43E8-B001-5E05ECF1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5B7B-9C28-47DC-BB69-504A3B8D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7010-A74F-4044-8BF4-FA7E3C73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6AD-A0E8-4216-9B52-A9F65E1B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C0BD-700E-4C4B-95CD-FC3620FA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EFA2-508D-4C5D-80F5-39B8C604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4885F-2267-46EF-A753-9E3E6ABDC4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46280" y="193824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70560" y="1905120"/>
            <a:ext cx="507276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-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6:25Z</dcterms:modified>
  <cp:revision>1</cp:revision>
  <dc:subject/>
  <dc:title>PowerPoint Presentation</dc:title>
</cp:coreProperties>
</file>