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3E90-954E-41B7-A1B9-C227D082B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4F11-6626-4A6E-8093-F46AE881F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7A45-2889-4B76-8C17-6D241B83A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FCD0-0D9E-45A5-870F-1AD86E390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91F3-B973-45CD-83F0-28DA79FC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8217-1AE6-49E8-943A-6EEE2EF40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F2C4-BF83-4051-AC23-F47A9182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C94-212E-4027-9A9A-E65DD53B8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BE8-2F02-4209-9ABE-EBD35D22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F922-EE79-498B-A876-1656DC3BB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6CDF-9946-40A6-A4D6-B9614C82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D50B-1B53-40ED-856A-E044CA00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D618-7939-4742-9FFA-89EC7CB962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Tools and Environ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6E7A-124A-4475-9454-96247B699B1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pre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ditionally at the programming languag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t the requirements specification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ani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numeric or symbol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256-8B09-40AC-9CD7-E2B26311B3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genera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 general sense, transform a high level description into a lower-leve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pecific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nto a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actica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th Generation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0C64-ECCA-42E0-8BF7-FCB212FB1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viewed as special kinds of interpreters whe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state inspec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ecution mode defin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imation to support program 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7B4-CDEE-4F33-9A44-2F6CB7E9136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document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 bookkeeping of test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ms for test case definition, storage, retriev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438280" y="3429000"/>
            <a:ext cx="4114800" cy="275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66AA-4DD1-43CA-93A3-CDB547266BE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 Software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ynthesizing data from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 eval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various coverage metr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testing other software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5F57-7AEF-44D1-9B69-648945BFA21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ic analy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and flow control analy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point out possible flaws or suspicious-looking stat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detecting uninitialized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76B-6C92-4AA9-9B7B-D730CD73C7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I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phical User Interfaces are now standard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abstractions inclu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 and the desktop metaph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"/>
          <p:cNvSpPr/>
          <p:nvPr/>
        </p:nvSpPr>
        <p:spPr>
          <a:xfrm>
            <a:off x="2887560" y="2473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362320" y="3887640"/>
            <a:ext cx="3902040" cy="221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16AD-4521-46D2-9165-6A51CBC0266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r-Interface Management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set of basic abstractions (windows, menus, scroll bars, etc.) that may be used to customize a variety of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library of run-time routines to be linked to the developed application in order to support input and out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IMS fall both under the category of development tools and under the category of end-product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0CE9-288B-4FDB-9443-93EBA1CBEA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47644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023840" y="1676520"/>
            <a:ext cx="7416720" cy="4538520"/>
            <a:chOff x="1023840" y="1676520"/>
            <a:chExt cx="7416720" cy="4538520"/>
          </a:xfrm>
        </p:grpSpPr>
        <p:sp>
          <p:nvSpPr>
            <p:cNvPr id="81" name=""/>
            <p:cNvSpPr/>
            <p:nvPr/>
          </p:nvSpPr>
          <p:spPr>
            <a:xfrm>
              <a:off x="2941560" y="1677960"/>
              <a:ext cx="2886120" cy="395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941560" y="1676520"/>
              <a:ext cx="2887920" cy="3959280"/>
            </a:xfrm>
            <a:prstGeom prst="rect">
              <a:avLst/>
            </a:prstGeom>
            <a:noFill/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54320" y="1974960"/>
              <a:ext cx="2495520" cy="154620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154320" y="3909960"/>
              <a:ext cx="2495520" cy="153036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348720" y="2362320"/>
              <a:ext cx="207036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578400" y="4114800"/>
              <a:ext cx="1654200" cy="109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men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tool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1760" y="2076480"/>
              <a:ext cx="1444680" cy="12571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142640" y="2057400"/>
              <a:ext cx="7552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r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1200" y="2286000"/>
              <a:ext cx="11786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languag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40120" y="2514600"/>
              <a:ext cx="11300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59560" y="2816280"/>
              <a:ext cx="9165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sup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2467080" y="2577960"/>
              <a:ext cx="679320" cy="135000"/>
              <a:chOff x="2467080" y="2577960"/>
              <a:chExt cx="679320" cy="135000"/>
            </a:xfrm>
          </p:grpSpPr>
          <p:sp>
            <p:nvSpPr>
              <p:cNvPr id="93" name=""/>
              <p:cNvSpPr/>
              <p:nvPr/>
            </p:nvSpPr>
            <p:spPr>
              <a:xfrm>
                <a:off x="2467080" y="2577960"/>
                <a:ext cx="237960" cy="135000"/>
              </a:xfrm>
              <a:custGeom>
                <a:avLst/>
                <a:gdLst/>
                <a:ahLst/>
                <a:rect l="l" t="t" r="r" b="b"/>
                <a:pathLst>
                  <a:path w="150" h="85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5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2890800" y="2577960"/>
                <a:ext cx="255600" cy="135000"/>
              </a:xfrm>
              <a:custGeom>
                <a:avLst/>
                <a:gdLst/>
                <a:ahLst/>
                <a:rect l="l" t="t" r="r" b="b"/>
                <a:pathLst>
                  <a:path w="161" h="85">
                    <a:moveTo>
                      <a:pt x="161" y="43"/>
                    </a:moveTo>
                    <a:lnTo>
                      <a:pt x="0" y="85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705040" y="264636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6989760" y="2178000"/>
              <a:ext cx="1257480" cy="1241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14840" y="2438280"/>
              <a:ext cx="567720" cy="73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d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5640480" y="2679840"/>
              <a:ext cx="1341360" cy="136440"/>
              <a:chOff x="5640480" y="2679840"/>
              <a:chExt cx="1341360" cy="136440"/>
            </a:xfrm>
          </p:grpSpPr>
          <p:sp>
            <p:nvSpPr>
              <p:cNvPr id="99" name=""/>
              <p:cNvSpPr/>
              <p:nvPr/>
            </p:nvSpPr>
            <p:spPr>
              <a:xfrm>
                <a:off x="5640480" y="267984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727680" y="267984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78440" y="2747880"/>
                <a:ext cx="849240" cy="18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989760" y="4038480"/>
              <a:ext cx="1392120" cy="13176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08840" y="4495680"/>
              <a:ext cx="1271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Develop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5640480" y="4700520"/>
              <a:ext cx="1341360" cy="136440"/>
              <a:chOff x="5640480" y="4700520"/>
              <a:chExt cx="1341360" cy="136440"/>
            </a:xfrm>
          </p:grpSpPr>
          <p:sp>
            <p:nvSpPr>
              <p:cNvPr id="105" name=""/>
              <p:cNvSpPr/>
              <p:nvPr/>
            </p:nvSpPr>
            <p:spPr>
              <a:xfrm>
                <a:off x="6727680" y="4700520"/>
                <a:ext cx="254160" cy="136440"/>
              </a:xfrm>
              <a:custGeom>
                <a:avLst/>
                <a:gdLst/>
                <a:ahLst/>
                <a:rect l="l" t="t" r="r" b="b"/>
                <a:pathLst>
                  <a:path w="160" h="86">
                    <a:moveTo>
                      <a:pt x="160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640480" y="470052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H="1">
                <a:off x="5878080" y="4768920"/>
                <a:ext cx="84924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1031760" y="4097160"/>
              <a:ext cx="1444680" cy="125892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218960" y="4419720"/>
              <a:ext cx="831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Prog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.</a:t>
              </a: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217520" y="4724280"/>
              <a:ext cx="84024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Times New Roman"/>
                </a:rPr>
                <a:t>env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m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2467080" y="4599000"/>
              <a:ext cx="679320" cy="136440"/>
              <a:chOff x="2467080" y="4599000"/>
              <a:chExt cx="679320" cy="136440"/>
            </a:xfrm>
          </p:grpSpPr>
          <p:sp>
            <p:nvSpPr>
              <p:cNvPr id="112" name=""/>
              <p:cNvSpPr/>
              <p:nvPr/>
            </p:nvSpPr>
            <p:spPr>
              <a:xfrm>
                <a:off x="2467080" y="4599000"/>
                <a:ext cx="237960" cy="136440"/>
              </a:xfrm>
              <a:custGeom>
                <a:avLst/>
                <a:gdLst/>
                <a:ahLst/>
                <a:rect l="l" t="t" r="r" b="b"/>
                <a:pathLst>
                  <a:path w="150" h="86">
                    <a:moveTo>
                      <a:pt x="0" y="43"/>
                    </a:moveTo>
                    <a:lnTo>
                      <a:pt x="150" y="0"/>
                    </a:lnTo>
                    <a:lnTo>
                      <a:pt x="150" y="43"/>
                    </a:lnTo>
                    <a:lnTo>
                      <a:pt x="150" y="8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890800" y="4599000"/>
                <a:ext cx="255600" cy="136440"/>
              </a:xfrm>
              <a:custGeom>
                <a:avLst/>
                <a:gdLst/>
                <a:ahLst/>
                <a:rect l="l" t="t" r="r" b="b"/>
                <a:pathLst>
                  <a:path w="161" h="86">
                    <a:moveTo>
                      <a:pt x="161" y="43"/>
                    </a:moveTo>
                    <a:lnTo>
                      <a:pt x="0" y="86"/>
                    </a:lnTo>
                    <a:lnTo>
                      <a:pt x="0" y="43"/>
                    </a:lnTo>
                    <a:lnTo>
                      <a:pt x="0" y="0"/>
                    </a:lnTo>
                    <a:lnTo>
                      <a:pt x="161" y="4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705040" y="4667400"/>
                <a:ext cx="18576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1601640" y="5346720"/>
              <a:ext cx="865440" cy="866880"/>
              <a:chOff x="1601640" y="5346720"/>
              <a:chExt cx="865440" cy="866880"/>
            </a:xfrm>
          </p:grpSpPr>
          <p:sp>
            <p:nvSpPr>
              <p:cNvPr id="116" name=""/>
              <p:cNvSpPr/>
              <p:nvPr/>
            </p:nvSpPr>
            <p:spPr>
              <a:xfrm>
                <a:off x="1601640" y="5346720"/>
                <a:ext cx="203400" cy="203040"/>
              </a:xfrm>
              <a:custGeom>
                <a:avLst/>
                <a:gdLst/>
                <a:ahLst/>
                <a:rect l="l" t="t" r="r" b="b"/>
                <a:pathLst>
                  <a:path w="128" h="128">
                    <a:moveTo>
                      <a:pt x="0" y="0"/>
                    </a:moveTo>
                    <a:lnTo>
                      <a:pt x="128" y="75"/>
                    </a:lnTo>
                    <a:lnTo>
                      <a:pt x="96" y="107"/>
                    </a:lnTo>
                    <a:lnTo>
                      <a:pt x="75" y="1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754280" y="5516640"/>
                <a:ext cx="712800" cy="69696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2467080" y="6213600"/>
              <a:ext cx="38527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319800" y="5245200"/>
              <a:ext cx="966960" cy="968400"/>
              <a:chOff x="6319800" y="5245200"/>
              <a:chExt cx="966960" cy="968400"/>
            </a:xfrm>
          </p:grpSpPr>
          <p:sp>
            <p:nvSpPr>
              <p:cNvPr id="120" name=""/>
              <p:cNvSpPr/>
              <p:nvPr/>
            </p:nvSpPr>
            <p:spPr>
              <a:xfrm>
                <a:off x="7066080" y="5245200"/>
                <a:ext cx="220680" cy="203040"/>
              </a:xfrm>
              <a:custGeom>
                <a:avLst/>
                <a:gdLst/>
                <a:ahLst/>
                <a:rect l="l" t="t" r="r" b="b"/>
                <a:pathLst>
                  <a:path w="139" h="128">
                    <a:moveTo>
                      <a:pt x="139" y="0"/>
                    </a:moveTo>
                    <a:lnTo>
                      <a:pt x="54" y="128"/>
                    </a:lnTo>
                    <a:lnTo>
                      <a:pt x="32" y="107"/>
                    </a:lnTo>
                    <a:lnTo>
                      <a:pt x="0" y="75"/>
                    </a:lnTo>
                    <a:lnTo>
                      <a:pt x="1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6319800" y="5415120"/>
                <a:ext cx="797040" cy="79848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102384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41444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787400" y="3699000"/>
              <a:ext cx="2048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1780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14440" y="4089240"/>
              <a:ext cx="187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5686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929200" y="3699000"/>
              <a:ext cx="1875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31980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927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083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473960" y="3699000"/>
              <a:ext cx="1872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864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237520" y="3699000"/>
              <a:ext cx="20304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14640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1936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099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0056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673520" y="3699000"/>
              <a:ext cx="2034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0641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54720" y="3699000"/>
              <a:ext cx="18576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2115000" y="393840"/>
            <a:ext cx="491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UIMS as development tool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nd-product com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764F-7F2C-4667-8A72-7ABC1D0912F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62040" y="220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20720" y="1557360"/>
            <a:ext cx="10948320" cy="5801760"/>
            <a:chOff x="720720" y="1557360"/>
            <a:chExt cx="10948320" cy="5801760"/>
          </a:xfrm>
        </p:grpSpPr>
        <p:sp>
          <p:nvSpPr>
            <p:cNvPr id="145" name=""/>
            <p:cNvSpPr/>
            <p:nvPr/>
          </p:nvSpPr>
          <p:spPr>
            <a:xfrm>
              <a:off x="720720" y="2657520"/>
              <a:ext cx="3440160" cy="295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20720" y="2657520"/>
              <a:ext cx="3440160" cy="2955960"/>
            </a:xfrm>
            <a:custGeom>
              <a:avLst/>
              <a:gdLst/>
              <a:ahLst/>
              <a:rect l="l" t="t" r="r" b="b"/>
              <a:pathLst>
                <a:path w="2167" h="1862">
                  <a:moveTo>
                    <a:pt x="0" y="0"/>
                  </a:moveTo>
                  <a:lnTo>
                    <a:pt x="2167" y="0"/>
                  </a:lnTo>
                  <a:lnTo>
                    <a:pt x="2167" y="1862"/>
                  </a:lnTo>
                  <a:lnTo>
                    <a:pt x="0" y="1862"/>
                  </a:lnTo>
                  <a:lnTo>
                    <a:pt x="0" y="0"/>
                  </a:lnTo>
                  <a:close/>
                  <a:moveTo>
                    <a:pt x="21" y="22"/>
                  </a:moveTo>
                  <a:lnTo>
                    <a:pt x="2145" y="22"/>
                  </a:lnTo>
                  <a:lnTo>
                    <a:pt x="2145" y="1841"/>
                  </a:lnTo>
                  <a:lnTo>
                    <a:pt x="21" y="1841"/>
                  </a:lnTo>
                  <a:lnTo>
                    <a:pt x="21" y="22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960560" y="2330280"/>
              <a:ext cx="924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SCREE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38240" y="3060720"/>
              <a:ext cx="117000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689200" y="3060720"/>
              <a:ext cx="1171440" cy="500040"/>
            </a:xfrm>
            <a:prstGeom prst="roundRect">
              <a:avLst>
                <a:gd name="adj" fmla="val 46667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95480" y="3851280"/>
              <a:ext cx="878040" cy="379440"/>
            </a:xfrm>
            <a:prstGeom prst="roundRect">
              <a:avLst>
                <a:gd name="adj" fmla="val 60870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895480" y="45226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95480" y="5210280"/>
              <a:ext cx="878040" cy="395280"/>
            </a:xfrm>
            <a:prstGeom prst="roundRect">
              <a:avLst>
                <a:gd name="adj" fmla="val 58333"/>
              </a:avLst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046160" y="279576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00080" y="279576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18720" y="435924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093480" y="3586320"/>
              <a:ext cx="3315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093120" y="4273560"/>
              <a:ext cx="586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3480" y="4943520"/>
              <a:ext cx="3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605560" y="2176560"/>
              <a:ext cx="79056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96120" y="2176560"/>
              <a:ext cx="144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396120" y="2176560"/>
              <a:ext cx="877680" cy="4982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932440" y="1936800"/>
              <a:ext cx="622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Per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846680" y="2709720"/>
              <a:ext cx="974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Fir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30640" y="2709720"/>
              <a:ext cx="950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Last nam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97320" y="2709720"/>
              <a:ext cx="91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rth da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481800" y="2967120"/>
              <a:ext cx="6890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70840" y="2967120"/>
              <a:ext cx="14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170840" y="2967120"/>
              <a:ext cx="687240" cy="3776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121080" y="3397320"/>
              <a:ext cx="381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911640" y="3397320"/>
              <a:ext cx="610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Mon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68720" y="3379680"/>
              <a:ext cx="445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Ye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3160" y="2819520"/>
              <a:ext cx="6640560" cy="7930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3" y="10540"/>
                  </a:moveTo>
                  <a:arcTo wR="10800" hR="10800" stAng="-10717107" swAng="5307460"/>
                  <a:lnTo>
                    <a:pt x="10800" y="10800"/>
                  </a:lnTo>
                  <a:close/>
                </a:path>
                <a:path fill="none" w="21600" h="21600">
                  <a:moveTo>
                    <a:pt x="3" y="10540"/>
                  </a:moveTo>
                  <a:arcTo wR="10800" hR="10800" stAng="-10717107" swAng="530746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33920" y="2971800"/>
              <a:ext cx="4491720" cy="98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400000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668760" y="3456000"/>
              <a:ext cx="4889160" cy="98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6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633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68760" y="3645000"/>
              <a:ext cx="6435000" cy="214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144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1444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68760" y="3645000"/>
              <a:ext cx="8000280" cy="3714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54"/>
                  </a:moveTo>
                  <a:arcTo wR="10800" hR="10800" stAng="-10785267" swAng="538526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54"/>
                  </a:moveTo>
                  <a:arcTo wR="10800" hR="10800" stAng="-10785267" swAng="5385267"/>
                </a:path>
              </a:pathLst>
            </a:custGeom>
            <a:noFill/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21160" y="4332240"/>
              <a:ext cx="1670040" cy="15652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24720" y="4754520"/>
              <a:ext cx="9241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Run-tim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724720" y="4960800"/>
              <a:ext cx="631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dialog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24720" y="5167440"/>
              <a:ext cx="1018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Times New Roman"/>
                </a:rPr>
                <a:t>compon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7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11" y="15143"/>
                  </a:moveTo>
                  <a:arcTo wR="10800" hR="10800" stAng="937748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911" y="15143"/>
                  </a:moveTo>
                  <a:arcTo wR="10800" hR="10800" stAng="937748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90204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67160" y="5099040"/>
              <a:ext cx="72252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0280" y="4841280"/>
              <a:ext cx="517320" cy="516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689" y="6457"/>
                  </a:moveTo>
                  <a:arcTo wR="10800" hR="10800" stAng="-1422515" swAng="284503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689" y="6457"/>
                  </a:moveTo>
                  <a:arcTo wR="10800" hR="10800" stAng="-1422515" swAng="2845031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205760" y="5099040"/>
              <a:ext cx="68040" cy="14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515000" y="3671640"/>
              <a:ext cx="515880" cy="5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146" y="20687"/>
                  </a:moveTo>
                  <a:arcTo wR="10800" hR="10800" stAng="3976200" swAng="28505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5146" y="20687"/>
                  </a:moveTo>
                  <a:arcTo wR="10800" hR="10800" stAng="3976200" swAng="2850524"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754760" y="4152960"/>
              <a:ext cx="1800" cy="6984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75920" y="3346560"/>
              <a:ext cx="980280" cy="175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3442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34428"/>
                </a:path>
              </a:pathLst>
            </a:custGeom>
            <a:noFill/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10240" y="1866960"/>
              <a:ext cx="3457440" cy="34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813200" y="3913200"/>
              <a:ext cx="3457800" cy="334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710240" y="1866960"/>
              <a:ext cx="34920" cy="207972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34200" y="1866960"/>
              <a:ext cx="33480" cy="20797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3880" y="1557360"/>
              <a:ext cx="3402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imes New Roman"/>
                </a:rPr>
                <a:t>INTERNAL DATA STRUCTURE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2208240" y="393840"/>
            <a:ext cx="462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un-time structure of a UI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B562-E220-4B35-92C7-F06EBF4E53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id the field evolv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and environments be classified and compa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categori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can tools be integr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motivates new tools/environment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36630-0964-44AA-801D-E86D1A7EE90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database of artifa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ersions stored, change history main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-spac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ut into private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in into shared work-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modeling and buil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cilities to (re)build produ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8102-60D5-4A04-8520-2615FE98661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V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"/>
          <p:cNvSpPr/>
          <p:nvPr/>
        </p:nvSpPr>
        <p:spPr>
          <a:xfrm>
            <a:off x="1943280" y="14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371520" y="1488960"/>
            <a:ext cx="8215200" cy="4349880"/>
            <a:chOff x="371520" y="1488960"/>
            <a:chExt cx="8215200" cy="4349880"/>
          </a:xfrm>
        </p:grpSpPr>
        <p:sp>
          <p:nvSpPr>
            <p:cNvPr id="200" name=""/>
            <p:cNvSpPr/>
            <p:nvPr/>
          </p:nvSpPr>
          <p:spPr>
            <a:xfrm>
              <a:off x="2565360" y="1488960"/>
              <a:ext cx="787320" cy="6397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1800" y="1504800"/>
              <a:ext cx="65736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59120" y="1504800"/>
              <a:ext cx="757440" cy="6573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90860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263600" y="1774800"/>
              <a:ext cx="246240" cy="115920"/>
            </a:xfrm>
            <a:custGeom>
              <a:avLst/>
              <a:gdLst/>
              <a:ahLst/>
              <a:rect l="l" t="t" r="r" b="b"/>
              <a:pathLst>
                <a:path w="155" h="73">
                  <a:moveTo>
                    <a:pt x="155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5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98440" y="1841400"/>
              <a:ext cx="651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35520" y="1758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621400" y="182412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475080" y="1758960"/>
              <a:ext cx="24588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343320" y="1824120"/>
              <a:ext cx="131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279520" y="180828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181240" y="1873080"/>
              <a:ext cx="98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04960" y="1727280"/>
              <a:ext cx="3618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09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817720" y="1693800"/>
              <a:ext cx="3636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2803680" y="169380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974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8304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11640" y="1743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97600" y="1743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3808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228760" y="3809880"/>
              <a:ext cx="9367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621240" y="3809880"/>
              <a:ext cx="93492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14800" y="3809880"/>
              <a:ext cx="935280" cy="63828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228760" y="5197320"/>
              <a:ext cx="9367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621240" y="5197320"/>
              <a:ext cx="934920" cy="6415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8428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7152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97496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63640" y="4078440"/>
              <a:ext cx="2113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368520" y="4014720"/>
              <a:ext cx="24624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54320" y="4078440"/>
              <a:ext cx="2142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61000" y="4014720"/>
              <a:ext cx="245880" cy="112680"/>
            </a:xfrm>
            <a:custGeom>
              <a:avLst/>
              <a:gdLst/>
              <a:ahLst/>
              <a:rect l="l" t="t" r="r" b="b"/>
              <a:pathLst>
                <a:path w="155" h="71">
                  <a:moveTo>
                    <a:pt x="155" y="40"/>
                  </a:moveTo>
                  <a:lnTo>
                    <a:pt x="0" y="71"/>
                  </a:lnTo>
                  <a:lnTo>
                    <a:pt x="0" y="40"/>
                  </a:lnTo>
                  <a:lnTo>
                    <a:pt x="0" y="0"/>
                  </a:lnTo>
                  <a:lnTo>
                    <a:pt x="155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48240" y="4078440"/>
              <a:ext cx="21276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631960" y="4943520"/>
              <a:ext cx="114480" cy="245880"/>
            </a:xfrm>
            <a:custGeom>
              <a:avLst/>
              <a:gdLst/>
              <a:ahLst/>
              <a:rect l="l" t="t" r="r" b="b"/>
              <a:pathLst>
                <a:path w="72" h="155">
                  <a:moveTo>
                    <a:pt x="41" y="15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697120" y="4438800"/>
              <a:ext cx="1800" cy="504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368520" y="548496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54320" y="5549760"/>
              <a:ext cx="214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6440" y="5549760"/>
              <a:ext cx="9334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415120" y="4438800"/>
              <a:ext cx="11556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3" y="0"/>
                  </a:moveTo>
                  <a:lnTo>
                    <a:pt x="73" y="144"/>
                  </a:lnTo>
                  <a:lnTo>
                    <a:pt x="43" y="144"/>
                  </a:lnTo>
                  <a:lnTo>
                    <a:pt x="0" y="144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483160" y="4667040"/>
              <a:ext cx="1800" cy="882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3976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12572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2240" y="4029120"/>
              <a:ext cx="3632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51784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925800" y="4029120"/>
              <a:ext cx="3621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1176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451240" y="5419800"/>
              <a:ext cx="6904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42028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843360" y="5419800"/>
              <a:ext cx="68904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12400" y="5419800"/>
              <a:ext cx="62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.2.1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18280" y="4029120"/>
              <a:ext cx="36036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303880" y="402912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7028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72000" y="1808280"/>
              <a:ext cx="982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896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20856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9452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865920" y="1743120"/>
              <a:ext cx="246240" cy="114120"/>
            </a:xfrm>
            <a:custGeom>
              <a:avLst/>
              <a:gdLst/>
              <a:ahLst/>
              <a:rect l="l" t="t" r="r" b="b"/>
              <a:pathLst>
                <a:path w="155" h="72">
                  <a:moveTo>
                    <a:pt x="155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5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751800" y="1808280"/>
              <a:ext cx="11412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120080" y="1522440"/>
              <a:ext cx="738000" cy="6555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89640" y="1727280"/>
              <a:ext cx="36360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275600" y="1727280"/>
              <a:ext cx="28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.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486520" y="2362320"/>
              <a:ext cx="328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equence of revisi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0840" y="4191120"/>
              <a:ext cx="2315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a branch and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ater joi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9320" y="3200400"/>
              <a:ext cx="655308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9D27-7CC6-4A07-B8D7-58DD9F15585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k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"/>
          <p:cNvSpPr/>
          <p:nvPr/>
        </p:nvSpPr>
        <p:spPr>
          <a:xfrm>
            <a:off x="1267200" y="2860560"/>
            <a:ext cx="584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ys : mod1.o  mod2.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d mod1.o  mod2.o  -o sy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1.o : mod1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1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5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d2.o : mod2.c  incl.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6.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c -c mod2.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94120" y="1676520"/>
            <a:ext cx="88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ids in building and rebuilding a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keep a system in a consistent state after modifica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E014-D4CB-4095-85FD-AC177EA0D7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cking too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during entire process to maintain information about the process and track tha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st important of these ar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ect-track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store information about reported defects in the software product and track that inform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DBDD-79CF-4144-80B2-F75804C6C2A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everse and re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am understanding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nthesize suitable abstractions from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ontrol and data flow graphs or use graph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tract cross-references and other kinds of documentation material on the produ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erse engineering tools also support the process of making the code and other artifacts consistent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F483-15FD-4126-A56F-6EE8C3F021B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supp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 "to do" lists, reminding next activities in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 sequences of recurring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ll process support via PSEEs (Process-centered Software Engineering Environme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a process-modeling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D2A2B-A4FC-4225-8A5A-7B0877DB793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ols for Gantt and PERT ch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aphical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to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st estim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odels, such as COCOM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D870-793B-4428-AF42-BD1A3F7B03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ol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all process artifacts in a repositor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data representation for artifacts that different tools can use to communicate with each oth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tegration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 tools can communicate with each other through control mess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9DF6-EE1C-425C-AEC1-F2D183BC3F5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ces influencing too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new software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upport a particular method or method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3E14-244A-488B-ADB2-247A3DD3B6C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ical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minant factors affecting evol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ological develop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de certain tools necessary or possib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better understanding of software engineering process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D53A-D7BA-4355-ADF8-F7AF37FB4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chnological developmen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—examples—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graphical displays and user interf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e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raphical user interfaces (GUIs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isual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dvances in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supporting distributed configuration management and teams (group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EB75-3258-4397-AC6D-7AAEF8449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dividual tools developed to support single activities (e.g.,compilation, debugg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tegrated environments, i.e., tools that work toge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environment supporting one programming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 environ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ols have public interfaces which allow them to communicate and cooperate with other tools which respect those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0D1C-A870-441C-B443-4E5154A90FF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m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-oriented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ve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vel of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/semantics of documents p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endency on phase of life cyc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gree of standard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9383-227C-4C4C-9C1D-AC2B8CAB76A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ic vs. dynam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tools vs. end-product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user vs. multi-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-machine vs. network-a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mensions for comparis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152B-922C-48CE-8DE0-C4950CD0E31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xtual or graphic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follow a formal syntax, or can be used for informal text or free-form pic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olingual (e.g., Java editor) or multiling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6433-62DB-4FA5-8E3A-6A010E273A4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ve tools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nk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bine object-code fragments into a larger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an be monolingual or polyling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 a broader sense, tools for linking specification modules, able to perform checking and binding across various specification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8ECE-BCBA-4354-A0C5-5387978603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0:44:49Z</dcterms:created>
  <dc:creator>Carlo Ghezzi</dc:creator>
  <dc:description/>
  <dc:language>en-US</dc:language>
  <cp:lastModifiedBy>jazayeri</cp:lastModifiedBy>
  <dcterms:modified xsi:type="dcterms:W3CDTF">2002-02-19T16:03:32Z</dcterms:modified>
  <cp:revision>12</cp:revision>
  <dc:subject/>
  <dc:title>Software Engineering Tools and Environments</dc:title>
</cp:coreProperties>
</file>