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1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5.xml.rels" ContentType="application/vnd.openxmlformats-package.relationships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  <p:sldId id="368" r:id="rId116"/>
    <p:sldId id="369" r:id="rId117"/>
    <p:sldId id="370" r:id="rId118"/>
    <p:sldId id="371" r:id="rId119"/>
    <p:sldId id="372" r:id="rId120"/>
    <p:sldId id="373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slide" Target="slides/slide113.xml"/><Relationship Id="rId117" Type="http://schemas.openxmlformats.org/officeDocument/2006/relationships/slide" Target="slides/slide114.xml"/><Relationship Id="rId118" Type="http://schemas.openxmlformats.org/officeDocument/2006/relationships/slide" Target="slides/slide115.xml"/><Relationship Id="rId119" Type="http://schemas.openxmlformats.org/officeDocument/2006/relationships/slide" Target="slides/slide116.xml"/><Relationship Id="rId120" Type="http://schemas.openxmlformats.org/officeDocument/2006/relationships/slide" Target="slides/slide117.xml"/><Relationship Id="rId121" Type="http://schemas.openxmlformats.org/officeDocument/2006/relationships/slide" Target="slides/slide118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ABCF1-4F40-48D7-A43A-D23777C5439E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The logarithmic model is not def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No: it is late: wrong order of the folowing slides: f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00293-543A-4EFA-A326-F375C394D36D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7AF5-63A2-456B-847C-33FBE1363144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7EDD8-0C46-4A5F-8B62-3BE0BB3FED05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body"/>
          </p:nvPr>
        </p:nvSpPr>
        <p:spPr>
          <a:xfrm>
            <a:off x="752040" y="4571640"/>
            <a:ext cx="5429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ldImg"/>
          </p:nvPr>
        </p:nvSpPr>
        <p:spPr>
          <a:xfrm>
            <a:off x="1511280" y="1038240"/>
            <a:ext cx="3946680" cy="2960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6288-B390-4AFB-BF22-2E75894D8CE2}" type="slidenum">
              <a:rPr b="1" lang="it-IT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38268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114800"/>
            <a:ext cx="5486400" cy="4505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Wrt 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 w.r.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AF6C-19E5-43BC-B084-C757644E9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3A9-C230-40FD-A722-6F13EE8A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4E6B-3DB5-4E43-A370-3FF43E2E1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EF8F-46BD-4F0E-B43A-750F21732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EC1C-9C89-427C-8773-F1978ED4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2071-28D7-4DC6-B704-1D49C1BD7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5A3-C2D9-45C5-965D-7BDFC650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73C5-D56D-4407-9A1D-67E16AE4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526E-26FC-40BB-96F3-3BEDB88F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FD6-3ADA-4D40-9EEB-E9C949C18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B94C-FF1D-4982-B100-8BFBCD9E3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94E2-08C0-4CC1-824C-8E434CF7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3498-8300-408F-A429-D77F703544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2.png"/><Relationship Id="rId16" Type="http://schemas.openxmlformats.org/officeDocument/2006/relationships/image" Target="../media/image2.pn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image" Target="../media/image2.png"/><Relationship Id="rId20" Type="http://schemas.openxmlformats.org/officeDocument/2006/relationships/image" Target="../media/image2.png"/><Relationship Id="rId21" Type="http://schemas.openxmlformats.org/officeDocument/2006/relationships/image" Target="../media/image2.png"/><Relationship Id="rId22" Type="http://schemas.openxmlformats.org/officeDocument/2006/relationships/image" Target="../media/image2.png"/><Relationship Id="rId23" Type="http://schemas.openxmlformats.org/officeDocument/2006/relationships/image" Target="../media/image2.png"/><Relationship Id="rId24" Type="http://schemas.openxmlformats.org/officeDocument/2006/relationships/image" Target="../media/image2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image" Target="../media/image2.png"/><Relationship Id="rId28" Type="http://schemas.openxmlformats.org/officeDocument/2006/relationships/image" Target="../media/image2.png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2.png"/><Relationship Id="rId32" Type="http://schemas.openxmlformats.org/officeDocument/2006/relationships/image" Target="../media/image2.png"/><Relationship Id="rId33" Type="http://schemas.openxmlformats.org/officeDocument/2006/relationships/image" Target="../media/image2.png"/><Relationship Id="rId34" Type="http://schemas.openxmlformats.org/officeDocument/2006/relationships/image" Target="../media/image2.png"/><Relationship Id="rId35" Type="http://schemas.openxmlformats.org/officeDocument/2006/relationships/image" Target="../media/image2.png"/><Relationship Id="rId36" Type="http://schemas.openxmlformats.org/officeDocument/2006/relationships/image" Target="../media/image2.png"/><Relationship Id="rId37" Type="http://schemas.openxmlformats.org/officeDocument/2006/relationships/image" Target="../media/image2.png"/><Relationship Id="rId38" Type="http://schemas.openxmlformats.org/officeDocument/2006/relationships/image" Target="../media/image2.png"/><Relationship Id="rId39" Type="http://schemas.openxmlformats.org/officeDocument/2006/relationships/image" Target="../media/image2.png"/><Relationship Id="rId40" Type="http://schemas.openxmlformats.org/officeDocument/2006/relationships/image" Target="../media/image2.png"/><Relationship Id="rId41" Type="http://schemas.openxmlformats.org/officeDocument/2006/relationships/image" Target="../media/image2.png"/><Relationship Id="rId42" Type="http://schemas.openxmlformats.org/officeDocument/2006/relationships/image" Target="../media/image2.png"/><Relationship Id="rId43" Type="http://schemas.openxmlformats.org/officeDocument/2006/relationships/image" Target="../media/image2.png"/><Relationship Id="rId44" Type="http://schemas.openxmlformats.org/officeDocument/2006/relationships/image" Target="../media/image2.png"/><Relationship Id="rId45" Type="http://schemas.openxmlformats.org/officeDocument/2006/relationships/image" Target="../media/image2.png"/><Relationship Id="rId46" Type="http://schemas.openxmlformats.org/officeDocument/2006/relationships/image" Target="../media/image2.png"/><Relationship Id="rId47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BC3D-6EE1-444B-AF6B-3B4774DD2FC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help isolate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facilitate debugg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repea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ing the same experiment, we should get the same resul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may not be true because of the effect of execution environment on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cause of nondetermi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accu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4D59-A179-404D-8E41-4DF63FB905C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"/>
          <p:cNvSpPr/>
          <p:nvPr/>
        </p:nvSpPr>
        <p:spPr>
          <a:xfrm>
            <a:off x="182880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0" name="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6553080" cy="4815000"/>
          </a:xfrm>
          <a:prstGeom prst="rect">
            <a:avLst/>
          </a:prstGeom>
          <a:ln w="0">
            <a:noFill/>
          </a:ln>
        </p:spPr>
      </p:pic>
      <p:sp>
        <p:nvSpPr>
          <p:cNvPr id="711" name=""/>
          <p:cNvSpPr/>
          <p:nvPr/>
        </p:nvSpPr>
        <p:spPr>
          <a:xfrm>
            <a:off x="1062720" y="38088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SM representing markings of a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B8B1-2F22-4DD4-B6E1-14A530459E8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4348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1447920" y="990720"/>
            <a:ext cx="5943600" cy="530532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2803680" y="380880"/>
            <a:ext cx="31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original P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01FC-81DC-42B0-AF66-5BE214C68C8E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and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operty to be verified given through a formula (in temporal log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, one can pro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always a computation that allows the left process to enter the critical reg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re is no guarantee that the left process accesses the shared resource unless it already owns i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D157-E7B5-41DA-88F3-015B677DE559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y so many approaches to testing and analysi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versus (correctness)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mal versus informal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-box versus black-box techniq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ques in the small/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ully automatic vs. semiautomatic techniques (for undecidable properti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iew all these as complement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710BA-F771-46FF-BDCC-FA82121BB6D9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bugg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ctivity of locating and correcting err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t can start once a failure has been detect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goal is closing up the gap between a fault and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 dumps, watch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assertions can hel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3B6A-7553-49D5-9521-43C78F6E269B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other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7487-B7C4-4AB8-B017-02734B46EE9B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rst case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is on proving that the system response time is bounded by some function of the external reques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s. average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ndard devi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tical vs. experimental approach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316C-D2DA-4316-B382-1E85C94384EA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are approach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measuring reliability on a probabilistic basis, as in other engineering fiel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Unfortunately there are some difficulties with this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ependence of failures does not hold for softwar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09D8-11A0-4D74-A186-CBA04E2AAC2D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liability is concerned with measuring the probability of the occurrence of fail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aningful parameters includ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total number of failures observed at time t: AF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 intensity: FI(t)=AF'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 time to failure at time t: MTTF(t)=1/FI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ime in the model can be execution or clock or calendar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0B9B-0ECF-4845-B589-02BC1672E812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Basic reliability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that the decrement per failure experienced (i.e., the derivative with respect to the number of detected failures) of the failure intensity function is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.e., FI is a function of A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1 - AF/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initial failure intensity and AF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s the total number of fail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el is based on optimistic hypothesi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a decrease in failures is due to the fixing of the errors that were sources of fail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3E4A-C696-4C74-BFAD-9442ADF85DB5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oretical foundation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of testi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022D-8EC8-4590-AE81-BEBF310B38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arithmic mode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umes, more conservatively, that the decrement per failure of FI decreases exponentiall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(AF) = F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  <a:ea typeface="Times New Roman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xp ( -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F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failure intensity decay paramet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845-75D2-4179-B95B-3E2DCFE0126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"/>
          <p:cNvSpPr/>
          <p:nvPr/>
        </p:nvSpPr>
        <p:spPr>
          <a:xfrm>
            <a:off x="27813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4" name=""/>
          <p:cNvGrpSpPr/>
          <p:nvPr/>
        </p:nvGrpSpPr>
        <p:grpSpPr>
          <a:xfrm>
            <a:off x="1766880" y="1117440"/>
            <a:ext cx="125280" cy="5356440"/>
            <a:chOff x="1766880" y="1117440"/>
            <a:chExt cx="125280" cy="5356440"/>
          </a:xfrm>
        </p:grpSpPr>
        <p:sp>
          <p:nvSpPr>
            <p:cNvPr id="735" name=""/>
            <p:cNvSpPr/>
            <p:nvPr/>
          </p:nvSpPr>
          <p:spPr>
            <a:xfrm>
              <a:off x="1766880" y="1117440"/>
              <a:ext cx="125280" cy="252720"/>
            </a:xfrm>
            <a:custGeom>
              <a:avLst/>
              <a:gdLst/>
              <a:ahLst/>
              <a:rect l="l" t="t" r="r" b="b"/>
              <a:pathLst>
                <a:path w="79" h="159">
                  <a:moveTo>
                    <a:pt x="45" y="0"/>
                  </a:moveTo>
                  <a:lnTo>
                    <a:pt x="79" y="159"/>
                  </a:lnTo>
                  <a:lnTo>
                    <a:pt x="45" y="159"/>
                  </a:lnTo>
                  <a:lnTo>
                    <a:pt x="0" y="159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38160" y="1370160"/>
              <a:ext cx="1800" cy="5103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1027080" y="5427720"/>
            <a:ext cx="6005520" cy="127080"/>
            <a:chOff x="1027080" y="5427720"/>
            <a:chExt cx="6005520" cy="127080"/>
          </a:xfrm>
        </p:grpSpPr>
        <p:sp>
          <p:nvSpPr>
            <p:cNvPr id="738" name=""/>
            <p:cNvSpPr/>
            <p:nvPr/>
          </p:nvSpPr>
          <p:spPr>
            <a:xfrm>
              <a:off x="6762600" y="5427720"/>
              <a:ext cx="270000" cy="127080"/>
            </a:xfrm>
            <a:custGeom>
              <a:avLst/>
              <a:gdLst/>
              <a:ahLst/>
              <a:rect l="l" t="t" r="r" b="b"/>
              <a:pathLst>
                <a:path w="170" h="80">
                  <a:moveTo>
                    <a:pt x="170" y="46"/>
                  </a:moveTo>
                  <a:lnTo>
                    <a:pt x="0" y="80"/>
                  </a:lnTo>
                  <a:lnTo>
                    <a:pt x="0" y="46"/>
                  </a:lnTo>
                  <a:lnTo>
                    <a:pt x="0" y="0"/>
                  </a:lnTo>
                  <a:lnTo>
                    <a:pt x="170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1027080" y="5500800"/>
              <a:ext cx="573552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0" name=""/>
          <p:cNvSpPr/>
          <p:nvPr/>
        </p:nvSpPr>
        <p:spPr>
          <a:xfrm>
            <a:off x="1838160" y="2903400"/>
            <a:ext cx="3895920" cy="25974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838160" y="2903400"/>
            <a:ext cx="325440" cy="1785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404720" y="1227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7412040" y="528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197800" y="4707000"/>
            <a:ext cx="13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243080" y="2633760"/>
            <a:ext cx="40788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88080" y="55548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17040" y="560880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073680" y="3516480"/>
            <a:ext cx="1387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506200" y="4653000"/>
            <a:ext cx="208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garithm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786040" y="194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1828800" y="2895480"/>
            <a:ext cx="4724280" cy="2210040"/>
          </a:xfrm>
          <a:custGeom>
            <a:avLst/>
            <a:gdLst/>
            <a:ahLst/>
            <a:rect l="l" t="t" r="r" b="b"/>
            <a:pathLst>
              <a:path w="2976" h="1392">
                <a:moveTo>
                  <a:pt x="0" y="0"/>
                </a:moveTo>
                <a:cubicBezTo>
                  <a:pt x="32" y="136"/>
                  <a:pt x="64" y="272"/>
                  <a:pt x="96" y="384"/>
                </a:cubicBezTo>
                <a:cubicBezTo>
                  <a:pt x="128" y="496"/>
                  <a:pt x="144" y="576"/>
                  <a:pt x="192" y="672"/>
                </a:cubicBezTo>
                <a:cubicBezTo>
                  <a:pt x="240" y="768"/>
                  <a:pt x="256" y="872"/>
                  <a:pt x="384" y="960"/>
                </a:cubicBezTo>
                <a:cubicBezTo>
                  <a:pt x="512" y="1048"/>
                  <a:pt x="696" y="1136"/>
                  <a:pt x="960" y="1200"/>
                </a:cubicBezTo>
                <a:cubicBezTo>
                  <a:pt x="1224" y="1264"/>
                  <a:pt x="1632" y="1312"/>
                  <a:pt x="1968" y="1344"/>
                </a:cubicBezTo>
                <a:cubicBezTo>
                  <a:pt x="2304" y="1376"/>
                  <a:pt x="2640" y="1384"/>
                  <a:pt x="2976" y="139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927E-578F-4560-BC20-6035A78D91DB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3" name=""/>
          <p:cNvGrpSpPr/>
          <p:nvPr/>
        </p:nvGrpSpPr>
        <p:grpSpPr>
          <a:xfrm>
            <a:off x="2104920" y="1359000"/>
            <a:ext cx="115920" cy="4944960"/>
            <a:chOff x="2104920" y="1359000"/>
            <a:chExt cx="115920" cy="4944960"/>
          </a:xfrm>
        </p:grpSpPr>
        <p:sp>
          <p:nvSpPr>
            <p:cNvPr id="754" name=""/>
            <p:cNvSpPr/>
            <p:nvPr/>
          </p:nvSpPr>
          <p:spPr>
            <a:xfrm>
              <a:off x="2104920" y="1359000"/>
              <a:ext cx="115920" cy="233280"/>
            </a:xfrm>
            <a:custGeom>
              <a:avLst/>
              <a:gdLst/>
              <a:ahLst/>
              <a:rect l="l" t="t" r="r" b="b"/>
              <a:pathLst>
                <a:path w="73" h="147">
                  <a:moveTo>
                    <a:pt x="42" y="0"/>
                  </a:moveTo>
                  <a:lnTo>
                    <a:pt x="73" y="147"/>
                  </a:lnTo>
                  <a:lnTo>
                    <a:pt x="42" y="147"/>
                  </a:lnTo>
                  <a:lnTo>
                    <a:pt x="0" y="147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2171880" y="1592280"/>
              <a:ext cx="1440" cy="4711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6" name=""/>
          <p:cNvGrpSpPr/>
          <p:nvPr/>
        </p:nvGrpSpPr>
        <p:grpSpPr>
          <a:xfrm>
            <a:off x="1420560" y="5337000"/>
            <a:ext cx="5550120" cy="133560"/>
            <a:chOff x="1420560" y="5337000"/>
            <a:chExt cx="5550120" cy="133560"/>
          </a:xfrm>
        </p:grpSpPr>
        <p:sp>
          <p:nvSpPr>
            <p:cNvPr id="757" name=""/>
            <p:cNvSpPr/>
            <p:nvPr/>
          </p:nvSpPr>
          <p:spPr>
            <a:xfrm>
              <a:off x="6719760" y="5337000"/>
              <a:ext cx="250920" cy="133560"/>
            </a:xfrm>
            <a:custGeom>
              <a:avLst/>
              <a:gdLst/>
              <a:ahLst/>
              <a:rect l="l" t="t" r="r" b="b"/>
              <a:pathLst>
                <a:path w="158" h="84">
                  <a:moveTo>
                    <a:pt x="158" y="42"/>
                  </a:moveTo>
                  <a:lnTo>
                    <a:pt x="0" y="84"/>
                  </a:lnTo>
                  <a:lnTo>
                    <a:pt x="0" y="42"/>
                  </a:lnTo>
                  <a:lnTo>
                    <a:pt x="0" y="0"/>
                  </a:lnTo>
                  <a:lnTo>
                    <a:pt x="15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1420560" y="5403960"/>
              <a:ext cx="52988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2171880" y="3006720"/>
            <a:ext cx="5398920" cy="14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179800" y="3465360"/>
            <a:ext cx="6448320" cy="3597120"/>
            <a:chOff x="2179800" y="3465360"/>
            <a:chExt cx="6448320" cy="3597120"/>
          </a:xfrm>
        </p:grpSpPr>
        <p:sp>
          <p:nvSpPr>
            <p:cNvPr id="761" name=""/>
            <p:cNvSpPr/>
            <p:nvPr/>
          </p:nvSpPr>
          <p:spPr>
            <a:xfrm>
              <a:off x="2179800" y="3763800"/>
              <a:ext cx="2399400" cy="32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38"/>
                  </a:moveTo>
                  <a:arcTo wR="10800" hR="10800" stAng="-10780269" swAng="5357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38"/>
                  </a:moveTo>
                  <a:arcTo wR="10800" hR="10800" stAng="-10780269" swAng="535765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630520" y="3465360"/>
              <a:ext cx="5997600" cy="149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62"/>
                  </a:moveTo>
                  <a:arcTo wR="10800" hR="10800" stAng="-10756175" swAng="53453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62"/>
                  </a:moveTo>
                  <a:arcTo wR="10800" hR="10800" stAng="-10756175" swAng="534537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3" name=""/>
          <p:cNvSpPr/>
          <p:nvPr/>
        </p:nvSpPr>
        <p:spPr>
          <a:xfrm>
            <a:off x="1754280" y="115884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604880" y="2757600"/>
            <a:ext cx="325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1815120" y="2906640"/>
            <a:ext cx="192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103880" y="51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13040" y="3556080"/>
            <a:ext cx="1442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Basic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2198520" y="2569680"/>
            <a:ext cx="3768840" cy="5693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64"/>
                </a:moveTo>
                <a:arcTo wR="10800" hR="10800" stAng="-10788446" swAng="2690683"/>
                <a:lnTo>
                  <a:pt x="10800" y="10800"/>
                </a:lnTo>
                <a:close/>
              </a:path>
              <a:path fill="none" w="21600" h="21600">
                <a:moveTo>
                  <a:pt x="0" y="10764"/>
                </a:moveTo>
                <a:arcTo wR="10800" hR="10800" stAng="-10788446" swAng="269068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5661720" y="1608120"/>
            <a:ext cx="14986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eneva"/>
              </a:rPr>
              <a:t>Logarithm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690880" y="1825560"/>
            <a:ext cx="758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eneva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336760" y="533520"/>
            <a:ext cx="375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compa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2743200" y="2438280"/>
            <a:ext cx="2743200" cy="990720"/>
          </a:xfrm>
          <a:custGeom>
            <a:avLst/>
            <a:gdLst/>
            <a:ahLst/>
            <a:rect l="l" t="t" r="r" b="b"/>
            <a:pathLst>
              <a:path w="1728" h="624">
                <a:moveTo>
                  <a:pt x="0" y="624"/>
                </a:moveTo>
                <a:cubicBezTo>
                  <a:pt x="28" y="576"/>
                  <a:pt x="56" y="528"/>
                  <a:pt x="96" y="480"/>
                </a:cubicBezTo>
                <a:cubicBezTo>
                  <a:pt x="136" y="432"/>
                  <a:pt x="168" y="384"/>
                  <a:pt x="240" y="336"/>
                </a:cubicBezTo>
                <a:cubicBezTo>
                  <a:pt x="312" y="288"/>
                  <a:pt x="400" y="232"/>
                  <a:pt x="528" y="192"/>
                </a:cubicBezTo>
                <a:cubicBezTo>
                  <a:pt x="656" y="152"/>
                  <a:pt x="808" y="128"/>
                  <a:pt x="1008" y="96"/>
                </a:cubicBezTo>
                <a:cubicBezTo>
                  <a:pt x="1208" y="64"/>
                  <a:pt x="1608" y="16"/>
                  <a:pt x="1728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8B10-1EF2-41E2-B7E3-76B8A46AC6E3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ubjective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notions lik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city, reusability, understandabilit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science (due to Halstead) has been an attem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7F8E-0E20-4FA4-8FBD-D2ACDDC2A0C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lstead's software science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es to measure some software qualities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straction level, effort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easuring some quantities on code,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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, number of distinct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distinct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umber of occurrences of operator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occurrences of operands in the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939E-2D14-41C2-8CB2-5F5C588FF4B0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cCabe's source code metri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yclomatic complexity of the control grap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 = e - n + 2 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 is # edges, n is # nodes, p is # connected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cCabe contends that well-structured modules have C in range 3 .. 7, and C = 10 is a reasonable upper limit for the complexity of a single modu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firmed by empirical evidenc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0CF9-C390-4DDA-B8D3-7D808F2F712B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-question-metric (GQM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mi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metrics must be used to analyze software qualities, not to evaluate peo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quality evaluation must be of end product, intermediate products,  and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 must be defined in the context of a complete and well-designed quality improvement paradigm (Q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4A83-822C-40F9-B083-2F937FDB1A3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Q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 concerned with measuring a single quantity or group of qua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cyclomatic complex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method that is intended to lead from a precise definition of the objectives of measuring qual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a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to the quantities (th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whose measures are used to verify the achievement of such qualities.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E019-C8D7-405C-B23C-18139829F3E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meth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goal precisely—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he information system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with the purpose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estimating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rom the point of view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nage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context of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 major software hou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e suitable set of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question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aimed at achieving the stated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 a precis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etric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with every question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1385-37D8-4497-B0A1-7CED704C7564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 (program), D (input domain), R (output domai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: D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R (may be partia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defined by 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(d) correct if &lt;d, P(d)&gt;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 correct if all P(d) are 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824-AEE6-4657-84F4-FE582ABCC4C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(d) is not corr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undefined (error state) or may be the wrong res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(DEFE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thing that may cause a 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ing mist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grammer forgot to test “x = 0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rrect intermediate state entered by pro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3418-A2AA-4FF1-B8C0-1636EEC7B71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case 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lemen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finite subset of 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is successful if P(t) is corr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set successful if P correct for all t in 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39E2-D33E-4B8D-AB97-D985208E2AB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 (4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al test set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n element of T such that P(d) is incor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f an ideal test set exists for any program, we could prove program correctness by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FFA6-4A87-40D9-861D-E9561B1EF08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riterion C defines finite subsets of D (test se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test set T satisfies C if it is an element of 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 = {&lt;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...,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 | 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i, j, k, (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=0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0)}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5, 0, 22&gt; is a test set that satisfies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-10, 2, 8, 33, 0, -19&gt; also do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1, 3, 99&gt; does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674F-574D-4D86-86F9-6666982BA1E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airs T1, T2 satisfying C, T1 is successful iff T2 is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 either of them provides the “same”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 is incorrect, there is a test set T of C that is not 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 is complete and 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an ideal test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orrectness to be prov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31AC-82D5-47E5-B4BB-C5E948DFEF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criteria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1 is finer than C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program 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y T1 satisfying C1 there is a subset T2 of T1 which satisfies C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AEAC-9FD7-4F87-B36A-3AE6F82B481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e is effective, i.e., no algorithms exist to state if a program, test set, or criterion has that prope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articular, there is no algorithm to derive a test set that would prove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structive criterion that is consistent and 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B0F1-6F04-49C7-A955-0A543EA6304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goals of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ver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kind of assurance do we get through testing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testing be done systematically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can we remove defects (debugging)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main approaches to software analysi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vs. fo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1377-D83E-45DB-8E5E-EE28CCC7BD0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mpirical test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77724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tempted compromise between the impossible and the inadequa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 strategy to select significant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=has high potential of uncovering presence of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66F-7086-48D9-BD71-AA53F465789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y to group elements of D into subdomains D1, D2, …, Dn where any element of each Di is likely to have similar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 = D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2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one test as a representative of the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k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all j, k (partition), any element can be chosen from each sub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choose representatives to minimize number of tests, yet fulfilling the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D8A0-49C3-4C82-A0A6-B3628D791BB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-Coverage Princi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3048120"/>
            <a:ext cx="7348680" cy="2387520"/>
          </a:xfrm>
          <a:custGeom>
            <a:avLst/>
            <a:gdLst/>
            <a:ahLst/>
            <a:rect l="l" t="t" r="r" b="b"/>
            <a:pathLst>
              <a:path w="4629" h="1504">
                <a:moveTo>
                  <a:pt x="205" y="313"/>
                </a:moveTo>
                <a:lnTo>
                  <a:pt x="0" y="854"/>
                </a:lnTo>
                <a:lnTo>
                  <a:pt x="692" y="1034"/>
                </a:lnTo>
                <a:lnTo>
                  <a:pt x="752" y="1310"/>
                </a:lnTo>
                <a:lnTo>
                  <a:pt x="1608" y="1503"/>
                </a:lnTo>
                <a:lnTo>
                  <a:pt x="1983" y="1299"/>
                </a:lnTo>
                <a:lnTo>
                  <a:pt x="2645" y="1454"/>
                </a:lnTo>
                <a:lnTo>
                  <a:pt x="3652" y="1430"/>
                </a:lnTo>
                <a:lnTo>
                  <a:pt x="3883" y="962"/>
                </a:lnTo>
                <a:lnTo>
                  <a:pt x="4388" y="734"/>
                </a:lnTo>
                <a:lnTo>
                  <a:pt x="4628" y="217"/>
                </a:lnTo>
                <a:lnTo>
                  <a:pt x="3802" y="109"/>
                </a:lnTo>
                <a:lnTo>
                  <a:pt x="3402" y="373"/>
                </a:lnTo>
                <a:lnTo>
                  <a:pt x="2780" y="120"/>
                </a:lnTo>
                <a:lnTo>
                  <a:pt x="1818" y="25"/>
                </a:lnTo>
                <a:lnTo>
                  <a:pt x="1729" y="409"/>
                </a:lnTo>
                <a:lnTo>
                  <a:pt x="1082" y="133"/>
                </a:lnTo>
                <a:lnTo>
                  <a:pt x="572" y="0"/>
                </a:lnTo>
                <a:lnTo>
                  <a:pt x="734" y="229"/>
                </a:lnTo>
                <a:lnTo>
                  <a:pt x="205" y="313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950080" y="3763800"/>
            <a:ext cx="177840" cy="17784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511280" y="3675240"/>
            <a:ext cx="177840" cy="1774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91080" y="4616280"/>
            <a:ext cx="177840" cy="17784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24360" y="4238640"/>
            <a:ext cx="177840" cy="1792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270400" y="3879720"/>
            <a:ext cx="177840" cy="1796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99120" y="4402080"/>
            <a:ext cx="179280" cy="1778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465200" y="4138560"/>
            <a:ext cx="177840" cy="177840"/>
          </a:xfrm>
          <a:prstGeom prst="ellipse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023920" y="3724200"/>
            <a:ext cx="179640" cy="177840"/>
          </a:xfrm>
          <a:prstGeom prst="ellipse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92200" y="3844800"/>
            <a:ext cx="177840" cy="177840"/>
          </a:xfrm>
          <a:prstGeom prst="ellipse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882800" y="4135320"/>
            <a:ext cx="177840" cy="177840"/>
          </a:xfrm>
          <a:prstGeom prst="ellipse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233440" y="4349880"/>
            <a:ext cx="177840" cy="177840"/>
          </a:xfrm>
          <a:prstGeom prst="ellipse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88000" y="4411800"/>
            <a:ext cx="179640" cy="177840"/>
          </a:xfrm>
          <a:prstGeom prst="ellipse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165320" y="3808440"/>
            <a:ext cx="177840" cy="177840"/>
          </a:xfrm>
          <a:prstGeom prst="ellipse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57880" y="3379680"/>
            <a:ext cx="177840" cy="179640"/>
          </a:xfrm>
          <a:prstGeom prst="ellipse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084560" y="4530600"/>
            <a:ext cx="179640" cy="177840"/>
          </a:xfrm>
          <a:prstGeom prst="ellipse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9640" y="3848040"/>
            <a:ext cx="177480" cy="177840"/>
          </a:xfrm>
          <a:prstGeom prst="ellipse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64440" y="3797280"/>
            <a:ext cx="179280" cy="177840"/>
          </a:xfrm>
          <a:prstGeom prst="ellipse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608280" y="4125960"/>
            <a:ext cx="177840" cy="177840"/>
          </a:xfrm>
          <a:prstGeom prst="ellipse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16200" y="3519360"/>
            <a:ext cx="177840" cy="179640"/>
          </a:xfrm>
          <a:prstGeom prst="ellipse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84520" y="4135320"/>
            <a:ext cx="177840" cy="177840"/>
          </a:xfrm>
          <a:prstGeom prst="ellipse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27400" y="4618080"/>
            <a:ext cx="177840" cy="177840"/>
          </a:xfrm>
          <a:prstGeom prst="ellipse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99280" y="3419640"/>
            <a:ext cx="177840" cy="177480"/>
          </a:xfrm>
          <a:prstGeom prst="ellipse">
            <a:avLst/>
          </a:prstGeom>
          <a:blipFill rotWithShape="0">
            <a:blip r:embed="rId2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7200" y="4094280"/>
            <a:ext cx="177840" cy="177840"/>
          </a:xfrm>
          <a:prstGeom prst="ellipse">
            <a:avLst/>
          </a:prstGeom>
          <a:blipFill rotWithShape="0">
            <a:blip r:embed="rId2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01760" y="3240000"/>
            <a:ext cx="179640" cy="177840"/>
          </a:xfrm>
          <a:prstGeom prst="ellipse">
            <a:avLst/>
          </a:prstGeom>
          <a:blipFill rotWithShape="0">
            <a:blip r:embed="rId2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95840" y="3349800"/>
            <a:ext cx="177840" cy="177480"/>
          </a:xfrm>
          <a:prstGeom prst="ellipse">
            <a:avLst/>
          </a:prstGeom>
          <a:blipFill rotWithShape="0">
            <a:blip r:embed="rId2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7480" y="3543480"/>
            <a:ext cx="177840" cy="177480"/>
          </a:xfrm>
          <a:prstGeom prst="ellipse">
            <a:avLst/>
          </a:prstGeom>
          <a:blipFill rotWithShape="0">
            <a:blip r:embed="rId2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87680" y="4540320"/>
            <a:ext cx="177840" cy="177840"/>
          </a:xfrm>
          <a:prstGeom prst="ellipse">
            <a:avLst/>
          </a:prstGeom>
          <a:blipFill rotWithShape="0">
            <a:blip r:embed="rId2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31040" y="3648240"/>
            <a:ext cx="177840" cy="177480"/>
          </a:xfrm>
          <a:prstGeom prst="ellipse">
            <a:avLst/>
          </a:prstGeom>
          <a:blipFill rotWithShape="0">
            <a:blip r:embed="rId2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26200" y="4608360"/>
            <a:ext cx="177840" cy="177840"/>
          </a:xfrm>
          <a:prstGeom prst="ellipse">
            <a:avLst/>
          </a:prstGeom>
          <a:blipFill rotWithShape="0">
            <a:blip r:embed="rId3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2640" y="4249800"/>
            <a:ext cx="177840" cy="177840"/>
          </a:xfrm>
          <a:prstGeom prst="ellipse">
            <a:avLst/>
          </a:prstGeom>
          <a:blipFill rotWithShape="0">
            <a:blip r:embed="rId3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51000" y="4618080"/>
            <a:ext cx="179640" cy="177840"/>
          </a:xfrm>
          <a:prstGeom prst="ellipse">
            <a:avLst/>
          </a:prstGeom>
          <a:blipFill rotWithShape="0">
            <a:blip r:embed="rId3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14960" y="4870440"/>
            <a:ext cx="177840" cy="179280"/>
          </a:xfrm>
          <a:prstGeom prst="ellipse">
            <a:avLst/>
          </a:prstGeom>
          <a:blipFill rotWithShape="0">
            <a:blip r:embed="rId3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643120" y="4743360"/>
            <a:ext cx="177840" cy="177840"/>
          </a:xfrm>
          <a:prstGeom prst="ellipse">
            <a:avLst/>
          </a:prstGeom>
          <a:blipFill rotWithShape="0">
            <a:blip r:embed="rId3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751800" y="3755880"/>
            <a:ext cx="177480" cy="177840"/>
          </a:xfrm>
          <a:prstGeom prst="ellipse">
            <a:avLst/>
          </a:prstGeom>
          <a:blipFill rotWithShape="0">
            <a:blip r:embed="rId3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03560" y="3780000"/>
            <a:ext cx="179280" cy="177480"/>
          </a:xfrm>
          <a:prstGeom prst="ellipse">
            <a:avLst/>
          </a:prstGeom>
          <a:blipFill rotWithShape="0">
            <a:blip r:embed="rId3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0120" y="3467160"/>
            <a:ext cx="179280" cy="177840"/>
          </a:xfrm>
          <a:prstGeom prst="ellipse">
            <a:avLst/>
          </a:prstGeom>
          <a:blipFill rotWithShape="0">
            <a:blip r:embed="rId3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30760" y="3186000"/>
            <a:ext cx="177840" cy="177840"/>
          </a:xfrm>
          <a:prstGeom prst="ellipse">
            <a:avLst/>
          </a:prstGeom>
          <a:blipFill rotWithShape="0">
            <a:blip r:embed="rId3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83120" y="3971880"/>
            <a:ext cx="179280" cy="179280"/>
          </a:xfrm>
          <a:prstGeom prst="ellipse">
            <a:avLst/>
          </a:prstGeom>
          <a:blipFill rotWithShape="0">
            <a:blip r:embed="rId3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99320" y="3328920"/>
            <a:ext cx="177840" cy="177840"/>
          </a:xfrm>
          <a:prstGeom prst="ellipse">
            <a:avLst/>
          </a:prstGeom>
          <a:blipFill rotWithShape="0">
            <a:blip r:embed="rId4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2280" y="4268880"/>
            <a:ext cx="177840" cy="177840"/>
          </a:xfrm>
          <a:prstGeom prst="ellipse">
            <a:avLst/>
          </a:prstGeom>
          <a:blipFill rotWithShape="0">
            <a:blip r:embed="rId4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70640" y="4103640"/>
            <a:ext cx="177840" cy="179280"/>
          </a:xfrm>
          <a:prstGeom prst="ellipse">
            <a:avLst/>
          </a:prstGeom>
          <a:blipFill rotWithShape="0">
            <a:blip r:embed="rId4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70720" y="4660920"/>
            <a:ext cx="177480" cy="177840"/>
          </a:xfrm>
          <a:prstGeom prst="ellipse">
            <a:avLst/>
          </a:prstGeom>
          <a:blipFill rotWithShape="0">
            <a:blip r:embed="rId4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63960" y="4913280"/>
            <a:ext cx="177840" cy="179280"/>
          </a:xfrm>
          <a:prstGeom prst="ellipse">
            <a:avLst/>
          </a:prstGeom>
          <a:blipFill rotWithShape="0">
            <a:blip r:embed="rId4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65440" y="4917960"/>
            <a:ext cx="177840" cy="179640"/>
          </a:xfrm>
          <a:prstGeom prst="ellipse">
            <a:avLst/>
          </a:prstGeom>
          <a:blipFill rotWithShape="0">
            <a:blip r:embed="rId4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7040" y="4046400"/>
            <a:ext cx="177840" cy="177840"/>
          </a:xfrm>
          <a:prstGeom prst="ellipse">
            <a:avLst/>
          </a:prstGeom>
          <a:blipFill rotWithShape="0">
            <a:blip r:embed="rId4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33560" y="3581280"/>
            <a:ext cx="1271520" cy="885960"/>
          </a:xfrm>
          <a:custGeom>
            <a:avLst/>
            <a:gdLst/>
            <a:ahLst/>
            <a:rect l="l" t="t" r="r" b="b"/>
            <a:pathLst>
              <a:path w="801" h="558">
                <a:moveTo>
                  <a:pt x="232" y="0"/>
                </a:moveTo>
                <a:lnTo>
                  <a:pt x="0" y="163"/>
                </a:lnTo>
                <a:lnTo>
                  <a:pt x="104" y="476"/>
                </a:lnTo>
                <a:lnTo>
                  <a:pt x="603" y="557"/>
                </a:lnTo>
                <a:lnTo>
                  <a:pt x="765" y="325"/>
                </a:lnTo>
                <a:lnTo>
                  <a:pt x="800" y="0"/>
                </a:lnTo>
                <a:lnTo>
                  <a:pt x="232" y="0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401840" y="3600360"/>
            <a:ext cx="38160" cy="1800"/>
          </a:xfrm>
          <a:custGeom>
            <a:avLst/>
            <a:gdLst/>
            <a:ahLst/>
            <a:rect l="l" t="t" r="r" b="b"/>
            <a:pathLst>
              <a:path w="24" h="1">
                <a:moveTo>
                  <a:pt x="0" y="0"/>
                </a:moveTo>
                <a:lnTo>
                  <a:pt x="23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3880" y="3159000"/>
            <a:ext cx="1879560" cy="2025720"/>
          </a:xfrm>
          <a:custGeom>
            <a:avLst/>
            <a:gdLst/>
            <a:ahLst/>
            <a:rect l="l" t="t" r="r" b="b"/>
            <a:pathLst>
              <a:path w="1184" h="1276">
                <a:moveTo>
                  <a:pt x="0" y="11"/>
                </a:moveTo>
                <a:lnTo>
                  <a:pt x="12" y="208"/>
                </a:lnTo>
                <a:lnTo>
                  <a:pt x="278" y="232"/>
                </a:lnTo>
                <a:lnTo>
                  <a:pt x="151" y="498"/>
                </a:lnTo>
                <a:lnTo>
                  <a:pt x="220" y="661"/>
                </a:lnTo>
                <a:lnTo>
                  <a:pt x="23" y="777"/>
                </a:lnTo>
                <a:lnTo>
                  <a:pt x="116" y="1148"/>
                </a:lnTo>
                <a:lnTo>
                  <a:pt x="684" y="1275"/>
                </a:lnTo>
                <a:lnTo>
                  <a:pt x="881" y="1171"/>
                </a:lnTo>
                <a:lnTo>
                  <a:pt x="939" y="1032"/>
                </a:lnTo>
                <a:lnTo>
                  <a:pt x="1125" y="997"/>
                </a:lnTo>
                <a:lnTo>
                  <a:pt x="1183" y="510"/>
                </a:lnTo>
                <a:lnTo>
                  <a:pt x="846" y="371"/>
                </a:lnTo>
                <a:lnTo>
                  <a:pt x="325" y="93"/>
                </a:lnTo>
                <a:lnTo>
                  <a:pt x="185" y="0"/>
                </a:ln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082960" y="3159000"/>
            <a:ext cx="18720" cy="38160"/>
          </a:xfrm>
          <a:custGeom>
            <a:avLst/>
            <a:gdLst/>
            <a:ahLst/>
            <a:rect l="l" t="t" r="r" b="b"/>
            <a:pathLst>
              <a:path w="12" h="24">
                <a:moveTo>
                  <a:pt x="0" y="0"/>
                </a:moveTo>
                <a:lnTo>
                  <a:pt x="11" y="2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44840" y="3084480"/>
            <a:ext cx="1712880" cy="2100240"/>
          </a:xfrm>
          <a:custGeom>
            <a:avLst/>
            <a:gdLst/>
            <a:ahLst/>
            <a:rect l="l" t="t" r="r" b="b"/>
            <a:pathLst>
              <a:path w="1079" h="1323">
                <a:moveTo>
                  <a:pt x="220" y="418"/>
                </a:moveTo>
                <a:lnTo>
                  <a:pt x="185" y="47"/>
                </a:lnTo>
                <a:lnTo>
                  <a:pt x="371" y="0"/>
                </a:lnTo>
                <a:lnTo>
                  <a:pt x="637" y="151"/>
                </a:lnTo>
                <a:lnTo>
                  <a:pt x="881" y="82"/>
                </a:lnTo>
                <a:lnTo>
                  <a:pt x="1078" y="128"/>
                </a:lnTo>
                <a:lnTo>
                  <a:pt x="1043" y="545"/>
                </a:lnTo>
                <a:lnTo>
                  <a:pt x="1066" y="789"/>
                </a:lnTo>
                <a:lnTo>
                  <a:pt x="950" y="1044"/>
                </a:lnTo>
                <a:lnTo>
                  <a:pt x="591" y="1160"/>
                </a:lnTo>
                <a:lnTo>
                  <a:pt x="266" y="1195"/>
                </a:lnTo>
                <a:lnTo>
                  <a:pt x="173" y="1322"/>
                </a:lnTo>
                <a:lnTo>
                  <a:pt x="0" y="1253"/>
                </a:lnTo>
                <a:lnTo>
                  <a:pt x="92" y="1102"/>
                </a:lnTo>
                <a:lnTo>
                  <a:pt x="347" y="1055"/>
                </a:lnTo>
                <a:lnTo>
                  <a:pt x="394" y="766"/>
                </a:lnTo>
                <a:lnTo>
                  <a:pt x="336" y="534"/>
                </a:lnTo>
                <a:lnTo>
                  <a:pt x="220" y="418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794040" y="37116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0"/>
                </a:moveTo>
                <a:lnTo>
                  <a:pt x="0" y="1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45040" y="3251160"/>
            <a:ext cx="977760" cy="1933560"/>
          </a:xfrm>
          <a:custGeom>
            <a:avLst/>
            <a:gdLst/>
            <a:ahLst/>
            <a:rect l="l" t="t" r="r" b="b"/>
            <a:pathLst>
              <a:path w="616" h="1218">
                <a:moveTo>
                  <a:pt x="139" y="23"/>
                </a:moveTo>
                <a:lnTo>
                  <a:pt x="93" y="382"/>
                </a:lnTo>
                <a:lnTo>
                  <a:pt x="93" y="579"/>
                </a:lnTo>
                <a:lnTo>
                  <a:pt x="116" y="661"/>
                </a:lnTo>
                <a:lnTo>
                  <a:pt x="0" y="916"/>
                </a:lnTo>
                <a:lnTo>
                  <a:pt x="0" y="1217"/>
                </a:lnTo>
                <a:lnTo>
                  <a:pt x="394" y="1171"/>
                </a:lnTo>
                <a:lnTo>
                  <a:pt x="615" y="962"/>
                </a:lnTo>
                <a:lnTo>
                  <a:pt x="487" y="719"/>
                </a:lnTo>
                <a:lnTo>
                  <a:pt x="534" y="533"/>
                </a:lnTo>
                <a:lnTo>
                  <a:pt x="336" y="336"/>
                </a:lnTo>
                <a:lnTo>
                  <a:pt x="406" y="104"/>
                </a:lnTo>
                <a:lnTo>
                  <a:pt x="197" y="0"/>
                </a:lnTo>
                <a:lnTo>
                  <a:pt x="139" y="23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03880" y="3287880"/>
            <a:ext cx="1440" cy="20520"/>
          </a:xfrm>
          <a:custGeom>
            <a:avLst/>
            <a:gdLst/>
            <a:ahLst/>
            <a:rect l="l" t="t" r="r" b="b"/>
            <a:pathLst>
              <a:path w="1" h="13">
                <a:moveTo>
                  <a:pt x="0" y="0"/>
                </a:moveTo>
                <a:lnTo>
                  <a:pt x="0" y="1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62520" y="3195720"/>
            <a:ext cx="2192400" cy="1841400"/>
          </a:xfrm>
          <a:custGeom>
            <a:avLst/>
            <a:gdLst/>
            <a:ahLst/>
            <a:rect l="l" t="t" r="r" b="b"/>
            <a:pathLst>
              <a:path w="1381" h="1160">
                <a:moveTo>
                  <a:pt x="35" y="197"/>
                </a:moveTo>
                <a:lnTo>
                  <a:pt x="0" y="406"/>
                </a:lnTo>
                <a:lnTo>
                  <a:pt x="151" y="545"/>
                </a:lnTo>
                <a:lnTo>
                  <a:pt x="93" y="742"/>
                </a:lnTo>
                <a:lnTo>
                  <a:pt x="244" y="1055"/>
                </a:lnTo>
                <a:lnTo>
                  <a:pt x="429" y="1159"/>
                </a:lnTo>
                <a:lnTo>
                  <a:pt x="603" y="962"/>
                </a:lnTo>
                <a:lnTo>
                  <a:pt x="731" y="765"/>
                </a:lnTo>
                <a:lnTo>
                  <a:pt x="928" y="661"/>
                </a:lnTo>
                <a:lnTo>
                  <a:pt x="1148" y="522"/>
                </a:lnTo>
                <a:lnTo>
                  <a:pt x="1195" y="394"/>
                </a:lnTo>
                <a:lnTo>
                  <a:pt x="1322" y="301"/>
                </a:lnTo>
                <a:lnTo>
                  <a:pt x="1380" y="128"/>
                </a:lnTo>
                <a:lnTo>
                  <a:pt x="1067" y="70"/>
                </a:lnTo>
                <a:lnTo>
                  <a:pt x="847" y="70"/>
                </a:lnTo>
                <a:lnTo>
                  <a:pt x="673" y="0"/>
                </a:lnTo>
                <a:lnTo>
                  <a:pt x="511" y="174"/>
                </a:lnTo>
                <a:lnTo>
                  <a:pt x="302" y="290"/>
                </a:lnTo>
                <a:lnTo>
                  <a:pt x="35" y="197"/>
                </a:lnTo>
              </a:path>
            </a:pathLst>
          </a:custGeom>
          <a:noFill/>
          <a:ln cap="rnd" w="1260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89320" y="1676520"/>
            <a:ext cx="46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example of a part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4C14-4858-433A-981C-BAB1236AAA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smal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test individu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LACK BOX (function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the module’s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is supposed to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TE BOX (structural)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ing criteria based on module’s internal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what the program do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021-34D9-4E78-B67D-D5C49D6D97A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ite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14264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program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A4B6-0190-48B9-8173-0596488EF6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uctural Coverag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77310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In)adequacy criteri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ignificant parts of program structure are not tested, testing i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coverage criter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dition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C605-5E81-4623-95A9-2F9DC7EFD0A3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ment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lementary statement in P is execut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put datum executes many statement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ry to minimize the number of test cases still preserving the desired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B54-D250-41AF-8F83-979F93F343A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1938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2080" y="1295280"/>
            <a:ext cx="2539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1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2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y &g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3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4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679920" y="1905120"/>
            <a:ext cx="4987440" cy="26542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&lt;x = 2, y = 3&gt;, &lt;x = - 13, y = 51&gt;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x = 97, y = 17&gt;, &lt;x = - 1, y = - 1&gt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vers all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{&lt;x = - 13, y = 51&gt;, &lt;x = 2, y = - 3&gt;}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min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FF08-2168-4527-8DE8-7217DEA725B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 of th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"/>
          <p:cNvSpPr/>
          <p:nvPr/>
        </p:nvSpPr>
        <p:spPr>
          <a:xfrm>
            <a:off x="1200240" y="2023920"/>
            <a:ext cx="210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lt;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-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88240" y="2166840"/>
            <a:ext cx="3587040" cy="2654280"/>
          </a:xfrm>
          <a:prstGeom prst="rect">
            <a:avLst/>
          </a:pr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&lt;x=-3} covers 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does not exercis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when x is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the then branch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en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2D32-145A-40CE-8DF8-FA4A9AD6D25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dge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(branch) of the control flow is exercised at least once by some d in 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requires formalizing the concept of the control graph, and how to construc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dges represent stat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 at the ends of an edge represent entry into the statement and ex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D490-178F-4778-914A-9A1D62F5570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eed for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ers are fallible even if they are skilled and follow sound princi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rything must be verified, every required quality, process and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verification itself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E6E0-836C-436D-A88C-1283D0B87E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2639880" y="103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8760" y="914400"/>
            <a:ext cx="7548120" cy="5684040"/>
            <a:chOff x="788760" y="914400"/>
            <a:chExt cx="7548120" cy="5684040"/>
          </a:xfrm>
        </p:grpSpPr>
        <p:sp>
          <p:nvSpPr>
            <p:cNvPr id="171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77120" y="399564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577480" y="399744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25920" y="38829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276520" y="399564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25920" y="47800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276520" y="399744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77120" y="556416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77480" y="556596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425920" y="545148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76520" y="556416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25920" y="63482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76520" y="556596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" name=""/>
            <p:cNvGrpSpPr/>
            <p:nvPr/>
          </p:nvGrpSpPr>
          <p:grpSpPr>
            <a:xfrm>
              <a:off x="5502240" y="4995720"/>
              <a:ext cx="115920" cy="447840"/>
              <a:chOff x="5502240" y="4995720"/>
              <a:chExt cx="115920" cy="447840"/>
            </a:xfrm>
          </p:grpSpPr>
          <p:sp>
            <p:nvSpPr>
              <p:cNvPr id="188" name=""/>
              <p:cNvSpPr/>
              <p:nvPr/>
            </p:nvSpPr>
            <p:spPr>
              <a:xfrm>
                <a:off x="5502240" y="52689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2" y="110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568840" y="4995720"/>
                <a:ext cx="1800" cy="2732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95640" y="502128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196000" y="5023080"/>
              <a:ext cx="300600" cy="889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39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39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044440" y="4910040"/>
              <a:ext cx="30168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895400" y="502128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044440" y="580536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895400" y="5023080"/>
              <a:ext cx="30132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1" y="21597"/>
                  </a:moveTo>
                  <a:arcTo wR="10800" hR="10800" stAng="5479331" swAng="5337924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1" y="21597"/>
                  </a:moveTo>
                  <a:arcTo wR="10800" hR="10800" stAng="5479331" swAng="53379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2187360" y="4565520"/>
              <a:ext cx="598680" cy="336600"/>
              <a:chOff x="2187360" y="4565520"/>
              <a:chExt cx="598680" cy="336600"/>
            </a:xfrm>
          </p:grpSpPr>
          <p:sp>
            <p:nvSpPr>
              <p:cNvPr id="200" name=""/>
              <p:cNvSpPr/>
              <p:nvPr/>
            </p:nvSpPr>
            <p:spPr>
              <a:xfrm>
                <a:off x="2187360" y="4751280"/>
                <a:ext cx="216000" cy="150840"/>
              </a:xfrm>
              <a:custGeom>
                <a:avLst/>
                <a:gdLst/>
                <a:ahLst/>
                <a:rect l="l" t="t" r="r" b="b"/>
                <a:pathLst>
                  <a:path w="136" h="95">
                    <a:moveTo>
                      <a:pt x="0" y="95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2369880" y="4565520"/>
                <a:ext cx="41616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2793960" y="44607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336760" y="5910120"/>
              <a:ext cx="598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2869920" y="4676760"/>
              <a:ext cx="115920" cy="1233000"/>
              <a:chOff x="2869920" y="4676760"/>
              <a:chExt cx="115920" cy="1233000"/>
            </a:xfrm>
          </p:grpSpPr>
          <p:sp>
            <p:nvSpPr>
              <p:cNvPr id="205" name=""/>
              <p:cNvSpPr/>
              <p:nvPr/>
            </p:nvSpPr>
            <p:spPr>
              <a:xfrm>
                <a:off x="2869920" y="4676760"/>
                <a:ext cx="115920" cy="174600"/>
              </a:xfrm>
              <a:custGeom>
                <a:avLst/>
                <a:gdLst/>
                <a:ahLst/>
                <a:rect l="l" t="t" r="r" b="b"/>
                <a:pathLst>
                  <a:path w="73" h="110">
                    <a:moveTo>
                      <a:pt x="41" y="0"/>
                    </a:moveTo>
                    <a:lnTo>
                      <a:pt x="73" y="110"/>
                    </a:lnTo>
                    <a:lnTo>
                      <a:pt x="41" y="110"/>
                    </a:lnTo>
                    <a:lnTo>
                      <a:pt x="0" y="110"/>
                    </a:lnTo>
                    <a:lnTo>
                      <a:pt x="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2935080" y="4851000"/>
                <a:ext cx="1800" cy="10587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7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336440" y="1485720"/>
              <a:ext cx="302040" cy="895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7" y="2"/>
                  </a:moveTo>
                  <a:arcTo wR="10800" hR="10800" stAng="-5464628" swAng="544657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7" y="2"/>
                  </a:moveTo>
                  <a:arcTo wR="10800" hR="10800" stAng="-5464628" swAng="544657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36800" y="1487880"/>
              <a:ext cx="301680" cy="893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57" swAng="54840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57" swAng="548402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188120" y="137484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038720" y="14875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75" swAng="530411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75" swAng="530411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88120" y="227016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038720" y="1487520"/>
              <a:ext cx="301320" cy="89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575" swAng="53376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575" swAng="533765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7" name=""/>
            <p:cNvGrpSpPr/>
            <p:nvPr/>
          </p:nvGrpSpPr>
          <p:grpSpPr>
            <a:xfrm>
              <a:off x="7329240" y="1030320"/>
              <a:ext cx="599760" cy="336600"/>
              <a:chOff x="7329240" y="1030320"/>
              <a:chExt cx="599760" cy="336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329240" y="1217520"/>
                <a:ext cx="217440" cy="149400"/>
              </a:xfrm>
              <a:custGeom>
                <a:avLst/>
                <a:gdLst/>
                <a:ahLst/>
                <a:rect l="l" t="t" r="r" b="b"/>
                <a:pathLst>
                  <a:path w="137" h="94">
                    <a:moveTo>
                      <a:pt x="0" y="94"/>
                    </a:moveTo>
                    <a:lnTo>
                      <a:pt x="95" y="0"/>
                    </a:lnTo>
                    <a:lnTo>
                      <a:pt x="116" y="23"/>
                    </a:lnTo>
                    <a:lnTo>
                      <a:pt x="137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513200" y="1030320"/>
                <a:ext cx="415800" cy="2239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29240" y="2486160"/>
              <a:ext cx="600120" cy="336240"/>
              <a:chOff x="7329240" y="2486160"/>
              <a:chExt cx="600120" cy="336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696080" y="26733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329240" y="2486160"/>
                <a:ext cx="400320" cy="2253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937280" y="927000"/>
              <a:ext cx="300240" cy="2192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937280" y="271944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8011800" y="1143000"/>
              <a:ext cx="117720" cy="1568520"/>
              <a:chOff x="8011800" y="1143000"/>
              <a:chExt cx="117720" cy="1568520"/>
            </a:xfrm>
          </p:grpSpPr>
          <p:sp>
            <p:nvSpPr>
              <p:cNvPr id="226" name=""/>
              <p:cNvSpPr/>
              <p:nvPr/>
            </p:nvSpPr>
            <p:spPr>
              <a:xfrm>
                <a:off x="8011800" y="2523960"/>
                <a:ext cx="117720" cy="187560"/>
              </a:xfrm>
              <a:custGeom>
                <a:avLst/>
                <a:gdLst/>
                <a:ahLst/>
                <a:rect l="l" t="t" r="r" b="b"/>
                <a:pathLst>
                  <a:path w="74" h="118">
                    <a:moveTo>
                      <a:pt x="42" y="118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4" y="0"/>
                    </a:lnTo>
                    <a:lnTo>
                      <a:pt x="42" y="1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078760" y="1143000"/>
                <a:ext cx="1440" cy="13809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943440" y="1474920"/>
              <a:ext cx="30096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6" y="3"/>
                  </a:moveTo>
                  <a:arcTo wR="10800" hR="10800" stAng="-5477822" swAng="545975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6" y="3"/>
                  </a:moveTo>
                  <a:arcTo wR="10800" hR="10800" stAng="-5477822" swAng="5459757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943800" y="1476360"/>
              <a:ext cx="300600" cy="89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8064" swAng="5497498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8064" swAng="5497498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9224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4320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6"/>
                  </a:moveTo>
                  <a:arcTo wR="10800" hR="10800" stAng="-10782745" swAng="5304126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6"/>
                  </a:moveTo>
                  <a:arcTo wR="10800" hR="10800" stAng="-10782745" swAng="5304126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79224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643200" y="1476000"/>
              <a:ext cx="301320" cy="89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50" y="21597"/>
                  </a:moveTo>
                  <a:arcTo wR="10800" hR="10800" stAng="5479434" swAng="53378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50" y="21597"/>
                  </a:moveTo>
                  <a:arcTo wR="10800" hR="10800" stAng="5479434" swAng="533782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3400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3935160" y="1017720"/>
              <a:ext cx="598680" cy="336240"/>
              <a:chOff x="3935160" y="1017720"/>
              <a:chExt cx="598680" cy="336240"/>
            </a:xfrm>
          </p:grpSpPr>
          <p:sp>
            <p:nvSpPr>
              <p:cNvPr id="240" name=""/>
              <p:cNvSpPr/>
              <p:nvPr/>
            </p:nvSpPr>
            <p:spPr>
              <a:xfrm>
                <a:off x="3935160" y="120492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3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4117680" y="101772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2" name=""/>
            <p:cNvGrpSpPr/>
            <p:nvPr/>
          </p:nvGrpSpPr>
          <p:grpSpPr>
            <a:xfrm>
              <a:off x="3935160" y="2475000"/>
              <a:ext cx="598680" cy="334800"/>
              <a:chOff x="3935160" y="2475000"/>
              <a:chExt cx="598680" cy="334800"/>
            </a:xfrm>
          </p:grpSpPr>
          <p:sp>
            <p:nvSpPr>
              <p:cNvPr id="243" name=""/>
              <p:cNvSpPr/>
              <p:nvPr/>
            </p:nvSpPr>
            <p:spPr>
              <a:xfrm>
                <a:off x="4300560" y="2660760"/>
                <a:ext cx="23328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4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935160" y="247500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541760" y="914400"/>
              <a:ext cx="2998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140080" y="1474920"/>
              <a:ext cx="30132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5"/>
                  </a:moveTo>
                  <a:arcTo wR="10800" hR="10800" stAng="-10782589" swAng="531741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5"/>
                  </a:moveTo>
                  <a:arcTo wR="10800" hR="10800" stAng="-10782589" swAng="5317414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140080" y="1476000"/>
              <a:ext cx="30132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3" y="21598"/>
                  </a:moveTo>
                  <a:arcTo wR="10800" hR="10800" stAng="5465850" swAng="535156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3" y="21598"/>
                  </a:moveTo>
                  <a:arcTo wR="10800" hR="10800" stAng="5465850" swAng="5351561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290920" y="136188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441400" y="1474920"/>
              <a:ext cx="298440" cy="89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596" y="2"/>
                  </a:moveTo>
                  <a:arcTo wR="10800" hR="10800" stAng="-5464854" swAng="54468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596" y="2"/>
                  </a:moveTo>
                  <a:arcTo wR="10800" hR="10800" stAng="-5464854" swAng="544686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290920" y="2257560"/>
              <a:ext cx="30024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41400" y="1476000"/>
              <a:ext cx="298440" cy="890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3"/>
                  </a:moveTo>
                  <a:arcTo wR="10800" hR="10800" stAng="-17994" swAng="548419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3"/>
                  </a:moveTo>
                  <a:arcTo wR="10800" hR="10800" stAng="-17994" swAng="5484192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41760" y="2706840"/>
              <a:ext cx="299880" cy="2203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4833720" y="1017720"/>
              <a:ext cx="598680" cy="336240"/>
              <a:chOff x="4833720" y="1017720"/>
              <a:chExt cx="598680" cy="336240"/>
            </a:xfrm>
          </p:grpSpPr>
          <p:sp>
            <p:nvSpPr>
              <p:cNvPr id="256" name=""/>
              <p:cNvSpPr/>
              <p:nvPr/>
            </p:nvSpPr>
            <p:spPr>
              <a:xfrm>
                <a:off x="5198760" y="1204920"/>
                <a:ext cx="233640" cy="149040"/>
              </a:xfrm>
              <a:custGeom>
                <a:avLst/>
                <a:gdLst/>
                <a:ahLst/>
                <a:rect l="l" t="t" r="r" b="b"/>
                <a:pathLst>
                  <a:path w="147" h="94">
                    <a:moveTo>
                      <a:pt x="147" y="94"/>
                    </a:moveTo>
                    <a:lnTo>
                      <a:pt x="0" y="47"/>
                    </a:lnTo>
                    <a:lnTo>
                      <a:pt x="21" y="23"/>
                    </a:lnTo>
                    <a:lnTo>
                      <a:pt x="42" y="0"/>
                    </a:lnTo>
                    <a:lnTo>
                      <a:pt x="147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833720" y="1017720"/>
                <a:ext cx="39852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4833720" y="2475000"/>
              <a:ext cx="598680" cy="334800"/>
              <a:chOff x="4833720" y="2475000"/>
              <a:chExt cx="598680" cy="334800"/>
            </a:xfrm>
          </p:grpSpPr>
          <p:sp>
            <p:nvSpPr>
              <p:cNvPr id="259" name=""/>
              <p:cNvSpPr/>
              <p:nvPr/>
            </p:nvSpPr>
            <p:spPr>
              <a:xfrm>
                <a:off x="4833720" y="2660760"/>
                <a:ext cx="216000" cy="149040"/>
              </a:xfrm>
              <a:custGeom>
                <a:avLst/>
                <a:gdLst/>
                <a:ahLst/>
                <a:rect l="l" t="t" r="r" b="b"/>
                <a:pathLst>
                  <a:path w="136" h="94">
                    <a:moveTo>
                      <a:pt x="0" y="94"/>
                    </a:moveTo>
                    <a:lnTo>
                      <a:pt x="94" y="0"/>
                    </a:lnTo>
                    <a:lnTo>
                      <a:pt x="115" y="24"/>
                    </a:lnTo>
                    <a:lnTo>
                      <a:pt x="136" y="47"/>
                    </a:lnTo>
                    <a:lnTo>
                      <a:pt x="0" y="9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016240" y="2475000"/>
                <a:ext cx="416160" cy="223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53312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77840" y="113832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77840" y="2033640"/>
              <a:ext cx="301680" cy="2206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4" name=""/>
            <p:cNvGrpSpPr/>
            <p:nvPr/>
          </p:nvGrpSpPr>
          <p:grpSpPr>
            <a:xfrm>
              <a:off x="2054160" y="1353960"/>
              <a:ext cx="115920" cy="671760"/>
              <a:chOff x="2054160" y="1353960"/>
              <a:chExt cx="115920" cy="671760"/>
            </a:xfrm>
          </p:grpSpPr>
          <p:sp>
            <p:nvSpPr>
              <p:cNvPr id="265" name=""/>
              <p:cNvSpPr/>
              <p:nvPr/>
            </p:nvSpPr>
            <p:spPr>
              <a:xfrm>
                <a:off x="2054160" y="1839960"/>
                <a:ext cx="115920" cy="185760"/>
              </a:xfrm>
              <a:custGeom>
                <a:avLst/>
                <a:gdLst/>
                <a:ahLst/>
                <a:rect l="l" t="t" r="r" b="b"/>
                <a:pathLst>
                  <a:path w="73" h="117">
                    <a:moveTo>
                      <a:pt x="42" y="117"/>
                    </a:moveTo>
                    <a:lnTo>
                      <a:pt x="0" y="0"/>
                    </a:lnTo>
                    <a:lnTo>
                      <a:pt x="42" y="0"/>
                    </a:lnTo>
                    <a:lnTo>
                      <a:pt x="73" y="0"/>
                    </a:lnTo>
                    <a:lnTo>
                      <a:pt x="42" y="1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120760" y="1353960"/>
                <a:ext cx="1440" cy="486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396324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477400" y="187632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145640" y="181440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74520" y="188928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367600" y="42987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96480" y="43736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019600" y="537516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48480" y="54500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383440" y="5880240"/>
              <a:ext cx="111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Bookman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29960" y="5942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88760" y="2438280"/>
              <a:ext cx="2632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/O, assignment,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or procedure ca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781800" y="3014640"/>
              <a:ext cx="178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-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989040" y="3048120"/>
              <a:ext cx="120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if-then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264320" y="6138720"/>
              <a:ext cx="173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while loop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969160" y="4538520"/>
              <a:ext cx="2367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wo sequential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atements</a:t>
              </a:r>
              <a:r>
                <a:rPr b="0" lang="it-IT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1165320" y="249120"/>
            <a:ext cx="71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ntrol graph construction ru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4BE3-F410-499C-88DC-41D21F3CED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pl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622080" y="2057400"/>
            <a:ext cx="82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edges can be collapsed into just on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04488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548480" cy="329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5EB-0D97-43B7-BA8B-31D137EB2F5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3600" y="13716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x ≠ y lo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&gt; y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y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cd : 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648320" y="2819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8300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181480" y="1143000"/>
            <a:ext cx="3476880" cy="51055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215360" y="249120"/>
            <a:ext cx="60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emple: Euclid's algorith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B15-CB52-474E-9A76-01F643C1933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"/>
          <p:cNvSpPr/>
          <p:nvPr/>
        </p:nvSpPr>
        <p:spPr>
          <a:xfrm>
            <a:off x="614160" y="609480"/>
            <a:ext cx="7491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hile (not found) and counter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&lt;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rite ("the desired e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 no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07000" y="5181480"/>
            <a:ext cx="857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cases: (1) empty table, (2) table with 3 items, secon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is the item to look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 not discover error (&lt; instead of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≤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9B01-1A64-4883-B628-E10BD0ADCBF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dition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such that every edge of P’s control flow is traversed and all possible values of the constituents of compound conditions are exercised at least o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edge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62E1-53A7-4DF8-BFA1-F15BB764591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eak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823920" y="2743200"/>
            <a:ext cx="5068080" cy="15570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&lt;x = 0, z = 1&gt;, &lt;x = 1, z = 3&gt;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auses the execution of all edg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t fails to expose the risk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vision by zero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987120" y="1523880"/>
            <a:ext cx="2430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x ≠ 0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y := 5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-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f z &gt; 1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z / x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z :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559-7BC2-47A0-9974-DBD03273FF9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h-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ect a test set T which traverses all paths from the initial to the final node of P’s control fl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finer than previous kinds of cover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ever, number of paths may be too large, or even infinite (see while loo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constraints must be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A2A5-8DE6-4B93-9D43-4D527A8FDCC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infeasibility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ctically indicated behaviors (statements, edges, etc.) are often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achable code, infeasible edges, paths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equacy criteria may be impossible to satisf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al justification for omitting each impossible test c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equacy “scores” based on cover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ample: 95% statement cover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EEF-2C58-440C-A115-2B5795EE0D8B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if the code omits the implementation of some part of the specific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te box test cases derived from the code will ignore that part of the specifica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3B6-6F4D-460F-9785-18FBC80A4C0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lack box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rives test cases from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6130-58CD-4900-8AF5-9AD35145E8B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perties of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not be binary (OK, not OK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rity of defect is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defects may be tol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be subjective or o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mplicit qualities should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cause requirements are often incomple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obust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DCE-069E-4733-90BA-E5FF9753155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"/>
          <p:cNvSpPr/>
          <p:nvPr/>
        </p:nvSpPr>
        <p:spPr>
          <a:xfrm>
            <a:off x="340560" y="1905120"/>
            <a:ext cx="8177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rogram receives as input a record describ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. (A detailed description of the format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record is given.) The invoice must be inser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o a file of invoices that is sorted by date. The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inserted in the appropriate position: If oth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s exist in the file with the same date, the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voice should be inserted after the last one. Also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consistency checks must be performed: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hould verify whether the customer is already in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sponding file of customers, whether the customer’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 the two files match, etc.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8712-A0D7-4449-A8DF-6137FF17632E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d you consider these cas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"/>
          <p:cNvSpPr/>
          <p:nvPr/>
        </p:nvSpPr>
        <p:spPr>
          <a:xfrm>
            <a:off x="-67320" y="1828800"/>
            <a:ext cx="9423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before the current 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This might be even forbidden by la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case, in turn, can be split into the tw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llowing subcas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is the same as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existing invoi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 invoice whose date does not exist in an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viously recorded inv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everal incorrect invoices, checking different types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consist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  <a:tab algn="l" pos="81342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79C4-79D5-45EE-806F-7CE9B040E4A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stematic black-box techniq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driven by logic specifications (pre and postconditi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ax-drive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ision table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use-effect graph base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58D3-53CB-4535-8396-78B3BCAEA97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267920" y="304920"/>
            <a:ext cx="682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Logic specification of inser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invoice record in a f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95200" y="1752480"/>
            <a:ext cx="8626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x in Invoices, f in Invoice_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not exist j, k (j ≠ k and f(j) =f(k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(x, 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sorted_by_date(f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old_f(k) = z implies exists j (f(j) = z)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xists j (f(j). date = x. date and f(j) ≠ x)  implies j &lt; pos(x, f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customer belongs_to customer_file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arn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 belongs_to old_f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D43B-0798-4102-816C-A7AF9A30216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92960" y="990720"/>
            <a:ext cx="8402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RUE impli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ed_by_date(f) and for all k old_f(k) = 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exists j (f(j) = z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k (f(k) = z and z ≠ x) implies exists j (old_f(j) =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x.customer belongs_to customer_file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t (x.customer belongs_to customer_file  a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not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belongs_to old_y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.date &lt; current_date implies war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46200" y="152280"/>
            <a:ext cx="6342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y coverage criterion to postcondi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write in a more convenient way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B00A-CEC2-4E03-A29D-34B394A4574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testing an interpreter of the follow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"/>
          <p:cNvSpPr/>
          <p:nvPr/>
        </p:nvSpPr>
        <p:spPr>
          <a:xfrm>
            <a:off x="424440" y="3436920"/>
            <a:ext cx="7210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::= &lt;expression&gt; + &lt;term&gt;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expression&gt; - &lt;term&gt; | &lt;term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term&gt; ::= &lt;term&gt; * &lt;factor&gt; | &lt;term&gt; /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| &lt;facto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&lt;factor&gt; ::= ident | ( &lt;expression&gt;)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FB32-46EB-4D95-AF7C-EADD04F6B9A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x-driven testing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pply complete coverage principle to all grammar r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ate a test case for each rule of the gramm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e, however that the test case might also cover other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e: the specification is formal, and test generation can be autom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D34-832C-4E63-A89B-55FC2DADBA2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ision-table-base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New Century Schlbk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word-processor may present portions of text in three different formats: plain text (p), boldface (b), italics (i). The following commands may be applied to each portion of text: make text plain (P), make boldface (B), make italics (I), emphasize (E), super emphasize (SE). Commands are available to dynamically set E to mean either B or I (we denote such commands as E=B and E=I, respectively.) Similarly, SE can be dynamically set to mean either B (command SE=B) or I (command SE=I), or B and I (command SE=B+I.)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C90C-DE64-49D0-88B3-E49C0078BE55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5" name=""/>
          <p:cNvGraphicFramePr/>
          <p:nvPr/>
        </p:nvGraphicFramePr>
        <p:xfrm>
          <a:off x="1143000" y="142920"/>
          <a:ext cx="6172200" cy="591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42920"/>
                    <a:ext cx="6172200" cy="591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003B-6BE6-4157-8DBF-2B8DDE3D70E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use effect grap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28" name=""/>
          <p:cNvGraphicFramePr/>
          <p:nvPr/>
        </p:nvGraphicFramePr>
        <p:xfrm>
          <a:off x="1981080" y="1219320"/>
          <a:ext cx="5164200" cy="3403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219320"/>
                    <a:ext cx="5164200" cy="34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254880" y="5105520"/>
            <a:ext cx="882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D/OR graph represents the correspondenc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uses an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947-B5E7-469A-B598-0AE3D8D14B95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roaches to ver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riment with behavior of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ple behaviors via te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al is to find "counterexample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duct to deduce its adequ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ytic study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8B85-2026-4B70-83AF-1002FAE189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urther constra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"/>
          <p:cNvSpPr/>
          <p:nvPr/>
        </p:nvSpPr>
        <p:spPr>
          <a:xfrm>
            <a:off x="522000" y="982800"/>
            <a:ext cx="804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Both B and I exclude P (i.e., one cannot ask both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plain text and, say, italics for the same portion of text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and SE are mutually exclusiv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447920" y="2209680"/>
          <a:ext cx="5106960" cy="415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209680"/>
                    <a:ext cx="5106960" cy="415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745920" y="2479680"/>
            <a:ext cx="1072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m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45600" y="2174760"/>
            <a:ext cx="103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 le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00" y="4384800"/>
            <a:ext cx="175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and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565440" y="423216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19000" y="438480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DB40-52E8-4D4A-8076-15AF9C4187F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0" name=""/>
          <p:cNvGraphicFramePr/>
          <p:nvPr/>
        </p:nvGraphicFramePr>
        <p:xfrm>
          <a:off x="457200" y="884160"/>
          <a:ext cx="8191440" cy="463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884160"/>
                    <a:ext cx="8191440" cy="46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>
            <a:off x="3565440" y="5680080"/>
            <a:ext cx="329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m Y = X implies not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5EF7-2DF9-4EF2-9E15-2BDA65E499FB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verage 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te all possible input combinations and check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y reduce the number by going backwards from outpu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node with tru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tru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D node with false output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input combinations with only one false in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AE0-7047-4519-9DCB-D406FBCA108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boundary cond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criteria partition input domain in classes, assuming that behavior is "similar" for all data within a 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 typical programming errors, however, just happen to be at the boundary between different 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B4C-B6AE-4473-9CC2-E0F7016DC13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riter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partitioning the input domain D into several classes, test the program using input values not only “inside” the classes, but also at their bound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applies to both white-box and black-box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5E3E-BC4F-4CFF-8FAE-BB3B2511C01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oracle probl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How to inspect the results of test executions to reveal fail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required at each stage of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utomated test oracles are required for running large amounts of te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acles are difficult to design - no universal reci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895-22A8-4648-A10B-1304FCD6F745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a single 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grat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 of modules and sub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sting the entir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ceptance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by the cust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2C2-4BD8-4B0D-A6F3-95152E4BCCB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affolding needed to create the environment in which the module should be tes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b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s used by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 activating the module under t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996-E014-4AF6-B84D-060AEBDFE88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 functional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"/>
          <p:cNvSpPr/>
          <p:nvPr/>
        </p:nvSpPr>
        <p:spPr>
          <a:xfrm>
            <a:off x="238932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1"/>
          <a:stretch/>
        </p:blipFill>
        <p:spPr>
          <a:xfrm>
            <a:off x="838080" y="2590920"/>
            <a:ext cx="7516800" cy="303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9E99-4C00-43CB-8D22-EA3BE21480A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g-bang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test individual modules in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test integrat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approa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are progressively integrated and t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ceed both top-down and bottom-up according to the USES re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00F7-0276-48C0-8A1B-A33FBE28CFD4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and lack of "continuity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samples behaviors by examining "test cases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ossible to extrapolate behavior of software from a finite set of test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continuity of behav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exhibit correct behavior in infinitely many cases, but may still be incorrect in some c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4D9-B6FE-4FF1-B1AD-8DEA0D640D5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gration testing and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1692000" y="2778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606760" y="2701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758680" y="3921120"/>
            <a:ext cx="6858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673440" y="3844800"/>
            <a:ext cx="7621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692360" y="3844800"/>
            <a:ext cx="7617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1184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1449720" y="3429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354480" y="3505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44044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268880" y="46483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98000" y="2514600"/>
            <a:ext cx="3745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integration and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ed bottom-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, if we proc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-down only stubs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D08-63BE-4EDA-8C7C-8DD0328393A9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27478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143000" y="631800"/>
            <a:ext cx="6321600" cy="188604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623040" y="228600"/>
            <a:ext cx="201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26680" y="2514600"/>
            <a:ext cx="78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1 USES M2 and M2 IS_COMPOSED_OF {M2,1, M2,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0240" y="3048120"/>
            <a:ext cx="7942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viding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 provide an implementatio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a stub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4000" y="4267080"/>
            <a:ext cx="83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by using a driver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the combina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,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i.e., M2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y using a 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ally, imple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test it wit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ing a driver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1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AC89-2163-4868-808F-3C52C3BE9DA9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OO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ew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heri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olymorph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ynamic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n problems still exi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0595-8825-42A7-A4D5-1196047D06B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"/>
          <p:cNvSpPr/>
          <p:nvPr/>
        </p:nvSpPr>
        <p:spPr>
          <a:xfrm>
            <a:off x="1978200" y="218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90360" y="1981080"/>
            <a:ext cx="7456680" cy="3521160"/>
            <a:chOff x="990360" y="1981080"/>
            <a:chExt cx="7456680" cy="3521160"/>
          </a:xfrm>
        </p:grpSpPr>
        <p:sp>
          <p:nvSpPr>
            <p:cNvPr id="383" name=""/>
            <p:cNvSpPr/>
            <p:nvPr/>
          </p:nvSpPr>
          <p:spPr>
            <a:xfrm>
              <a:off x="990360" y="198108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579760" y="1994040"/>
              <a:ext cx="2079720" cy="70308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003320" y="338940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133880" y="3389400"/>
              <a:ext cx="210024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33920" y="480060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003320" y="4784760"/>
              <a:ext cx="20970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979720" y="2149560"/>
              <a:ext cx="12952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954880" y="2141640"/>
              <a:ext cx="1024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Personne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14720" y="2141640"/>
              <a:ext cx="57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1403280" y="3540240"/>
              <a:ext cx="15462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66560" y="3537000"/>
              <a:ext cx="1108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Consultan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57940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538520" y="3540240"/>
              <a:ext cx="13464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520880" y="3537000"/>
              <a:ext cx="99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Employe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54440" y="3565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28920" y="4935600"/>
              <a:ext cx="127764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496160" y="4930920"/>
              <a:ext cx="9198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Manager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441520" y="496080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608280" y="4973760"/>
              <a:ext cx="254484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49760" y="5029200"/>
              <a:ext cx="2044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Administartive_Sta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398920" y="497376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29440" y="4784760"/>
              <a:ext cx="2084400" cy="701640"/>
            </a:xfrm>
            <a:prstGeom prst="rect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488280" y="4935600"/>
              <a:ext cx="1958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474240" y="4948200"/>
              <a:ext cx="95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Bookman"/>
                </a:rPr>
                <a:t>Technical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497000" y="4930920"/>
              <a:ext cx="595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ookman"/>
                </a:rPr>
                <a:t>_Staf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137440" y="4978440"/>
              <a:ext cx="45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776680" y="2700360"/>
              <a:ext cx="203040" cy="181080"/>
            </a:xfrm>
            <a:custGeom>
              <a:avLst/>
              <a:gdLst/>
              <a:ahLst/>
              <a:rect l="l" t="t" r="r" b="b"/>
              <a:pathLst>
                <a:path w="128" h="114">
                  <a:moveTo>
                    <a:pt x="55" y="114"/>
                  </a:moveTo>
                  <a:lnTo>
                    <a:pt x="36" y="101"/>
                  </a:lnTo>
                  <a:lnTo>
                    <a:pt x="19" y="82"/>
                  </a:lnTo>
                  <a:lnTo>
                    <a:pt x="9" y="63"/>
                  </a:lnTo>
                  <a:lnTo>
                    <a:pt x="0" y="41"/>
                  </a:lnTo>
                  <a:lnTo>
                    <a:pt x="128" y="0"/>
                  </a:lnTo>
                  <a:lnTo>
                    <a:pt x="55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2049480" y="2808360"/>
              <a:ext cx="75420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767040" y="2700360"/>
              <a:ext cx="216000" cy="163440"/>
            </a:xfrm>
            <a:custGeom>
              <a:avLst/>
              <a:gdLst/>
              <a:ahLst/>
              <a:rect l="l" t="t" r="r" b="b"/>
              <a:pathLst>
                <a:path w="136" h="103">
                  <a:moveTo>
                    <a:pt x="136" y="19"/>
                  </a:moveTo>
                  <a:lnTo>
                    <a:pt x="130" y="44"/>
                  </a:lnTo>
                  <a:lnTo>
                    <a:pt x="120" y="65"/>
                  </a:lnTo>
                  <a:lnTo>
                    <a:pt x="106" y="87"/>
                  </a:lnTo>
                  <a:lnTo>
                    <a:pt x="90" y="103"/>
                  </a:lnTo>
                  <a:lnTo>
                    <a:pt x="0" y="0"/>
                  </a:lnTo>
                  <a:lnTo>
                    <a:pt x="1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 flipV="1">
              <a:off x="3927600" y="2773080"/>
              <a:ext cx="11095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465800" y="4095720"/>
              <a:ext cx="214200" cy="1382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32" y="87"/>
                  </a:moveTo>
                  <a:lnTo>
                    <a:pt x="19" y="68"/>
                  </a:lnTo>
                  <a:lnTo>
                    <a:pt x="8" y="46"/>
                  </a:lnTo>
                  <a:lnTo>
                    <a:pt x="2" y="25"/>
                  </a:lnTo>
                  <a:lnTo>
                    <a:pt x="0" y="0"/>
                  </a:lnTo>
                  <a:lnTo>
                    <a:pt x="135" y="0"/>
                  </a:lnTo>
                  <a:lnTo>
                    <a:pt x="3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2695680" y="4151160"/>
              <a:ext cx="1785960" cy="625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864400" y="4095720"/>
              <a:ext cx="210960" cy="160200"/>
            </a:xfrm>
            <a:custGeom>
              <a:avLst/>
              <a:gdLst/>
              <a:ahLst/>
              <a:rect l="l" t="t" r="r" b="b"/>
              <a:pathLst>
                <a:path w="133" h="101">
                  <a:moveTo>
                    <a:pt x="133" y="19"/>
                  </a:moveTo>
                  <a:lnTo>
                    <a:pt x="127" y="41"/>
                  </a:lnTo>
                  <a:lnTo>
                    <a:pt x="119" y="63"/>
                  </a:lnTo>
                  <a:lnTo>
                    <a:pt x="106" y="84"/>
                  </a:lnTo>
                  <a:lnTo>
                    <a:pt x="89" y="101"/>
                  </a:lnTo>
                  <a:lnTo>
                    <a:pt x="0" y="0"/>
                  </a:lnTo>
                  <a:lnTo>
                    <a:pt x="13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 flipV="1">
              <a:off x="6022440" y="4168440"/>
              <a:ext cx="1111320" cy="608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878360" y="4095720"/>
              <a:ext cx="198360" cy="189000"/>
            </a:xfrm>
            <a:custGeom>
              <a:avLst/>
              <a:gdLst/>
              <a:ahLst/>
              <a:rect l="l" t="t" r="r" b="b"/>
              <a:pathLst>
                <a:path w="125" h="119">
                  <a:moveTo>
                    <a:pt x="62" y="119"/>
                  </a:moveTo>
                  <a:lnTo>
                    <a:pt x="41" y="109"/>
                  </a:lnTo>
                  <a:lnTo>
                    <a:pt x="24" y="92"/>
                  </a:lnTo>
                  <a:lnTo>
                    <a:pt x="11" y="73"/>
                  </a:lnTo>
                  <a:lnTo>
                    <a:pt x="0" y="52"/>
                  </a:lnTo>
                  <a:lnTo>
                    <a:pt x="125" y="0"/>
                  </a:lnTo>
                  <a:lnTo>
                    <a:pt x="62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4270320" y="4203720"/>
              <a:ext cx="642960" cy="573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01A7-A1A2-41EB-A68F-77E70D8A769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test classes of the hierarchy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lattening” the whole hierarchy and considering every class as a totally independent compon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exploit increment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ding an ad-hoc way to take advantage of the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93F6-F3E0-40C0-BA57-BED955FCECE8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sample strate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est that does not have to be repeated for any he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performed for heir class X and all of its further he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redone by applying the same input data, but verifying that the output is not (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chan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that must be modified by adding other input parameters and verifying that the output changes according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789-B4F6-4A1A-AED6-82E59A5A1F4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e concerns in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for functionality is not enoug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load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gression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ganize testing with the purpose of verifying possibl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gress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of software during its life—that is, degradations of correctness or other qualities due to later modification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FA9F-2A93-43E0-A1EA-CA963BC0AA4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esting concurrent and real-time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determinism inherent in concurrency affects repeat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real-time systems,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test case consists not only of input data, but also of the times when such data are supplie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67DC2-B067-4132-B605-9FAC02DDC66A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2C0B-7094-4841-94DE-D4D0FCF01437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alysis vs.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esting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ingl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exec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sis characterize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la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xecutions; it is based o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y have complementary advantages and disadvant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6AAD-0FE5-4D01-AB22-9D5706631120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cation in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 of bridg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est assures infinite correct situ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"/>
          <p:cNvSpPr/>
          <p:nvPr/>
        </p:nvSpPr>
        <p:spPr>
          <a:xfrm>
            <a:off x="1981080" y="4673520"/>
            <a:ext cx="4800600" cy="889200"/>
          </a:xfrm>
          <a:custGeom>
            <a:avLst/>
            <a:gdLst/>
            <a:ahLst/>
            <a:rect l="l" t="t" r="r" b="b"/>
            <a:pathLst>
              <a:path w="3024" h="560">
                <a:moveTo>
                  <a:pt x="0" y="560"/>
                </a:moveTo>
                <a:cubicBezTo>
                  <a:pt x="284" y="388"/>
                  <a:pt x="568" y="216"/>
                  <a:pt x="816" y="128"/>
                </a:cubicBezTo>
                <a:cubicBezTo>
                  <a:pt x="1064" y="40"/>
                  <a:pt x="1264" y="40"/>
                  <a:pt x="1488" y="32"/>
                </a:cubicBezTo>
                <a:cubicBezTo>
                  <a:pt x="1712" y="24"/>
                  <a:pt x="1904" y="0"/>
                  <a:pt x="2160" y="80"/>
                </a:cubicBezTo>
                <a:cubicBezTo>
                  <a:pt x="2416" y="160"/>
                  <a:pt x="2720" y="336"/>
                  <a:pt x="3024" y="51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914040" y="55627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6781680" y="5486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67080" y="3657600"/>
            <a:ext cx="457200" cy="1066680"/>
          </a:xfrm>
          <a:prstGeom prst="downArrow">
            <a:avLst>
              <a:gd name="adj1" fmla="val 50000"/>
              <a:gd name="adj2" fmla="val 58327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381-108D-4AAF-A78B-DD03618CC3C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walkthrough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mmended prescri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umber of people (three to f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 receive written documentation from the designer a few days before the mee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efined duration of meeting (a few hour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cus on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iscover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of errors, not on fixing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articipants: designer, moderator, and a secret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ster cooperation; no evaluation of peo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erience shows that most errors are discovered by the designer during the presentation, while trying to explain the design to other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72F4-F779-46AE-819B-C7593779756B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l analysis techniqu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de inspe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ading technique aiming at error discov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checklists; e.g.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se of uninitialized variable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umps into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onterminating loop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rray indexes out of bounds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D360-6F4C-4FE8-8499-C4A82993FA78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F87-57CB-4AA3-8273-1F01FADCC6C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d its specification (Hoare notation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"/>
          <p:cNvSpPr/>
          <p:nvPr/>
        </p:nvSpPr>
        <p:spPr>
          <a:xfrm>
            <a:off x="2414520" y="2548080"/>
            <a:ext cx="39816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a); read (b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 + 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utput = input1 + input2}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974880" y="5410080"/>
            <a:ext cx="711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proof by backwards substit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AB94-E275-445C-8DE2-117DB53E304A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572000" y="34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19520" y="4038480"/>
            <a:ext cx="2133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35053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1, Claim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22480" y="1905120"/>
            <a:ext cx="783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Claim 1 and Claim 2 have been prove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74560" indent="-574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ne ca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duce Claim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D002-E2E2-4FE4-B846-8098DBCE8ADA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of rules for a langua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"/>
          <p:cNvSpPr/>
          <p:nvPr/>
        </p:nvSpPr>
        <p:spPr>
          <a:xfrm>
            <a:off x="1676520" y="1905120"/>
            <a:ext cx="4572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{F2}, {F2}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{F1}S1;S2{F3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752480" y="2438280"/>
            <a:ext cx="3200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361480" y="2014560"/>
            <a:ext cx="155520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2720" y="3581280"/>
            <a:ext cx="779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 and cond} S1 {Post},{Pre and not cond} S2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Pre} if cond then S1 ; else S 2 ; end if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96720" y="4005360"/>
            <a:ext cx="769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80880" y="3124080"/>
            <a:ext cx="178992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-then-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06720" y="4648320"/>
            <a:ext cx="1409040" cy="45972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-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9520" y="4800600"/>
            <a:ext cx="699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 and cond} S {I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} while cond loop S; end loop; {I and not cond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701640" y="5224320"/>
            <a:ext cx="6629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005840" y="5791320"/>
            <a:ext cx="2266920" cy="459720"/>
          </a:xfrm>
          <a:prstGeom prst="rect">
            <a:avLst/>
          </a:prstGeom>
          <a:noFill/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loop invari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AC1F-52A0-4D5E-91A8-CA455D58CCB4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idity of {Pre} Program {Post} guarantees that if the Pre holds before the execution of Program,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if the program ever termin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, then Post will be achie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tal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 guarantees Program’s termination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and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truth of P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se problems are undecidable!!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CECA-F808-4035-AD4B-4475584BA71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"/>
          <p:cNvSpPr/>
          <p:nvPr/>
        </p:nvSpPr>
        <p:spPr>
          <a:xfrm>
            <a:off x="821160" y="1785960"/>
            <a:ext cx="6135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&gt; 0 and input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read (x); read (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x =y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iv := div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-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rite (div); write (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input1 = output1 * input2 + output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0 =output2 &lt; input2 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5E18-7BA6-4125-A768-E57E70B1664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vention of loop invaria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icult and creative ste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not be constructed auto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the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1 = div * y + x and x =0 and y = input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B2F9-68C3-4B18-B673-68FFE052E9EF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"/>
          <p:cNvSpPr/>
          <p:nvPr/>
        </p:nvSpPr>
        <p:spPr>
          <a:xfrm>
            <a:off x="1321560" y="2395440"/>
            <a:ext cx="44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{Pre} a(i) := expression; {Post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6440" y="3309840"/>
            <a:ext cx="6900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no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assertion obtained from Po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y substituting every occurrence of an ind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riable a(j) by the te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j = i then expression else a(j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A8706-3476-46BA-902B-0C93CFDD7C9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68440" y="609480"/>
            <a:ext cx="75322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ocedure binary-search (key: in elemen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able: in elementTable; found: out Boolean)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eg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table'first; top := table'la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bottom &lt; top lo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(bottom + top) rem 2 ≠ 0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 - 1) / 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iddle := (bottom + top) / 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key ≤ table (middle)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op := midd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ttom := middle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key = table (top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7360"/>
                <a:tab algn="l" pos="774720"/>
                <a:tab algn="l" pos="1162080"/>
                <a:tab algn="l" pos="1549440"/>
                <a:tab algn="l" pos="1936800"/>
                <a:tab algn="l" pos="2324160"/>
                <a:tab algn="l" pos="2711520"/>
                <a:tab algn="l" pos="3098880"/>
                <a:tab algn="l" pos="3486240"/>
                <a:tab algn="l" pos="3873600"/>
                <a:tab algn="l" pos="4260960"/>
                <a:tab algn="l" pos="4648320"/>
                <a:tab algn="l" pos="5035680"/>
                <a:tab algn="l" pos="5423040"/>
                <a:tab algn="l" pos="5810400"/>
                <a:tab algn="l" pos="6197760"/>
                <a:tab algn="l" pos="6585120"/>
                <a:tab algn="l" pos="6972480"/>
                <a:tab algn="l" pos="7359480"/>
                <a:tab algn="l" pos="77468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inary-se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39880" y="2319480"/>
            <a:ext cx="2818800" cy="228852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we omit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if the 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never h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.e. if size of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 power of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409720" y="3200400"/>
            <a:ext cx="76212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FBA-2145-4338-98D0-A63E51692DF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"/>
          <p:cNvSpPr/>
          <p:nvPr/>
        </p:nvSpPr>
        <p:spPr>
          <a:xfrm>
            <a:off x="916560" y="685800"/>
            <a:ext cx="7562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 =1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1; j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while i =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table (i) = x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j) := table (i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 := i + 1; j := j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:= j -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not exists m (1 =m =n and table (m) = x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ound =exists m (1 =m =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n and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 (m) = x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932360" y="1447920"/>
            <a:ext cx="3792600" cy="1922760"/>
          </a:xfrm>
          <a:prstGeom prst="rect">
            <a:avLst/>
          </a:prstGeom>
          <a:noFill/>
          <a:ln cap="rnd" w="7632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tab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ol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_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constants deno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g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values of table and of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before execu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of the program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BE92-0FFE-45E9-82C6-26EFA431072E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one by using the following loop invaria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{(j =i) and (i =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 + 1)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not exists m (1 =m &lt; j an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 (m) = x)) and (n =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) 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nd = exists m (1 =m &lt; i and     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old_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ble(m) = x)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F86F-9C91-49FD-8D48-3386204A40B4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 proofs             in the lar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 prove correctness of operations (e.g., operations on an abstract data typ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n use the result of the proof in proving fragments that operate on objects of the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C651-F32E-4FEE-9E96-7D743CC7E5DD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"/>
          <p:cNvSpPr/>
          <p:nvPr/>
        </p:nvSpPr>
        <p:spPr>
          <a:xfrm>
            <a:off x="277920" y="1371600"/>
            <a:ext cx="85932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module TABL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ype Table_Type (max_size: NATURAL): ?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no more than max_size entries may b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tored in a table;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u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ser modules must guarantee t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Insert (Table: in out TableType 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procedure Delete (Table: in out TableTyp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: i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lementTyp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function Size (Table: in Table_Type) return NATUR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</a:rPr>
              <a:t>provides the current size of a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end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5429-8452-4E68-BE18-D60C0F01216D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1473840" y="1252440"/>
            <a:ext cx="364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tru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lete (Table, Elemen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Size (Table) &lt; max_size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nsert (Table, Elem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{Elemen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Table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96080" y="566640"/>
            <a:ext cx="314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ving proved the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803680" y="227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39120" y="4071960"/>
            <a:ext cx="811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 then prove properties of programs using t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xample, that after executing the sequ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ert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ete(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is not present in 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2D321-E646-49BC-9F7D-F4F65C63C029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n assess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correctness proofs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not used in pract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used for very critical por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rtions may be the basis for a systematic way of inserting runtime che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ofs may become more practical as more powerful support tools are develop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nowledge of correctness theory helps programmers being rigoro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9B36-1632-4E9A-9FDF-B072279294AB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iewed as a middle way between testing and analy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s the program on symbolic val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symbolic execution corresponds to many actual execu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D7FC-5894-493E-B646-6C7402347417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0164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"/>
          <p:cNvSpPr/>
          <p:nvPr/>
        </p:nvSpPr>
        <p:spPr>
          <a:xfrm>
            <a:off x="384480" y="1981080"/>
            <a:ext cx="632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 executing the following fra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x=X, y=Y, a=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y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if x &gt; a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a := a + 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y := x +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x := x + a + y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40668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4439160" y="1260360"/>
            <a:ext cx="3713400" cy="4987800"/>
            <a:chOff x="4439160" y="1260360"/>
            <a:chExt cx="3713400" cy="4987800"/>
          </a:xfrm>
        </p:grpSpPr>
        <p:sp>
          <p:nvSpPr>
            <p:cNvPr id="487" name=""/>
            <p:cNvSpPr/>
            <p:nvPr/>
          </p:nvSpPr>
          <p:spPr>
            <a:xfrm>
              <a:off x="6664680" y="17269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96000" y="360720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20000" y="36928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03520" y="540216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045200" y="172692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y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439160" y="3436560"/>
              <a:ext cx="1075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a := a + 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919560" y="3265560"/>
              <a:ext cx="1047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 := x + 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348520" y="5402160"/>
              <a:ext cx="1465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:= x + a + 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346880" y="2222280"/>
              <a:ext cx="560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x &gt; 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767280" y="4853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784200" y="2268000"/>
              <a:ext cx="36792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750360" y="5861880"/>
              <a:ext cx="367560" cy="3862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820200" y="1260360"/>
              <a:ext cx="367560" cy="38484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0" name=""/>
            <p:cNvGrpSpPr/>
            <p:nvPr/>
          </p:nvGrpSpPr>
          <p:grpSpPr>
            <a:xfrm>
              <a:off x="6881040" y="1653840"/>
              <a:ext cx="139320" cy="622440"/>
              <a:chOff x="6881040" y="1653840"/>
              <a:chExt cx="139320" cy="622440"/>
            </a:xfrm>
          </p:grpSpPr>
          <p:sp>
            <p:nvSpPr>
              <p:cNvPr id="501" name=""/>
              <p:cNvSpPr/>
              <p:nvPr/>
            </p:nvSpPr>
            <p:spPr>
              <a:xfrm>
                <a:off x="6881040" y="200232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50520" y="1653840"/>
                <a:ext cx="1800" cy="3484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6864120" y="5229720"/>
              <a:ext cx="139320" cy="604800"/>
              <a:chOff x="6864120" y="5229720"/>
              <a:chExt cx="139320" cy="604800"/>
            </a:xfrm>
          </p:grpSpPr>
          <p:sp>
            <p:nvSpPr>
              <p:cNvPr id="504" name=""/>
              <p:cNvSpPr/>
              <p:nvPr/>
            </p:nvSpPr>
            <p:spPr>
              <a:xfrm>
                <a:off x="6864120" y="5560560"/>
                <a:ext cx="139320" cy="273960"/>
              </a:xfrm>
              <a:custGeom>
                <a:avLst/>
                <a:gdLst/>
                <a:ahLst/>
                <a:rect l="l" t="t" r="r" b="b"/>
                <a:pathLst>
                  <a:path w="82" h="154">
                    <a:moveTo>
                      <a:pt x="41" y="154"/>
                    </a:moveTo>
                    <a:lnTo>
                      <a:pt x="0" y="0"/>
                    </a:lnTo>
                    <a:lnTo>
                      <a:pt x="41" y="0"/>
                    </a:lnTo>
                    <a:lnTo>
                      <a:pt x="82" y="0"/>
                    </a:lnTo>
                    <a:lnTo>
                      <a:pt x="41" y="1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933600" y="5229720"/>
                <a:ext cx="1440" cy="3308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786280" y="2620080"/>
              <a:ext cx="1364760" cy="241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10" y="21600"/>
                  </a:moveTo>
                  <a:arcTo wR="10800" hR="10800" stAng="5428724" swAng="5391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10" y="21600"/>
                  </a:moveTo>
                  <a:arcTo wR="10800" hR="10800" stAng="5428724" swAng="5391530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443640" y="4955400"/>
              <a:ext cx="331560" cy="127800"/>
              <a:chOff x="6443640" y="4955400"/>
              <a:chExt cx="331560" cy="127800"/>
            </a:xfrm>
          </p:grpSpPr>
          <p:sp>
            <p:nvSpPr>
              <p:cNvPr id="508" name=""/>
              <p:cNvSpPr/>
              <p:nvPr/>
            </p:nvSpPr>
            <p:spPr>
              <a:xfrm>
                <a:off x="6530400" y="4955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144" y="41"/>
                    </a:moveTo>
                    <a:lnTo>
                      <a:pt x="0" y="72"/>
                    </a:lnTo>
                    <a:lnTo>
                      <a:pt x="0" y="41"/>
                    </a:lnTo>
                    <a:lnTo>
                      <a:pt x="0" y="0"/>
                    </a:lnTo>
                    <a:lnTo>
                      <a:pt x="144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443640" y="5028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0" name=""/>
            <p:cNvSpPr/>
            <p:nvPr/>
          </p:nvSpPr>
          <p:spPr>
            <a:xfrm>
              <a:off x="5769360" y="2506680"/>
              <a:ext cx="196092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47"/>
                  </a:moveTo>
                  <a:arcTo wR="10800" hR="10800" stAng="-10783213" swAng="5362223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47"/>
                  </a:moveTo>
                  <a:arcTo wR="10800" hR="10800" stAng="-10783213" swAng="5362223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126200" y="4937400"/>
              <a:ext cx="331200" cy="127800"/>
              <a:chOff x="7126200" y="4937400"/>
              <a:chExt cx="331200" cy="127800"/>
            </a:xfrm>
          </p:grpSpPr>
          <p:sp>
            <p:nvSpPr>
              <p:cNvPr id="512" name=""/>
              <p:cNvSpPr/>
              <p:nvPr/>
            </p:nvSpPr>
            <p:spPr>
              <a:xfrm>
                <a:off x="7126200" y="4937400"/>
                <a:ext cx="244800" cy="127800"/>
              </a:xfrm>
              <a:custGeom>
                <a:avLst/>
                <a:gdLst/>
                <a:ahLst/>
                <a:rect l="l" t="t" r="r" b="b"/>
                <a:pathLst>
                  <a:path w="144" h="72">
                    <a:moveTo>
                      <a:pt x="0" y="41"/>
                    </a:moveTo>
                    <a:lnTo>
                      <a:pt x="144" y="0"/>
                    </a:lnTo>
                    <a:lnTo>
                      <a:pt x="144" y="41"/>
                    </a:lnTo>
                    <a:lnTo>
                      <a:pt x="144" y="72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 flipH="1">
                <a:off x="7370640" y="5010120"/>
                <a:ext cx="867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4" name=""/>
            <p:cNvSpPr/>
            <p:nvPr/>
          </p:nvSpPr>
          <p:spPr>
            <a:xfrm>
              <a:off x="6190560" y="2524680"/>
              <a:ext cx="1960200" cy="2567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22" y="0"/>
                  </a:moveTo>
                  <a:arcTo wR="10800" hR="10800" stAng="-5424945" swAng="54079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22" y="0"/>
                  </a:moveTo>
                  <a:arcTo wR="10800" hR="10800" stAng="-5424945" swAng="540792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784560" y="2599200"/>
              <a:ext cx="1368000" cy="2419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6"/>
                  </a:moveTo>
                  <a:arcTo wR="10800" hR="10800" stAng="-17173" swAng="5451589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6"/>
                  </a:moveTo>
                  <a:arcTo wR="10800" hR="10800" stAng="-17173" swAng="5451589"/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DF65-032E-4CB1-8306-736CCC5541EE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control reaches the conditional, symbolic values do not allow execution to select a bran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can choose a branch, and record the choice i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sult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{a = A, y = Y + 5, x = 2 * Y + A + 7}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&lt;1, 3, 4&gt;, Y + 2 ≤ A&gt;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"/>
          <p:cNvSpPr/>
          <p:nvPr/>
        </p:nvSpPr>
        <p:spPr>
          <a:xfrm>
            <a:off x="1143000" y="548640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971800" y="5486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071720" y="54435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797200" y="544356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th 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A225-EC1E-4238-AB52-06A4D1601222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ad (x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moves any existing binding for x and adds  binding x = X, where X is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ly introduce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symbolic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expression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utput(n) = computed_symbolic_value (n counter initialized to 1 and automatically incremented after each output stat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4" name=""/>
          <p:cNvSpPr/>
          <p:nvPr/>
        </p:nvSpPr>
        <p:spPr>
          <a:xfrm>
            <a:off x="92880" y="1143000"/>
            <a:ext cx="8935920" cy="825480"/>
          </a:xfrm>
          <a:prstGeom prst="rect">
            <a:avLst/>
          </a:prstGeom>
          <a:noFill/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ic sta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&lt;symbolic_variable_values, execution_path, path_condition&gt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507B-5B22-49E2-9870-669909A1079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oals of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show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s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bugs (Dijkstra, 1987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tests do detect failures, we cannot conclude that software is defect-f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, we need to do t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riven by sound and systematic princip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E329-4E5D-4885-AAA3-DE8D9E8CE4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x:= expression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uct symbolic value of expression, SV; replace previous binding for x with x = 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execution of the last statement of a sequence that corresponds to an edge of control graph, append the edge to executio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D416-FB52-4EC4-BE63-B9EA1571F3C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rules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nd then S1; else S2; end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ond loop…end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dition is symbolically evaluat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val (cond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f eval (cond)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true or false then execution proceeds by following the appropriate bran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therwise, make nondeterministic choice of true or false, and conjoin eval (cond) (resp.,  not eval (cond)) to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C29B-241B-4CED-9CB0-45AFA7ED9290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grams with array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et A1 be the symbolic value of array a when statement a(i)= exp is execu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n, after execution of the statement, a receives the new symbolic value A2, denoted as A2 = A1&lt;i, exp&gt;, a shorthand f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k if k = i then A2(k) = exp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A2(k) = A1(k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9DA9-2933-4951-ABF0-6D3F1E592242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of concurrent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"/>
          <p:cNvSpPr/>
          <p:nvPr/>
        </p:nvSpPr>
        <p:spPr>
          <a:xfrm>
            <a:off x="2446200" y="211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1312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210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601640" y="4695840"/>
            <a:ext cx="111456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726000" y="1808280"/>
            <a:ext cx="7142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1619280" y="23652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609560" y="2373480"/>
            <a:ext cx="559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432400" y="23652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475240" y="2373480"/>
            <a:ext cx="54144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85160" y="2365200"/>
            <a:ext cx="5061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128000" y="2373480"/>
            <a:ext cx="541080" cy="53964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091040" y="4695840"/>
            <a:ext cx="109692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24600" y="4695840"/>
            <a:ext cx="109548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042440" y="1447920"/>
            <a:ext cx="22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ssage_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3244680" y="495288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832440" y="4324320"/>
            <a:ext cx="1035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263680" y="4343400"/>
            <a:ext cx="397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588400" y="4343400"/>
            <a:ext cx="1175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k_pa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1881360" y="2903400"/>
            <a:ext cx="172800" cy="1792440"/>
            <a:chOff x="1881360" y="2903400"/>
            <a:chExt cx="172800" cy="1792440"/>
          </a:xfrm>
        </p:grpSpPr>
        <p:sp>
          <p:nvSpPr>
            <p:cNvPr id="551" name=""/>
            <p:cNvSpPr/>
            <p:nvPr/>
          </p:nvSpPr>
          <p:spPr>
            <a:xfrm>
              <a:off x="194940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11"/>
                  </a:lnTo>
                  <a:lnTo>
                    <a:pt x="22" y="11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881360" y="2903400"/>
              <a:ext cx="10296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2176560" y="2643120"/>
            <a:ext cx="104760" cy="2052720"/>
            <a:chOff x="2176560" y="2643120"/>
            <a:chExt cx="104760" cy="2052720"/>
          </a:xfrm>
        </p:grpSpPr>
        <p:sp>
          <p:nvSpPr>
            <p:cNvPr id="554" name=""/>
            <p:cNvSpPr/>
            <p:nvPr/>
          </p:nvSpPr>
          <p:spPr>
            <a:xfrm>
              <a:off x="2176560" y="448632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44" y="132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246400" y="2643120"/>
              <a:ext cx="144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6" name=""/>
          <p:cNvGrpSpPr/>
          <p:nvPr/>
        </p:nvGrpSpPr>
        <p:grpSpPr>
          <a:xfrm>
            <a:off x="4091040" y="2903400"/>
            <a:ext cx="401760" cy="1792440"/>
            <a:chOff x="4091040" y="2903400"/>
            <a:chExt cx="401760" cy="1792440"/>
          </a:xfrm>
        </p:grpSpPr>
        <p:sp>
          <p:nvSpPr>
            <p:cNvPr id="557" name=""/>
            <p:cNvSpPr/>
            <p:nvPr/>
          </p:nvSpPr>
          <p:spPr>
            <a:xfrm>
              <a:off x="4387680" y="4468680"/>
              <a:ext cx="10512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66" y="143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66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91040" y="2903400"/>
              <a:ext cx="349200" cy="15829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9" name=""/>
          <p:cNvGrpSpPr/>
          <p:nvPr/>
        </p:nvGrpSpPr>
        <p:grpSpPr>
          <a:xfrm>
            <a:off x="4770360" y="2782800"/>
            <a:ext cx="696960" cy="1913040"/>
            <a:chOff x="4770360" y="2782800"/>
            <a:chExt cx="696960" cy="1913040"/>
          </a:xfrm>
        </p:grpSpPr>
        <p:sp>
          <p:nvSpPr>
            <p:cNvPr id="560" name=""/>
            <p:cNvSpPr/>
            <p:nvPr/>
          </p:nvSpPr>
          <p:spPr>
            <a:xfrm>
              <a:off x="4770360" y="4468680"/>
              <a:ext cx="122400" cy="22716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0" y="143"/>
                  </a:moveTo>
                  <a:lnTo>
                    <a:pt x="11" y="0"/>
                  </a:lnTo>
                  <a:lnTo>
                    <a:pt x="44" y="11"/>
                  </a:lnTo>
                  <a:lnTo>
                    <a:pt x="77" y="3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840200" y="2782800"/>
              <a:ext cx="627120" cy="1703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4370400" y="2782800"/>
            <a:ext cx="2192400" cy="1913040"/>
            <a:chOff x="4370400" y="2782800"/>
            <a:chExt cx="2192400" cy="1913040"/>
          </a:xfrm>
        </p:grpSpPr>
        <p:sp>
          <p:nvSpPr>
            <p:cNvPr id="563" name=""/>
            <p:cNvSpPr/>
            <p:nvPr/>
          </p:nvSpPr>
          <p:spPr>
            <a:xfrm>
              <a:off x="6372360" y="4521240"/>
              <a:ext cx="190440" cy="17460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20" y="110"/>
                  </a:moveTo>
                  <a:lnTo>
                    <a:pt x="0" y="44"/>
                  </a:lnTo>
                  <a:lnTo>
                    <a:pt x="22" y="11"/>
                  </a:lnTo>
                  <a:lnTo>
                    <a:pt x="33" y="0"/>
                  </a:lnTo>
                  <a:lnTo>
                    <a:pt x="120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70400" y="2782800"/>
              <a:ext cx="2036880" cy="1755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684840" y="2643120"/>
            <a:ext cx="434880" cy="2052720"/>
            <a:chOff x="6684840" y="2643120"/>
            <a:chExt cx="434880" cy="2052720"/>
          </a:xfrm>
        </p:grpSpPr>
        <p:sp>
          <p:nvSpPr>
            <p:cNvPr id="566" name=""/>
            <p:cNvSpPr/>
            <p:nvPr/>
          </p:nvSpPr>
          <p:spPr>
            <a:xfrm>
              <a:off x="6684840" y="4468680"/>
              <a:ext cx="104760" cy="22716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11" y="143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6" y="22"/>
                  </a:lnTo>
                  <a:lnTo>
                    <a:pt x="11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737040" y="2643120"/>
              <a:ext cx="382680" cy="184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1881360" y="5391000"/>
            <a:ext cx="52200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889280" y="5398920"/>
            <a:ext cx="5569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35480" y="5391000"/>
            <a:ext cx="50472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378320" y="5398920"/>
            <a:ext cx="54144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6249960" y="5391000"/>
            <a:ext cx="522360" cy="503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292800" y="5398920"/>
            <a:ext cx="558720" cy="540000"/>
          </a:xfrm>
          <a:prstGeom prst="ellipse">
            <a:avLst/>
          </a:prstGeom>
          <a:noFill/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243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4021200" y="1808280"/>
            <a:ext cx="104760" cy="556920"/>
            <a:chOff x="4021200" y="1808280"/>
            <a:chExt cx="104760" cy="556920"/>
          </a:xfrm>
        </p:grpSpPr>
        <p:sp>
          <p:nvSpPr>
            <p:cNvPr id="576" name=""/>
            <p:cNvSpPr/>
            <p:nvPr/>
          </p:nvSpPr>
          <p:spPr>
            <a:xfrm>
              <a:off x="4021200" y="21384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44" y="143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66" y="0"/>
                  </a:lnTo>
                  <a:lnTo>
                    <a:pt x="44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91040" y="1808280"/>
              <a:ext cx="1440" cy="330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8" name=""/>
          <p:cNvSpPr/>
          <p:nvPr/>
        </p:nvSpPr>
        <p:spPr>
          <a:xfrm>
            <a:off x="520560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958080" y="2057400"/>
            <a:ext cx="893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hann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4578480" y="4695840"/>
            <a:ext cx="104760" cy="695160"/>
            <a:chOff x="4578480" y="4695840"/>
            <a:chExt cx="104760" cy="695160"/>
          </a:xfrm>
        </p:grpSpPr>
        <p:sp>
          <p:nvSpPr>
            <p:cNvPr id="581" name=""/>
            <p:cNvSpPr/>
            <p:nvPr/>
          </p:nvSpPr>
          <p:spPr>
            <a:xfrm>
              <a:off x="4578480" y="5164200"/>
              <a:ext cx="104760" cy="226800"/>
            </a:xfrm>
            <a:custGeom>
              <a:avLst/>
              <a:gdLst/>
              <a:ahLst/>
              <a:rect l="l" t="t" r="r" b="b"/>
              <a:pathLst>
                <a:path w="66" h="143">
                  <a:moveTo>
                    <a:pt x="33" y="143"/>
                  </a:moveTo>
                  <a:lnTo>
                    <a:pt x="0" y="0"/>
                  </a:lnTo>
                  <a:lnTo>
                    <a:pt x="33" y="0"/>
                  </a:lnTo>
                  <a:lnTo>
                    <a:pt x="66" y="0"/>
                  </a:lnTo>
                  <a:lnTo>
                    <a:pt x="33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630680" y="4695840"/>
              <a:ext cx="180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3" name=""/>
          <p:cNvGrpSpPr/>
          <p:nvPr/>
        </p:nvGrpSpPr>
        <p:grpSpPr>
          <a:xfrm>
            <a:off x="6512040" y="4695840"/>
            <a:ext cx="102960" cy="695160"/>
            <a:chOff x="6512040" y="4695840"/>
            <a:chExt cx="102960" cy="695160"/>
          </a:xfrm>
        </p:grpSpPr>
        <p:sp>
          <p:nvSpPr>
            <p:cNvPr id="584" name=""/>
            <p:cNvSpPr/>
            <p:nvPr/>
          </p:nvSpPr>
          <p:spPr>
            <a:xfrm>
              <a:off x="6512040" y="5164200"/>
              <a:ext cx="102960" cy="226800"/>
            </a:xfrm>
            <a:custGeom>
              <a:avLst/>
              <a:gdLst/>
              <a:ahLst/>
              <a:rect l="l" t="t" r="r" b="b"/>
              <a:pathLst>
                <a:path w="65" h="143">
                  <a:moveTo>
                    <a:pt x="32" y="143"/>
                  </a:moveTo>
                  <a:lnTo>
                    <a:pt x="0" y="0"/>
                  </a:lnTo>
                  <a:lnTo>
                    <a:pt x="32" y="0"/>
                  </a:lnTo>
                  <a:lnTo>
                    <a:pt x="65" y="0"/>
                  </a:lnTo>
                  <a:lnTo>
                    <a:pt x="32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62800" y="4695840"/>
              <a:ext cx="1440" cy="468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984960" y="4800600"/>
            <a:ext cx="1235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n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462636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6558480" y="4711680"/>
            <a:ext cx="1093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nd_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784080" y="5668920"/>
            <a:ext cx="109728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784080" y="2573280"/>
            <a:ext cx="817560" cy="104760"/>
            <a:chOff x="784080" y="2573280"/>
            <a:chExt cx="817560" cy="104760"/>
          </a:xfrm>
        </p:grpSpPr>
        <p:sp>
          <p:nvSpPr>
            <p:cNvPr id="591" name=""/>
            <p:cNvSpPr/>
            <p:nvPr/>
          </p:nvSpPr>
          <p:spPr>
            <a:xfrm>
              <a:off x="1376280" y="2573280"/>
              <a:ext cx="225360" cy="104760"/>
            </a:xfrm>
            <a:custGeom>
              <a:avLst/>
              <a:gdLst/>
              <a:ahLst/>
              <a:rect l="l" t="t" r="r" b="b"/>
              <a:pathLst>
                <a:path w="142" h="66">
                  <a:moveTo>
                    <a:pt x="142" y="44"/>
                  </a:moveTo>
                  <a:lnTo>
                    <a:pt x="0" y="66"/>
                  </a:lnTo>
                  <a:lnTo>
                    <a:pt x="0" y="44"/>
                  </a:lnTo>
                  <a:lnTo>
                    <a:pt x="0" y="0"/>
                  </a:lnTo>
                  <a:lnTo>
                    <a:pt x="142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4080" y="2643120"/>
              <a:ext cx="59220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644400" y="469584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784080" y="2643120"/>
            <a:ext cx="1800" cy="205272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4910040" y="5791320"/>
            <a:ext cx="8352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5484600" y="4468680"/>
            <a:ext cx="5569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5675400" y="4486320"/>
            <a:ext cx="104760" cy="1304640"/>
            <a:chOff x="5675400" y="4486320"/>
            <a:chExt cx="104760" cy="1304640"/>
          </a:xfrm>
        </p:grpSpPr>
        <p:sp>
          <p:nvSpPr>
            <p:cNvPr id="598" name=""/>
            <p:cNvSpPr/>
            <p:nvPr/>
          </p:nvSpPr>
          <p:spPr>
            <a:xfrm>
              <a:off x="5675400" y="4486320"/>
              <a:ext cx="104760" cy="277920"/>
            </a:xfrm>
            <a:custGeom>
              <a:avLst/>
              <a:gdLst/>
              <a:ahLst/>
              <a:rect l="l" t="t" r="r" b="b"/>
              <a:pathLst>
                <a:path w="66" h="175">
                  <a:moveTo>
                    <a:pt x="44" y="0"/>
                  </a:moveTo>
                  <a:lnTo>
                    <a:pt x="66" y="175"/>
                  </a:lnTo>
                  <a:lnTo>
                    <a:pt x="44" y="175"/>
                  </a:lnTo>
                  <a:lnTo>
                    <a:pt x="0" y="175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5745240" y="4763880"/>
              <a:ext cx="1440" cy="1027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5675400" y="2903400"/>
            <a:ext cx="104760" cy="1565280"/>
            <a:chOff x="5675400" y="2903400"/>
            <a:chExt cx="104760" cy="1565280"/>
          </a:xfrm>
        </p:grpSpPr>
        <p:sp>
          <p:nvSpPr>
            <p:cNvPr id="601" name=""/>
            <p:cNvSpPr/>
            <p:nvPr/>
          </p:nvSpPr>
          <p:spPr>
            <a:xfrm>
              <a:off x="5675400" y="2903400"/>
              <a:ext cx="104760" cy="192240"/>
            </a:xfrm>
            <a:custGeom>
              <a:avLst/>
              <a:gdLst/>
              <a:ahLst/>
              <a:rect l="l" t="t" r="r" b="b"/>
              <a:pathLst>
                <a:path w="66" h="121">
                  <a:moveTo>
                    <a:pt x="44" y="0"/>
                  </a:moveTo>
                  <a:lnTo>
                    <a:pt x="66" y="121"/>
                  </a:lnTo>
                  <a:lnTo>
                    <a:pt x="44" y="121"/>
                  </a:lnTo>
                  <a:lnTo>
                    <a:pt x="0" y="121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745240" y="3095640"/>
              <a:ext cx="1440" cy="13730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6842160" y="5791320"/>
            <a:ext cx="137484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 flipH="1">
            <a:off x="7939080" y="4834080"/>
            <a:ext cx="417600" cy="14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8164440" y="4834080"/>
            <a:ext cx="104760" cy="956880"/>
            <a:chOff x="8164440" y="4834080"/>
            <a:chExt cx="104760" cy="956880"/>
          </a:xfrm>
        </p:grpSpPr>
        <p:sp>
          <p:nvSpPr>
            <p:cNvPr id="606" name=""/>
            <p:cNvSpPr/>
            <p:nvPr/>
          </p:nvSpPr>
          <p:spPr>
            <a:xfrm>
              <a:off x="8164440" y="4834080"/>
              <a:ext cx="104760" cy="209520"/>
            </a:xfrm>
            <a:custGeom>
              <a:avLst/>
              <a:gdLst/>
              <a:ahLst/>
              <a:rect l="l" t="t" r="r" b="b"/>
              <a:pathLst>
                <a:path w="66" h="132">
                  <a:moveTo>
                    <a:pt x="33" y="0"/>
                  </a:moveTo>
                  <a:lnTo>
                    <a:pt x="66" y="132"/>
                  </a:lnTo>
                  <a:lnTo>
                    <a:pt x="33" y="132"/>
                  </a:lnTo>
                  <a:lnTo>
                    <a:pt x="0" y="13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217000" y="5043240"/>
              <a:ext cx="1440" cy="747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 flipV="1">
            <a:off x="8217000" y="2643120"/>
            <a:ext cx="1440" cy="21909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811160" y="2590920"/>
            <a:ext cx="103320" cy="871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7364520" y="264312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710320" y="2608200"/>
            <a:ext cx="87120" cy="874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2" name=""/>
          <p:cNvGrpSpPr/>
          <p:nvPr/>
        </p:nvGrpSpPr>
        <p:grpSpPr>
          <a:xfrm>
            <a:off x="2298600" y="4695840"/>
            <a:ext cx="417600" cy="1650960"/>
            <a:chOff x="2298600" y="4695840"/>
            <a:chExt cx="417600" cy="1650960"/>
          </a:xfrm>
        </p:grpSpPr>
        <p:sp>
          <p:nvSpPr>
            <p:cNvPr id="613" name=""/>
            <p:cNvSpPr/>
            <p:nvPr/>
          </p:nvSpPr>
          <p:spPr>
            <a:xfrm>
              <a:off x="2593800" y="6121440"/>
              <a:ext cx="122400" cy="225360"/>
            </a:xfrm>
            <a:custGeom>
              <a:avLst/>
              <a:gdLst/>
              <a:ahLst/>
              <a:rect l="l" t="t" r="r" b="b"/>
              <a:pathLst>
                <a:path w="77" h="142">
                  <a:moveTo>
                    <a:pt x="77" y="142"/>
                  </a:moveTo>
                  <a:lnTo>
                    <a:pt x="0" y="22"/>
                  </a:lnTo>
                  <a:lnTo>
                    <a:pt x="33" y="11"/>
                  </a:lnTo>
                  <a:lnTo>
                    <a:pt x="66" y="0"/>
                  </a:lnTo>
                  <a:lnTo>
                    <a:pt x="77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298600" y="4695840"/>
              <a:ext cx="347760" cy="14428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5" name=""/>
          <p:cNvGrpSpPr/>
          <p:nvPr/>
        </p:nvGrpSpPr>
        <p:grpSpPr>
          <a:xfrm>
            <a:off x="5972040" y="4695840"/>
            <a:ext cx="172800" cy="1511280"/>
            <a:chOff x="5972040" y="4695840"/>
            <a:chExt cx="172800" cy="1511280"/>
          </a:xfrm>
        </p:grpSpPr>
        <p:sp>
          <p:nvSpPr>
            <p:cNvPr id="616" name=""/>
            <p:cNvSpPr/>
            <p:nvPr/>
          </p:nvSpPr>
          <p:spPr>
            <a:xfrm>
              <a:off x="5972040" y="5981760"/>
              <a:ext cx="103320" cy="225360"/>
            </a:xfrm>
            <a:custGeom>
              <a:avLst/>
              <a:gdLst/>
              <a:ahLst/>
              <a:rect l="l" t="t" r="r" b="b"/>
              <a:pathLst>
                <a:path w="65" h="142">
                  <a:moveTo>
                    <a:pt x="33" y="142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65" y="11"/>
                  </a:lnTo>
                  <a:lnTo>
                    <a:pt x="33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6024240" y="4695840"/>
              <a:ext cx="120600" cy="13032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8" name=""/>
          <p:cNvSpPr/>
          <p:nvPr/>
        </p:nvSpPr>
        <p:spPr>
          <a:xfrm>
            <a:off x="3033000" y="1828800"/>
            <a:ext cx="88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:=  f(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21904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62320" y="472752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2246040" y="2643120"/>
            <a:ext cx="1514520" cy="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867360" y="4114800"/>
            <a:ext cx="1146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7624800" y="2590920"/>
            <a:ext cx="557280" cy="122040"/>
            <a:chOff x="7624800" y="2590920"/>
            <a:chExt cx="557280" cy="122040"/>
          </a:xfrm>
        </p:grpSpPr>
        <p:sp>
          <p:nvSpPr>
            <p:cNvPr id="624" name=""/>
            <p:cNvSpPr/>
            <p:nvPr/>
          </p:nvSpPr>
          <p:spPr>
            <a:xfrm>
              <a:off x="7624800" y="2590920"/>
              <a:ext cx="209520" cy="122040"/>
            </a:xfrm>
            <a:custGeom>
              <a:avLst/>
              <a:gdLst/>
              <a:ahLst/>
              <a:rect l="l" t="t" r="r" b="b"/>
              <a:pathLst>
                <a:path w="132" h="77">
                  <a:moveTo>
                    <a:pt x="0" y="33"/>
                  </a:moveTo>
                  <a:lnTo>
                    <a:pt x="132" y="0"/>
                  </a:lnTo>
                  <a:lnTo>
                    <a:pt x="132" y="33"/>
                  </a:lnTo>
                  <a:lnTo>
                    <a:pt x="132" y="77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834320" y="2643120"/>
              <a:ext cx="34776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6" name=""/>
          <p:cNvSpPr/>
          <p:nvPr/>
        </p:nvSpPr>
        <p:spPr>
          <a:xfrm>
            <a:off x="207072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5561640" y="487692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6091920" y="217476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7543080" y="480060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781040" y="2157480"/>
            <a:ext cx="128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696960" y="4695840"/>
            <a:ext cx="122040" cy="973080"/>
            <a:chOff x="696960" y="4695840"/>
            <a:chExt cx="122040" cy="973080"/>
          </a:xfrm>
        </p:grpSpPr>
        <p:sp>
          <p:nvSpPr>
            <p:cNvPr id="632" name=""/>
            <p:cNvSpPr/>
            <p:nvPr/>
          </p:nvSpPr>
          <p:spPr>
            <a:xfrm>
              <a:off x="696960" y="4695840"/>
              <a:ext cx="122040" cy="243000"/>
            </a:xfrm>
            <a:custGeom>
              <a:avLst/>
              <a:gdLst/>
              <a:ahLst/>
              <a:rect l="l" t="t" r="r" b="b"/>
              <a:pathLst>
                <a:path w="77" h="153">
                  <a:moveTo>
                    <a:pt x="44" y="0"/>
                  </a:moveTo>
                  <a:lnTo>
                    <a:pt x="77" y="153"/>
                  </a:lnTo>
                  <a:lnTo>
                    <a:pt x="44" y="153"/>
                  </a:lnTo>
                  <a:lnTo>
                    <a:pt x="0" y="153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66800" y="4938840"/>
              <a:ext cx="1440" cy="7300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4" name=""/>
          <p:cNvGrpSpPr/>
          <p:nvPr/>
        </p:nvGrpSpPr>
        <p:grpSpPr>
          <a:xfrm>
            <a:off x="2089080" y="4695840"/>
            <a:ext cx="122400" cy="695160"/>
            <a:chOff x="2089080" y="4695840"/>
            <a:chExt cx="122400" cy="695160"/>
          </a:xfrm>
        </p:grpSpPr>
        <p:sp>
          <p:nvSpPr>
            <p:cNvPr id="635" name=""/>
            <p:cNvSpPr/>
            <p:nvPr/>
          </p:nvSpPr>
          <p:spPr>
            <a:xfrm>
              <a:off x="2089080" y="5146560"/>
              <a:ext cx="122400" cy="244440"/>
            </a:xfrm>
            <a:custGeom>
              <a:avLst/>
              <a:gdLst/>
              <a:ahLst/>
              <a:rect l="l" t="t" r="r" b="b"/>
              <a:pathLst>
                <a:path w="77" h="154">
                  <a:moveTo>
                    <a:pt x="44" y="154"/>
                  </a:moveTo>
                  <a:lnTo>
                    <a:pt x="0" y="0"/>
                  </a:lnTo>
                  <a:lnTo>
                    <a:pt x="44" y="0"/>
                  </a:lnTo>
                  <a:lnTo>
                    <a:pt x="77" y="0"/>
                  </a:lnTo>
                  <a:lnTo>
                    <a:pt x="44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158920" y="4695840"/>
              <a:ext cx="1800" cy="4507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4021200" y="4695840"/>
            <a:ext cx="436680" cy="1477800"/>
            <a:chOff x="4021200" y="4695840"/>
            <a:chExt cx="436680" cy="1477800"/>
          </a:xfrm>
        </p:grpSpPr>
        <p:sp>
          <p:nvSpPr>
            <p:cNvPr id="638" name=""/>
            <p:cNvSpPr/>
            <p:nvPr/>
          </p:nvSpPr>
          <p:spPr>
            <a:xfrm>
              <a:off x="4021200" y="5911920"/>
              <a:ext cx="122040" cy="261720"/>
            </a:xfrm>
            <a:custGeom>
              <a:avLst/>
              <a:gdLst/>
              <a:ahLst/>
              <a:rect l="l" t="t" r="r" b="b"/>
              <a:pathLst>
                <a:path w="77" h="165">
                  <a:moveTo>
                    <a:pt x="0" y="165"/>
                  </a:moveTo>
                  <a:lnTo>
                    <a:pt x="0" y="0"/>
                  </a:lnTo>
                  <a:lnTo>
                    <a:pt x="33" y="11"/>
                  </a:lnTo>
                  <a:lnTo>
                    <a:pt x="77" y="22"/>
                  </a:lnTo>
                  <a:lnTo>
                    <a:pt x="0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4073400" y="4695840"/>
              <a:ext cx="384480" cy="12333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1BE-E151-4B61-89C9-C3D6A00481A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ump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implifying assumption: no more than one token in a 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sequence of atomic steps can be modeled by a firing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resolves the nondeterminism that is due to several transitions being enab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riple &lt;symbolic_variable_values, execution_path, path_condition&gt; can be used to model the symbolic state of the interpreter (execution_path is the firing sequen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7518-12EB-4B5C-869E-D9230409E733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ic execution and tes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path condition describes the data that traverse a certain pat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in testing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bolically execut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hesize data that satisfy the path cond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y will execute tha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D0493-578E-4AAD-AE43-BD1D1404424B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25320" y="27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"/>
          <p:cNvSpPr/>
          <p:nvPr/>
        </p:nvSpPr>
        <p:spPr>
          <a:xfrm>
            <a:off x="514440" y="1523880"/>
            <a:ext cx="7991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false; counter :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(not found) and counter &lt; number_of_items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table (counter) = desired_elemen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und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 := counter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found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exists 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rite ("the desired element does not exi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table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DC14-4567-4FED-AD9D-2AF72C79E200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"/>
          <p:cNvSpPr/>
          <p:nvPr/>
        </p:nvSpPr>
        <p:spPr>
          <a:xfrm>
            <a:off x="25718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921120" y="110340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921120" y="2201760"/>
            <a:ext cx="264960" cy="27324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3978360" y="1370160"/>
            <a:ext cx="115920" cy="823680"/>
            <a:chOff x="3978360" y="1370160"/>
            <a:chExt cx="115920" cy="823680"/>
          </a:xfrm>
        </p:grpSpPr>
        <p:sp>
          <p:nvSpPr>
            <p:cNvPr id="651" name=""/>
            <p:cNvSpPr/>
            <p:nvPr/>
          </p:nvSpPr>
          <p:spPr>
            <a:xfrm>
              <a:off x="3978360" y="196524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42" y="144"/>
                  </a:moveTo>
                  <a:lnTo>
                    <a:pt x="0" y="0"/>
                  </a:lnTo>
                  <a:lnTo>
                    <a:pt x="42" y="0"/>
                  </a:lnTo>
                  <a:lnTo>
                    <a:pt x="73" y="0"/>
                  </a:lnTo>
                  <a:lnTo>
                    <a:pt x="42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44960" y="1370160"/>
              <a:ext cx="1440" cy="59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5770440" y="5342040"/>
            <a:ext cx="26352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5845320" y="4525920"/>
            <a:ext cx="114120" cy="822240"/>
            <a:chOff x="5845320" y="4525920"/>
            <a:chExt cx="114120" cy="822240"/>
          </a:xfrm>
        </p:grpSpPr>
        <p:sp>
          <p:nvSpPr>
            <p:cNvPr id="655" name=""/>
            <p:cNvSpPr/>
            <p:nvPr/>
          </p:nvSpPr>
          <p:spPr>
            <a:xfrm>
              <a:off x="5845320" y="511956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41" y="144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910120" y="4525920"/>
              <a:ext cx="1800" cy="593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7" name=""/>
          <p:cNvSpPr/>
          <p:nvPr/>
        </p:nvSpPr>
        <p:spPr>
          <a:xfrm>
            <a:off x="5770440" y="274968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"/>
          <p:cNvGrpSpPr/>
          <p:nvPr/>
        </p:nvGrpSpPr>
        <p:grpSpPr>
          <a:xfrm>
            <a:off x="4176720" y="2330280"/>
            <a:ext cx="1585800" cy="549360"/>
            <a:chOff x="4176720" y="2330280"/>
            <a:chExt cx="1585800" cy="549360"/>
          </a:xfrm>
        </p:grpSpPr>
        <p:sp>
          <p:nvSpPr>
            <p:cNvPr id="659" name=""/>
            <p:cNvSpPr/>
            <p:nvPr/>
          </p:nvSpPr>
          <p:spPr>
            <a:xfrm>
              <a:off x="5546880" y="2757600"/>
              <a:ext cx="215640" cy="122040"/>
            </a:xfrm>
            <a:custGeom>
              <a:avLst/>
              <a:gdLst/>
              <a:ahLst/>
              <a:rect l="l" t="t" r="r" b="b"/>
              <a:pathLst>
                <a:path w="136" h="77">
                  <a:moveTo>
                    <a:pt x="136" y="77"/>
                  </a:moveTo>
                  <a:lnTo>
                    <a:pt x="0" y="57"/>
                  </a:lnTo>
                  <a:lnTo>
                    <a:pt x="11" y="29"/>
                  </a:lnTo>
                  <a:lnTo>
                    <a:pt x="21" y="0"/>
                  </a:lnTo>
                  <a:lnTo>
                    <a:pt x="136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176720" y="2330280"/>
              <a:ext cx="1387440" cy="473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1" name=""/>
          <p:cNvGrpSpPr/>
          <p:nvPr/>
        </p:nvGrpSpPr>
        <p:grpSpPr>
          <a:xfrm>
            <a:off x="5845320" y="3032280"/>
            <a:ext cx="114120" cy="1218960"/>
            <a:chOff x="5845320" y="3032280"/>
            <a:chExt cx="114120" cy="1218960"/>
          </a:xfrm>
        </p:grpSpPr>
        <p:sp>
          <p:nvSpPr>
            <p:cNvPr id="662" name=""/>
            <p:cNvSpPr/>
            <p:nvPr/>
          </p:nvSpPr>
          <p:spPr>
            <a:xfrm>
              <a:off x="5845320" y="4129200"/>
              <a:ext cx="114120" cy="122040"/>
            </a:xfrm>
            <a:custGeom>
              <a:avLst/>
              <a:gdLst/>
              <a:ahLst/>
              <a:rect l="l" t="t" r="r" b="b"/>
              <a:pathLst>
                <a:path w="72" h="77">
                  <a:moveTo>
                    <a:pt x="41" y="77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72" y="0"/>
                  </a:lnTo>
                  <a:lnTo>
                    <a:pt x="41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910120" y="3032280"/>
              <a:ext cx="1800" cy="1096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3046320" y="4746600"/>
            <a:ext cx="26352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938760" y="15825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731120" y="22683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6662880" y="3228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654880" y="34732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153320" y="40370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5721480" y="4708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964240" y="35654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337120" y="53481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888000" y="521172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430080" y="5913360"/>
            <a:ext cx="5060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element exists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51320" y="5791320"/>
            <a:ext cx="202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write "the desir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17120" y="5989680"/>
            <a:ext cx="2023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ement does no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758880" y="6186600"/>
            <a:ext cx="192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xist in the table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597720" y="3549600"/>
            <a:ext cx="14364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und :=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842080" y="4678200"/>
            <a:ext cx="2492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unter := counter +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391000" y="2978280"/>
            <a:ext cx="1188720" cy="143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33" y="0"/>
                </a:moveTo>
                <a:arcTo wR="10800" hR="10800" stAng="-5421423" swAng="5403237"/>
                <a:lnTo>
                  <a:pt x="10800" y="10800"/>
                </a:lnTo>
                <a:close/>
              </a:path>
              <a:path fill="none" w="21600" h="21600">
                <a:moveTo>
                  <a:pt x="10733" y="0"/>
                </a:moveTo>
                <a:arcTo wR="10800" hR="10800" stAng="-5421423" swAng="5403237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802480" y="4243320"/>
            <a:ext cx="264960" cy="2746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5985360" y="3071160"/>
            <a:ext cx="594360" cy="131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43"/>
                </a:moveTo>
                <a:arcTo wR="10800" hR="10800" stAng="-18127" swAng="5466143"/>
                <a:lnTo>
                  <a:pt x="10800" y="10800"/>
                </a:lnTo>
                <a:close/>
              </a:path>
              <a:path fill="none" w="21600" h="21600">
                <a:moveTo>
                  <a:pt x="21600" y="10743"/>
                </a:moveTo>
                <a:arcTo wR="10800" hR="10800" stAng="-18127" swAng="546614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6041880" y="4341960"/>
            <a:ext cx="231840" cy="107640"/>
            <a:chOff x="6041880" y="4341960"/>
            <a:chExt cx="231840" cy="107640"/>
          </a:xfrm>
        </p:grpSpPr>
        <p:sp>
          <p:nvSpPr>
            <p:cNvPr id="684" name=""/>
            <p:cNvSpPr/>
            <p:nvPr/>
          </p:nvSpPr>
          <p:spPr>
            <a:xfrm>
              <a:off x="6041880" y="4341960"/>
              <a:ext cx="231840" cy="1076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0" y="29"/>
                  </a:moveTo>
                  <a:lnTo>
                    <a:pt x="146" y="0"/>
                  </a:lnTo>
                  <a:lnTo>
                    <a:pt x="146" y="29"/>
                  </a:lnTo>
                  <a:lnTo>
                    <a:pt x="146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257880" y="4387680"/>
              <a:ext cx="1584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4052880" y="2750040"/>
            <a:ext cx="3434760" cy="2742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49" y="21600"/>
                </a:moveTo>
                <a:arcTo wR="10800" hR="10800" stAng="5416147" swAng="5403840"/>
                <a:lnTo>
                  <a:pt x="10800" y="10800"/>
                </a:lnTo>
                <a:close/>
              </a:path>
              <a:path fill="none" w="21600" h="21600">
                <a:moveTo>
                  <a:pt x="10749" y="21600"/>
                </a:moveTo>
                <a:arcTo wR="10800" hR="10800" stAng="5416147" swAng="5403840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3962520" y="2452680"/>
            <a:ext cx="131760" cy="1630440"/>
            <a:chOff x="3962520" y="2452680"/>
            <a:chExt cx="131760" cy="1630440"/>
          </a:xfrm>
        </p:grpSpPr>
        <p:sp>
          <p:nvSpPr>
            <p:cNvPr id="688" name=""/>
            <p:cNvSpPr/>
            <p:nvPr/>
          </p:nvSpPr>
          <p:spPr>
            <a:xfrm>
              <a:off x="3962520" y="2452680"/>
              <a:ext cx="131760" cy="212760"/>
            </a:xfrm>
            <a:custGeom>
              <a:avLst/>
              <a:gdLst/>
              <a:ahLst/>
              <a:rect l="l" t="t" r="r" b="b"/>
              <a:pathLst>
                <a:path w="83" h="134">
                  <a:moveTo>
                    <a:pt x="42" y="0"/>
                  </a:moveTo>
                  <a:lnTo>
                    <a:pt x="83" y="134"/>
                  </a:lnTo>
                  <a:lnTo>
                    <a:pt x="42" y="134"/>
                  </a:lnTo>
                  <a:lnTo>
                    <a:pt x="0" y="134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4029120" y="2665440"/>
              <a:ext cx="1440" cy="1417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3160800" y="2354400"/>
            <a:ext cx="1551960" cy="417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58"/>
                </a:moveTo>
                <a:arcTo wR="10800" hR="10800" stAng="-10786766" swAng="5351509"/>
                <a:lnTo>
                  <a:pt x="10800" y="10800"/>
                </a:lnTo>
                <a:close/>
              </a:path>
              <a:path fill="none" w="21600" h="21600">
                <a:moveTo>
                  <a:pt x="0" y="10758"/>
                </a:moveTo>
                <a:arcTo wR="10800" hR="10800" stAng="-10786766" swAng="5351509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3087720" y="4373640"/>
            <a:ext cx="131760" cy="380880"/>
            <a:chOff x="3087720" y="4373640"/>
            <a:chExt cx="131760" cy="380880"/>
          </a:xfrm>
        </p:grpSpPr>
        <p:sp>
          <p:nvSpPr>
            <p:cNvPr id="692" name=""/>
            <p:cNvSpPr/>
            <p:nvPr/>
          </p:nvSpPr>
          <p:spPr>
            <a:xfrm>
              <a:off x="3087720" y="4540320"/>
              <a:ext cx="131760" cy="214200"/>
            </a:xfrm>
            <a:custGeom>
              <a:avLst/>
              <a:gdLst/>
              <a:ahLst/>
              <a:rect l="l" t="t" r="r" b="b"/>
              <a:pathLst>
                <a:path w="83" h="135">
                  <a:moveTo>
                    <a:pt x="41" y="135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83" y="0"/>
                  </a:lnTo>
                  <a:lnTo>
                    <a:pt x="41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152880" y="4373640"/>
              <a:ext cx="1440" cy="1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4" name=""/>
          <p:cNvSpPr/>
          <p:nvPr/>
        </p:nvSpPr>
        <p:spPr>
          <a:xfrm>
            <a:off x="2600280" y="4732560"/>
            <a:ext cx="530280" cy="1308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21599"/>
                </a:moveTo>
                <a:arcTo wR="10800" hR="10800" stAng="5454071" swAng="5367221"/>
                <a:lnTo>
                  <a:pt x="10800" y="10800"/>
                </a:lnTo>
                <a:close/>
              </a:path>
              <a:path fill="none" w="21600" h="21600">
                <a:moveTo>
                  <a:pt x="10630" y="21599"/>
                </a:moveTo>
                <a:arcTo wR="10800" hR="10800" stAng="5454071" swAng="5367221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00280" y="4898880"/>
            <a:ext cx="891720" cy="946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43"/>
                </a:moveTo>
                <a:arcTo wR="10800" hR="10800" stAng="-10781960" swAng="5362925"/>
                <a:lnTo>
                  <a:pt x="10800" y="10800"/>
                </a:lnTo>
                <a:close/>
              </a:path>
              <a:path fill="none" w="21600" h="21600">
                <a:moveTo>
                  <a:pt x="0" y="10743"/>
                </a:moveTo>
                <a:arcTo wR="10800" hR="10800" stAng="-10781960" swAng="5362925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913480" y="4884840"/>
            <a:ext cx="859680" cy="131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15" y="0"/>
                </a:moveTo>
                <a:arcTo wR="10800" hR="10800" stAng="-5427084" swAng="5405193"/>
                <a:lnTo>
                  <a:pt x="10800" y="10800"/>
                </a:lnTo>
                <a:close/>
              </a:path>
              <a:path fill="none" w="21600" h="21600">
                <a:moveTo>
                  <a:pt x="10715" y="0"/>
                </a:moveTo>
                <a:arcTo wR="10800" hR="10800" stAng="-5427084" swAng="540519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979720" y="5997600"/>
            <a:ext cx="264960" cy="272880"/>
          </a:xfrm>
          <a:prstGeom prst="ellipse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144600" y="4991760"/>
            <a:ext cx="628560" cy="1097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600" y="10731"/>
                </a:moveTo>
                <a:arcTo wR="10800" hR="10800" stAng="-22094" swAng="5453833"/>
                <a:lnTo>
                  <a:pt x="10800" y="10800"/>
                </a:lnTo>
                <a:close/>
              </a:path>
              <a:path fill="none" w="21600" h="21600">
                <a:moveTo>
                  <a:pt x="21600" y="10731"/>
                </a:moveTo>
                <a:arcTo wR="10800" hR="10800" stAng="-22094" swAng="5453833"/>
              </a:path>
            </a:pathLst>
          </a:cu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2757600" y="5958000"/>
            <a:ext cx="247680" cy="108000"/>
            <a:chOff x="2757600" y="5958000"/>
            <a:chExt cx="247680" cy="108000"/>
          </a:xfrm>
        </p:grpSpPr>
        <p:sp>
          <p:nvSpPr>
            <p:cNvPr id="700" name=""/>
            <p:cNvSpPr/>
            <p:nvPr/>
          </p:nvSpPr>
          <p:spPr>
            <a:xfrm>
              <a:off x="2757600" y="5958000"/>
              <a:ext cx="247680" cy="108000"/>
            </a:xfrm>
            <a:custGeom>
              <a:avLst/>
              <a:gdLst/>
              <a:ahLst/>
              <a:rect l="l" t="t" r="r" b="b"/>
              <a:pathLst>
                <a:path w="156" h="68">
                  <a:moveTo>
                    <a:pt x="156" y="58"/>
                  </a:moveTo>
                  <a:lnTo>
                    <a:pt x="0" y="68"/>
                  </a:lnTo>
                  <a:lnTo>
                    <a:pt x="10" y="29"/>
                  </a:lnTo>
                  <a:lnTo>
                    <a:pt x="21" y="0"/>
                  </a:lnTo>
                  <a:lnTo>
                    <a:pt x="156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 flipV="1">
              <a:off x="2773080" y="6004080"/>
              <a:ext cx="66600" cy="15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3252960" y="6033960"/>
            <a:ext cx="230040" cy="108000"/>
            <a:chOff x="3252960" y="6033960"/>
            <a:chExt cx="230040" cy="108000"/>
          </a:xfrm>
        </p:grpSpPr>
        <p:sp>
          <p:nvSpPr>
            <p:cNvPr id="703" name=""/>
            <p:cNvSpPr/>
            <p:nvPr/>
          </p:nvSpPr>
          <p:spPr>
            <a:xfrm>
              <a:off x="3252960" y="6033960"/>
              <a:ext cx="230040" cy="108000"/>
            </a:xfrm>
            <a:custGeom>
              <a:avLst/>
              <a:gdLst/>
              <a:ahLst/>
              <a:rect l="l" t="t" r="r" b="b"/>
              <a:pathLst>
                <a:path w="145" h="68">
                  <a:moveTo>
                    <a:pt x="0" y="29"/>
                  </a:moveTo>
                  <a:lnTo>
                    <a:pt x="145" y="0"/>
                  </a:lnTo>
                  <a:lnTo>
                    <a:pt x="145" y="29"/>
                  </a:lnTo>
                  <a:lnTo>
                    <a:pt x="145" y="68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433680" y="6080040"/>
              <a:ext cx="49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4381-5959-4F99-A359-B50DC598EBB5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 check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ctness verification, in general, is an undecidable probl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el checking is a rather recent verification technique based on the fact that most interesting system properties become decidable (i.e., algorithmically verifiable) when the system is modeled as a finite state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FF35-9DFD-4EEB-B851-56C6F2F625B2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scribe a given system—software or otherwise—as an F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ress a given property of interest as a suitable formul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erify whether the system’s behavior does indeed satisfy the desired proper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step can be performed automa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model checker either provid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o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hat the property holds or gives a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unterexamp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 the form of a test case that exposes the system’s failure to behave according to the proper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84C1-45F6-46FE-B7F2-A26F501DC33F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46:31Z</dcterms:created>
  <dc:creator>Carlo Ghezzi</dc:creator>
  <dc:description/>
  <dc:language>en-US</dc:language>
  <cp:lastModifiedBy>jazayeri</cp:lastModifiedBy>
  <dcterms:modified xsi:type="dcterms:W3CDTF">2002-02-19T18:10:32Z</dcterms:modified>
  <cp:revision>27</cp:revision>
  <dc:subject/>
  <dc:title>PowerPoint Presentation</dc:title>
</cp:coreProperties>
</file>