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6.wmf" ContentType="image/x-wmf"/>
  <Override PartName="/ppt/media/image29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4.wmf" ContentType="image/x-wmf"/>
  <Override PartName="/ppt/media/image27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30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22.wmf" ContentType="image/x-wmf"/>
  <Override PartName="/ppt/media/image23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8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  <p:sldId id="372" r:id="rId119"/>
    <p:sldId id="373" r:id="rId1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slide" Target="slides/slide117.xml"/><Relationship Id="rId120" Type="http://schemas.openxmlformats.org/officeDocument/2006/relationships/slide" Target="slides/slide118.xml"/><Relationship Id="rId1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7BF-2F86-474C-BE51-E66C82119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56EE-6E81-4075-BE9B-6A44AEE4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DFB9-EC81-429B-80B1-CD6179984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ED53-6EE8-4C4A-B644-BA925DE9E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891-EC6D-4D1F-B76D-D1F460AE6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7AC2-35E0-4FE1-996C-04E37009C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D278-518D-457A-A92B-C448DA67C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33FC-D1DB-4BCF-83EC-E5ED5C1F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1D45-B64B-479D-8F3C-EDAB53ED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B625-D19F-4B9B-AAFA-8AEBAB42C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B612-9EE4-4E44-B2B8-CAEDBA8F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E808-4F5A-42FC-B082-FF9FA8ED3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64DC-9B80-4578-B092-13D7A9A9E8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5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5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nd 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13C-421B-497A-BD39-0CDA547F150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underlying abstract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lease of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ptimizing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version of DB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peripheral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of "social"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tax reg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URO vs national currency in E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 due to development process (transform prototype into produc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E654-A19F-49E8-B800-6A6A6B2856C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iddle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Layer residing between the network operating system and the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elps building network appl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vides useful servi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me services, to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processes or resources on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unication services, such as message passing or RPC (or RMI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1FB48-7B46-4CBC-B199-4EF71AD34430}" type="slidenum">
              <a:t>1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bject-oriented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e kind of module, ADT,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la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lass exports operations (procedures) to manipulate instance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call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nce objects accessible via re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9951A-23BC-4292-8804-425A8B8344FF}" type="slidenum">
              <a:t>1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ntactic change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need to export opaque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name used to declar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a is a reference to an ob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.op (params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0E99-FE1C-40F6-A6DC-AD613754180F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further relation: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Ts may be organized in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ass B may specialize class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inherits from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versely, A generaliz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superclass of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 is a subclass of 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E0D0-5F3B-4537-98C1-F8FB753B67D6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"/>
          <p:cNvSpPr/>
          <p:nvPr/>
        </p:nvSpPr>
        <p:spPr>
          <a:xfrm>
            <a:off x="1935000" y="1486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3" name=""/>
          <p:cNvGraphicFramePr/>
          <p:nvPr/>
        </p:nvGraphicFramePr>
        <p:xfrm>
          <a:off x="0" y="1371600"/>
          <a:ext cx="8763120" cy="7070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371600"/>
                    <a:ext cx="8763120" cy="707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F16-9D15-4776-86ED-0844A921F403}" type="slidenum">
              <a:t>10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193500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7864560" cy="39528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D80-B647-4FF1-BC84-EB682539213A}" type="slidenum">
              <a:t>10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ay of building software increment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ubclass defines a sub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type i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substitutab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olymorphis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variable referring to type A can refer to an object of type B if B is a subclass of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 binding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ethod invoked through a reference depends on the type of the object associated with the reference at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158-7DAB-4F74-96C3-8E689FAFDDA0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inheritance be represented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art introducing the UML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ML (Unified Modeling Language) is a widely adopted standard notation for representing OO desig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ntroduce the UML class dia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es are described by box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D0C-C5CF-4215-93C2-CCB5E89493C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representation of inherit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"/>
          <p:cNvSpPr/>
          <p:nvPr/>
        </p:nvSpPr>
        <p:spPr>
          <a:xfrm>
            <a:off x="217188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990720" y="2438280"/>
            <a:ext cx="7353360" cy="396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5D6-2396-45B3-967E-02D06F3A239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ML associ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sociations are relations that the implementation is required to suppor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n have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icity constrai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194328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-685800" y="3048120"/>
            <a:ext cx="11658600" cy="3546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4EE0-AA4D-4A2B-A927-6109B3A1F93B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versions of the sam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mily of mobile ph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s of the family may differ in network standards, end-user interaction languages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 facility reservat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hotels: reserve rooms, restaurant, conference space, …, equipment (video beamers, overhead projectors, …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 univers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y functionalities are similar, some are different (e.g., facilities may be free of charge or no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1B8C-8D7A-422F-9737-36F2A98CC0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ggre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s a PART_OF re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s from IS_COMPOSED_O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e TRANGLE has its own meth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mplicitly uses POINT to defin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s data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5029200" y="2209680"/>
            <a:ext cx="4419720" cy="2946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685B-9F8D-42F1-9F8F-B2F53DAF381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UM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resentation of IS_COMPONENT_OF via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ackag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no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320040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1981080" y="3048120"/>
            <a:ext cx="5257800" cy="3504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FA9C-B164-4702-91D8-B3EE42F648FC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scribes overall system organization and structure in terms of its major constituents and their interaction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ndard architectures can be ident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 based (publish-subscrib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CFD6-593B-4889-BCD8-C3EE9FB7F79C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andard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"/>
          <p:cNvSpPr/>
          <p:nvPr/>
        </p:nvSpPr>
        <p:spPr>
          <a:xfrm>
            <a:off x="186696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0" y="1752480"/>
          <a:ext cx="693432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52480"/>
                    <a:ext cx="693432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"/>
          <p:cNvSpPr/>
          <p:nvPr/>
        </p:nvSpPr>
        <p:spPr>
          <a:xfrm>
            <a:off x="6347880" y="1828800"/>
            <a:ext cx="13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ipe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95960" y="48006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012360" y="3081240"/>
            <a:ext cx="178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lack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932D-2E74-49AD-AD7C-AD2D4B309438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omain specific architectur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"/>
          <p:cNvSpPr/>
          <p:nvPr/>
        </p:nvSpPr>
        <p:spPr>
          <a:xfrm>
            <a:off x="839880" y="2057400"/>
            <a:ext cx="7412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model–view–controller" architecture for softw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at has a significant amount of user interaction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70504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457200" y="3092400"/>
            <a:ext cx="7467480" cy="3198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9825-4AFE-44CD-A9E5-FA13711B05F9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compon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systems out of pre-existing libraries of compon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most mature engineering areas d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L for C+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Beans and Swing for Jav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D91D-5F99-4EBC-9F34-B2CEFCC39267}" type="slidenum">
              <a:t>1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ponent integr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RBA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mon Object Request Broker Architectur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iddle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and servers connected via an Object Request Broker (OR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vided by servers defined by an Interface Definition Language (ID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Microsoft world: DCOM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tributed Component Object Mode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E163-7BFC-4092-8268-A70A74213F41}" type="slidenum">
              <a:t>1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CORBA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"/>
          <p:cNvSpPr/>
          <p:nvPr/>
        </p:nvSpPr>
        <p:spPr>
          <a:xfrm>
            <a:off x="198108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620120" cy="4146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C28C-FA64-4150-A772-0816A55F70BD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rchitectures for distributed system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om two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three tie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"/>
          <p:cNvSpPr/>
          <p:nvPr/>
        </p:nvSpPr>
        <p:spPr>
          <a:xfrm>
            <a:off x="1790640" y="20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0" name=""/>
          <p:cNvGraphicFramePr/>
          <p:nvPr/>
        </p:nvGraphicFramePr>
        <p:xfrm>
          <a:off x="1600200" y="2286000"/>
          <a:ext cx="7086600" cy="389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286000"/>
                    <a:ext cx="7086600" cy="389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F1B-8B2E-49E9-9061-E74AFCC74142}" type="slidenum">
              <a:t>1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goal for famil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2120" y="20574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the whole family as one system, not each individual member of the family separat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47BA-43FD-4CC0-843C-F3BB0740ADE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wrong wa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irst member of product fami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ify existing software to get next member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C101-64E2-4344-81FD-08A551FFCF8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quential completion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"/>
          <p:cNvSpPr/>
          <p:nvPr/>
        </p:nvSpPr>
        <p:spPr>
          <a:xfrm>
            <a:off x="2378160" y="69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610920" y="1676520"/>
            <a:ext cx="1419480" cy="3932280"/>
            <a:chOff x="610920" y="1676520"/>
            <a:chExt cx="1419480" cy="3932280"/>
          </a:xfrm>
        </p:grpSpPr>
        <p:sp>
          <p:nvSpPr>
            <p:cNvPr id="75" name=""/>
            <p:cNvSpPr/>
            <p:nvPr/>
          </p:nvSpPr>
          <p:spPr>
            <a:xfrm>
              <a:off x="610920" y="167652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93520" y="2430360"/>
              <a:ext cx="586080" cy="542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93520" y="3533760"/>
              <a:ext cx="586080" cy="558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93520" y="4656240"/>
              <a:ext cx="586080" cy="55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85760" y="1998720"/>
              <a:ext cx="145800" cy="405720"/>
              <a:chOff x="1085760" y="1998720"/>
              <a:chExt cx="145800" cy="405720"/>
            </a:xfrm>
          </p:grpSpPr>
          <p:sp>
            <p:nvSpPr>
              <p:cNvPr id="80" name=""/>
              <p:cNvSpPr/>
              <p:nvPr/>
            </p:nvSpPr>
            <p:spPr>
              <a:xfrm>
                <a:off x="1085760" y="216792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1177200" y="1998720"/>
                <a:ext cx="2520" cy="18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2" name=""/>
            <p:cNvGrpSpPr/>
            <p:nvPr/>
          </p:nvGrpSpPr>
          <p:grpSpPr>
            <a:xfrm>
              <a:off x="1085760" y="2982960"/>
              <a:ext cx="145800" cy="524520"/>
              <a:chOff x="1085760" y="2982960"/>
              <a:chExt cx="145800" cy="524520"/>
            </a:xfrm>
          </p:grpSpPr>
          <p:sp>
            <p:nvSpPr>
              <p:cNvPr id="83" name=""/>
              <p:cNvSpPr/>
              <p:nvPr/>
            </p:nvSpPr>
            <p:spPr>
              <a:xfrm>
                <a:off x="1085760" y="3270960"/>
                <a:ext cx="145800" cy="2365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77200" y="2982960"/>
                <a:ext cx="252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5" name=""/>
            <p:cNvGrpSpPr/>
            <p:nvPr/>
          </p:nvGrpSpPr>
          <p:grpSpPr>
            <a:xfrm>
              <a:off x="1085760" y="4084560"/>
              <a:ext cx="145800" cy="545760"/>
              <a:chOff x="1085760" y="4084560"/>
              <a:chExt cx="145800" cy="545760"/>
            </a:xfrm>
          </p:grpSpPr>
          <p:sp>
            <p:nvSpPr>
              <p:cNvPr id="86" name=""/>
              <p:cNvSpPr/>
              <p:nvPr/>
            </p:nvSpPr>
            <p:spPr>
              <a:xfrm>
                <a:off x="1085760" y="4392360"/>
                <a:ext cx="145800" cy="237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1177200" y="4084560"/>
                <a:ext cx="2520" cy="32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" name=""/>
            <p:cNvSpPr/>
            <p:nvPr/>
          </p:nvSpPr>
          <p:spPr>
            <a:xfrm>
              <a:off x="1065960" y="25066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65960" y="3610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086480" y="47322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18200" y="533412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1263600" y="579132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4496400" y="1600200"/>
            <a:ext cx="4494240" cy="4343400"/>
            <a:chOff x="4496400" y="1600200"/>
            <a:chExt cx="4494240" cy="4343400"/>
          </a:xfrm>
        </p:grpSpPr>
        <p:sp>
          <p:nvSpPr>
            <p:cNvPr id="94" name=""/>
            <p:cNvSpPr/>
            <p:nvPr/>
          </p:nvSpPr>
          <p:spPr>
            <a:xfrm>
              <a:off x="5258160" y="40384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5562360" y="5029200"/>
              <a:ext cx="447120" cy="420120"/>
              <a:chOff x="5562360" y="5029200"/>
              <a:chExt cx="447120" cy="420120"/>
            </a:xfrm>
          </p:grpSpPr>
          <p:sp>
            <p:nvSpPr>
              <p:cNvPr id="96" name=""/>
              <p:cNvSpPr/>
              <p:nvPr/>
            </p:nvSpPr>
            <p:spPr>
              <a:xfrm>
                <a:off x="5562360" y="5292000"/>
                <a:ext cx="15768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5706720" y="5029200"/>
                <a:ext cx="30276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4496400" y="54864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30520" y="5427720"/>
              <a:ext cx="43488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456160" y="54990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0208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91080" y="2184120"/>
              <a:ext cx="433440" cy="42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391080" y="303840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1080" y="3905280"/>
              <a:ext cx="433440" cy="43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6529320" y="1849320"/>
              <a:ext cx="104400" cy="315720"/>
              <a:chOff x="6529320" y="1849320"/>
              <a:chExt cx="104400" cy="315720"/>
            </a:xfrm>
          </p:grpSpPr>
          <p:sp>
            <p:nvSpPr>
              <p:cNvPr id="106" name=""/>
              <p:cNvSpPr/>
              <p:nvPr/>
            </p:nvSpPr>
            <p:spPr>
              <a:xfrm>
                <a:off x="6529320" y="19810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594840" y="1849320"/>
                <a:ext cx="1800" cy="14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6529320" y="2611440"/>
              <a:ext cx="104400" cy="407520"/>
              <a:chOff x="6529320" y="2611440"/>
              <a:chExt cx="104400" cy="407520"/>
            </a:xfrm>
          </p:grpSpPr>
          <p:sp>
            <p:nvSpPr>
              <p:cNvPr id="109" name=""/>
              <p:cNvSpPr/>
              <p:nvPr/>
            </p:nvSpPr>
            <p:spPr>
              <a:xfrm>
                <a:off x="6529320" y="283500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594840" y="2611440"/>
                <a:ext cx="1800" cy="23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6529320" y="3465360"/>
              <a:ext cx="104400" cy="420480"/>
              <a:chOff x="6529320" y="3465360"/>
              <a:chExt cx="104400" cy="420480"/>
            </a:xfrm>
          </p:grpSpPr>
          <p:sp>
            <p:nvSpPr>
              <p:cNvPr id="112" name=""/>
              <p:cNvSpPr/>
              <p:nvPr/>
            </p:nvSpPr>
            <p:spPr>
              <a:xfrm>
                <a:off x="6529320" y="3701880"/>
                <a:ext cx="104400" cy="18396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594840" y="3465360"/>
                <a:ext cx="1800" cy="24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" name=""/>
            <p:cNvSpPr/>
            <p:nvPr/>
          </p:nvSpPr>
          <p:spPr>
            <a:xfrm>
              <a:off x="6516360" y="2243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516360" y="30970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516360" y="39639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6213240" y="4332240"/>
              <a:ext cx="379800" cy="382320"/>
              <a:chOff x="6213240" y="4332240"/>
              <a:chExt cx="379800" cy="382320"/>
            </a:xfrm>
          </p:grpSpPr>
          <p:sp>
            <p:nvSpPr>
              <p:cNvPr id="118" name=""/>
              <p:cNvSpPr/>
              <p:nvPr/>
            </p:nvSpPr>
            <p:spPr>
              <a:xfrm>
                <a:off x="6213240" y="4570560"/>
                <a:ext cx="144000" cy="144000"/>
              </a:xfrm>
              <a:custGeom>
                <a:avLst/>
                <a:gdLst/>
                <a:ahLst/>
                <a:rect l="l" t="t" r="r" b="b"/>
                <a:pathLst>
                  <a:path w="66" h="66">
                    <a:moveTo>
                      <a:pt x="0" y="66"/>
                    </a:moveTo>
                    <a:lnTo>
                      <a:pt x="42" y="0"/>
                    </a:lnTo>
                    <a:lnTo>
                      <a:pt x="54" y="12"/>
                    </a:lnTo>
                    <a:lnTo>
                      <a:pt x="66" y="24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6330600" y="4332240"/>
                <a:ext cx="262440" cy="264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5943240" y="4647960"/>
              <a:ext cx="4334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67480" y="5522760"/>
              <a:ext cx="434880" cy="420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6594120" y="4332240"/>
              <a:ext cx="382320" cy="396360"/>
              <a:chOff x="6594120" y="4332240"/>
              <a:chExt cx="382320" cy="396360"/>
            </a:xfrm>
          </p:grpSpPr>
          <p:sp>
            <p:nvSpPr>
              <p:cNvPr id="123" name=""/>
              <p:cNvSpPr/>
              <p:nvPr/>
            </p:nvSpPr>
            <p:spPr>
              <a:xfrm>
                <a:off x="6818040" y="4571280"/>
                <a:ext cx="158400" cy="1573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72" y="72"/>
                    </a:moveTo>
                    <a:lnTo>
                      <a:pt x="0" y="30"/>
                    </a:lnTo>
                    <a:lnTo>
                      <a:pt x="18" y="12"/>
                    </a:lnTo>
                    <a:lnTo>
                      <a:pt x="30" y="0"/>
                    </a:lnTo>
                    <a:lnTo>
                      <a:pt x="72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6594120" y="4332240"/>
                <a:ext cx="263520" cy="27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6891120" y="4708440"/>
              <a:ext cx="419040" cy="433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7250040" y="5095800"/>
              <a:ext cx="407160" cy="420120"/>
              <a:chOff x="7250040" y="5095800"/>
              <a:chExt cx="407160" cy="420120"/>
            </a:xfrm>
          </p:grpSpPr>
          <p:sp>
            <p:nvSpPr>
              <p:cNvPr id="127" name=""/>
              <p:cNvSpPr/>
              <p:nvPr/>
            </p:nvSpPr>
            <p:spPr>
              <a:xfrm>
                <a:off x="7499880" y="5345280"/>
                <a:ext cx="157320" cy="170640"/>
              </a:xfrm>
              <a:custGeom>
                <a:avLst/>
                <a:gdLst/>
                <a:ahLst/>
                <a:rect l="l" t="t" r="r" b="b"/>
                <a:pathLst>
                  <a:path w="72" h="78">
                    <a:moveTo>
                      <a:pt x="72" y="78"/>
                    </a:moveTo>
                    <a:lnTo>
                      <a:pt x="0" y="30"/>
                    </a:lnTo>
                    <a:lnTo>
                      <a:pt x="12" y="18"/>
                    </a:lnTo>
                    <a:lnTo>
                      <a:pt x="30" y="0"/>
                    </a:lnTo>
                    <a:lnTo>
                      <a:pt x="72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250040" y="5095800"/>
                <a:ext cx="289080" cy="30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7068960" y="48211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2760" y="559584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26920" y="559584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1371600" y="1600200"/>
            <a:ext cx="3399120" cy="4647960"/>
            <a:chOff x="1371600" y="1600200"/>
            <a:chExt cx="3399120" cy="4647960"/>
          </a:xfrm>
        </p:grpSpPr>
        <p:sp>
          <p:nvSpPr>
            <p:cNvPr id="133" name=""/>
            <p:cNvSpPr/>
            <p:nvPr/>
          </p:nvSpPr>
          <p:spPr>
            <a:xfrm>
              <a:off x="3276720" y="510516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1240" y="1600200"/>
              <a:ext cx="141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quiremen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2440" y="2235240"/>
              <a:ext cx="503280" cy="455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592440" y="3160440"/>
              <a:ext cx="503280" cy="471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592440" y="4103640"/>
              <a:ext cx="503280" cy="47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3757680" y="1871640"/>
              <a:ext cx="124920" cy="340920"/>
              <a:chOff x="3757680" y="1871640"/>
              <a:chExt cx="124920" cy="340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757680" y="2013840"/>
                <a:ext cx="124920" cy="19872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835800" y="1871640"/>
                <a:ext cx="2160" cy="15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757680" y="2697120"/>
              <a:ext cx="124920" cy="442080"/>
              <a:chOff x="3757680" y="2697120"/>
              <a:chExt cx="124920" cy="442080"/>
            </a:xfrm>
          </p:grpSpPr>
          <p:sp>
            <p:nvSpPr>
              <p:cNvPr id="142" name=""/>
              <p:cNvSpPr/>
              <p:nvPr/>
            </p:nvSpPr>
            <p:spPr>
              <a:xfrm>
                <a:off x="3757680" y="2939760"/>
                <a:ext cx="124920" cy="19944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835800" y="2697120"/>
                <a:ext cx="2160" cy="25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3757680" y="3624120"/>
              <a:ext cx="124920" cy="458280"/>
              <a:chOff x="3757680" y="3624120"/>
              <a:chExt cx="124920" cy="458280"/>
            </a:xfrm>
          </p:grpSpPr>
          <p:sp>
            <p:nvSpPr>
              <p:cNvPr id="145" name=""/>
              <p:cNvSpPr/>
              <p:nvPr/>
            </p:nvSpPr>
            <p:spPr>
              <a:xfrm>
                <a:off x="3757680" y="3882600"/>
                <a:ext cx="124920" cy="199800"/>
              </a:xfrm>
              <a:custGeom>
                <a:avLst/>
                <a:gdLst/>
                <a:ahLst/>
                <a:rect l="l" t="t" r="r" b="b"/>
                <a:pathLst>
                  <a:path w="48" h="84">
                    <a:moveTo>
                      <a:pt x="24" y="84"/>
                    </a:moveTo>
                    <a:lnTo>
                      <a:pt x="0" y="0"/>
                    </a:lnTo>
                    <a:lnTo>
                      <a:pt x="24" y="0"/>
                    </a:lnTo>
                    <a:lnTo>
                      <a:pt x="48" y="0"/>
                    </a:lnTo>
                    <a:lnTo>
                      <a:pt x="24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835800" y="3624120"/>
                <a:ext cx="2160" cy="27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>
              <a:off x="3741840" y="2298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741840" y="32256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41840" y="416880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429000" y="4566960"/>
              <a:ext cx="407520" cy="537480"/>
              <a:chOff x="3429000" y="4566960"/>
              <a:chExt cx="407520" cy="537480"/>
            </a:xfrm>
          </p:grpSpPr>
          <p:sp>
            <p:nvSpPr>
              <p:cNvPr id="151" name=""/>
              <p:cNvSpPr/>
              <p:nvPr/>
            </p:nvSpPr>
            <p:spPr>
              <a:xfrm>
                <a:off x="3429000" y="4896360"/>
                <a:ext cx="155520" cy="208080"/>
              </a:xfrm>
              <a:custGeom>
                <a:avLst/>
                <a:gdLst/>
                <a:ahLst/>
                <a:rect l="l" t="t" r="r" b="b"/>
                <a:pathLst>
                  <a:path w="78" h="72">
                    <a:moveTo>
                      <a:pt x="0" y="72"/>
                    </a:moveTo>
                    <a:lnTo>
                      <a:pt x="48" y="0"/>
                    </a:lnTo>
                    <a:lnTo>
                      <a:pt x="60" y="12"/>
                    </a:lnTo>
                    <a:lnTo>
                      <a:pt x="78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H="1">
                <a:off x="3560760" y="4566960"/>
                <a:ext cx="27576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3073320" y="5030640"/>
              <a:ext cx="519120" cy="469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71600" y="594360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5" name=""/>
            <p:cNvGrpSpPr/>
            <p:nvPr/>
          </p:nvGrpSpPr>
          <p:grpSpPr>
            <a:xfrm>
              <a:off x="2805120" y="5395680"/>
              <a:ext cx="323640" cy="304560"/>
              <a:chOff x="2805120" y="5395680"/>
              <a:chExt cx="323640" cy="304560"/>
            </a:xfrm>
          </p:grpSpPr>
          <p:sp>
            <p:nvSpPr>
              <p:cNvPr id="156" name=""/>
              <p:cNvSpPr/>
              <p:nvPr/>
            </p:nvSpPr>
            <p:spPr>
              <a:xfrm>
                <a:off x="2805120" y="5586120"/>
                <a:ext cx="114120" cy="11412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0" y="72"/>
                    </a:moveTo>
                    <a:lnTo>
                      <a:pt x="42" y="0"/>
                    </a:lnTo>
                    <a:lnTo>
                      <a:pt x="60" y="12"/>
                    </a:lnTo>
                    <a:lnTo>
                      <a:pt x="72" y="3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909880" y="5395680"/>
                <a:ext cx="218880" cy="21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2438280" y="5715000"/>
              <a:ext cx="533520" cy="53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666880" y="58672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743920" y="3809880"/>
              <a:ext cx="963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Version 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4724280" y="3352680"/>
            <a:ext cx="685800" cy="533520"/>
          </a:xfrm>
          <a:custGeom>
            <a:avLst/>
            <a:gdLst>
              <a:gd name="textAreaLeft" fmla="*/ 106920 w 685800"/>
              <a:gd name="textAreaRight" fmla="*/ 600120 w 6858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2b2b2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828800" y="3352680"/>
            <a:ext cx="1682280" cy="2121120"/>
            <a:chOff x="1828800" y="3352680"/>
            <a:chExt cx="1682280" cy="2121120"/>
          </a:xfrm>
        </p:grpSpPr>
        <p:sp>
          <p:nvSpPr>
            <p:cNvPr id="163" name=""/>
            <p:cNvSpPr/>
            <p:nvPr/>
          </p:nvSpPr>
          <p:spPr>
            <a:xfrm>
              <a:off x="1828800" y="3352680"/>
              <a:ext cx="685800" cy="533520"/>
            </a:xfrm>
            <a:custGeom>
              <a:avLst/>
              <a:gdLst>
                <a:gd name="textAreaLeft" fmla="*/ 106920 w 685800"/>
                <a:gd name="textAreaRight" fmla="*/ 600120 w 685800"/>
                <a:gd name="textAreaTop" fmla="*/ 133200 h 533520"/>
                <a:gd name="textAreaBottom" fmla="*/ 400320 h 533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b2b2b2"/>
            </a:solidFill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9320" y="5105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7315200" y="25146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54680" y="2362320"/>
            <a:ext cx="1306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termedi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818840" y="3352680"/>
            <a:ext cx="84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odu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29C0-613A-4959-AF28-18567FFCFC0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o bett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e definition of all family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dentify what is common to all family members, delay decisions that differentiate among different memb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will learn how to manage change in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589E-3362-477F-85F1-563C707936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well-defined component of a software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art of a system that provides a set of services to other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s are computational elements that other modules may u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C03E-DB0E-4962-A0B9-59F1BF39C2A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es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define the structure of a modular system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are the desirable properties of that structur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B28-785F-41D5-8E18-B22F7CF551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s and 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S be a set of module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= {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. . .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binary relation r on S is a subset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 x 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re in S, &lt;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 can be written a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5340-74EB-47B7-95E3-28933A98971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nsitive closure 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of 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iff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n S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e assume our relations to be irreflex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 algn="just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 is a hierarchy iff there are no two elements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.t.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j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84EF-795C-40BD-AC0C-E8AAE429580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120" y="10663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is design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How can a system b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decompos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into module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is 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module’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What are the main relationships among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ominent software design techniqu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 and i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nformation hi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he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UML collection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of 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no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of c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oncurr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 and distributed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 softwar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Design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Arial"/>
              </a:rPr>
              <a:t>rchitectural sty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mponent based software engine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3204-01BB-4165-A539-F9424F95B2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ions can be represented as graph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ierarchy is a DAG (directed acyclic grap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990720" y="2687760"/>
          <a:ext cx="7315200" cy="417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687760"/>
                    <a:ext cx="7315200" cy="41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"/>
          <p:cNvSpPr/>
          <p:nvPr/>
        </p:nvSpPr>
        <p:spPr>
          <a:xfrm>
            <a:off x="174960" y="346248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05200" y="39625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75A3-5CBF-4368-9583-45FB3D68A81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USES rel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uses 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requires the correct operation 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an access the services exported by B through its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“statically”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pends on B to provide it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: A calls a routine exported by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is a client of B; B is a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8A4F-5C1D-4C10-BF91-BB3AA7CBCA1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rable proper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should be a hierarch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ierarchy makes software easier to understa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can proceed from leaf nodes (who do not use others) up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bui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make software easier to te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5F81-0196-44E6-AE66-D53BC1C531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erarch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rganizes the modular structure through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levels of 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level defines 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bstract (virtual) machin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the next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evel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precis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0 if no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exists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 k be the maximum level of all nodes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s.t.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Then M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has level k+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1E04-8314-4556-8C5D-22317CCF7E0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_COMPONENT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scribe a higher level module as constituted by a number of lower level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IS_COMPONENT_OF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 consists of several modules, of which one is 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OMPRISE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={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|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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IS_COMPONENT_OF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say that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S,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S M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C3AE-2503-4570-9380-BB47DC927FD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raphical 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"/>
          <p:cNvSpPr/>
          <p:nvPr/>
        </p:nvSpPr>
        <p:spPr>
          <a:xfrm>
            <a:off x="2019240" y="246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09840" y="1828800"/>
            <a:ext cx="7807320" cy="3559680"/>
            <a:chOff x="609840" y="1828800"/>
            <a:chExt cx="7807320" cy="3559680"/>
          </a:xfrm>
        </p:grpSpPr>
        <p:sp>
          <p:nvSpPr>
            <p:cNvPr id="196" name=""/>
            <p:cNvSpPr/>
            <p:nvPr/>
          </p:nvSpPr>
          <p:spPr>
            <a:xfrm>
              <a:off x="7029720" y="19476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25148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1614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8019000" y="320508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07112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3640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120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718600" y="40827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223320" y="410652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40368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260920" y="33238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27200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918200" y="4271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312880" y="431928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9590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443280" y="4295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050600" y="32288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311600" y="3348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" name=""/>
            <p:cNvGrpSpPr/>
            <p:nvPr/>
          </p:nvGrpSpPr>
          <p:grpSpPr>
            <a:xfrm>
              <a:off x="6323040" y="2445840"/>
              <a:ext cx="687240" cy="829080"/>
              <a:chOff x="6323040" y="2445840"/>
              <a:chExt cx="687240" cy="829080"/>
            </a:xfrm>
          </p:grpSpPr>
          <p:sp>
            <p:nvSpPr>
              <p:cNvPr id="215" name=""/>
              <p:cNvSpPr/>
              <p:nvPr/>
            </p:nvSpPr>
            <p:spPr>
              <a:xfrm>
                <a:off x="6323040" y="301464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6485040" y="2445840"/>
                <a:ext cx="525240" cy="6159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151760" y="2468160"/>
              <a:ext cx="120600" cy="830520"/>
              <a:chOff x="7151760" y="2468160"/>
              <a:chExt cx="120600" cy="830520"/>
            </a:xfrm>
          </p:grpSpPr>
          <p:sp>
            <p:nvSpPr>
              <p:cNvPr id="218" name=""/>
              <p:cNvSpPr/>
              <p:nvPr/>
            </p:nvSpPr>
            <p:spPr>
              <a:xfrm>
                <a:off x="7151760" y="301464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11880" y="2468160"/>
                <a:ext cx="180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353360" y="2468520"/>
              <a:ext cx="584280" cy="736560"/>
              <a:chOff x="7353360" y="2468520"/>
              <a:chExt cx="584280" cy="736560"/>
            </a:xfrm>
          </p:grpSpPr>
          <p:sp>
            <p:nvSpPr>
              <p:cNvPr id="221" name=""/>
              <p:cNvSpPr/>
              <p:nvPr/>
            </p:nvSpPr>
            <p:spPr>
              <a:xfrm>
                <a:off x="7716960" y="2943000"/>
                <a:ext cx="220680" cy="262080"/>
              </a:xfrm>
              <a:custGeom>
                <a:avLst/>
                <a:gdLst/>
                <a:ahLst/>
                <a:rect l="l" t="t" r="r" b="b"/>
                <a:pathLst>
                  <a:path w="139" h="165">
                    <a:moveTo>
                      <a:pt x="139" y="165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39" y="1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353360" y="2468520"/>
                <a:ext cx="40320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5232240" y="3584520"/>
              <a:ext cx="849240" cy="544320"/>
              <a:chOff x="5232240" y="3584520"/>
              <a:chExt cx="849240" cy="544320"/>
            </a:xfrm>
          </p:grpSpPr>
          <p:sp>
            <p:nvSpPr>
              <p:cNvPr id="224" name=""/>
              <p:cNvSpPr/>
              <p:nvPr/>
            </p:nvSpPr>
            <p:spPr>
              <a:xfrm>
                <a:off x="5232240" y="3916080"/>
                <a:ext cx="222480" cy="212760"/>
              </a:xfrm>
              <a:custGeom>
                <a:avLst/>
                <a:gdLst/>
                <a:ahLst/>
                <a:rect l="l" t="t" r="r" b="b"/>
                <a:pathLst>
                  <a:path w="140" h="134">
                    <a:moveTo>
                      <a:pt x="0" y="134"/>
                    </a:moveTo>
                    <a:lnTo>
                      <a:pt x="115" y="0"/>
                    </a:lnTo>
                    <a:lnTo>
                      <a:pt x="128" y="45"/>
                    </a:lnTo>
                    <a:lnTo>
                      <a:pt x="140" y="75"/>
                    </a:lnTo>
                    <a:lnTo>
                      <a:pt x="0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>
                <a:off x="5435280" y="3584520"/>
                <a:ext cx="64620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5859360" y="3584520"/>
              <a:ext cx="382680" cy="544320"/>
              <a:chOff x="5859360" y="3584520"/>
              <a:chExt cx="382680" cy="544320"/>
            </a:xfrm>
          </p:grpSpPr>
          <p:sp>
            <p:nvSpPr>
              <p:cNvPr id="227" name=""/>
              <p:cNvSpPr/>
              <p:nvPr/>
            </p:nvSpPr>
            <p:spPr>
              <a:xfrm>
                <a:off x="5859360" y="3844800"/>
                <a:ext cx="181080" cy="284040"/>
              </a:xfrm>
              <a:custGeom>
                <a:avLst/>
                <a:gdLst/>
                <a:ahLst/>
                <a:rect l="l" t="t" r="r" b="b"/>
                <a:pathLst>
                  <a:path w="114" h="179">
                    <a:moveTo>
                      <a:pt x="0" y="179"/>
                    </a:moveTo>
                    <a:lnTo>
                      <a:pt x="63" y="0"/>
                    </a:lnTo>
                    <a:lnTo>
                      <a:pt x="89" y="30"/>
                    </a:lnTo>
                    <a:lnTo>
                      <a:pt x="114" y="60"/>
                    </a:lnTo>
                    <a:lnTo>
                      <a:pt x="0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>
                <a:off x="6000840" y="3584520"/>
                <a:ext cx="241200" cy="3078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262560" y="3608280"/>
              <a:ext cx="120600" cy="639720"/>
              <a:chOff x="6262560" y="3608280"/>
              <a:chExt cx="120600" cy="639720"/>
            </a:xfrm>
          </p:grpSpPr>
          <p:sp>
            <p:nvSpPr>
              <p:cNvPr id="230" name=""/>
              <p:cNvSpPr/>
              <p:nvPr/>
            </p:nvSpPr>
            <p:spPr>
              <a:xfrm>
                <a:off x="6262560" y="396396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6323040" y="360828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7110360" y="3678120"/>
              <a:ext cx="120600" cy="546120"/>
              <a:chOff x="7110360" y="3678120"/>
              <a:chExt cx="120600" cy="546120"/>
            </a:xfrm>
          </p:grpSpPr>
          <p:sp>
            <p:nvSpPr>
              <p:cNvPr id="233" name=""/>
              <p:cNvSpPr/>
              <p:nvPr/>
            </p:nvSpPr>
            <p:spPr>
              <a:xfrm>
                <a:off x="7110360" y="3939840"/>
                <a:ext cx="120600" cy="28440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70840" y="3678120"/>
                <a:ext cx="1440" cy="2617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7251840" y="3654360"/>
              <a:ext cx="504720" cy="546120"/>
              <a:chOff x="7251840" y="3654360"/>
              <a:chExt cx="504720" cy="546120"/>
            </a:xfrm>
          </p:grpSpPr>
          <p:sp>
            <p:nvSpPr>
              <p:cNvPr id="236" name=""/>
              <p:cNvSpPr/>
              <p:nvPr/>
            </p:nvSpPr>
            <p:spPr>
              <a:xfrm>
                <a:off x="7534080" y="3939840"/>
                <a:ext cx="222480" cy="26064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74"/>
                    </a:lnTo>
                    <a:lnTo>
                      <a:pt x="26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51840" y="3654360"/>
                <a:ext cx="323640" cy="3333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1882800" y="3322440"/>
              <a:ext cx="685800" cy="830160"/>
              <a:chOff x="1882800" y="3322440"/>
              <a:chExt cx="685800" cy="830160"/>
            </a:xfrm>
          </p:grpSpPr>
          <p:sp>
            <p:nvSpPr>
              <p:cNvPr id="239" name=""/>
              <p:cNvSpPr/>
              <p:nvPr/>
            </p:nvSpPr>
            <p:spPr>
              <a:xfrm>
                <a:off x="2346120" y="3892320"/>
                <a:ext cx="222480" cy="260280"/>
              </a:xfrm>
              <a:custGeom>
                <a:avLst/>
                <a:gdLst/>
                <a:ahLst/>
                <a:rect l="l" t="t" r="r" b="b"/>
                <a:pathLst>
                  <a:path w="140" h="164">
                    <a:moveTo>
                      <a:pt x="140" y="164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1" y="0"/>
                    </a:lnTo>
                    <a:lnTo>
                      <a:pt x="14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882800" y="3322440"/>
                <a:ext cx="503280" cy="6174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709720" y="3298680"/>
              <a:ext cx="120600" cy="830160"/>
              <a:chOff x="2709720" y="3298680"/>
              <a:chExt cx="120600" cy="830160"/>
            </a:xfrm>
          </p:grpSpPr>
          <p:sp>
            <p:nvSpPr>
              <p:cNvPr id="242" name=""/>
              <p:cNvSpPr/>
              <p:nvPr/>
            </p:nvSpPr>
            <p:spPr>
              <a:xfrm>
                <a:off x="2709720" y="38448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770200" y="3298680"/>
                <a:ext cx="1440" cy="54612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2911320" y="3394080"/>
              <a:ext cx="586080" cy="734760"/>
              <a:chOff x="2911320" y="3394080"/>
              <a:chExt cx="586080" cy="734760"/>
            </a:xfrm>
          </p:grpSpPr>
          <p:sp>
            <p:nvSpPr>
              <p:cNvPr id="245" name=""/>
              <p:cNvSpPr/>
              <p:nvPr/>
            </p:nvSpPr>
            <p:spPr>
              <a:xfrm>
                <a:off x="2911320" y="386856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2" y="30"/>
                    </a:lnTo>
                    <a:lnTo>
                      <a:pt x="127" y="60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3073320" y="3394080"/>
                <a:ext cx="424080" cy="5220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792000" y="2468520"/>
              <a:ext cx="847800" cy="546120"/>
              <a:chOff x="792000" y="2468520"/>
              <a:chExt cx="847800" cy="546120"/>
            </a:xfrm>
          </p:grpSpPr>
          <p:sp>
            <p:nvSpPr>
              <p:cNvPr id="248" name=""/>
              <p:cNvSpPr/>
              <p:nvPr/>
            </p:nvSpPr>
            <p:spPr>
              <a:xfrm>
                <a:off x="1396800" y="2801880"/>
                <a:ext cx="243000" cy="212760"/>
              </a:xfrm>
              <a:custGeom>
                <a:avLst/>
                <a:gdLst/>
                <a:ahLst/>
                <a:rect l="l" t="t" r="r" b="b"/>
                <a:pathLst>
                  <a:path w="153" h="134">
                    <a:moveTo>
                      <a:pt x="153" y="134"/>
                    </a:moveTo>
                    <a:lnTo>
                      <a:pt x="0" y="74"/>
                    </a:lnTo>
                    <a:lnTo>
                      <a:pt x="13" y="44"/>
                    </a:lnTo>
                    <a:lnTo>
                      <a:pt x="26" y="0"/>
                    </a:lnTo>
                    <a:lnTo>
                      <a:pt x="153" y="1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flipV="1">
                <a:off x="792000" y="2468520"/>
                <a:ext cx="625680" cy="4032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1417320" y="2468520"/>
              <a:ext cx="384480" cy="546120"/>
              <a:chOff x="1417320" y="2468520"/>
              <a:chExt cx="384480" cy="546120"/>
            </a:xfrm>
          </p:grpSpPr>
          <p:sp>
            <p:nvSpPr>
              <p:cNvPr id="251" name=""/>
              <p:cNvSpPr/>
              <p:nvPr/>
            </p:nvSpPr>
            <p:spPr>
              <a:xfrm>
                <a:off x="1600200" y="2730240"/>
                <a:ext cx="201600" cy="284400"/>
              </a:xfrm>
              <a:custGeom>
                <a:avLst/>
                <a:gdLst/>
                <a:ahLst/>
                <a:rect l="l" t="t" r="r" b="b"/>
                <a:pathLst>
                  <a:path w="127" h="179">
                    <a:moveTo>
                      <a:pt x="127" y="179"/>
                    </a:moveTo>
                    <a:lnTo>
                      <a:pt x="0" y="60"/>
                    </a:lnTo>
                    <a:lnTo>
                      <a:pt x="25" y="30"/>
                    </a:lnTo>
                    <a:lnTo>
                      <a:pt x="50" y="0"/>
                    </a:lnTo>
                    <a:lnTo>
                      <a:pt x="127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flipV="1">
                <a:off x="1417320" y="2468520"/>
                <a:ext cx="222120" cy="30960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3" name=""/>
            <p:cNvGrpSpPr/>
            <p:nvPr/>
          </p:nvGrpSpPr>
          <p:grpSpPr>
            <a:xfrm>
              <a:off x="1820880" y="2350800"/>
              <a:ext cx="122040" cy="639720"/>
              <a:chOff x="1820880" y="2350800"/>
              <a:chExt cx="122040" cy="639720"/>
            </a:xfrm>
          </p:grpSpPr>
          <p:sp>
            <p:nvSpPr>
              <p:cNvPr id="254" name=""/>
              <p:cNvSpPr/>
              <p:nvPr/>
            </p:nvSpPr>
            <p:spPr>
              <a:xfrm>
                <a:off x="1820880" y="2706480"/>
                <a:ext cx="122040" cy="284040"/>
              </a:xfrm>
              <a:custGeom>
                <a:avLst/>
                <a:gdLst/>
                <a:ahLst/>
                <a:rect l="l" t="t" r="r" b="b"/>
                <a:pathLst>
                  <a:path w="77" h="179">
                    <a:moveTo>
                      <a:pt x="39" y="179"/>
                    </a:moveTo>
                    <a:lnTo>
                      <a:pt x="0" y="0"/>
                    </a:lnTo>
                    <a:lnTo>
                      <a:pt x="39" y="0"/>
                    </a:lnTo>
                    <a:lnTo>
                      <a:pt x="77" y="0"/>
                    </a:lnTo>
                    <a:lnTo>
                      <a:pt x="39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1882800" y="2350800"/>
                <a:ext cx="1440" cy="35568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6" name=""/>
            <p:cNvGrpSpPr/>
            <p:nvPr/>
          </p:nvGrpSpPr>
          <p:grpSpPr>
            <a:xfrm>
              <a:off x="2670120" y="2374560"/>
              <a:ext cx="120600" cy="544680"/>
              <a:chOff x="2670120" y="2374560"/>
              <a:chExt cx="120600" cy="544680"/>
            </a:xfrm>
          </p:grpSpPr>
          <p:sp>
            <p:nvSpPr>
              <p:cNvPr id="257" name=""/>
              <p:cNvSpPr/>
              <p:nvPr/>
            </p:nvSpPr>
            <p:spPr>
              <a:xfrm>
                <a:off x="2670120" y="2635200"/>
                <a:ext cx="120600" cy="2840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38" y="179"/>
                    </a:moveTo>
                    <a:lnTo>
                      <a:pt x="0" y="0"/>
                    </a:lnTo>
                    <a:lnTo>
                      <a:pt x="38" y="0"/>
                    </a:lnTo>
                    <a:lnTo>
                      <a:pt x="76" y="0"/>
                    </a:lnTo>
                    <a:lnTo>
                      <a:pt x="38" y="1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2730600" y="2374560"/>
                <a:ext cx="1440" cy="26064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2811600" y="2398320"/>
              <a:ext cx="502920" cy="544680"/>
              <a:chOff x="2811600" y="2398320"/>
              <a:chExt cx="502920" cy="544680"/>
            </a:xfrm>
          </p:grpSpPr>
          <p:sp>
            <p:nvSpPr>
              <p:cNvPr id="260" name=""/>
              <p:cNvSpPr/>
              <p:nvPr/>
            </p:nvSpPr>
            <p:spPr>
              <a:xfrm>
                <a:off x="2811600" y="2682720"/>
                <a:ext cx="201600" cy="260280"/>
              </a:xfrm>
              <a:custGeom>
                <a:avLst/>
                <a:gdLst/>
                <a:ahLst/>
                <a:rect l="l" t="t" r="r" b="b"/>
                <a:pathLst>
                  <a:path w="127" h="164">
                    <a:moveTo>
                      <a:pt x="0" y="164"/>
                    </a:moveTo>
                    <a:lnTo>
                      <a:pt x="76" y="0"/>
                    </a:lnTo>
                    <a:lnTo>
                      <a:pt x="101" y="30"/>
                    </a:lnTo>
                    <a:lnTo>
                      <a:pt x="127" y="75"/>
                    </a:lnTo>
                    <a:lnTo>
                      <a:pt x="0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2971800" y="2398320"/>
                <a:ext cx="342720" cy="331560"/>
              </a:xfrm>
              <a:prstGeom prst="line">
                <a:avLst/>
              </a:prstGeom>
              <a:ln w="205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256896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23568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098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16440" y="18288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721160" y="18525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6984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416040" y="2019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2520" y="20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587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942920" y="204300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80120" y="287316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922040" y="299052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8948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08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377160" y="284940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617640" y="296676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589480" y="41306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90360" y="42242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183680" y="4976640"/>
              <a:ext cx="295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IS_COMPONENT_OF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58080" y="5052960"/>
              <a:ext cx="1858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</a:rPr>
                <a:t>COMPRISES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2602800" y="5638680"/>
            <a:ext cx="386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hey are a hierarc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A910-D244-40EE-A2B6-F20065962FE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duct fami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reful recording of (hierarchical) USES relation and IS_COMPONENT_OF supports design of program famil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A26D-8055-4F24-8DC5-DD27D2C4C8D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understand the nature of USES, we need to know what a used modul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rough it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clien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o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resources that are exported by its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mplemen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he exported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dde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B43-3E40-4332-AE78-8740F59875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ear distinction between interface and implementation is a key design princi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s care about resources exported from ser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care abou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contract between a module and its cli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789-AD30-4724-A8BE-17AB2DD9168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vs. implementation (3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25448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09480" y="2705040"/>
            <a:ext cx="7285320" cy="3942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1535400" y="2286000"/>
            <a:ext cx="540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is like the tip of the icebe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C370-A307-4801-AD26-3AA5E936CF5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at is design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s structure to any artifa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mposes system into parts, assigns responsibilities, ensures that parts fit together to achieve a global goa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refers to both an activity and the result of the a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DCE-D409-41E8-9EC8-4226788229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s for design (i.e. module decomposi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ation secrets a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can be changed freely if the change does not affect the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lden design princi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FORMATION HI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ry to encapsulate changeable design decisions as implementation secrets within module implement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5543-1DA1-43CE-96B9-AE4ACC4B60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design module interfaces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esign of an interpreter for language MIN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introduce a SYMBOL_TABLE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perations to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E an entry for a new variabl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T the value associated with a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T a new value for a given vari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module hides the internal data structure of the symbol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data structure may freely change without affecting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6D94-091D-41A3-92AD-EA22300B855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face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should not reveal what we expect may change la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should not reveal unnecessary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 acts as a firewall preventing access to hidden pa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4276-3E60-4093-8377-BC57311B723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ototyp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ce an interface is defined, implementation can be don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quickly but ineffici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rogressively turned into the final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itial version acts as a prototype that evolves into the final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B9DF-3621-498A-9D20-A264CC92AE5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likely change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olici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ay be separated from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echanis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s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ility to suspend and resume tasks in a concurrent 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ow do we select the next task to resum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scheduling polici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may be hidden to cl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y can be encapsulated as module secr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D611-401C-403F-B996-EDE1E1CBE82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nota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s allow designs to be described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can be textual or graphi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illustrate two sample notation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DN (Textu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DN (Graphical Design Not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the notations provided by U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0C8EC-57D1-4AE2-84C5-420F8024E54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&amp; G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how a notation may help in documenting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llustrate what a generic notation may look li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representative of many proposed not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DN inherits from modern languages, like Java, Ada, 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1C0B-A872-47C9-99E3-87AF8189E3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"/>
          <p:cNvSpPr/>
          <p:nvPr/>
        </p:nvSpPr>
        <p:spPr>
          <a:xfrm>
            <a:off x="20001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0" y="1809720"/>
            <a:ext cx="8591400" cy="456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2FB2C-A97D-4CE1-8426-3B224D3F0F6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 in TD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y be used to specify th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to be followed by the clients so that exported services are correctly provi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certain operation which does the initialization of the module should be called before any other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n insert operation cannot be called if the table is full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26BC-1A58-458D-977E-93EEC3DD640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"/>
          <p:cNvSpPr/>
          <p:nvPr/>
        </p:nvSpPr>
        <p:spPr>
          <a:xfrm>
            <a:off x="2152800" y="200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7601040" cy="4462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3B3D-2FB0-48FD-B6BD-1E03209E224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meanings of "design“ activity in our contex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acts as a bridge between requirements and the implementation of the softwar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ctivity that gives a structure to the artifact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.g., a requirements specification document must b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esig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ust be given a structure that makes it easy to understand and evolv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AF6C-A295-4B23-A990-C170122D2B8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enef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ation helps describe a design precise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can be assessed for consist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ing defined module X, modules R and T must be defined eventu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incomplete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, T replace X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one or both must use Y, 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9719-45AB-4BFA-92D7-E733496556B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a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8" name=""/>
          <p:cNvSpPr/>
          <p:nvPr/>
        </p:nvSpPr>
        <p:spPr>
          <a:xfrm>
            <a:off x="235080" y="990720"/>
            <a:ext cx="87897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ul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INI is called to compile the program stored in PRO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 the object code in file COD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conventional compiler implementa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R performs both lexical and syntactic analys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produces an abstract tree, as well as entries in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ymbol table; CODE_GENERATOR generates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arting from the abstract tree and information stor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the symbol table. MAIN acts as a job coordinator.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s composed of ANALYZER, SYMBOL_TABLE,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, CODE_GENERATOR, 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5197-6D39-4570-B6DC-4F79B98F1FA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"/>
          <p:cNvSpPr/>
          <p:nvPr/>
        </p:nvSpPr>
        <p:spPr>
          <a:xfrm>
            <a:off x="361440" y="762120"/>
            <a:ext cx="795456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AIN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ANALYZER, CODE_GENERATO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MINI (PROG: in file of char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DE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A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ANALYZ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br>
              <a:rPr sz="2400"/>
            </a:b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ANALYZE (SOURCE: in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OURCE is analyzed; an abstract tree is produc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y using the services provided by the tree handle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d recognized entities, with their attributes, ar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d in the symbol t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ANALY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89E4-0D4D-4C40-8E57-6B81CFBB59E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ther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"/>
          <p:cNvSpPr/>
          <p:nvPr/>
        </p:nvSpPr>
        <p:spPr>
          <a:xfrm>
            <a:off x="499320" y="1752480"/>
            <a:ext cx="7373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SYMBOL_TABLE, ABSTRACT_TREE_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procedure CODE (OBJECT: out file of cha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bstract tree is traversed by using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perations exported by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BSTRACT_TREE_HANDLER and acces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 information stored in the symbol ta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 order to generate code in the output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CODE_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C4A7-DF13-4512-B57E-F879B9D33F0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 of module X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6477120" cy="47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20CF-04BB-463C-98EE-02AB22EFA13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X's decomposi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7" name=""/>
          <p:cNvSpPr/>
          <p:nvPr/>
        </p:nvSpPr>
        <p:spPr>
          <a:xfrm>
            <a:off x="2887560" y="2198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143000" y="1676520"/>
            <a:ext cx="6789600" cy="495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34A6-F237-49F8-A155-D51A2D8E9A4E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al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 form of modular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a procedural abstr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 a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rting module, fast Fourier transform module,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618E-7082-4920-AD75-F19CC398E098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roup of related procedural abstra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mathematical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ed by routines of programming langu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on pools of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hared by different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configuration const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COMMON FORTRAN constru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56B-D726-4815-9E79-EE93289DE81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tegories of modules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manipulated via interfac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tructure hidden to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data typ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instances of abstract objects may be gener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302A-112A-410E-A19C-6D863BCA022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object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alculator of expressions expressed in Polish postfix 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*(b+c)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abc+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mplements a stack where the values of operands are shifted until an operator is encountered in th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assume only binary operator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E529-EC18-4935-9DBB-059DEA90F5B4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w design activ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ed as system decomposition into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es a Software Design Docu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bes system decomposition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en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architect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is produced prior to a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FB50-AE14-48A9-934C-C6823336F5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"/>
          <p:cNvSpPr/>
          <p:nvPr/>
        </p:nvSpPr>
        <p:spPr>
          <a:xfrm>
            <a:off x="365760" y="3048120"/>
            <a:ext cx="827928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: in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: out integer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37200" y="2057400"/>
            <a:ext cx="648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of the abstract object STA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78B5-E9F2-401B-B83C-3156DFF3808B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sign assess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does the design anticipate change in type of expressions to be evaluate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it does not adapt to unary opera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8D2E-C4BF-4821-9403-95646DC964E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 data types (ADT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tack AD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2023920" y="25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-457200" y="2895480"/>
            <a:ext cx="9144000" cy="32943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 flipH="1">
            <a:off x="3657600" y="2895480"/>
            <a:ext cx="129528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54600" y="2209680"/>
            <a:ext cx="406224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that details of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ucture are hid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cl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BC9D-5956-46E7-BE75-95173512ABD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D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 to Java and C++ cl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pt may also be implemented by Ada private types and Modula-2 opaque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 notational details to specify if certain built-in operations are available by default on instance objects of the AD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ype A_TYPE: ? (:=, =) indicates that assignment and equality check are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F459-4F5A-401E-B4D2-CE426B4966F1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imulation of a gas s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"/>
          <p:cNvSpPr/>
          <p:nvPr/>
        </p:nvSpPr>
        <p:spPr>
          <a:xfrm>
            <a:off x="551520" y="1752480"/>
            <a:ext cx="7631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ype QUEUE : ?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ENQUEUE (Q: in out QUEUE ; C: in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DEQUEUE (Q: in out QUEUE ; C: out CAR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IS_EMPTY (Q: in QUEUE) : BOOLEA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function LENGTH (Q: in QUEUE) : NATUR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MERGE (Q1, Q2 : in QUEUE ; Q : out QUEU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is is an abstract data-type module represen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of cars, handled in a strict FIFO way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queues are not assignable or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heckable for equality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ince “:=” and “=” are not ex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FIFO_C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F3D66-9F44-448A-84AF-A4101B9CD74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ic modules (templates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are parametric wrt a typ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"/>
          <p:cNvSpPr/>
          <p:nvPr/>
        </p:nvSpPr>
        <p:spPr>
          <a:xfrm>
            <a:off x="737280" y="2895480"/>
            <a:ext cx="7398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USH (VAL : in T);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dure POP_2 (VAL1, VAL2 : out T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_STACK_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DF59-1CA1-4D87-9BD6-08281518C0C8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stanti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ossible syntax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INTEGER_STACK_2 is GENERIC_STACK_2 (INTEGER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6EDC-A8A3-4233-B0D3-D1329BC64315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re on generic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to specify that besides a type also an operation must be provided as a parame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neric module M (T) with OP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us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M_A_TYPE is M(A_TYPE)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OC(M_A_TYP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3ADB-444F-44ED-8DC9-041D43551940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6212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configuration consta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ing constant values into symbolic constants is a common implementation prac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#define in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  <a:ea typeface="Tahoma"/>
              </a:rPr>
              <a:t>#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define Ma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600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AB8-F79A-4ED6-80ED-72737E363CFA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pecific techniques for design for change (cont.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"/>
          <p:cNvSpPr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ditional compil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common to all version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ifdef hardware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1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ifdef hardware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..source fragment for hardware 2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# end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gen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compiler compilers (yacc, interface prototyping too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6437-D188-4C4E-B5C9-1813212098D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hows gross structure and organization of the system to be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ts description includes description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ain components of a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lationships among those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ationale for decomposition into it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nstraints that must be respected by any design of the components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uides the development of the desig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E01E-9A5F-4568-A1BE-35FD5926F02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wise refin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atic, iterative program design technique that unfortunately may lead to software that is hard to evolv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each step, problem P decomposed i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subproblems: P1; P2; …P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election: if (cond) then P1 else P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teration: while (cond) do_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BAFE0-F7DA-4C25-A1E7-0D98B1C88176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rivation of selection sor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650160" y="2057400"/>
            <a:ext cx="7881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find the  smallest of ai .. .an, and exchan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t with the element at position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B5CC-A495-4E38-816F-25598873B257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/>
          <p:nvPr/>
        </p:nvSpPr>
        <p:spPr>
          <a:xfrm>
            <a:off x="457200" y="457200"/>
            <a:ext cx="77724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terchange the elements at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ositions j and i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EC64-92BC-4999-B6FB-8B1ABE5BA3B3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14400" y="609480"/>
            <a:ext cx="746748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te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let n be the length of the array a to be sorted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1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i &lt; n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j &gt; i lo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a(i) &gt; a(j) 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x := a(i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i) := a(j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(j) := x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j := j - 1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 := i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3B5-8DC3-40D2-A100-F756A4E86BAD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composition tre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epwise refinement process may be depicted by a decomposition tree (DT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ot labeled by name of top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problem nodes labeled as children of parent node corresponding to probl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ildren from left to right represent sequential order of exec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nd while nodes denoted by suitable deco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3668-3DB3-4C38-800C-294A618E4C7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"/>
          <p:cNvSpPr/>
          <p:nvPr/>
        </p:nvSpPr>
        <p:spPr>
          <a:xfrm>
            <a:off x="533520" y="533520"/>
            <a:ext cx="7696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problem to sol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P2; P3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 decomposed into sequenc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  decomposed into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a loop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1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C loo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1 then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 decomposed into sel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1;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2,1,2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1798-1B68-40A3-97CA-775387CFADF9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sponding D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"/>
          <p:cNvSpPr/>
          <p:nvPr/>
        </p:nvSpPr>
        <p:spPr>
          <a:xfrm>
            <a:off x="3817800" y="2629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2308320" y="1523880"/>
            <a:ext cx="4344840" cy="461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5F8F-4A05-48A7-A89E-AE454A68D09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 with IS_COMPOSED_OF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et M, M1, M2, M3 be modules representing P, P1, P2, P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cannot wri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IS_COMPOSED_OF {M1,M2,M3}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e need to add further module acting as glue to impose a sequential flow from M1 to M2 to M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2F72-3352-4346-B237-5F5AFF9ED51C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epwise refinement is a programming technique, not a modularization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used to decompose system into modules, it tends to analyze problems in isolation, not recognizing comm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does not stress information hi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3E46-BD1E-454D-80B3-38729E01B19C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assessment of stepwise refinement (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attention is paid to data (it decomposes functionalitie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sumes that a top function exis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hich one is it in the case of an operating system? or a word processor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forces premature commitment to control flow structures among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04D2B-AAF6-45E6-B9C8-83E30E29715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wo important goa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sign for change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rs tend to concentrate on current nee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effort needed to anticipate likely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 families (Parna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k of the current system under design as a member of a program fami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A62-BD84-4705-A886-C474240247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program analyz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990720" y="1828800"/>
            <a:ext cx="739116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cognize a program stored in a given file 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analyze f according to the language definitio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"program 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0BC-C6E3-4A58-9DD3-39806B7C3D3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270000" y="228600"/>
            <a:ext cx="8454600" cy="68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Tahoma"/>
                <a:ea typeface="Times New Roman"/>
              </a:rPr>
              <a:t>Step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tru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lexical analysi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ore program as token sequence  in file 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nd symbol table in file fs, and set error_in_lexical_pha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lexical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erform syntactic analysis and set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Boolean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rror_in_syntactic_phase according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error_in_syntactic_phase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 := fals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correct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rint message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"program incorrect"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F733-CB71-49CE-AC26-F4DFCD9C2BB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it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wo pas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 comes first on the entire program, producing two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we want to switch to a process driven by syntax analysis (it requests the lexical analyzer to provide a token when needed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thing changes!!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41E-A388-4974-A6BB-938A1F40090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better design based on information hid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R_HOL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physical representation of input fil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access source file on a character-by-character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CAN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etails of lexical structure of the langua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orts operation to provide next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ARS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hides data structure used to perform syntactic analysis (abstract object PARS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4EF1-4FA9-44EC-8DA4-658BCFAF328C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op-down vs. bottom-u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formation hiding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bottom-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erated application of IS_COMPOSED_OF proceed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top-dow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epwise refinement is intrinsically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one is be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practice, people proceed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yo-yo desig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ganizing documentation as a top-down flow may be useful for reading purposes, even if the process followed was not top-dow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367F-CFD2-4061-A365-841B9E7B831B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andling anomal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ensiv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odule is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nomalou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if 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ail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to provide the service as expected and as specified in its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xception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MUST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aised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anomalous state is recogniz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4480-5338-471D-AEE0-E23ACD50C5A8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can failures ari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 M should fail and raise an exception if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f its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s does not satisfy the required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rotocol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for invoking one of M’s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 does not satisfy the required protocol when using one of its servers, and the server fai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hardware generated exception (e.g., division by zer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615F-366D-4A77-81DE-C3D862B1762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What a module can do before fai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Before failing, modules may try to recover from the anomaly by executing som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ception handler (EH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EH is a local piece of code that may try to recover from anomaly (if successful, module does not fai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r may simply do some cleanup of the module’s state and then let the module fail, signaling an exception to its cl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745-3EF2-4520-8FCE-BEA03AF8579E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"/>
          <p:cNvSpPr/>
          <p:nvPr/>
        </p:nvSpPr>
        <p:spPr>
          <a:xfrm>
            <a:off x="2160720" y="240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8202600" cy="347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19FC-6033-429D-AE0B-E0D35B93A78C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 of exception propag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202392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28600" y="2438280"/>
            <a:ext cx="8340840" cy="347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0B61-F366-40FC-A8AE-1D936B70BD5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likely changes?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gorith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eplace inefficient sorting algorithm with a more efficient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 of data repres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from binary tree to a threaded tree (see exampl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% of maintenance costs attributed to data representation changes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Lientz and Swanson, 198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43AC-BDD1-46D8-8E7A-B1A3DB7F03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for the MIDI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language is block-structur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requires a symbol table module that can cope with block static nest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discuss here module SYMBOL_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C906-C940-4155-8725-00CA05EDEAC1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6" name=""/>
          <p:cNvSpPr/>
          <p:nvPr/>
        </p:nvSpPr>
        <p:spPr>
          <a:xfrm>
            <a:off x="19620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-228600" y="1905120"/>
            <a:ext cx="8953560" cy="392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81CF-DE61-466A-8BFE-27C488C7DA2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sion 1 is not robus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ensive design should be appl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ions must be raised in these cas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nsertion cannot be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on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because identifier with same name  already exists in current sco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ETRIEVE and LEVE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dentifier with specified name not vi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TER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maximum nesting depth exc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IT_SCOP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: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no matching block entry exi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E358-9DAF-4D3B-BBC0-8CCD20AF5446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(vers.2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"/>
          <p:cNvSpPr/>
          <p:nvPr/>
        </p:nvSpPr>
        <p:spPr>
          <a:xfrm>
            <a:off x="1986120" y="1611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80880" y="1407960"/>
            <a:ext cx="7467840" cy="5248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E29B-BCEB-4407-8EB1-D69AA58C6B40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YMBOL_TABLE uses a list management modu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"/>
          <p:cNvSpPr/>
          <p:nvPr/>
        </p:nvSpPr>
        <p:spPr>
          <a:xfrm>
            <a:off x="1962000" y="220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-228600" y="1981080"/>
            <a:ext cx="8610480" cy="4291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C85-0512-4419-8741-49F9FC6B9542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ncurrent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ase of a module defining shar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abstract objec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 QUEUE_OF_CHAR is GENERIC_FIFO_QUEUE (CHAR)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 : QUEUE_OF_CHAR.QUEU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oper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UT: inserts a character in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GET: extracts a character from BUFFER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FULL: returns true if BUFFER not ful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NOT_EMPTY: returns true if BUFFER not empty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CFEC-FD30-4D15-89C2-6DF4B839B7D9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ow to control correct access to shared data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sufficient that clients check operation invocations, such a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umer_1 and Consumer_2 might do this concurrent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ly one slot is left, both may find the buffer not full, the first who writes fills it, and the other writes in a full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3743-092C-4FBE-A59B-1D6FA6E3A19F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nforcing synchro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on buffer are executed in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nsure that operation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QUEUE_OF_CHAR.NOT_FULL (BUFFER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hen QUEUE_OF_CHAR.PUT (X,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BUFFER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e executed as logically non-interruptible uni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073-246F-4B2B-A977-1F9116F14323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 objects used in a concurrent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vailable in the Java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B69B-C761-4462-B04D-AFBD28DC8ADA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"/>
          <p:cNvSpPr/>
          <p:nvPr/>
        </p:nvSpPr>
        <p:spPr>
          <a:xfrm>
            <a:off x="1967040" y="2106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763120" cy="444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463F-CC08-4A0F-BC2C-9029C1E03D86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"/>
          <p:cNvSpPr/>
          <p:nvPr/>
        </p:nvSpPr>
        <p:spPr>
          <a:xfrm>
            <a:off x="2759040" y="2255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24280" y="2286000"/>
            <a:ext cx="4114800" cy="3124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420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3878280" cy="3200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 flipH="1" rot="10904400">
            <a:off x="3656520" y="5257440"/>
            <a:ext cx="1905120" cy="914400"/>
          </a:xfrm>
          <a:custGeom>
            <a:avLst/>
            <a:gdLst>
              <a:gd name="textAreaLeft" fmla="*/ 360 w 1905120"/>
              <a:gd name="textAreaRight" fmla="*/ 1905840 w 190512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1981080"/>
            <a:ext cx="0" cy="365760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D7F-18B4-40A7-BB4D-197033A62A1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 operations are assumed to be executed in mutual ex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equir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clause may be associated with an oper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automatically checked when operation is cal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he result is false, the current process is suspended until it becomes true (at that stage it becomes eligible for resump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3484-E91F-44C7-87D4-5BF22933C01F}" type="slidenum">
              <a:t>9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nitor types: 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"/>
          <p:cNvSpPr/>
          <p:nvPr/>
        </p:nvSpPr>
        <p:spPr>
          <a:xfrm>
            <a:off x="2100240" y="233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304920" y="1981080"/>
            <a:ext cx="8798040" cy="390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00AC-F7FB-4EB7-9A33-C506FE3AB2FD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uardians and rendez-vou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da style of designing concurrent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Ada a shared object is active (whereas a monitor is passiv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is managed by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guardia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process which can accept rendez-vous requests from tasks willing to access the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C791-16EA-4620-8073-C9A5A1E452AD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guardian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"/>
          <p:cNvSpPr/>
          <p:nvPr/>
        </p:nvSpPr>
        <p:spPr>
          <a:xfrm>
            <a:off x="202716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564400" cy="44881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3260520" y="1219320"/>
            <a:ext cx="541872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 nondeterministic acceptan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ndez-vous reque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3BFE-BC63-46F4-BE33-56267DAA7E37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al-time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where processes interact with the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a put operation on a shared buffer is invoked by a plant sensor sending data to a control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nt cannot be suspended if buffer full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 must ensure that producer never finds the buffer fu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constrains the speed of  the consumer process in the controll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008C-6A5E-4F6A-8D4C-6C4905CA1561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"/>
          <p:cNvSpPr/>
          <p:nvPr/>
        </p:nvSpPr>
        <p:spPr>
          <a:xfrm>
            <a:off x="2046240" y="2430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8621640" cy="340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BBD-C7D4-4E63-9709-0D9DAC2ECB04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DN descrip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"/>
          <p:cNvSpPr/>
          <p:nvPr/>
        </p:nvSpPr>
        <p:spPr>
          <a:xfrm>
            <a:off x="3056040" y="3071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7925040" cy="187308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139760" y="5334120"/>
            <a:ext cx="71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g-zag arrow indicates asynchronous invo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E479-66F0-4BED-99E5-BF8EF72EBA08}" type="slidenum">
              <a:t>9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istributed 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 to consid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-machine bi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e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remote procedure call or message pa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to shared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quire replication for efficiency reas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86E8-1FDE-48BE-B2DE-FC0201376BE7}" type="slidenum">
              <a:t>9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ent-server archite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st popular distributed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modules provide services to client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ents and servers may reside on different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A811-ED98-4499-BE8C-7EBDEDFE8EA7}" type="slidenum">
              <a:t>9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nding modules to mach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c vs. dynamic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igratio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-module commun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R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L to define interface of remote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 and distribu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95DA-5161-427A-963D-F927C9987C4D}" type="slidenum">
              <a:t>9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47:01Z</dcterms:modified>
  <cp:revision>36</cp:revision>
  <dc:subject/>
  <dc:title>Software Engineering Principles</dc:title>
</cp:coreProperties>
</file>