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9371-49FA-4BD5-8348-4E7F6DA41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DA34-E9A1-4C15-95EE-E4F797B0A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DE54-170D-446D-8A7F-4E15B7815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FB2-F77E-414F-9B65-A2854D41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A774-6D42-4B1C-AA84-2A45CD6C2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45A-62DA-495C-8C65-D25B2500D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F861-5656-475A-A150-45679EA6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DCD0-F444-4EF1-9B4B-56CAAFC3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970B-A31C-445F-B9EF-6306B0AF3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C01F-C53F-49A2-B8B6-B436497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A37E-16B0-43BF-93B8-177DB325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4E76-584B-4EE9-AAAB-BE8019B11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0B307-86C0-41AD-8141-47DD29BBB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03:13:45Z</dcterms:created>
  <dc:creator>Spencer Smith</dc:creator>
  <dc:description/>
  <dc:language>en-US</dc:language>
  <cp:lastModifiedBy>Spencer Smith</cp:lastModifiedBy>
  <dcterms:modified xsi:type="dcterms:W3CDTF">2008-03-25T03:26:05Z</dcterms:modified>
  <cp:revision>8</cp:revision>
  <dc:subject/>
  <dc:title>PowerPoint Presentation</dc:title>
</cp:coreProperties>
</file>