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D77F-2D85-4C7A-915B-F55C82596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D3D-10AD-4A7C-87FB-6D591626D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F68B-0E6E-4B9C-AADF-2C9F3763C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BF8-9AFF-4DC5-A0FD-6D1B0E3F2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65FE-CE26-4729-89C1-76201A73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49C9-DFA9-463D-8002-ACE11C15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5F0-AB5D-4A0C-A255-6D5F8010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9AD87-0E0F-42C8-B12B-96EFD5582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FC8-A617-4C6F-AD5D-14578782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9106-105E-44A4-874E-DAD69239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FFBA-BBA7-4057-8E49-E3E5DB63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8587-458A-4BA9-A2E3-7A731B3A4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FEE5-D2AB-44EB-937B-980CA2CF44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3:46:05Z</dcterms:created>
  <dc:creator>Spencer Smith</dc:creator>
  <dc:description/>
  <dc:language>en-US</dc:language>
  <cp:lastModifiedBy>Spencer Smith</cp:lastModifiedBy>
  <dcterms:modified xsi:type="dcterms:W3CDTF">2008-04-01T03:48:50Z</dcterms:modified>
  <cp:revision>3</cp:revision>
  <dc:subject/>
  <dc:title>PowerPoint Presentation</dc:title>
</cp:coreProperties>
</file>