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750EC-CDDA-49B1-93D4-C1818B63B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0F62-621E-4234-B96E-A031AF1C5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250D-D887-4B35-80D5-4F15A251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6F9B-5BA6-4E73-A604-3DC21F3BF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9D7-4CD3-4370-BCE7-7EB8BFC1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5126-87A8-47BF-B920-43AC17A1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A0B3-D0E1-42B2-8EB8-E9665640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A728-E48D-4A08-BEC3-83F92C10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AF5A-64D6-4818-AC75-F354829E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242-E91B-4C59-B117-C01392D85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ABC8-2E73-4B97-8B9C-EEF5A83D8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F93B-D198-491C-BDBD-6B4B2D37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3A70-3CE0-4724-BD6A-A19290A42A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432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0:59Z</dcterms:modified>
  <cp:revision>5</cp:revision>
  <dc:subject/>
  <dc:title>PowerPoint Presentation</dc:title>
</cp:coreProperties>
</file>