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pct" ContentType="image/x-pi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35A8-06DE-4E79-A841-CC19CD6F2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B11-066A-46EF-B5D8-987F8C49F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96C-ACD1-40FA-A0A1-67C1BD41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FF58-8D8E-42CA-928E-3B11B2B1C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0B99-762B-4F33-AE89-8BF76329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45AA-157B-402D-9A90-A730DF645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9909-309B-4010-9FF1-F9528FDFA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6C89-3646-4136-8173-87884670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40C8-08C0-465E-B736-18867F8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3FFF-D5C1-4145-888E-BEE27043F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D12C-F15D-4687-A323-EB026020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743B-6878-415B-8D19-FFBB6767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C150A-9376-44D7-B611-A78D6E16DE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838080" y="838080"/>
          <a:ext cx="7543800" cy="4864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838080"/>
                    <a:ext cx="7543800" cy="48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2:21:02Z</dcterms:created>
  <dc:creator>Spencer Smith</dc:creator>
  <dc:description/>
  <dc:language>en-US</dc:language>
  <cp:lastModifiedBy>Spencer Smith</cp:lastModifiedBy>
  <dcterms:modified xsi:type="dcterms:W3CDTF">2008-02-29T02:27:26Z</dcterms:modified>
  <cp:revision>4</cp:revision>
  <dc:subject/>
  <dc:title>PowerPoint Presentation</dc:title>
</cp:coreProperties>
</file>