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FC10F-79DC-4C77-8A95-82C8F65B1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531B1-17B9-4321-B644-5072A1653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CCD82-078B-4DE5-A858-2A4355E75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BC140-6CE4-4E62-9DD9-510CBC12C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91730-CF24-4F1E-BE34-4C4AB0D6C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29D6D-B5B9-403F-B0CC-C694FAFDD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BA6A2-E641-405E-987D-8450AA3EA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1D57F-25D1-4632-B838-96D02E0A6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6CFA4-874D-4B79-B951-9986D12C6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F671C-5BD4-47D0-B7FA-64B8973EA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5FA8D-2311-4408-B462-D4FB88317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96141-2134-43D6-B41B-5FDE79212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9A818-160D-4018-AB68-6B10F781FB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52440" y="1704960"/>
            <a:ext cx="8562960" cy="15271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13200" y="1401840"/>
            <a:ext cx="15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ac"/>
                </a:solidFill>
                <a:latin typeface="Times New Roman"/>
              </a:rPr>
              <a:t>SCR/A7-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3:27:41Z</dcterms:created>
  <dc:creator>Spencer Smith</dc:creator>
  <dc:description/>
  <dc:language>en-US</dc:language>
  <cp:lastModifiedBy>Spencer Smith</cp:lastModifiedBy>
  <dcterms:modified xsi:type="dcterms:W3CDTF">2008-03-12T13:30:15Z</dcterms:modified>
  <cp:revision>1</cp:revision>
  <dc:subject/>
  <dc:title>PowerPoint Presentation</dc:title>
</cp:coreProperties>
</file>