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E611-C0ED-4C46-B81C-14E78E974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AF3F-CCD4-4145-9D9B-3D4C5B120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E50C-6617-42F4-925C-1D2AB9000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41C2-AFA3-4B45-8378-0E83C4567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8E3F-016D-4544-87A0-78A69CA7D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6D80-81F8-4A6C-A83B-F06777EF2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78F6-BEFD-4DD9-A19E-068DD23C7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369D-3AC5-4713-B481-44F92B103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F2FA-61D5-4AA5-92F1-CB0C7AD3D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7EC1-AAB5-4F8E-B7CA-7C59F1DA1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1E00-9376-4AE7-8D51-EE1A7C9B6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6E6C-F874-4080-BE78-3C92A0829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5223B-4F5C-4AA4-870B-C529EBB4D4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751680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7:07Z</dcterms:modified>
  <cp:revision>1</cp:revision>
  <dc:subject/>
  <dc:title>PowerPoint Presentation</dc:title>
</cp:coreProperties>
</file>