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6FB6-4AE5-4C19-8379-6397C87D3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B003-958D-4D55-BE4F-5D22E2605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4059-37AB-4B79-8812-3B7630680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02C3-9E9F-4344-A6BB-4AA4C810D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8EC7-ECD3-4861-9689-47671DF0D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F7F3-58CB-40F8-A056-6C7F4092B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BF70-8569-4F40-BEBF-6267D76F9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E0D0-F4EA-48B3-864B-35075E4B4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A151-12E7-4909-9B36-2E93791B4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3C87-D8F9-4089-9FF3-499D5F843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5F20-FEBF-48EB-BB6E-A742D2A9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AFFD-CC60-4585-923F-246079C6B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9E7F8-78A4-4210-A35E-F2039C2AB2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699768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5:49Z</dcterms:modified>
  <cp:revision>2</cp:revision>
  <dc:subject/>
  <dc:title>PowerPoint Presentation</dc:title>
</cp:coreProperties>
</file>