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418A-CAD9-4077-B10B-9FFDD618A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0977-1C68-4327-A7E2-FDDE25C9F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77FA-A1DA-4B4F-9EC0-123FB1F90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CBE7-462F-491B-B9A0-437E34923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C524-0EDC-4BD3-A2ED-F8E7EF9B3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C8F8-0712-427C-B393-BEA72390A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1B0F-112A-487B-9762-4A039D2E0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1974-CF7C-4570-B536-A2D2622D6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A16A-B3D1-41D7-84F2-843D7EA51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EA6F-BF0A-4934-8EA8-E48AD54A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8AE3-7FE0-4524-AA91-87AB05D9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4825-44B8-4169-82BA-CD5780CA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A27AD-91CD-466E-9808-EBC6A4FA4E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468360"/>
            <a:ext cx="6997680" cy="58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2:21Z</dcterms:modified>
  <cp:revision>1</cp:revision>
  <dc:subject/>
  <dc:title>PowerPoint Presentation</dc:title>
</cp:coreProperties>
</file>