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B988-8A1B-48A7-B8DB-98F46604F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A898-F55A-47C8-935E-55F3EC546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D973-5FFB-4CB1-8999-8FBE7725B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DD00-7E58-47C3-9D4D-979F2B6FF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45FF-0496-4AC3-A65A-9CC8F199F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443E-8233-4015-A049-B4A1A95CD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A271-CC9B-4B1F-93C9-37F7DCA90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EFC0-1311-4C63-8BCE-55871F51F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A42D-DA22-4D50-9E0F-ED192117C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E9B2-FEEB-4CF7-A87E-5DC8B57A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8C94-A393-4FE7-8895-4428EB36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CA24-6257-4A98-8556-1A476D4C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BE28C-8DCB-4DEB-A0E4-583E3601DB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752480" y="1600200"/>
          <a:ext cx="525780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600200"/>
                    <a:ext cx="52578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8:05Z</dcterms:modified>
  <cp:revision>4</cp:revision>
  <dc:subject/>
  <dc:title>PowerPoint Presentation</dc:title>
</cp:coreProperties>
</file>