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17C4-8B8B-4F1B-ADFA-AA7DEB18C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599A-6BD7-4B28-B881-C461B1326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3EB7-909A-438A-88D5-0FDB27CEC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297D-9841-4132-BFD6-8618D53C4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45BB-9CE5-4DD7-B5E6-829012C3D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53AC-DB23-4E8B-A77E-E8442BC25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E0E5-5FEC-45C2-ADD6-B269E161F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65E5-6439-4A8D-A9FC-FB7CC4490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95F1-BA87-4452-8821-2B8BECFE5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AB0A-C480-4C3C-B9B1-5EB9A9B2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C2CE-50D8-4568-9A24-27F930A4E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1A27-E654-4710-B6E1-E21EF585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FCECC-B10A-40D3-96E5-4BCBB5761C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346560" y="2766960"/>
          <a:ext cx="5514840" cy="138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6560" y="2766960"/>
                    <a:ext cx="551484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146320" y="4179960"/>
            <a:ext cx="4854600" cy="2340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2021040" y="1717560"/>
            <a:ext cx="5143320" cy="1816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6400" y="1182600"/>
            <a:ext cx="46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of a table describing f(x,y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4440" y="3681360"/>
            <a:ext cx="239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sponding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202360" y="2295360"/>
            <a:ext cx="0" cy="223920"/>
          </a:xfrm>
          <a:prstGeom prst="line">
            <a:avLst/>
          </a:prstGeom>
          <a:ln w="19080">
            <a:solidFill>
              <a:srgbClr val="ff0b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30640" y="2905200"/>
            <a:ext cx="295200" cy="0"/>
          </a:xfrm>
          <a:prstGeom prst="line">
            <a:avLst/>
          </a:prstGeom>
          <a:ln w="19080">
            <a:solidFill>
              <a:srgbClr val="ff0b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252200" y="2351160"/>
            <a:ext cx="16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60000" y="15080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56640" y="20876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48920" y="3317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3120" y="1609560"/>
            <a:ext cx="2009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ds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95360" y="1920960"/>
            <a:ext cx="265320" cy="61920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95360" y="1909800"/>
            <a:ext cx="1200240" cy="13176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240" y="2282760"/>
            <a:ext cx="20811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=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=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: R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,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96480" y="3247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50280" y="3247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252400" y="354024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943600" y="3311640"/>
            <a:ext cx="385920" cy="38736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3:04Z</dcterms:created>
  <dc:creator>Spencer Smith</dc:creator>
  <dc:description/>
  <dc:language>en-US</dc:language>
  <cp:lastModifiedBy>Spencer Smith</cp:lastModifiedBy>
  <dcterms:modified xsi:type="dcterms:W3CDTF">2008-03-12T16:04:21Z</dcterms:modified>
  <cp:revision>1</cp:revision>
  <dc:subject/>
  <dc:title>PowerPoint Presentation</dc:title>
</cp:coreProperties>
</file>