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A5EA-BDAA-4682-8F20-39799A06F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439F-C6DF-4641-A953-FBE17CC5E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B16F-B0F3-4243-A71C-06B738F4A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D5FB-43F8-417C-8410-460CC5450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A603-A1B7-4FA6-9443-2BD66E8C6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4C2B-1ED4-4C4D-8650-C40CC4B6A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3310-5E03-49FB-837E-887C72816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0DB5-01CF-41A5-8509-8209A470A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9AFE-5ADA-4BF7-B9DB-2B93620E6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7ED1-8227-4088-8423-2CF3A9C40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37EF-A1E1-4ED8-BF2A-10BD209E0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8211-53F6-4DF3-9E00-DFE93B63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1E65E-33F3-46CD-90D4-4F04FC95E2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pilogu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C77C-AF85-4213-A201-3D151321C5B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ill be the future of the fiel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the impact of SE on socie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ethical issues are raised by S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EFD5-307F-457B-B690-44D933CE981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ound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requires the application of engineering principles guided by informed manage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inciples must be rooted in sound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igorous approaches must be combined with experimentation, intuition, and common sen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o “silver bullets”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9EDF-BFB8-4670-B253-93545E75F4D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ess expec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spec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ization is a sign of maturity of a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onent-based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domain-specific architec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re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tributed virtual te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0F28-F465-4372-A498-7A70CCD4EBB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cial responsi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defects may cost lives or tremendous business lo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hould try to prevent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hould study them when they occur, to avoid failures in the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creates new opportunities for  increasing productivity and services, but also opportunities for criminal fraud and sabotage (e.g., virus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uilding reliable software is not only a technical goal; it has ethical and social implications for the serious profession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20A0-CDF9-4E5F-B4DA-FF3B04AF698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CM and IEEE Computer Society have developed a “Software engineering code of ethics and professional practices”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“public interest” is central to the code, which emphasizes the professional’s obligation to the public at lar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imary concern for the health, safety, and welfare of th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EAD2-D60B-47D8-9313-B83727F6FD7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ct consistently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lient and Emplo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ct in a manner that is in the best interests of their client and employer, consistent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ensure that their products and related modifications meet the highest professional standards possi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ud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maintain integrity and independence in their professional jud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C598-6BB0-4F14-BA3A-AF75709C509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 princip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ing managers and leaders shall subscribe to and promote an ethical approach to the management of software development and mainten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f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dvance the integrity and reputation of the profession, consistent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lleag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be fair to, and supportive of, their colleag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participate in lifelong learning regarding the practice of their profession and shall promote an ethical approach to the practice of the profess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69E7-9149-4A93-93EA-72C2C2D6F80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5:27:45Z</dcterms:created>
  <dc:creator>Carlo Ghezzi</dc:creator>
  <dc:description/>
  <dc:language>en-US</dc:language>
  <cp:lastModifiedBy>jazayeri</cp:lastModifiedBy>
  <dcterms:modified xsi:type="dcterms:W3CDTF">2002-02-19T18:44:34Z</dcterms:modified>
  <cp:revision>5</cp:revision>
  <dc:subject/>
  <dc:title>PowerPoint Presentation</dc:title>
</cp:coreProperties>
</file>