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2867-6A81-49C6-A3D2-9144B7F6C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E7FF-7AEE-4E03-B86D-119785424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531D-396E-4F9A-872D-F813E4C54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AF0F-1BAD-48D7-8423-F389E7892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8D65-97FB-43AF-BB12-EA6BE513F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CF15-188C-4B3C-9AA7-D362519A3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DE13-6EFA-49C2-9D8F-DA3B19FCB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ACC0-3932-494B-A9AE-4869D5A2E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5F60-FE1B-4987-AC34-5A5B0D38E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EBCD-7459-4626-AD52-5413B04D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0979-B5B4-4210-AB61-BF7170B8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E724-5BDB-48C6-93A1-6FAC3EC7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86700-14E2-4AEB-ACB6-300F5A8032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2248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8928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4:25Z</dcterms:modified>
  <cp:revision>7</cp:revision>
  <dc:subject/>
  <dc:title>PowerPoint Presentation</dc:title>
</cp:coreProperties>
</file>