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7AEE-7BA3-4B4D-81B6-8D74673AC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C6B4-CF31-4692-886A-A73A64FDC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76F7-541A-4DB8-9837-5EEA63197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9628-D5E8-438F-92C8-A11CCDD3B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9272-E52B-44A0-8BAF-DFF4A5086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7626-4E52-4FDB-A232-F55E680DF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7911-B804-44B3-9429-C2BC53A31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9645-E72F-410B-A3AB-E5A1E22EF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E7F9-49DB-4280-A81F-C83F2F418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7670-843F-4243-ADE1-E9776D4D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A09B-0C2F-4CEF-A6A7-C1BE3C1F4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B5B7-DFF0-4541-9C7F-727E73727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2514E-7413-453F-B0CC-D0C64F34A7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46280" y="1938240"/>
            <a:ext cx="183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295280"/>
            <a:ext cx="253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2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70560" y="1905120"/>
            <a:ext cx="5072760" cy="2654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&lt;x = 2, y = -3&gt;, &lt;x = - 13, y = 51&gt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x = 97, y = 17&gt;, &lt;x = - 1, y = - 1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vers al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&lt;x = - 13, y = 51&gt;, &lt;x = 2, y = - 3&gt;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mi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6:25Z</dcterms:modified>
  <cp:revision>1</cp:revision>
  <dc:subject/>
  <dc:title>PowerPoint Presentation</dc:title>
</cp:coreProperties>
</file>