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67E0-DB2F-477B-AC5E-37A20F50D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F577-1F94-4E37-82A2-C3A7C6A8B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AA1A-A42C-42D8-920A-ECB53BFF6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6B4B-2CC1-4DE3-8D5E-E208551A9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7626-8221-4A1F-BD23-FB93323CA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AA0E-5C98-46A8-84F3-ACE7EDC32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3D3D-CD0B-4D2B-B54D-FBF16D333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7BB6-6FEB-4FF3-8298-AC1523817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57C9-AEC2-4117-9C94-14D1E4C17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EDDF-6393-4487-8347-D4BF20F6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9A84-540C-4387-B26B-E8EE0414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0D50-02DD-4FD9-8A61-18344C66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32F18-6488-46F3-80D9-8926B03A77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Tools and Environ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498E-04E7-411D-BBFE-CBD58EE6A7A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pre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ditionally at the programming languag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t the requirements specification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ani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numeric or symbol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F50B-947D-42A7-B0EB-C3C8660A327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genera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 general sense, transform a high level description into a lower-leve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pecific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o a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actica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th Generation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0396-EA9C-48BD-A330-3C143A4FAAE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viewed as special kinds of interpreters wh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state inspec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mode defin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imation to support program 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70E4-4C15-412B-B9BA-BAB644EFA6A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document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 bookkeeping of test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ms for test case definition, storage, retriev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38280" y="3429000"/>
            <a:ext cx="4114800" cy="275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11B9-7813-4A49-9B42-64B81681EAC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ynthesizing data from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eval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various coverage metr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ing other software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8DAF-A343-4401-8312-7EE0206AD99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ic analy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and flow control analy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point out possible flaws or suspicious-looking stat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detecting uninitialized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E003-A1BF-4263-8FC5-4031F1CA4C9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I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phical User Interfaces are now standar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abstractions inclu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dows and the desktop metaph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2887560" y="247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362320" y="3887640"/>
            <a:ext cx="3902040" cy="221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BC2E-823A-40B0-8333-FCFEDAE593B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r-Interface Management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set of basic abstractions (windows, menus, scroll bars, etc.) that may be used to customize a variety of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library of run-time routines to be linked to the developed application in order to support input and out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IMS fall both under the category of development tools and under the category of end-product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FCCE-845D-46C5-8FBE-9B78EA40275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47644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023840" y="1676520"/>
            <a:ext cx="7416720" cy="4538520"/>
            <a:chOff x="1023840" y="1676520"/>
            <a:chExt cx="7416720" cy="4538520"/>
          </a:xfrm>
        </p:grpSpPr>
        <p:sp>
          <p:nvSpPr>
            <p:cNvPr id="81" name=""/>
            <p:cNvSpPr/>
            <p:nvPr/>
          </p:nvSpPr>
          <p:spPr>
            <a:xfrm>
              <a:off x="2941560" y="1677960"/>
              <a:ext cx="2886120" cy="395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941560" y="1676520"/>
              <a:ext cx="2887920" cy="395928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154320" y="1974960"/>
              <a:ext cx="2495520" cy="15462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54320" y="3909960"/>
              <a:ext cx="2495520" cy="1530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48720" y="2362320"/>
              <a:ext cx="20703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78400" y="4114800"/>
              <a:ext cx="16542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m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too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31760" y="2076480"/>
              <a:ext cx="1444680" cy="12571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42640" y="2057400"/>
              <a:ext cx="755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41200" y="2286000"/>
              <a:ext cx="1178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languag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40120" y="2514600"/>
              <a:ext cx="1130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59560" y="2816280"/>
              <a:ext cx="916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sup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2467080" y="2577960"/>
              <a:ext cx="679320" cy="135000"/>
              <a:chOff x="2467080" y="2577960"/>
              <a:chExt cx="679320" cy="135000"/>
            </a:xfrm>
          </p:grpSpPr>
          <p:sp>
            <p:nvSpPr>
              <p:cNvPr id="93" name=""/>
              <p:cNvSpPr/>
              <p:nvPr/>
            </p:nvSpPr>
            <p:spPr>
              <a:xfrm>
                <a:off x="2467080" y="2577960"/>
                <a:ext cx="237960" cy="135000"/>
              </a:xfrm>
              <a:custGeom>
                <a:avLst/>
                <a:gdLst/>
                <a:ahLst/>
                <a:rect l="l" t="t" r="r" b="b"/>
                <a:pathLst>
                  <a:path w="150" h="85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890800" y="2577960"/>
                <a:ext cx="255600" cy="135000"/>
              </a:xfrm>
              <a:custGeom>
                <a:avLst/>
                <a:gdLst/>
                <a:ahLst/>
                <a:rect l="l" t="t" r="r" b="b"/>
                <a:pathLst>
                  <a:path w="161" h="85">
                    <a:moveTo>
                      <a:pt x="161" y="43"/>
                    </a:moveTo>
                    <a:lnTo>
                      <a:pt x="0" y="85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705040" y="264636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6989760" y="2178000"/>
              <a:ext cx="1257480" cy="1241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14840" y="2438280"/>
              <a:ext cx="567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5640480" y="2679840"/>
              <a:ext cx="1341360" cy="136440"/>
              <a:chOff x="5640480" y="2679840"/>
              <a:chExt cx="1341360" cy="136440"/>
            </a:xfrm>
          </p:grpSpPr>
          <p:sp>
            <p:nvSpPr>
              <p:cNvPr id="99" name=""/>
              <p:cNvSpPr/>
              <p:nvPr/>
            </p:nvSpPr>
            <p:spPr>
              <a:xfrm>
                <a:off x="5640480" y="267984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727680" y="267984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878440" y="2747880"/>
                <a:ext cx="84924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6989760" y="4038480"/>
              <a:ext cx="1392120" cy="13176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08840" y="4495680"/>
              <a:ext cx="1271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5640480" y="4700520"/>
              <a:ext cx="1341360" cy="136440"/>
              <a:chOff x="5640480" y="4700520"/>
              <a:chExt cx="1341360" cy="136440"/>
            </a:xfrm>
          </p:grpSpPr>
          <p:sp>
            <p:nvSpPr>
              <p:cNvPr id="105" name=""/>
              <p:cNvSpPr/>
              <p:nvPr/>
            </p:nvSpPr>
            <p:spPr>
              <a:xfrm>
                <a:off x="6727680" y="470052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640480" y="470052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5878080" y="4768920"/>
                <a:ext cx="84924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1031760" y="4097160"/>
              <a:ext cx="1444680" cy="12589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18960" y="4419720"/>
              <a:ext cx="831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.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17520" y="4724280"/>
              <a:ext cx="840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v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m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2467080" y="4599000"/>
              <a:ext cx="679320" cy="136440"/>
              <a:chOff x="2467080" y="4599000"/>
              <a:chExt cx="679320" cy="136440"/>
            </a:xfrm>
          </p:grpSpPr>
          <p:sp>
            <p:nvSpPr>
              <p:cNvPr id="112" name=""/>
              <p:cNvSpPr/>
              <p:nvPr/>
            </p:nvSpPr>
            <p:spPr>
              <a:xfrm>
                <a:off x="2467080" y="459900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890800" y="4599000"/>
                <a:ext cx="255600" cy="136440"/>
              </a:xfrm>
              <a:custGeom>
                <a:avLst/>
                <a:gdLst/>
                <a:ahLst/>
                <a:rect l="l" t="t" r="r" b="b"/>
                <a:pathLst>
                  <a:path w="161" h="86">
                    <a:moveTo>
                      <a:pt x="161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705040" y="466740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1601640" y="5346720"/>
              <a:ext cx="865440" cy="866880"/>
              <a:chOff x="1601640" y="5346720"/>
              <a:chExt cx="865440" cy="866880"/>
            </a:xfrm>
          </p:grpSpPr>
          <p:sp>
            <p:nvSpPr>
              <p:cNvPr id="116" name=""/>
              <p:cNvSpPr/>
              <p:nvPr/>
            </p:nvSpPr>
            <p:spPr>
              <a:xfrm>
                <a:off x="1601640" y="5346720"/>
                <a:ext cx="203400" cy="203040"/>
              </a:xfrm>
              <a:custGeom>
                <a:avLst/>
                <a:gdLst/>
                <a:ahLst/>
                <a:rect l="l" t="t" r="r" b="b"/>
                <a:pathLst>
                  <a:path w="128" h="128">
                    <a:moveTo>
                      <a:pt x="0" y="0"/>
                    </a:moveTo>
                    <a:lnTo>
                      <a:pt x="128" y="75"/>
                    </a:lnTo>
                    <a:lnTo>
                      <a:pt x="96" y="107"/>
                    </a:lnTo>
                    <a:lnTo>
                      <a:pt x="75" y="1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54280" y="5516640"/>
                <a:ext cx="712800" cy="69696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2467080" y="6213600"/>
              <a:ext cx="38527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6319800" y="5245200"/>
              <a:ext cx="966960" cy="968400"/>
              <a:chOff x="6319800" y="5245200"/>
              <a:chExt cx="966960" cy="968400"/>
            </a:xfrm>
          </p:grpSpPr>
          <p:sp>
            <p:nvSpPr>
              <p:cNvPr id="120" name=""/>
              <p:cNvSpPr/>
              <p:nvPr/>
            </p:nvSpPr>
            <p:spPr>
              <a:xfrm>
                <a:off x="7066080" y="5245200"/>
                <a:ext cx="220680" cy="203040"/>
              </a:xfrm>
              <a:custGeom>
                <a:avLst/>
                <a:gdLst/>
                <a:ahLst/>
                <a:rect l="l" t="t" r="r" b="b"/>
                <a:pathLst>
                  <a:path w="139" h="128">
                    <a:moveTo>
                      <a:pt x="139" y="0"/>
                    </a:moveTo>
                    <a:lnTo>
                      <a:pt x="54" y="128"/>
                    </a:lnTo>
                    <a:lnTo>
                      <a:pt x="32" y="107"/>
                    </a:lnTo>
                    <a:lnTo>
                      <a:pt x="0" y="75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6319800" y="5415120"/>
                <a:ext cx="797040" cy="7984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102384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1444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87400" y="3699000"/>
              <a:ext cx="2048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780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14440" y="4089240"/>
              <a:ext cx="187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686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2920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198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927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83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7396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864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237520" y="3699000"/>
              <a:ext cx="2030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4640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19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099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00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7352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641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547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115000" y="393840"/>
            <a:ext cx="491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IMS as development tool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d-product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7187-E9C1-488D-91C3-425A65397A3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46204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20720" y="1557360"/>
            <a:ext cx="10948320" cy="5801760"/>
            <a:chOff x="720720" y="1557360"/>
            <a:chExt cx="10948320" cy="5801760"/>
          </a:xfrm>
        </p:grpSpPr>
        <p:sp>
          <p:nvSpPr>
            <p:cNvPr id="145" name=""/>
            <p:cNvSpPr/>
            <p:nvPr/>
          </p:nvSpPr>
          <p:spPr>
            <a:xfrm>
              <a:off x="720720" y="2657520"/>
              <a:ext cx="3440160" cy="295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20720" y="2657520"/>
              <a:ext cx="3440160" cy="2955960"/>
            </a:xfrm>
            <a:custGeom>
              <a:avLst/>
              <a:gdLst/>
              <a:ahLst/>
              <a:rect l="l" t="t" r="r" b="b"/>
              <a:pathLst>
                <a:path w="2167" h="1862">
                  <a:moveTo>
                    <a:pt x="0" y="0"/>
                  </a:moveTo>
                  <a:lnTo>
                    <a:pt x="2167" y="0"/>
                  </a:lnTo>
                  <a:lnTo>
                    <a:pt x="2167" y="1862"/>
                  </a:lnTo>
                  <a:lnTo>
                    <a:pt x="0" y="1862"/>
                  </a:lnTo>
                  <a:lnTo>
                    <a:pt x="0" y="0"/>
                  </a:lnTo>
                  <a:close/>
                  <a:moveTo>
                    <a:pt x="21" y="22"/>
                  </a:moveTo>
                  <a:lnTo>
                    <a:pt x="2145" y="22"/>
                  </a:lnTo>
                  <a:lnTo>
                    <a:pt x="2145" y="1841"/>
                  </a:lnTo>
                  <a:lnTo>
                    <a:pt x="21" y="1841"/>
                  </a:lnTo>
                  <a:lnTo>
                    <a:pt x="21" y="2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60560" y="2330280"/>
              <a:ext cx="924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SCREE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38240" y="3060720"/>
              <a:ext cx="117000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89200" y="3060720"/>
              <a:ext cx="117144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95480" y="3851280"/>
              <a:ext cx="878040" cy="379440"/>
            </a:xfrm>
            <a:prstGeom prst="roundRect">
              <a:avLst>
                <a:gd name="adj" fmla="val 60870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95480" y="45226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95480" y="52102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46160" y="279576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00080" y="279576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18720" y="435924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93480" y="3586320"/>
              <a:ext cx="331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93120" y="4273560"/>
              <a:ext cx="586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93480" y="494352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5605560" y="2176560"/>
              <a:ext cx="79056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96120" y="2176560"/>
              <a:ext cx="144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96120" y="2176560"/>
              <a:ext cx="87768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32440" y="1936800"/>
              <a:ext cx="62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46680" y="270972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30640" y="270972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97320" y="270972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481800" y="2967120"/>
              <a:ext cx="6890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70840" y="2967120"/>
              <a:ext cx="14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70840" y="2967120"/>
              <a:ext cx="6872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21080" y="3397320"/>
              <a:ext cx="38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11640" y="3397320"/>
              <a:ext cx="610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68720" y="337968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23160" y="2819520"/>
              <a:ext cx="6640560" cy="79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" y="10540"/>
                  </a:moveTo>
                  <a:arcTo wR="10800" hR="10800" stAng="-10717107" swAng="5307460"/>
                  <a:lnTo>
                    <a:pt x="10800" y="10800"/>
                  </a:lnTo>
                  <a:close/>
                </a:path>
                <a:path fill="none" w="21600" h="21600">
                  <a:moveTo>
                    <a:pt x="3" y="10540"/>
                  </a:moveTo>
                  <a:arcTo wR="10800" hR="10800" stAng="-10717107" swAng="530746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33920" y="2971800"/>
              <a:ext cx="4491720" cy="98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40000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68760" y="3456000"/>
              <a:ext cx="4889160" cy="98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633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633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68760" y="3645000"/>
              <a:ext cx="6435000" cy="214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444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68760" y="3645000"/>
              <a:ext cx="8000280" cy="371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4"/>
                  </a:moveTo>
                  <a:arcTo wR="10800" hR="10800" stAng="-10785267" swAng="5385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4"/>
                  </a:moveTo>
                  <a:arcTo wR="10800" hR="10800" stAng="-10785267" swAng="538526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21160" y="4332240"/>
              <a:ext cx="1670040" cy="15652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24720" y="4754520"/>
              <a:ext cx="92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24720" y="4960800"/>
              <a:ext cx="63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24720" y="5167440"/>
              <a:ext cx="101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7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11" y="15143"/>
                  </a:moveTo>
                  <a:arcTo wR="10800" hR="10800" stAng="937748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911" y="15143"/>
                  </a:moveTo>
                  <a:arcTo wR="10800" hR="10800" stAng="937748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0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67160" y="5099040"/>
              <a:ext cx="72252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4028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05760" y="5099040"/>
              <a:ext cx="6804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515000" y="3671640"/>
              <a:ext cx="515880" cy="5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146" y="20687"/>
                  </a:moveTo>
                  <a:arcTo wR="10800" hR="10800" stAng="3976200" swAng="28505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5146" y="20687"/>
                  </a:moveTo>
                  <a:arcTo wR="10800" hR="10800" stAng="3976200" swAng="285052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54760" y="4152960"/>
              <a:ext cx="1800" cy="698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75920" y="3346560"/>
              <a:ext cx="980280" cy="175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3442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34428"/>
                </a:path>
              </a:pathLst>
            </a:cu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10240" y="1866960"/>
              <a:ext cx="3457440" cy="34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13200" y="3913200"/>
              <a:ext cx="3457800" cy="33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10240" y="1866960"/>
              <a:ext cx="34920" cy="2079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34200" y="1866960"/>
              <a:ext cx="33480" cy="20797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63880" y="1557360"/>
              <a:ext cx="3402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INTERNAL DATA STRUCTUR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2208240" y="393840"/>
            <a:ext cx="462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un-time structure of a U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DB8E-8A67-424A-B983-152E90914F8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id the field evolv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and environments be classified and compa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categori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be integr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motivates new tools/environment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7CED-73BB-4A37-A069-5DA7D026D4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database of artifa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rsions stored, change history mainta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-spac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out into private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in into shared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modeling and buil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cilities to (re)build produ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B100-AC24-46F3-9B50-49A57AB1067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V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194328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71520" y="1488960"/>
            <a:ext cx="8215200" cy="4349880"/>
            <a:chOff x="371520" y="1488960"/>
            <a:chExt cx="8215200" cy="4349880"/>
          </a:xfrm>
        </p:grpSpPr>
        <p:sp>
          <p:nvSpPr>
            <p:cNvPr id="200" name=""/>
            <p:cNvSpPr/>
            <p:nvPr/>
          </p:nvSpPr>
          <p:spPr>
            <a:xfrm>
              <a:off x="2565360" y="1488960"/>
              <a:ext cx="787320" cy="639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31800" y="1504800"/>
              <a:ext cx="65736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59120" y="1504800"/>
              <a:ext cx="757440" cy="657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90860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63600" y="1774800"/>
              <a:ext cx="246240" cy="115920"/>
            </a:xfrm>
            <a:custGeom>
              <a:avLst/>
              <a:gdLst/>
              <a:ahLst/>
              <a:rect l="l" t="t" r="r" b="b"/>
              <a:pathLst>
                <a:path w="155" h="73">
                  <a:moveTo>
                    <a:pt x="155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98440" y="1841400"/>
              <a:ext cx="65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35520" y="1758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21400" y="182412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75080" y="1758960"/>
              <a:ext cx="24588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343320" y="1824120"/>
              <a:ext cx="131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79520" y="180828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81240" y="1873080"/>
              <a:ext cx="98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704960" y="1727280"/>
              <a:ext cx="3618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909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17720" y="1693800"/>
              <a:ext cx="3636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03680" y="16938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974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8304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11640" y="1743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97600" y="1743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3808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28760" y="3809880"/>
              <a:ext cx="9367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621240" y="3809880"/>
              <a:ext cx="9349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1480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28760" y="5197320"/>
              <a:ext cx="9367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21240" y="5197320"/>
              <a:ext cx="9349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428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152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7496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63640" y="4078440"/>
              <a:ext cx="211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368520" y="4014720"/>
              <a:ext cx="24624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54320" y="4078440"/>
              <a:ext cx="214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6100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4824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31960" y="4943520"/>
              <a:ext cx="114480" cy="245880"/>
            </a:xfrm>
            <a:custGeom>
              <a:avLst/>
              <a:gdLst/>
              <a:ahLst/>
              <a:rect l="l" t="t" r="r" b="b"/>
              <a:pathLst>
                <a:path w="72" h="155">
                  <a:moveTo>
                    <a:pt x="41" y="15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97120" y="4438800"/>
              <a:ext cx="1800" cy="504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368520" y="5484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54320" y="5549760"/>
              <a:ext cx="214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6440" y="5549760"/>
              <a:ext cx="9334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15120" y="4438800"/>
              <a:ext cx="11556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3" y="0"/>
                  </a:moveTo>
                  <a:lnTo>
                    <a:pt x="73" y="144"/>
                  </a:lnTo>
                  <a:lnTo>
                    <a:pt x="43" y="144"/>
                  </a:lnTo>
                  <a:lnTo>
                    <a:pt x="0" y="144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483160" y="4667040"/>
              <a:ext cx="1800" cy="882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3976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2572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32240" y="4029120"/>
              <a:ext cx="36324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1784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2580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1176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51240" y="5419800"/>
              <a:ext cx="69048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2028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43360" y="5419800"/>
              <a:ext cx="6890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1240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18280" y="4029120"/>
              <a:ext cx="3603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30388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7028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0" y="1808280"/>
              <a:ext cx="98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896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0856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945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6592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51800" y="180828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1200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896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7560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86520" y="2362320"/>
              <a:ext cx="328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equence of revis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0840" y="4191120"/>
              <a:ext cx="2315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 branch and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ater jo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9320" y="3200400"/>
              <a:ext cx="6553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3585-0A3B-47AB-9760-0ACC14C1CFC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k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1267200" y="2860560"/>
            <a:ext cx="584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ys : mod1.o  mod2.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d mod1.o  mod2.o  -o sy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1.o : mod1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1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2.o : mod2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2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4120" y="1676520"/>
            <a:ext cx="88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ids in building and rebuilding a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keep a system in a consistent state after modifica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C8E4-9ABD-4EFF-A533-550C59814D4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cking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during entire process to maintain information about the process and track that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st important of these ar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ect-track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store information about reported defects in the software product and track that inform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9CD1-B81A-4864-B8AF-D09F8A1ED04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verse and re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am understanding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nthesize suitable abstractions from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ontrol and data flow graphs or use graph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tract cross-references and other kinds of documentation material on the produ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erse engineering tools also support the process of making the code and other artifacts consistent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A2A7-F44B-40F3-AC98-0202CFDA610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supp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 "to do" lists, reminding next activities in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 sequences of recurring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ll process support via PSEEs (Process-centered Software Engineering Environme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a process-modeling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0C6A-20EB-4CC7-B710-FFAAF132E78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Gantt and PERT ch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phical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to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st estim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odels, such as COCO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8FBA-C26C-4B46-8B55-8FBAFC39203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ol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all process artifacts in a repositor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data representation for artifacts that different tools can use to communicate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 tools can communicate with each other through control mess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6100-3C51-47B0-B4E4-D1231768634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ces influencing too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software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a particular method or method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CB92-F0C3-416D-BDBD-96A0B7F7270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ica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minant factors affecting evol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ological develop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de certain tools necessary or possib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etter understanding of software engineering process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7E2C-EFE6-4EDD-84FA-709867DC064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chnological developmen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—examples—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graphical displays and user interf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e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user interfaces (GUIs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isual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distribute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supporting distributed configuration management and teams (groupwa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2C8B-ACB3-43DC-BEBB-B7AE0F108A6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dividual tools developed to support single activities (e.g.,compilation, debugg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tegrated environments, i.e., tools that work toge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environment supporting one programming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 environ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have public interfaces which allow them to communicate and cooperate with other tools which respect those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A146-C2F5-4382-A207-6617276CAE3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-oriented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ve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vel of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/semantics of documents p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endency on phase of life cyc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gree of standard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82E1-809D-4D3F-AE5D-48426EFB201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ic vs. dynam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tools vs. end-product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user vs. multi-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machine vs. network-a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7B96-B79A-49B8-AEF3-8B64394A5FD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xtual or graphic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follow a formal syntax, or can be used for informal text or free-form pic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olingual (e.g., Java editor) or multiling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A7A9-2DAB-4FE1-82ED-5A8CBFA5967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nk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bine object-code fragments into a larger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be monolingual or polyling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 a broader sense, tools for linking specification modules, able to perform checking and binding across various specification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C3FC-981B-433B-9686-1EC04215922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0:44:49Z</dcterms:created>
  <dc:creator>Carlo Ghezzi</dc:creator>
  <dc:description/>
  <dc:language>en-US</dc:language>
  <cp:lastModifiedBy>jazayeri</cp:lastModifiedBy>
  <dcterms:modified xsi:type="dcterms:W3CDTF">2002-02-19T16:03:32Z</dcterms:modified>
  <cp:revision>12</cp:revision>
  <dc:subject/>
  <dc:title>Software Engineering Tools and Environments</dc:title>
</cp:coreProperties>
</file>