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6.wmf" ContentType="image/x-wmf"/>
  <Override PartName="/ppt/media/image29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4.wmf" ContentType="image/x-wmf"/>
  <Override PartName="/ppt/media/image27.wmf" ContentType="image/x-wmf"/>
  <Override PartName="/ppt/media/image5.png" ContentType="image/png"/>
  <Override PartName="/ppt/media/image13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media/image30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EF21-7AC6-44F9-8C04-42922FB35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3EE0-5DA4-4987-B60A-4A36CAA4B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D9AE-2918-4872-835D-67A409100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DF4A-0459-4A20-81FF-26BEBD190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DA92-163E-4DC7-97E7-4E7506F68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B4D4-935B-4691-A84D-40589C880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026E-C39E-4BD7-9311-C62DEE712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15B6-266E-46BB-B427-1C18F1FAB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223A-3441-48C8-8A7F-494307679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232A-5C6C-45B2-9443-89CA8A312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4E73-E974-4E33-8449-B21EC2EF1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AB02-1C15-4A30-B862-E3A98C6A3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1579F-C8E1-4449-A0BE-561B07C6D8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5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and 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3079-0ACF-416E-8C5B-5B238F65C8F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ple likely changes?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underlying abstract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lease of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optimizing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version of DB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peripheral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"social"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tax reg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URO vs national currency in E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due to development process (transform prototype into produ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8F43-7BDB-4BED-8A7A-4B0779EC9A8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ddle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ayer residing between the network operating system and the ap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building network app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s useful serv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me services, to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nd processes or resources on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unication services, such as message passing or RPC (or RMI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189F-9ED2-4A02-B7DD-CE0348DBA4AD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bject-oriented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kind of module, ADT,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lass exports operations (procedures) to manipulate instance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call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nce objects accessible via refer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12F3-C9DF-48AE-BBAB-0D2335EFF173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ctic changes in T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need to export opaque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name used to declar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a is a reference to an ob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.op (params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67C9-422F-4083-A567-22F6E0CCD02F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urther relation: 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Ts may be organized in a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B may specialize class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inherits from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versely, A generalizes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is a superclass of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 is a subclass of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C004-CFB6-46DD-B702-19F3AD14CEF9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193500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0" y="1371600"/>
          <a:ext cx="8763120" cy="707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1600"/>
                    <a:ext cx="8763120" cy="707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CB78-26E9-4439-B971-5AF2B8B61014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193500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7864560" cy="39528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217188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B1E7-AABE-4F4E-93F5-7AE3E374CBE6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ay of building software increment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ubclass defines a sub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type i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ubstitut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lymorphis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variable referring to type A can refer to an object of type B if B is a subclass of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ynamic bindi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ethod invoked through a reference depends on the type of the object associated with the reference at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54ED-34E4-4000-91BE-BB09069E7CE7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an inheritance be represented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art introducing the UML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ML (Unified Modeling Language) is a widely adopted standard notation for representing OO desig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ntroduce the UML class dia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es are described by box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AEDE-3221-42DB-9433-DA4D0C423785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representation of 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"/>
          <p:cNvSpPr/>
          <p:nvPr/>
        </p:nvSpPr>
        <p:spPr>
          <a:xfrm>
            <a:off x="217188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990720" y="2438280"/>
            <a:ext cx="7353360" cy="396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A2EB-4D1B-482F-A7F7-3CB8A5AEF02C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associ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sociations are relations that the implementation is required to sup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n hav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icity constra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"/>
          <p:cNvSpPr/>
          <p:nvPr/>
        </p:nvSpPr>
        <p:spPr>
          <a:xfrm>
            <a:off x="194328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-685800" y="3048120"/>
            <a:ext cx="11658600" cy="354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EE8A-46DB-4840-96AB-95C8BFC2C06B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t fami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versions of the sam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 family of mobile ph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bers of the family may differ in network standards, end-user interaction languages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 facility reservat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hotels: reserve rooms, restaurant, conference space, …, equipment (video beamers, overhead projectors, …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univers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y functionalities are similar, some are different (e.g., facilities may be free of charge or no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DB31-B10D-4EFB-906F-1891D0B2FD1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ggreg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s a PART_OF re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s from IS_COMPOSED_O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e TRANGLE has its own meth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mplicitly uses POINT to defin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s data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"/>
          <p:cNvSpPr/>
          <p:nvPr/>
        </p:nvSpPr>
        <p:spPr>
          <a:xfrm>
            <a:off x="32004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4419720" cy="294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DCDA-1233-4F10-8548-EEAC28BC7C60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UM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resentation of IS_COMPONENT_OF via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acka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"/>
          <p:cNvSpPr/>
          <p:nvPr/>
        </p:nvSpPr>
        <p:spPr>
          <a:xfrm>
            <a:off x="32004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1981080" y="3048120"/>
            <a:ext cx="5257800" cy="350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8CE3-1120-491B-9E1C-E7E9AA22D595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scribes overall system organization and structure in terms of its major constituents and their interaction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architectures can be ident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ipe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ackbo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 based (publish-subscrib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EFAE-D066-48F6-AD2C-7B805A5C08E3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ndard architec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"/>
          <p:cNvSpPr/>
          <p:nvPr/>
        </p:nvSpPr>
        <p:spPr>
          <a:xfrm>
            <a:off x="186696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0" y="1752480"/>
          <a:ext cx="6934320" cy="419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6934320" cy="41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3" name=""/>
          <p:cNvSpPr/>
          <p:nvPr/>
        </p:nvSpPr>
        <p:spPr>
          <a:xfrm>
            <a:off x="6347880" y="1828800"/>
            <a:ext cx="13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p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195960" y="4800600"/>
            <a:ext cx="19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012360" y="308124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ack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CC0A-10BA-4383-817A-65251A75CBBD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main specific architec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"/>
          <p:cNvSpPr/>
          <p:nvPr/>
        </p:nvSpPr>
        <p:spPr>
          <a:xfrm>
            <a:off x="839880" y="2057400"/>
            <a:ext cx="741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model–view–controller" architecture for softw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at has a significant amount of user interaction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70504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457200" y="3092400"/>
            <a:ext cx="7467480" cy="319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2A53-1182-4A1C-B323-F7777EF2D637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compon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systems out of pre-existing libraries of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most mature engineering areas 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L for C+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Beans and Swing for Ja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9663-4118-4CD4-8D96-E3EEB003FF65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onent integ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RBA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on Object Request Broker Architectu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iddle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s and servers connected via an Object Request Broker (OR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vided by servers defined by an Interface Definition Language (ID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Microsoft world: DCOM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stributed Component Object Mode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817A-E806-42C8-8759-34A844EAF84A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CORBA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"/>
          <p:cNvSpPr/>
          <p:nvPr/>
        </p:nvSpPr>
        <p:spPr>
          <a:xfrm>
            <a:off x="198108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620120" cy="4146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5F85-6AD1-4657-AA29-AE5D6485867F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rchitectures for distributed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om two tie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-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three tie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"/>
          <p:cNvSpPr/>
          <p:nvPr/>
        </p:nvSpPr>
        <p:spPr>
          <a:xfrm>
            <a:off x="179064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1600200" y="2286000"/>
          <a:ext cx="7086600" cy="389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286000"/>
                    <a:ext cx="7086600" cy="38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917D-664D-4982-BBB5-DE380A796194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goal for fami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the whole family as one system, not each individual member of the family separat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0708-D948-4DDA-9386-BE6A77713BB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complet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wrong wa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first member of product fami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ify existing software to get next member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C02A-92DB-439C-AA61-22CC360682E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completion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"/>
          <p:cNvSpPr/>
          <p:nvPr/>
        </p:nvSpPr>
        <p:spPr>
          <a:xfrm>
            <a:off x="2378160" y="69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610920" y="1676520"/>
            <a:ext cx="1419480" cy="3932280"/>
            <a:chOff x="610920" y="1676520"/>
            <a:chExt cx="1419480" cy="3932280"/>
          </a:xfrm>
        </p:grpSpPr>
        <p:sp>
          <p:nvSpPr>
            <p:cNvPr id="75" name=""/>
            <p:cNvSpPr/>
            <p:nvPr/>
          </p:nvSpPr>
          <p:spPr>
            <a:xfrm>
              <a:off x="610920" y="167652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93520" y="2430360"/>
              <a:ext cx="586080" cy="542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93520" y="3533760"/>
              <a:ext cx="586080" cy="558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93520" y="4656240"/>
              <a:ext cx="586080" cy="55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1085760" y="1998720"/>
              <a:ext cx="145800" cy="405720"/>
              <a:chOff x="1085760" y="1998720"/>
              <a:chExt cx="145800" cy="405720"/>
            </a:xfrm>
          </p:grpSpPr>
          <p:sp>
            <p:nvSpPr>
              <p:cNvPr id="80" name=""/>
              <p:cNvSpPr/>
              <p:nvPr/>
            </p:nvSpPr>
            <p:spPr>
              <a:xfrm>
                <a:off x="1085760" y="2167920"/>
                <a:ext cx="145800" cy="2365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177200" y="1998720"/>
                <a:ext cx="252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1085760" y="2982960"/>
              <a:ext cx="145800" cy="524520"/>
              <a:chOff x="1085760" y="2982960"/>
              <a:chExt cx="145800" cy="524520"/>
            </a:xfrm>
          </p:grpSpPr>
          <p:sp>
            <p:nvSpPr>
              <p:cNvPr id="83" name=""/>
              <p:cNvSpPr/>
              <p:nvPr/>
            </p:nvSpPr>
            <p:spPr>
              <a:xfrm>
                <a:off x="1085760" y="3270960"/>
                <a:ext cx="145800" cy="2365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77200" y="2982960"/>
                <a:ext cx="252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1085760" y="4084560"/>
              <a:ext cx="145800" cy="545760"/>
              <a:chOff x="1085760" y="4084560"/>
              <a:chExt cx="145800" cy="545760"/>
            </a:xfrm>
          </p:grpSpPr>
          <p:sp>
            <p:nvSpPr>
              <p:cNvPr id="86" name=""/>
              <p:cNvSpPr/>
              <p:nvPr/>
            </p:nvSpPr>
            <p:spPr>
              <a:xfrm>
                <a:off x="1085760" y="4392360"/>
                <a:ext cx="145800" cy="237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177200" y="4084560"/>
                <a:ext cx="2520" cy="32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1065960" y="25066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065960" y="3610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086480" y="4732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18200" y="533412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1263600" y="57913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496400" y="1600200"/>
            <a:ext cx="4494240" cy="4343400"/>
            <a:chOff x="4496400" y="1600200"/>
            <a:chExt cx="4494240" cy="4343400"/>
          </a:xfrm>
        </p:grpSpPr>
        <p:sp>
          <p:nvSpPr>
            <p:cNvPr id="94" name=""/>
            <p:cNvSpPr/>
            <p:nvPr/>
          </p:nvSpPr>
          <p:spPr>
            <a:xfrm>
              <a:off x="5258160" y="403848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5562360" y="5029200"/>
              <a:ext cx="447120" cy="420120"/>
              <a:chOff x="5562360" y="5029200"/>
              <a:chExt cx="447120" cy="420120"/>
            </a:xfrm>
          </p:grpSpPr>
          <p:sp>
            <p:nvSpPr>
              <p:cNvPr id="96" name=""/>
              <p:cNvSpPr/>
              <p:nvPr/>
            </p:nvSpPr>
            <p:spPr>
              <a:xfrm>
                <a:off x="5562360" y="5292000"/>
                <a:ext cx="157680" cy="1573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0" y="72"/>
                    </a:moveTo>
                    <a:lnTo>
                      <a:pt x="42" y="0"/>
                    </a:lnTo>
                    <a:lnTo>
                      <a:pt x="60" y="12"/>
                    </a:lnTo>
                    <a:lnTo>
                      <a:pt x="72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5706720" y="5029200"/>
                <a:ext cx="302760" cy="30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4496400" y="548640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30520" y="5427720"/>
              <a:ext cx="434880" cy="41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456160" y="5499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02080" y="160020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391080" y="2184120"/>
              <a:ext cx="433440" cy="42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91080" y="3038400"/>
              <a:ext cx="4334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1080" y="3905280"/>
              <a:ext cx="433440" cy="43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6529320" y="1849320"/>
              <a:ext cx="104400" cy="315720"/>
              <a:chOff x="6529320" y="1849320"/>
              <a:chExt cx="104400" cy="315720"/>
            </a:xfrm>
          </p:grpSpPr>
          <p:sp>
            <p:nvSpPr>
              <p:cNvPr id="106" name=""/>
              <p:cNvSpPr/>
              <p:nvPr/>
            </p:nvSpPr>
            <p:spPr>
              <a:xfrm>
                <a:off x="6529320" y="198108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594840" y="1849320"/>
                <a:ext cx="1800" cy="14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6529320" y="2611440"/>
              <a:ext cx="104400" cy="407520"/>
              <a:chOff x="6529320" y="2611440"/>
              <a:chExt cx="104400" cy="407520"/>
            </a:xfrm>
          </p:grpSpPr>
          <p:sp>
            <p:nvSpPr>
              <p:cNvPr id="109" name=""/>
              <p:cNvSpPr/>
              <p:nvPr/>
            </p:nvSpPr>
            <p:spPr>
              <a:xfrm>
                <a:off x="6529320" y="283500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594840" y="2611440"/>
                <a:ext cx="1800" cy="23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6529320" y="3465360"/>
              <a:ext cx="104400" cy="420480"/>
              <a:chOff x="6529320" y="3465360"/>
              <a:chExt cx="104400" cy="420480"/>
            </a:xfrm>
          </p:grpSpPr>
          <p:sp>
            <p:nvSpPr>
              <p:cNvPr id="112" name=""/>
              <p:cNvSpPr/>
              <p:nvPr/>
            </p:nvSpPr>
            <p:spPr>
              <a:xfrm>
                <a:off x="6529320" y="370188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594840" y="3465360"/>
                <a:ext cx="1800" cy="24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6516360" y="2243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516360" y="3097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516360" y="39639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6213240" y="4332240"/>
              <a:ext cx="379800" cy="382320"/>
              <a:chOff x="6213240" y="4332240"/>
              <a:chExt cx="379800" cy="382320"/>
            </a:xfrm>
          </p:grpSpPr>
          <p:sp>
            <p:nvSpPr>
              <p:cNvPr id="118" name=""/>
              <p:cNvSpPr/>
              <p:nvPr/>
            </p:nvSpPr>
            <p:spPr>
              <a:xfrm>
                <a:off x="6213240" y="4570560"/>
                <a:ext cx="144000" cy="14400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0" y="66"/>
                    </a:moveTo>
                    <a:lnTo>
                      <a:pt x="42" y="0"/>
                    </a:lnTo>
                    <a:lnTo>
                      <a:pt x="54" y="12"/>
                    </a:lnTo>
                    <a:lnTo>
                      <a:pt x="66" y="24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6330600" y="4332240"/>
                <a:ext cx="262440" cy="26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5943240" y="4647960"/>
              <a:ext cx="4334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467480" y="5522760"/>
              <a:ext cx="434880" cy="420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6594120" y="4332240"/>
              <a:ext cx="382320" cy="396360"/>
              <a:chOff x="6594120" y="4332240"/>
              <a:chExt cx="382320" cy="396360"/>
            </a:xfrm>
          </p:grpSpPr>
          <p:sp>
            <p:nvSpPr>
              <p:cNvPr id="123" name=""/>
              <p:cNvSpPr/>
              <p:nvPr/>
            </p:nvSpPr>
            <p:spPr>
              <a:xfrm>
                <a:off x="6818040" y="4571280"/>
                <a:ext cx="158400" cy="1573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72" y="72"/>
                    </a:moveTo>
                    <a:lnTo>
                      <a:pt x="0" y="30"/>
                    </a:lnTo>
                    <a:lnTo>
                      <a:pt x="18" y="12"/>
                    </a:lnTo>
                    <a:lnTo>
                      <a:pt x="30" y="0"/>
                    </a:lnTo>
                    <a:lnTo>
                      <a:pt x="72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594120" y="4332240"/>
                <a:ext cx="263520" cy="27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6891120" y="4708440"/>
              <a:ext cx="4190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7250040" y="5095800"/>
              <a:ext cx="407160" cy="420120"/>
              <a:chOff x="7250040" y="5095800"/>
              <a:chExt cx="407160" cy="420120"/>
            </a:xfrm>
          </p:grpSpPr>
          <p:sp>
            <p:nvSpPr>
              <p:cNvPr id="127" name=""/>
              <p:cNvSpPr/>
              <p:nvPr/>
            </p:nvSpPr>
            <p:spPr>
              <a:xfrm>
                <a:off x="7499880" y="5345280"/>
                <a:ext cx="157320" cy="170640"/>
              </a:xfrm>
              <a:custGeom>
                <a:avLst/>
                <a:gdLst/>
                <a:ahLst/>
                <a:rect l="l" t="t" r="r" b="b"/>
                <a:pathLst>
                  <a:path w="72" h="78">
                    <a:moveTo>
                      <a:pt x="72" y="78"/>
                    </a:moveTo>
                    <a:lnTo>
                      <a:pt x="0" y="30"/>
                    </a:lnTo>
                    <a:lnTo>
                      <a:pt x="12" y="18"/>
                    </a:lnTo>
                    <a:lnTo>
                      <a:pt x="30" y="0"/>
                    </a:lnTo>
                    <a:lnTo>
                      <a:pt x="72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250040" y="5095800"/>
                <a:ext cx="289080" cy="30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7068960" y="48211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92760" y="55958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026920" y="559584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1371600" y="1600200"/>
            <a:ext cx="3399120" cy="4647960"/>
            <a:chOff x="1371600" y="1600200"/>
            <a:chExt cx="3399120" cy="4647960"/>
          </a:xfrm>
        </p:grpSpPr>
        <p:sp>
          <p:nvSpPr>
            <p:cNvPr id="133" name=""/>
            <p:cNvSpPr/>
            <p:nvPr/>
          </p:nvSpPr>
          <p:spPr>
            <a:xfrm>
              <a:off x="3276720" y="5105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51240" y="160020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92440" y="2235240"/>
              <a:ext cx="503280" cy="455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92440" y="3160440"/>
              <a:ext cx="503280" cy="471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92440" y="4103640"/>
              <a:ext cx="503280" cy="47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3757680" y="1871640"/>
              <a:ext cx="124920" cy="340920"/>
              <a:chOff x="3757680" y="1871640"/>
              <a:chExt cx="124920" cy="340920"/>
            </a:xfrm>
          </p:grpSpPr>
          <p:sp>
            <p:nvSpPr>
              <p:cNvPr id="139" name=""/>
              <p:cNvSpPr/>
              <p:nvPr/>
            </p:nvSpPr>
            <p:spPr>
              <a:xfrm>
                <a:off x="3757680" y="2013840"/>
                <a:ext cx="124920" cy="1987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835800" y="1871640"/>
                <a:ext cx="2160" cy="15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3757680" y="2697120"/>
              <a:ext cx="124920" cy="442080"/>
              <a:chOff x="3757680" y="2697120"/>
              <a:chExt cx="124920" cy="442080"/>
            </a:xfrm>
          </p:grpSpPr>
          <p:sp>
            <p:nvSpPr>
              <p:cNvPr id="142" name=""/>
              <p:cNvSpPr/>
              <p:nvPr/>
            </p:nvSpPr>
            <p:spPr>
              <a:xfrm>
                <a:off x="3757680" y="2939760"/>
                <a:ext cx="124920" cy="19944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835800" y="2697120"/>
                <a:ext cx="2160" cy="25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3757680" y="3624120"/>
              <a:ext cx="124920" cy="458280"/>
              <a:chOff x="3757680" y="3624120"/>
              <a:chExt cx="124920" cy="458280"/>
            </a:xfrm>
          </p:grpSpPr>
          <p:sp>
            <p:nvSpPr>
              <p:cNvPr id="145" name=""/>
              <p:cNvSpPr/>
              <p:nvPr/>
            </p:nvSpPr>
            <p:spPr>
              <a:xfrm>
                <a:off x="3757680" y="3882600"/>
                <a:ext cx="124920" cy="19980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835800" y="3624120"/>
                <a:ext cx="2160" cy="27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3741840" y="2298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41840" y="3225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41840" y="41688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3429000" y="4566960"/>
              <a:ext cx="407520" cy="537480"/>
              <a:chOff x="3429000" y="4566960"/>
              <a:chExt cx="407520" cy="537480"/>
            </a:xfrm>
          </p:grpSpPr>
          <p:sp>
            <p:nvSpPr>
              <p:cNvPr id="151" name=""/>
              <p:cNvSpPr/>
              <p:nvPr/>
            </p:nvSpPr>
            <p:spPr>
              <a:xfrm>
                <a:off x="3429000" y="4896360"/>
                <a:ext cx="155520" cy="208080"/>
              </a:xfrm>
              <a:custGeom>
                <a:avLst/>
                <a:gdLst/>
                <a:ahLst/>
                <a:rect l="l" t="t" r="r" b="b"/>
                <a:pathLst>
                  <a:path w="78" h="72">
                    <a:moveTo>
                      <a:pt x="0" y="72"/>
                    </a:moveTo>
                    <a:lnTo>
                      <a:pt x="48" y="0"/>
                    </a:lnTo>
                    <a:lnTo>
                      <a:pt x="60" y="12"/>
                    </a:lnTo>
                    <a:lnTo>
                      <a:pt x="78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>
                <a:off x="3560760" y="4566960"/>
                <a:ext cx="27576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3073320" y="5030640"/>
              <a:ext cx="519120" cy="46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71600" y="594360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2805120" y="5395680"/>
              <a:ext cx="323640" cy="304560"/>
              <a:chOff x="2805120" y="5395680"/>
              <a:chExt cx="323640" cy="304560"/>
            </a:xfrm>
          </p:grpSpPr>
          <p:sp>
            <p:nvSpPr>
              <p:cNvPr id="156" name=""/>
              <p:cNvSpPr/>
              <p:nvPr/>
            </p:nvSpPr>
            <p:spPr>
              <a:xfrm>
                <a:off x="2805120" y="5586120"/>
                <a:ext cx="114120" cy="1141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0" y="72"/>
                    </a:moveTo>
                    <a:lnTo>
                      <a:pt x="42" y="0"/>
                    </a:lnTo>
                    <a:lnTo>
                      <a:pt x="60" y="12"/>
                    </a:lnTo>
                    <a:lnTo>
                      <a:pt x="72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2909880" y="5395680"/>
                <a:ext cx="218880" cy="21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2438280" y="5715000"/>
              <a:ext cx="53352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666880" y="5867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743920" y="380988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4724280" y="3352680"/>
            <a:ext cx="685800" cy="533520"/>
          </a:xfrm>
          <a:custGeom>
            <a:avLst/>
            <a:gdLst>
              <a:gd name="textAreaLeft" fmla="*/ 106920 w 685800"/>
              <a:gd name="textAreaRight" fmla="*/ 600120 w 6858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828800" y="3352680"/>
            <a:ext cx="1682280" cy="2121120"/>
            <a:chOff x="1828800" y="3352680"/>
            <a:chExt cx="1682280" cy="2121120"/>
          </a:xfrm>
        </p:grpSpPr>
        <p:sp>
          <p:nvSpPr>
            <p:cNvPr id="163" name=""/>
            <p:cNvSpPr/>
            <p:nvPr/>
          </p:nvSpPr>
          <p:spPr>
            <a:xfrm>
              <a:off x="1828800" y="3352680"/>
              <a:ext cx="685800" cy="533520"/>
            </a:xfrm>
            <a:custGeom>
              <a:avLst/>
              <a:gdLst>
                <a:gd name="textAreaLeft" fmla="*/ 106920 w 685800"/>
                <a:gd name="textAreaRight" fmla="*/ 600120 w 685800"/>
                <a:gd name="textAreaTop" fmla="*/ 133200 h 533520"/>
                <a:gd name="textAreaBottom" fmla="*/ 40032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2b2b2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99320" y="5105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7315200" y="2514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9152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54680" y="2362320"/>
            <a:ext cx="130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ermedi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818840" y="3352680"/>
            <a:ext cx="84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odu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88EE-8AA4-4D9C-9BEC-8467D9B6F9C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do bett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cipate definition of all family me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what is common to all family members, delay decisions that differentiate among different me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will learn how to manage change in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0420-1229-4D93-921E-FE4FF3BE4C3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ell-defined component of a softwar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art of a system that provides a set of services to other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s are computational elements that other modules may 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7541-B1F7-47E4-9B55-FC28FA38B84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define the structure of a modular system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desirable properties of that structur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9592-352E-4A51-A1C2-85DBF015DC5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s and 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S be a set of modul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= {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. . .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inary relation r on S is a subset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x 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re in S, &lt;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 can be written as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26C5-1D99-4DE5-82F0-C1CF23394ED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ve closure 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if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n S s.t.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e assume our relations to be irreflexiv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is a hierarchy iff there are no two elements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.t.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3651-443B-4833-9CF7-8CDF7F611B0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153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is design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How can a system b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decompo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into modul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What is 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module’s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What are the main relationships among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P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rominent software design techniqu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 and i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nformation hi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The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UML collectio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f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no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of c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oncurr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and distribute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rchitectural sty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onent based software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CBF5-8C7E-4805-81CD-DB0FE79210F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ons can be represented as graph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hierarchy is a DAG (directed acyclic grap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990720" y="2687760"/>
          <a:ext cx="7315200" cy="417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687760"/>
                    <a:ext cx="7315200" cy="41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174960" y="3462480"/>
            <a:ext cx="129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705200" y="3962520"/>
            <a:ext cx="10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2E2C-D104-4641-92F7-9877865940E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USES re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uses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requires the correct operation of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an access the services exported by B through its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“statically”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pends on B to provide its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 A calls a routine exported by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is a client of B; B is a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F14E-555D-41CC-B7FD-ED07D880C70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rable proper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should be a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erarchy makes software easier to underst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can proceed from leaf nodes (who do not use others) up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ake software easier to bui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ake software easier to 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DC80-2048-43F8-99C4-1F29D57D597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erarch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es the modular structure through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levels of abst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level defines a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bstract (virtual) mach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or the next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level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defined precis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level 0 if no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xists s.t.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k be the maximum level of all nodes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s.t.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level k+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AC9D-78A4-4A5B-81F7-7E14E86E0C3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_COMPONENT_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scribe a higher level module as constituted by a number of lower level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IS_COMPONENT_OF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consists of several modules, of which one is 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OMPRISE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S,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{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|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_COMPONENT_OF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say that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S,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5BBD-83D4-4D52-B4B4-B9E36D577BB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>
            <a:off x="2019240" y="246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609840" y="1828800"/>
            <a:ext cx="7807320" cy="3559680"/>
            <a:chOff x="609840" y="1828800"/>
            <a:chExt cx="7807320" cy="3559680"/>
          </a:xfrm>
        </p:grpSpPr>
        <p:sp>
          <p:nvSpPr>
            <p:cNvPr id="196" name=""/>
            <p:cNvSpPr/>
            <p:nvPr/>
          </p:nvSpPr>
          <p:spPr>
            <a:xfrm>
              <a:off x="7029720" y="19476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25148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61400" y="32288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019000" y="320508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7112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36400" y="410652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11200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71860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223320" y="410652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403680" y="3348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260920" y="332388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27200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918200" y="4271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312880" y="431928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5908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44328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050600" y="32288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311600" y="3348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6323040" y="2445840"/>
              <a:ext cx="687240" cy="829080"/>
              <a:chOff x="6323040" y="2445840"/>
              <a:chExt cx="687240" cy="829080"/>
            </a:xfrm>
          </p:grpSpPr>
          <p:sp>
            <p:nvSpPr>
              <p:cNvPr id="215" name=""/>
              <p:cNvSpPr/>
              <p:nvPr/>
            </p:nvSpPr>
            <p:spPr>
              <a:xfrm>
                <a:off x="6323040" y="301464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2" y="30"/>
                    </a:lnTo>
                    <a:lnTo>
                      <a:pt x="127" y="6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V="1">
                <a:off x="6485040" y="2445840"/>
                <a:ext cx="525240" cy="6159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7151760" y="2468160"/>
              <a:ext cx="120600" cy="830520"/>
              <a:chOff x="7151760" y="2468160"/>
              <a:chExt cx="120600" cy="830520"/>
            </a:xfrm>
          </p:grpSpPr>
          <p:sp>
            <p:nvSpPr>
              <p:cNvPr id="218" name=""/>
              <p:cNvSpPr/>
              <p:nvPr/>
            </p:nvSpPr>
            <p:spPr>
              <a:xfrm>
                <a:off x="7151760" y="301464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V="1">
                <a:off x="7211880" y="2468160"/>
                <a:ext cx="1800" cy="54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7353360" y="2468520"/>
              <a:ext cx="584280" cy="736560"/>
              <a:chOff x="7353360" y="2468520"/>
              <a:chExt cx="584280" cy="736560"/>
            </a:xfrm>
          </p:grpSpPr>
          <p:sp>
            <p:nvSpPr>
              <p:cNvPr id="221" name=""/>
              <p:cNvSpPr/>
              <p:nvPr/>
            </p:nvSpPr>
            <p:spPr>
              <a:xfrm>
                <a:off x="7716960" y="2943000"/>
                <a:ext cx="220680" cy="262080"/>
              </a:xfrm>
              <a:custGeom>
                <a:avLst/>
                <a:gdLst/>
                <a:ahLst/>
                <a:rect l="l" t="t" r="r" b="b"/>
                <a:pathLst>
                  <a:path w="139" h="165">
                    <a:moveTo>
                      <a:pt x="139" y="165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0" y="0"/>
                    </a:lnTo>
                    <a:lnTo>
                      <a:pt x="139" y="1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353360" y="2468520"/>
                <a:ext cx="403200" cy="522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5232240" y="3584520"/>
              <a:ext cx="849240" cy="544320"/>
              <a:chOff x="5232240" y="3584520"/>
              <a:chExt cx="849240" cy="544320"/>
            </a:xfrm>
          </p:grpSpPr>
          <p:sp>
            <p:nvSpPr>
              <p:cNvPr id="224" name=""/>
              <p:cNvSpPr/>
              <p:nvPr/>
            </p:nvSpPr>
            <p:spPr>
              <a:xfrm>
                <a:off x="5232240" y="3916080"/>
                <a:ext cx="222480" cy="212760"/>
              </a:xfrm>
              <a:custGeom>
                <a:avLst/>
                <a:gdLst/>
                <a:ahLst/>
                <a:rect l="l" t="t" r="r" b="b"/>
                <a:pathLst>
                  <a:path w="140" h="134">
                    <a:moveTo>
                      <a:pt x="0" y="134"/>
                    </a:moveTo>
                    <a:lnTo>
                      <a:pt x="115" y="0"/>
                    </a:lnTo>
                    <a:lnTo>
                      <a:pt x="128" y="45"/>
                    </a:lnTo>
                    <a:lnTo>
                      <a:pt x="140" y="75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5435280" y="3584520"/>
                <a:ext cx="646200" cy="403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5859360" y="3584520"/>
              <a:ext cx="382680" cy="544320"/>
              <a:chOff x="5859360" y="3584520"/>
              <a:chExt cx="382680" cy="544320"/>
            </a:xfrm>
          </p:grpSpPr>
          <p:sp>
            <p:nvSpPr>
              <p:cNvPr id="227" name=""/>
              <p:cNvSpPr/>
              <p:nvPr/>
            </p:nvSpPr>
            <p:spPr>
              <a:xfrm>
                <a:off x="5859360" y="3844800"/>
                <a:ext cx="181080" cy="284040"/>
              </a:xfrm>
              <a:custGeom>
                <a:avLst/>
                <a:gdLst/>
                <a:ahLst/>
                <a:rect l="l" t="t" r="r" b="b"/>
                <a:pathLst>
                  <a:path w="114" h="179">
                    <a:moveTo>
                      <a:pt x="0" y="179"/>
                    </a:moveTo>
                    <a:lnTo>
                      <a:pt x="63" y="0"/>
                    </a:lnTo>
                    <a:lnTo>
                      <a:pt x="89" y="30"/>
                    </a:lnTo>
                    <a:lnTo>
                      <a:pt x="114" y="60"/>
                    </a:lnTo>
                    <a:lnTo>
                      <a:pt x="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6000840" y="3584520"/>
                <a:ext cx="241200" cy="307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262560" y="3608280"/>
              <a:ext cx="120600" cy="639720"/>
              <a:chOff x="6262560" y="3608280"/>
              <a:chExt cx="120600" cy="639720"/>
            </a:xfrm>
          </p:grpSpPr>
          <p:sp>
            <p:nvSpPr>
              <p:cNvPr id="230" name=""/>
              <p:cNvSpPr/>
              <p:nvPr/>
            </p:nvSpPr>
            <p:spPr>
              <a:xfrm>
                <a:off x="6262560" y="396396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323040" y="3608280"/>
                <a:ext cx="1440" cy="355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7110360" y="3678120"/>
              <a:ext cx="120600" cy="546120"/>
              <a:chOff x="7110360" y="3678120"/>
              <a:chExt cx="120600" cy="546120"/>
            </a:xfrm>
          </p:grpSpPr>
          <p:sp>
            <p:nvSpPr>
              <p:cNvPr id="233" name=""/>
              <p:cNvSpPr/>
              <p:nvPr/>
            </p:nvSpPr>
            <p:spPr>
              <a:xfrm>
                <a:off x="7110360" y="3939840"/>
                <a:ext cx="120600" cy="28440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170840" y="3678120"/>
                <a:ext cx="1440" cy="261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7251840" y="3654360"/>
              <a:ext cx="504720" cy="546120"/>
              <a:chOff x="7251840" y="3654360"/>
              <a:chExt cx="504720" cy="546120"/>
            </a:xfrm>
          </p:grpSpPr>
          <p:sp>
            <p:nvSpPr>
              <p:cNvPr id="236" name=""/>
              <p:cNvSpPr/>
              <p:nvPr/>
            </p:nvSpPr>
            <p:spPr>
              <a:xfrm>
                <a:off x="7534080" y="3939840"/>
                <a:ext cx="222480" cy="260640"/>
              </a:xfrm>
              <a:custGeom>
                <a:avLst/>
                <a:gdLst/>
                <a:ahLst/>
                <a:rect l="l" t="t" r="r" b="b"/>
                <a:pathLst>
                  <a:path w="140" h="164">
                    <a:moveTo>
                      <a:pt x="140" y="164"/>
                    </a:moveTo>
                    <a:lnTo>
                      <a:pt x="0" y="74"/>
                    </a:lnTo>
                    <a:lnTo>
                      <a:pt x="26" y="30"/>
                    </a:lnTo>
                    <a:lnTo>
                      <a:pt x="51" y="0"/>
                    </a:lnTo>
                    <a:lnTo>
                      <a:pt x="14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51840" y="3654360"/>
                <a:ext cx="323640" cy="333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1882800" y="3322440"/>
              <a:ext cx="685800" cy="830160"/>
              <a:chOff x="1882800" y="3322440"/>
              <a:chExt cx="685800" cy="830160"/>
            </a:xfrm>
          </p:grpSpPr>
          <p:sp>
            <p:nvSpPr>
              <p:cNvPr id="239" name=""/>
              <p:cNvSpPr/>
              <p:nvPr/>
            </p:nvSpPr>
            <p:spPr>
              <a:xfrm>
                <a:off x="2346120" y="3892320"/>
                <a:ext cx="222480" cy="260280"/>
              </a:xfrm>
              <a:custGeom>
                <a:avLst/>
                <a:gdLst/>
                <a:ahLst/>
                <a:rect l="l" t="t" r="r" b="b"/>
                <a:pathLst>
                  <a:path w="140" h="164">
                    <a:moveTo>
                      <a:pt x="140" y="164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1" y="0"/>
                    </a:lnTo>
                    <a:lnTo>
                      <a:pt x="14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882800" y="3322440"/>
                <a:ext cx="503280" cy="6174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2709720" y="3298680"/>
              <a:ext cx="120600" cy="830160"/>
              <a:chOff x="2709720" y="3298680"/>
              <a:chExt cx="120600" cy="830160"/>
            </a:xfrm>
          </p:grpSpPr>
          <p:sp>
            <p:nvSpPr>
              <p:cNvPr id="242" name=""/>
              <p:cNvSpPr/>
              <p:nvPr/>
            </p:nvSpPr>
            <p:spPr>
              <a:xfrm>
                <a:off x="2709720" y="384480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770200" y="3298680"/>
                <a:ext cx="1440" cy="54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2911320" y="3394080"/>
              <a:ext cx="586080" cy="734760"/>
              <a:chOff x="2911320" y="3394080"/>
              <a:chExt cx="586080" cy="734760"/>
            </a:xfrm>
          </p:grpSpPr>
          <p:sp>
            <p:nvSpPr>
              <p:cNvPr id="245" name=""/>
              <p:cNvSpPr/>
              <p:nvPr/>
            </p:nvSpPr>
            <p:spPr>
              <a:xfrm>
                <a:off x="2911320" y="386856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2" y="30"/>
                    </a:lnTo>
                    <a:lnTo>
                      <a:pt x="127" y="6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3073320" y="3394080"/>
                <a:ext cx="424080" cy="522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792000" y="2468520"/>
              <a:ext cx="847800" cy="546120"/>
              <a:chOff x="792000" y="2468520"/>
              <a:chExt cx="847800" cy="546120"/>
            </a:xfrm>
          </p:grpSpPr>
          <p:sp>
            <p:nvSpPr>
              <p:cNvPr id="248" name=""/>
              <p:cNvSpPr/>
              <p:nvPr/>
            </p:nvSpPr>
            <p:spPr>
              <a:xfrm>
                <a:off x="1396800" y="2801880"/>
                <a:ext cx="243000" cy="212760"/>
              </a:xfrm>
              <a:custGeom>
                <a:avLst/>
                <a:gdLst/>
                <a:ahLst/>
                <a:rect l="l" t="t" r="r" b="b"/>
                <a:pathLst>
                  <a:path w="153" h="134">
                    <a:moveTo>
                      <a:pt x="153" y="134"/>
                    </a:moveTo>
                    <a:lnTo>
                      <a:pt x="0" y="74"/>
                    </a:lnTo>
                    <a:lnTo>
                      <a:pt x="13" y="44"/>
                    </a:lnTo>
                    <a:lnTo>
                      <a:pt x="26" y="0"/>
                    </a:lnTo>
                    <a:lnTo>
                      <a:pt x="153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 flipV="1">
                <a:off x="792000" y="2468520"/>
                <a:ext cx="625680" cy="403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1417320" y="2468520"/>
              <a:ext cx="384480" cy="546120"/>
              <a:chOff x="1417320" y="2468520"/>
              <a:chExt cx="384480" cy="546120"/>
            </a:xfrm>
          </p:grpSpPr>
          <p:sp>
            <p:nvSpPr>
              <p:cNvPr id="251" name=""/>
              <p:cNvSpPr/>
              <p:nvPr/>
            </p:nvSpPr>
            <p:spPr>
              <a:xfrm>
                <a:off x="1600200" y="2730240"/>
                <a:ext cx="201600" cy="284400"/>
              </a:xfrm>
              <a:custGeom>
                <a:avLst/>
                <a:gdLst/>
                <a:ahLst/>
                <a:rect l="l" t="t" r="r" b="b"/>
                <a:pathLst>
                  <a:path w="127" h="179">
                    <a:moveTo>
                      <a:pt x="127" y="179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0" y="0"/>
                    </a:lnTo>
                    <a:lnTo>
                      <a:pt x="127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 flipV="1">
                <a:off x="1417320" y="2468520"/>
                <a:ext cx="222120" cy="3096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1820880" y="2350800"/>
              <a:ext cx="122040" cy="639720"/>
              <a:chOff x="1820880" y="2350800"/>
              <a:chExt cx="122040" cy="639720"/>
            </a:xfrm>
          </p:grpSpPr>
          <p:sp>
            <p:nvSpPr>
              <p:cNvPr id="254" name=""/>
              <p:cNvSpPr/>
              <p:nvPr/>
            </p:nvSpPr>
            <p:spPr>
              <a:xfrm>
                <a:off x="1820880" y="2706480"/>
                <a:ext cx="122040" cy="284040"/>
              </a:xfrm>
              <a:custGeom>
                <a:avLst/>
                <a:gdLst/>
                <a:ahLst/>
                <a:rect l="l" t="t" r="r" b="b"/>
                <a:pathLst>
                  <a:path w="77" h="179">
                    <a:moveTo>
                      <a:pt x="39" y="179"/>
                    </a:moveTo>
                    <a:lnTo>
                      <a:pt x="0" y="0"/>
                    </a:lnTo>
                    <a:lnTo>
                      <a:pt x="39" y="0"/>
                    </a:lnTo>
                    <a:lnTo>
                      <a:pt x="77" y="0"/>
                    </a:lnTo>
                    <a:lnTo>
                      <a:pt x="39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1882800" y="2350800"/>
                <a:ext cx="1440" cy="355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2670120" y="2374560"/>
              <a:ext cx="120600" cy="544680"/>
              <a:chOff x="2670120" y="2374560"/>
              <a:chExt cx="120600" cy="544680"/>
            </a:xfrm>
          </p:grpSpPr>
          <p:sp>
            <p:nvSpPr>
              <p:cNvPr id="257" name=""/>
              <p:cNvSpPr/>
              <p:nvPr/>
            </p:nvSpPr>
            <p:spPr>
              <a:xfrm>
                <a:off x="2670120" y="263520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2730600" y="2374560"/>
                <a:ext cx="1440" cy="2606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2811600" y="2398320"/>
              <a:ext cx="502920" cy="544680"/>
              <a:chOff x="2811600" y="2398320"/>
              <a:chExt cx="502920" cy="544680"/>
            </a:xfrm>
          </p:grpSpPr>
          <p:sp>
            <p:nvSpPr>
              <p:cNvPr id="260" name=""/>
              <p:cNvSpPr/>
              <p:nvPr/>
            </p:nvSpPr>
            <p:spPr>
              <a:xfrm>
                <a:off x="2811600" y="268272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1" y="30"/>
                    </a:lnTo>
                    <a:lnTo>
                      <a:pt x="127" y="75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2971800" y="2398320"/>
                <a:ext cx="342720" cy="331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256896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235680" y="18525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0984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644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721160" y="18525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76984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416040" y="20192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12520" y="20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5872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94292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680120" y="28731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922040" y="2990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589480" y="28494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850840" y="29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377160" y="28494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617640" y="29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589480" y="41306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790360" y="42242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183680" y="4976640"/>
              <a:ext cx="295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IS_COMPONENT_OF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058080" y="5052960"/>
              <a:ext cx="18583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COMPRISES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2602800" y="5638680"/>
            <a:ext cx="386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y are a hierarc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D62E-13CE-417B-8B07-F1AE0E663F9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t fami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eful recording of (hierarchical) USES relation and IS_COMPONENT_OF supports design of program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E4CC-A5E8-41A4-B7CC-D26C7921DFC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understand the nature of USES, we need to know what a used modul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po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rough it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lien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mpo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resources that are exported by its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mple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exported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idde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cl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D53F-7F81-4704-95A4-ED5D853748D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ear distinction between interface and implementation is a key design princi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s care about resources exported from ser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s care abou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acts as a contract between a module and its cl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4D32-EB89-4695-A029-895485B6543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"/>
          <p:cNvSpPr/>
          <p:nvPr/>
        </p:nvSpPr>
        <p:spPr>
          <a:xfrm>
            <a:off x="254484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609480" y="2705040"/>
            <a:ext cx="7285320" cy="39420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1535400" y="2286000"/>
            <a:ext cx="54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is like the tip of the icebe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10C8-1C63-4099-B70D-656B2FE14AF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desig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structure to any artifa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mposes system into parts, assigns responsibilities, ensures that parts fit together to achieve a global 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refers to both an activity and the result of the 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202A-3BA0-49EE-9E75-E32AE8B7A7E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tion hi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s for design (i.e. module decomposi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ation secrets are hidden to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be changed freely if the change does not affect the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lden design princi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FORMATION HI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ry to encapsulate changeable design decisions as implementation secrets within module implemen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6495-BD8B-43C1-8998-68DA0246CF8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design module interfac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esign of an interpreter for language MIN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introduce a SYMBOL_TABL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perations t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an entry for a new variabl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T the value associated with a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T a new value for a given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dule hides the internal data structure of the symbol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data structure may freely change without affecting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5681-9532-47F8-93ED-527DB04625D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should not reveal what we expect may change la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should not reveal unnecessary de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acts as a firewall preventing access to hidden pa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395E-573E-4D48-B7ED-2BB7C3F7B73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totyp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ce an interface is defined, implementation can be don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quickly but in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rogressively turned into the final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itial version acts as a prototype that evolves into the final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93E0-2877-4366-A1F3-41AAE9A5F7B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likely changes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olici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ay be separated from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echanis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ility to suspend and resume tasks in a concurrent 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do we select the next task to resum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scheduling polici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may be hidden to cl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can be encapsulated as module secr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D59A-85C7-4DD9-977D-F1FA819BD00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no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ations allow designs to be described precis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textual or graph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llustrate two sample notation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DN (Textual Design Not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DN (Graphical Design Not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discuss the notations provided by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1DCF-D462-419B-BC39-5AD05D96107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DN &amp; G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ustrate how a notation may help in documenting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ustrate what a generic notation may look lik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representative of many proposed no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DN inherits from modern languages, like Java, Ada,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2AF4-0A1C-4272-A662-09624E401E0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"/>
          <p:cNvSpPr/>
          <p:nvPr/>
        </p:nvSpPr>
        <p:spPr>
          <a:xfrm>
            <a:off x="200016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0" y="1809720"/>
            <a:ext cx="8591400" cy="456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A01F-088E-492E-A38D-60747EE1604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ents in T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ay be used to specify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toco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to be followed by the clients so that exported services are correctly provi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 certain operation which does the initialization of the module should be called before any other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n insert operation cannot be called if the table is full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5D22-9A0F-4B79-82D1-6A9FC77FB70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"/>
          <p:cNvSpPr/>
          <p:nvPr/>
        </p:nvSpPr>
        <p:spPr>
          <a:xfrm>
            <a:off x="2152800" y="200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7601040" cy="4462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B657-B85C-4673-A9C7-4E4B01E223B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meanings of "design“ activity in our contex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that acts as a bridge between requirements and the implementation of the softwar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that gives a structure to the artifac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 requirements specification document must b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ust be given a structure that makes it easy to understand and evolv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F12C-9B37-452C-A522-D3579B022A2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enef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ation helps describe a design precis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can be assessed for consist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ing defined module X, modules R and T must be defined eventu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complete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, T replace X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one or both must use Y, 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7838-29A4-48D9-8A02-6E5CC2312827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a compi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235080" y="990720"/>
            <a:ext cx="8789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MINI (PROG: in file of cha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DE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INI is called to compile the program stored in PR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produce the object code in file COD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conventional compiler implement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R performs both lexical and syntactic analy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produces an abstract tree, as well as entries i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mbol table; CODE_GENERATOR generates co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arting from the abstract tree and information stor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symbol table. MAIN acts as a job coordinator.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s composed of ANALYZER, SYMBOL_TABL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STRACT_TREE_HANDLER, CODE_GENERATOR, 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348A-17CC-4542-8C7D-8979F2C6E1B6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"/>
          <p:cNvSpPr/>
          <p:nvPr/>
        </p:nvSpPr>
        <p:spPr>
          <a:xfrm>
            <a:off x="361440" y="762120"/>
            <a:ext cx="79545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MAIN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ANALYZER, CODE_GENERATO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MINI (PROG: in file of cha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DE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M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ANALYZE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SYMBOL_TABLE, ABSTRACT_TREE_HANDLE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ANALYZE (SOURCE: in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URCE is analyzed; an abstract tree is produc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y using the services provided by the tree handle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recognized entities, with their attributes,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d in the symbol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2D1B-5E1B-45A7-AF7E-27B8F5CEA5C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499320" y="1752480"/>
            <a:ext cx="7373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CODE_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SYMBOL_TABLE, ABSTRACT_TREE_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CODE (OBJECT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bstract tree is traversed by using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 exported by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STRACT_TREE_HANDLER and access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information stored in the symbol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order to generate code in the output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DE_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EE89-E4C1-42AA-BD04-08ECDD0EB751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DN description of module 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"/>
          <p:cNvSpPr/>
          <p:nvPr/>
        </p:nvSpPr>
        <p:spPr>
          <a:xfrm>
            <a:off x="2887560" y="219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6477120" cy="47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FA23-DBE7-480E-B1C9-36AF69BE2416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X's decompos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"/>
          <p:cNvSpPr/>
          <p:nvPr/>
        </p:nvSpPr>
        <p:spPr>
          <a:xfrm>
            <a:off x="2887560" y="219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6789600" cy="495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FF58-2EA0-4F5C-A0C6-6C6A2FB91C57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al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 form of modular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a procedural abstr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 a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rting module, fast Fourier transform module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38BB-F3B0-47DC-A19F-513024404896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roup of related procedural abstr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mathematical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ed by routines of programming langu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pools of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hared by different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configuration const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COMMON FORTRAN constru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5726-323C-45F4-8149-F71594ED22ED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manipulated via interfac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tructure hidden to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data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instances of abstract objects may be gene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747B-8ABA-4AAB-9BCA-8E3FB6F67A6E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 object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alculator of expressions expressed in Polish postfix 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*(b+c)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abc+*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odule implements a stack where the values of operands are shifted until an operator is encountered in the exp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ssume only binary operator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C92A-93F1-4057-9175-0D86F0EB0B0B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w design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as system decomposition into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es a Software Desig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s system decomposition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fte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architec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is produced prior to a softwar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D5EB-94CE-481E-B7C5-20431907915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"/>
          <p:cNvSpPr/>
          <p:nvPr/>
        </p:nvSpPr>
        <p:spPr>
          <a:xfrm>
            <a:off x="365760" y="3048120"/>
            <a:ext cx="827928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USH (VAL: in integer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OP_2 (VAL1, VAL2: out integer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37200" y="2057400"/>
            <a:ext cx="648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of the abstract object ST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4CCA-B66A-4D54-82D6-4AD24A2BA218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assess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oes the design anticipate change in type of expressions to be evaluat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it does not adapt to unary opera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5988-D72A-48E7-BE60-229A223AEBAD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 data types (ADT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tack A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"/>
          <p:cNvSpPr/>
          <p:nvPr/>
        </p:nvSpPr>
        <p:spPr>
          <a:xfrm>
            <a:off x="2023920" y="25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-457200" y="2895480"/>
            <a:ext cx="9144000" cy="329436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 flipH="1">
            <a:off x="3657600" y="2895480"/>
            <a:ext cx="129528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54600" y="2209680"/>
            <a:ext cx="406224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that details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ucture are hid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cl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EC78-CD5F-4400-BD99-89ACB362D5B2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 to Java and C++ cl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pt may also be implemented by Ada private types and Modula-2 opaque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 notational details to specify if certain built-in operations are available by default on instance objects of the AD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type A_TYPE: ? (:=, =) indicates that assignment and equality check are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5432-8A87-4109-9785-C419FF0C29B3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mulation of a gas s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"/>
          <p:cNvSpPr/>
          <p:nvPr/>
        </p:nvSpPr>
        <p:spPr>
          <a:xfrm>
            <a:off x="551520" y="1752480"/>
            <a:ext cx="7631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FIFO_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QUEUE : ?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ENQUEUE (Q: in out QUEUE ; C: in CAR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DEQUEUE (Q: in out QUEUE ; C: out CAR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IS_EMPTY (Q: in QUEUE) : BOOLEA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LENGTH (Q: in QUEUE) : NATUR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MERGE (Q1, Q2 : in QUEUE ; Q : out QUEU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is an abstract data-type module represent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queues of cars, handled in a strict FIFO way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queues are not assignable or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able for equality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ince “:=” and “=” are not expor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FIFO_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1F21-16FD-4F39-B15F-C038974E73F3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ic modules (template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are parametric wrt a 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"/>
          <p:cNvSpPr/>
          <p:nvPr/>
        </p:nvSpPr>
        <p:spPr>
          <a:xfrm>
            <a:off x="737280" y="2895480"/>
            <a:ext cx="7398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module GENERIC_STACK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USH (VAL : in T)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OP_2 (VAL1, VAL2 : out 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_STACK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C9AE-1464-473C-AA7A-729846CEF7E0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stanti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ossible syntax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INTEGER_STACK_2 is GENERIC_STACK_2 (INTEGER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B490-9EC6-4150-87E8-202EDC7A6F59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generic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"/>
          <p:cNvSpPr/>
          <p:nvPr/>
        </p:nvSpPr>
        <p:spPr>
          <a:xfrm>
            <a:off x="609480" y="1981080"/>
            <a:ext cx="8153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specify that besides a type also an operation must be provided as a para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module M (T) with OP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M_A_TYPE is M(A_TYPE)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(M_A_TYP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F773-A56F-4DF8-A5B8-A5F0DE344B0F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 techniques for design for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6212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configuration consta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ing constant values into symbolic constants is a common implementation prac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#define in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ahoma"/>
              </a:rPr>
              <a:t>#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fine Ma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600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54C9-6305-44C2-9A5D-DB9DCFEB0348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 techniques for design for chang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ditional compi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common to all version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ifdef hardware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for hardware 1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ifdef hardware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for hardware 2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gen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compiler compilers (yacc, interface prototyping too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D01E-9952-4243-A26B-1198C8D74E2D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hows gross structure and organization of the system to be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ts description includes description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in components of a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lationships among those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ationale for decomposition into it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ts that must be respected by any design of the component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uides the development of the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7F8F-5CA2-42F0-B163-1A1AAB2098A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epwise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atic, iterative program design technique that unfortunately may lead to software that is hard to evolv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 each step, problem P decomposed i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subproblems: P1; P2; …P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election: if (cond) then P1 else P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teration: while (cond) do_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8AF6-3C9B-4F45-8433-E026E6818878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rivation of selection s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"/>
          <p:cNvSpPr/>
          <p:nvPr/>
        </p:nvSpPr>
        <p:spPr>
          <a:xfrm>
            <a:off x="650160" y="2057400"/>
            <a:ext cx="7881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 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ind the  smallest of ai .. .an, and exchan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t with the element at position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8C51-992C-41DD-8029-5E2648A5D3F8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457200" y="457200"/>
            <a:ext cx="777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j &gt; i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a(i) &gt; a(j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change the elements 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ositions j and i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j - 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9763-D2CA-46E6-A91A-60262E1365F8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914400" y="609480"/>
            <a:ext cx="74674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 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j &gt; i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a(i) &gt; a(j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 := a(i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(i) := a(j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(j)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j - 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F508-227B-43CD-8C8B-4372FF54FE72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mposition tre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wise refinement process may be depicted by a decomposition tree (D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ot labeled by name of top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problem nodes labeled as children of parent node corresponding to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ildren from left to right represent sequential order of exec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nd while nodes denoted by suitable deco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5334-E4D9-4F44-BD6B-DC3F652B3AD0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533520" y="533520"/>
            <a:ext cx="76960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 problem to sol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P2; P3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 decomposed into sequenc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 loo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  decomposed into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a loo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 loo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C1 then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 decomposed into se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,1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,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DBA7-9E06-4ABA-ADB7-7458E5F2C9B7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sponding D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"/>
          <p:cNvSpPr/>
          <p:nvPr/>
        </p:nvSpPr>
        <p:spPr>
          <a:xfrm>
            <a:off x="381780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2308320" y="1523880"/>
            <a:ext cx="4344840" cy="4610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4F4C-5FF5-4502-A87C-472B5ACE9255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 with IS_COMPOSED_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M, M1, M2, M3 be modules representing P, P1, P2, P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annot wri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 IS_COMPOSED_OF {M1,M2,M3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e need to add further module acting as glue to impose a sequential flow from M1 to M2 to M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4C04-7D66-4A68-80D6-3B5A198FD6AA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 of stepwise refinement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epwise refinement is a programming technique, not a modularization techniq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used to decompose system into modules, it tends to analyze problems in isolation, not recognizing common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does not stress information hi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F96A-4500-4690-A53C-481501A0E777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 of stepwise refinement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attention is paid to data (it decomposes functionaliti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umes that a top function exi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hich one is it in the case of an operating system? or a word processor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forces premature commitment to control flow structures among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0C6A-F193-4FE9-824D-4DE7CE41336A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important goa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for change (Parna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rs tend to concentrate on current nee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effort needed to anticipate likely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 families (Parna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k of the current system under design as a member of a program fami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00CE-7B4A-4B6C-AA53-0EE00E8FDF7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rogram analyz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"/>
          <p:cNvSpPr/>
          <p:nvPr/>
        </p:nvSpPr>
        <p:spPr>
          <a:xfrm>
            <a:off x="990720" y="1828800"/>
            <a:ext cx="7391160" cy="44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cognize a program stored in a given file f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 f according to the language defini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rrec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program correct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incorrect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E433-3E62-45C9-99F9-214EEDA811A4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270000" y="228600"/>
            <a:ext cx="845460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tr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rform lexical analysi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 program as token sequence  in file f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nd symbol table in file fs, and set error_in_lexical_pha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cording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y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error_in_lexical_phase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rform syntactic analysis and set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olean varia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rror_in_syntactic_phase according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error_in_syntactic_phase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rrect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correct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incorrect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C84A-431F-456E-A3AD-0289F6405D69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it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pa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xical analysis comes first on the entire program, producing two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f we want to switch to a process driven by syntax analysis (it requests the lexical analyzer to provide a token when need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verything changes!!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3ED7-8B08-48BF-ADB2-9084BEC0E0F5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better design based on information hi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HAR_HOL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physical representation of input fi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operation to access source file on a character-by-character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CANN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details of lexical structure of the langu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operation to provide next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AR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data structure used to perform syntactic analysis (abstract object PARS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0CD7-926C-423A-935A-737048195819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p-down vs. bottom-u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tion hiding proceed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bottom-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erated application of IS_COMPOSED_OF proceed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op-dow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epwise refinement is intrinsically top-d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ch one is bes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practice, people proceed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o-yo desig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ing documentation as a top-down flow may be useful for reading purposes, even if the process followed was not top-d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279B-F922-40CF-A880-F7E0EBCA97E8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ndling anoma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ensiv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odule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nomalou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f i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ail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provide the service as expected and as specified in its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cep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UST b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aised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anomalous state is recogniz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F0BB-B07A-4F86-ADD5-45AADEE24B52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an failures arise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M should fail and raise an exception i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f it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lients does not satisfy the requir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toc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for invoking one of M’s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 does not satisfy the required protocol when using one of its servers, and the server fai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ardware generated exception (e.g., division by zer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540F-5DAE-4ACB-A8A5-4B8ACE05DE91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a module can do before fai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efore failing, modules may try to recover from the anomaly by executing som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xception handler (E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H is a local piece of code that may try to recover from anomaly (if successful, module does not fai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 may simply do some cleanup of the module’s state and then let the module fail, signaling an exception to its cl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AE33-4D2C-4670-95DC-1647C848158D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"/>
          <p:cNvSpPr/>
          <p:nvPr/>
        </p:nvSpPr>
        <p:spPr>
          <a:xfrm>
            <a:off x="2160720" y="24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8202600" cy="347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013F-DF58-4323-A1D3-8DC52A0B3BED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of exception propag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"/>
          <p:cNvSpPr/>
          <p:nvPr/>
        </p:nvSpPr>
        <p:spPr>
          <a:xfrm>
            <a:off x="202392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228600" y="2438280"/>
            <a:ext cx="8340840" cy="347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3FD3-7F5E-459A-A38C-07EBC46CA0A3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ple likely changes?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orith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eplace inefficient sorting algorithm with a more efficient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 of data repres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from binary tree to a threaded tree (see exampl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% of maintenance costs attributed to data representation changes 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ientz and Swanson, 198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1C7C-86FC-41B7-BFE3-E6756B4216B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for the MIDI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anguage is block-structu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requires a symbol table module that can cope with block static n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discuss here module SYMBOL_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2EB1-F89D-4E27-901D-0922CB081AF6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(vers.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"/>
          <p:cNvSpPr/>
          <p:nvPr/>
        </p:nvSpPr>
        <p:spPr>
          <a:xfrm>
            <a:off x="196200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-228600" y="1905120"/>
            <a:ext cx="8953560" cy="392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BA80-B073-4B8F-97AF-E43BEC59128A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sion 1 is not robus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ensive design should be appl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ions must be raised in these cas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nsertion cannot b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on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because identifier with same name  already exists in current sco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TRIEVE and LEV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dentifier with specified name not vi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TER_SCO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maximum nesting depth exc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IT_SCO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o matching block entry exi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A496-0BF1-4F8C-B8D1-A719FD703D18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(vers.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"/>
          <p:cNvSpPr/>
          <p:nvPr/>
        </p:nvSpPr>
        <p:spPr>
          <a:xfrm>
            <a:off x="1986120" y="16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380880" y="1407960"/>
            <a:ext cx="7467840" cy="5248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1773-8F37-41D4-AC32-54156EA29333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uses a list management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"/>
          <p:cNvSpPr/>
          <p:nvPr/>
        </p:nvSpPr>
        <p:spPr>
          <a:xfrm>
            <a:off x="1962000" y="220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-228600" y="1981080"/>
            <a:ext cx="8610480" cy="4291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EFFB-7FA0-4AAD-A8F5-55F810D59618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urrent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ase of a module defining shar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abstract objec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QUEUE_OF_CHAR is GENERIC_FIFO_QUEUE (CHAR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 : QUEUE_OF_CHAR.QUEU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oper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UT: inserts a character i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T: extracts a character from BUFFER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T_FULL: returns true if BUFFER not full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T_EMPTY: returns true if BUFFER not empty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28FC-96A6-4944-94E9-77C3518F12E6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control correct access to shared data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sufficient that clients check operation invocations, such a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QUEUE_OF_CHAR.NOT_FULL (BUFFE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n QUEUE_OF_CHAR.PUT (X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umer_1 and Consumer_2 might do this concurrent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ly one slot is left, both may find the buffer not full, the first who writes fills it, and the other writes in a full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866F-A7BD-4959-A83E-5E26721A24A1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forcing synchro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sure that operations on buffer are executed i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utual ex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sure that operation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QUEUE_OF_CHAR.NOT_FULL (BUFFE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n QUEUE_OF_CHAR.PUT (X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executed as logically non-interruptible un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B5E5-A619-4314-A585-A5E4E79C9A6B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objects used in a concurrent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vailable in the Java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16E3-3F73-42D3-BF2D-16B23CDBB31B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"/>
          <p:cNvSpPr/>
          <p:nvPr/>
        </p:nvSpPr>
        <p:spPr>
          <a:xfrm>
            <a:off x="1967040" y="210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8763120" cy="444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D1CF-BF39-495C-9BBC-D21E23984EF1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2759040" y="225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724280" y="2286000"/>
            <a:ext cx="4114800" cy="3124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824200" y="226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3878280" cy="3200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flipH="1" rot="10904400">
            <a:off x="3656520" y="5257440"/>
            <a:ext cx="1905120" cy="914400"/>
          </a:xfrm>
          <a:custGeom>
            <a:avLst/>
            <a:gdLst>
              <a:gd name="textAreaLeft" fmla="*/ 360 w 1905120"/>
              <a:gd name="textAreaRight" fmla="*/ 1905840 w 1905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1981080"/>
            <a:ext cx="0" cy="365760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752C-660D-4B28-B248-680A2F7C188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 operations are assumed to be executed in mutual ex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equi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lause may be associated with an op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automatically checked when operation is ca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he result is false, the current process is suspended until it becomes true (at that stage it becomes eligible for resump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4AA8-CBB2-4AA0-94AA-CF46111F7451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 type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"/>
          <p:cNvSpPr/>
          <p:nvPr/>
        </p:nvSpPr>
        <p:spPr>
          <a:xfrm>
            <a:off x="210024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-304920" y="1981080"/>
            <a:ext cx="8798040" cy="390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332F-97A8-4BC9-BF7F-0FF94F8DD58F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uardians and rendez-vou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da style of designing concurrent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da a shared object is active (whereas a monitor is passiv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managed by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guardia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rocess which can accept rendez-vous requests from tasks willing to access the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FEFC-1A40-4AC6-AA18-DD9FD70B84F1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uardian tas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"/>
          <p:cNvSpPr/>
          <p:nvPr/>
        </p:nvSpPr>
        <p:spPr>
          <a:xfrm>
            <a:off x="202716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564400" cy="448812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3260520" y="1219320"/>
            <a:ext cx="541872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 nondeterministic acceptanc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ndez-vous requ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E32D-C193-4322-B02A-43A7AF997914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al-time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where processes interact with the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, a put operation on a shared buffer is invoked by a plant sensor sending data to a control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nt cannot be suspended if buffer full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 must ensure that producer never finds the buffer fu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constrains the speed of  the consumer process in the control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3937-6014-490F-AC97-0A623B66FA6D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DN descrip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2046240" y="243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8621640" cy="340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952F-1773-465D-A46B-A4A866DDC2A8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DN descrip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"/>
          <p:cNvSpPr/>
          <p:nvPr/>
        </p:nvSpPr>
        <p:spPr>
          <a:xfrm>
            <a:off x="305604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609480" y="2743200"/>
            <a:ext cx="7925040" cy="187308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1139760" y="5334120"/>
            <a:ext cx="71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g-zag arrow indicates asynchronous inv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B39E-C6FE-45C6-98B5-001C7B0AF0DF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ributed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sues to consi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-machine bi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e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remote procedure call or message pa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to shared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quire replication for efficiency reas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7C7A-7FA6-4CEC-9C53-D6F7AE6BF49F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ent-server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st popular distributed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er modules provide services to client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ents and servers may reside on different mach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D0AE-2118-43D0-8766-1EB7443AAEC2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nding modules to mach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c vs. dynamic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igr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-module commun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L to define interface of remote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ication and distrib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9815-8840-41F3-8C23-666D4CBD9083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12:38:55Z</dcterms:created>
  <dc:creator>Carlo Ghezzi</dc:creator>
  <dc:description/>
  <dc:language>en-US</dc:language>
  <cp:lastModifiedBy>jazayeri</cp:lastModifiedBy>
  <dcterms:modified xsi:type="dcterms:W3CDTF">2002-02-19T18:47:01Z</dcterms:modified>
  <cp:revision>36</cp:revision>
  <dc:subject/>
  <dc:title>Software Engineering Principles</dc:title>
</cp:coreProperties>
</file>