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A493-47FF-4039-BFEA-50971448D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ABE5-601E-470A-993E-1F621EC62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8481-E5F1-4122-B122-71C11233A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C28D-BB50-4B27-9BF6-C768EA2E9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9173-06E3-446C-A8D9-730C073E6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66BC-FDB2-402B-AFDD-84096D7E5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A0A5-2090-4174-8EBD-180911B43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93E5-660D-4CC8-9CFF-8C216D68C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0295-2143-46D3-A284-6489B660C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BDB3-CC3F-41F3-82FE-5CDFCCCA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6F8A-F121-4148-BF82-B0674189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9F0F-1095-44F0-B92C-8B3CCD19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D3474-8EF5-43CF-8EFF-96934DB690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752480" y="1600200"/>
          <a:ext cx="525780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00200"/>
                    <a:ext cx="52578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8:05Z</dcterms:modified>
  <cp:revision>4</cp:revision>
  <dc:subject/>
  <dc:title>PowerPoint Presentation</dc:title>
</cp:coreProperties>
</file>