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862B-C104-4C61-93F1-7A04EEBF8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7E0D-97ED-422C-BEE8-EAF8194EA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ABF2-2237-4E2E-B09A-4598EE7F3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5CB1-E3A7-4EE1-934A-27349522C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546E-0BC6-465F-872E-11EB0250D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1743-8E05-4F9C-86D5-30DEE9672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9A70-E93C-4935-8821-A30FF4536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5DAC-8A60-4917-896F-5A4CC8D28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D013-47CF-4CF1-A4D2-250432069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9BF7-B837-4724-842E-341E19435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AC83-2C5B-4D27-AD42-E25815BE5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A3DD-6E40-40ED-A201-7D6E3D65D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2B329-B9BF-468C-B4C2-8EA54CE5E6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4320" y="1371600"/>
            <a:ext cx="425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ile x ≠ y loo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gt; y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:= x -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 := y -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cd : 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648320" y="2819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181480" y="1143000"/>
            <a:ext cx="34768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20:59Z</dcterms:modified>
  <cp:revision>5</cp:revision>
  <dc:subject/>
  <dc:title>PowerPoint Presentation</dc:title>
</cp:coreProperties>
</file>