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A4A8-AAF6-43B9-A1BC-31834CB73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0311-D47B-446A-85B0-8EEE164A5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F653-8C12-4B2E-B7C9-0A8A3FCD7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55FF-6989-4AC6-B25E-2E05D8622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E05B-0945-4734-B716-796C19866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782D-2F62-4A63-85EA-4D2A554EF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755E-A263-47FD-B590-B8C61889D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21DE-C8BF-4F3C-982D-2A853AD34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D4D1-8B7E-491F-B581-788D315CB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5696-A025-42BE-8D4F-6A098486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E621-3E2A-498A-ABDF-A62CEC0F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DF91-EA79-4A47-923C-1A3D27D95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F6836-F4E0-4DCB-B6F8-C91FFE1CD9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8440" y="609480"/>
            <a:ext cx="7532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ocedure binary-search (key: in eleme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able: in elementTable; found: out Boolean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e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table'first; top := table'la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bottom &lt; top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bottom + top) rem 2 ≠ 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 - 1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) /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key ≤ table (middle)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p := midd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middl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key = table (to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inary-s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239880" y="2319480"/>
            <a:ext cx="2818800" cy="2288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omi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if the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never h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 if size of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power of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409720" y="3200400"/>
            <a:ext cx="7621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3:45:13Z</dcterms:created>
  <dc:creator>Spencer Smith</dc:creator>
  <dc:description/>
  <dc:language>en-US</dc:language>
  <cp:lastModifiedBy>Spencer Smith</cp:lastModifiedBy>
  <dcterms:modified xsi:type="dcterms:W3CDTF">2008-03-13T03:46:39Z</dcterms:modified>
  <cp:revision>1</cp:revision>
  <dc:subject/>
  <dc:title>PowerPoint Presentation</dc:title>
</cp:coreProperties>
</file>