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DE22-D5D4-4310-9E8C-561D76554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B072-9223-494C-A08E-4F786C62C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A294-F069-4F6D-84CF-054247B7E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1EEA-C3E9-48CD-BF38-B481E769E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C6C6-76ED-4FF0-9A88-5293FB2D6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5B78-6194-4C8C-9115-4150AEB0B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C75D-7432-4F01-8C3E-8A2400D8B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8B1A-9052-4E49-8422-589134FC3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A1E3-DA3D-42DC-A459-9369067BE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0275-8B80-4BDF-814E-A68E2BF3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B002-A13B-4FB1-8CA1-C4850568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6BB3-D782-4861-A69D-C1287202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90F8D-39F3-407A-BD4A-3A69CFB6F8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2248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8928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4:25Z</dcterms:modified>
  <cp:revision>7</cp:revision>
  <dc:subject/>
  <dc:title>PowerPoint Presentation</dc:title>
</cp:coreProperties>
</file>