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A492-C7CD-4B70-81FA-C0F9BFE99C08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logarithmic model is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: it is late: wrong order of the folowing slides: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986D-E759-4CA6-903A-912A409C9D37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7B72-ABBB-4018-AED1-B726094BD9ED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BA25-5B62-4C01-9897-74C5CC21DF38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09ED-49B4-4CEF-A55D-7ADE48919E88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3826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11480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t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.r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CB10-E4A6-41CC-A98D-12775B949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1973-40F1-4D9C-8B39-BAE34897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0C66-9866-42C3-981A-A7500C587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DAA4-C8E4-46B8-B3EF-74EA7AAC9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82D1-A797-481D-998F-507C60C9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6EFE-D021-465F-BED3-183E9D3D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CEFB-5559-456E-B7F0-C86E521F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295F-7C8E-45A4-B971-0A7AA6AE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D476-4A9E-4D19-AB5F-28396827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F1E7-60DE-4C77-A35D-E9288CE7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CAB0-4522-443C-9D23-EA256F78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CA8E-C367-4C3F-ACFC-2DF69C40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E033-2E33-43B9-9169-48B52EB33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AD78-159C-4607-AF2A-97CFE0FBEE7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help isolat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acilitat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ing the same experiment, we should get the sam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not be true because of the effect of execution environment o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nondetermi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ccu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703B-D9CD-41F0-913E-A22C3262F5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82880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15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62720" y="3808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SM representing markings of a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CD99-C709-40EE-975B-70C4419627E7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4348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530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803680" y="38088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iginal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92C2-2D44-4D82-AA3D-636572C69A05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and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perty to be verified given through a formula (in temporal log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, one can 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lways a computation that allows the left process to enter the critical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guarantee that the left process accesses the shared resource unless it already owns 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4D7E-08FC-4BA1-95E1-A6B15B9B04B1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o many approaches to testing and analys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versus (correctness)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l versus inform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versus black-box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ques in the small/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lly automatic vs. semiautomatic techniques (for undecidable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ew all these as complement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2379-D9E9-47A8-BB88-14E9692F5C13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tivity of locating and correct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 start once a failure has been de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oal is closing up the gap between a fault and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dumps, watch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assertions can hel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094A-FEF4-4122-9DC9-A4B5D816AE19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other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FD99-060F-4990-B0D9-C6E6D2FC568D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rst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is on proving that the system response time is bounded by some function of the external reque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s. averag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vs. experimental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D040-1160-450C-95B6-358008366DBE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pproac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measuring reliability on a probabilistic basis, as in other engineering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fortunately there are some difficulties with this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ce of failures does not hold for 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3F5C-03B0-4ED9-A8EF-E368B7835E3A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iability is concerned with measuring the probability of the occurrenc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aningful parameter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total number of failures observed at time t: AF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intensity: FI(t)=AF'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ime to failure at time t: MTTF(t)=1/FI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in the model can be execution or clock or calenda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855E-8527-4779-BC10-32B06D387CC9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c reliabil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that the decrement per failure experienced (i.e., the derivative with respect to the number of detected failures) of the failure intensity function is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e., FI is a function of 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1 - AF/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initial failure intensity and 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total number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based on optimistic hypothe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a decrease in failures is due to the fixing of the errors that were sources of fail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DB1C-4CB2-41FE-9E55-1FF26A4E2A47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oretical found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tes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24AF-1710-43FA-8992-28C34E9BBF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arithmic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umes, more conservatively, that the decrement per failure of FI decreases exponenti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xp (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F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ailure intensity decay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332B-D048-4E68-A74D-1CFEEB589845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81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766880" y="1117440"/>
            <a:ext cx="125280" cy="5356440"/>
            <a:chOff x="1766880" y="1117440"/>
            <a:chExt cx="125280" cy="5356440"/>
          </a:xfrm>
        </p:grpSpPr>
        <p:sp>
          <p:nvSpPr>
            <p:cNvPr id="735" name=""/>
            <p:cNvSpPr/>
            <p:nvPr/>
          </p:nvSpPr>
          <p:spPr>
            <a:xfrm>
              <a:off x="1766880" y="111744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45" y="0"/>
                  </a:moveTo>
                  <a:lnTo>
                    <a:pt x="79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38160" y="1370160"/>
              <a:ext cx="1800" cy="5103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27080" y="5427720"/>
            <a:ext cx="6005520" cy="127080"/>
            <a:chOff x="1027080" y="5427720"/>
            <a:chExt cx="6005520" cy="127080"/>
          </a:xfrm>
        </p:grpSpPr>
        <p:sp>
          <p:nvSpPr>
            <p:cNvPr id="738" name=""/>
            <p:cNvSpPr/>
            <p:nvPr/>
          </p:nvSpPr>
          <p:spPr>
            <a:xfrm>
              <a:off x="6762600" y="5427720"/>
              <a:ext cx="270000" cy="127080"/>
            </a:xfrm>
            <a:custGeom>
              <a:avLst/>
              <a:gdLst/>
              <a:ahLst/>
              <a:rect l="l" t="t" r="r" b="b"/>
              <a:pathLst>
                <a:path w="170" h="80">
                  <a:moveTo>
                    <a:pt x="170" y="46"/>
                  </a:moveTo>
                  <a:lnTo>
                    <a:pt x="0" y="8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027080" y="5500800"/>
              <a:ext cx="573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838160" y="2903400"/>
            <a:ext cx="3895920" cy="259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38160" y="2903400"/>
            <a:ext cx="325440" cy="1785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04720" y="1227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2040" y="528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97800" y="470700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43080" y="2633760"/>
            <a:ext cx="407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88080" y="555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7040" y="5608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73680" y="351648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200" y="4653000"/>
            <a:ext cx="208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arith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604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2895480"/>
            <a:ext cx="4724280" cy="2210040"/>
          </a:xfrm>
          <a:custGeom>
            <a:avLst/>
            <a:gdLst/>
            <a:ahLst/>
            <a:rect l="l" t="t" r="r" b="b"/>
            <a:pathLst>
              <a:path w="2976" h="1392">
                <a:moveTo>
                  <a:pt x="0" y="0"/>
                </a:moveTo>
                <a:cubicBezTo>
                  <a:pt x="32" y="136"/>
                  <a:pt x="64" y="272"/>
                  <a:pt x="96" y="384"/>
                </a:cubicBezTo>
                <a:cubicBezTo>
                  <a:pt x="128" y="496"/>
                  <a:pt x="144" y="576"/>
                  <a:pt x="192" y="672"/>
                </a:cubicBezTo>
                <a:cubicBezTo>
                  <a:pt x="240" y="768"/>
                  <a:pt x="256" y="872"/>
                  <a:pt x="384" y="960"/>
                </a:cubicBezTo>
                <a:cubicBezTo>
                  <a:pt x="512" y="1048"/>
                  <a:pt x="696" y="1136"/>
                  <a:pt x="960" y="1200"/>
                </a:cubicBezTo>
                <a:cubicBezTo>
                  <a:pt x="1224" y="1264"/>
                  <a:pt x="1632" y="1312"/>
                  <a:pt x="1968" y="1344"/>
                </a:cubicBezTo>
                <a:cubicBezTo>
                  <a:pt x="2304" y="1376"/>
                  <a:pt x="2640" y="1384"/>
                  <a:pt x="2976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9387-AE8B-4F50-B0BA-834C7FB99BB2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2104920" y="1359000"/>
            <a:ext cx="115920" cy="4944960"/>
            <a:chOff x="2104920" y="1359000"/>
            <a:chExt cx="115920" cy="4944960"/>
          </a:xfrm>
        </p:grpSpPr>
        <p:sp>
          <p:nvSpPr>
            <p:cNvPr id="754" name=""/>
            <p:cNvSpPr/>
            <p:nvPr/>
          </p:nvSpPr>
          <p:spPr>
            <a:xfrm>
              <a:off x="2104920" y="1359000"/>
              <a:ext cx="115920" cy="2332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2" y="0"/>
                  </a:moveTo>
                  <a:lnTo>
                    <a:pt x="73" y="147"/>
                  </a:lnTo>
                  <a:lnTo>
                    <a:pt x="42" y="147"/>
                  </a:lnTo>
                  <a:lnTo>
                    <a:pt x="0" y="1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71880" y="1592280"/>
              <a:ext cx="1440" cy="471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420560" y="5337000"/>
            <a:ext cx="5550120" cy="133560"/>
            <a:chOff x="1420560" y="5337000"/>
            <a:chExt cx="5550120" cy="133560"/>
          </a:xfrm>
        </p:grpSpPr>
        <p:sp>
          <p:nvSpPr>
            <p:cNvPr id="757" name=""/>
            <p:cNvSpPr/>
            <p:nvPr/>
          </p:nvSpPr>
          <p:spPr>
            <a:xfrm>
              <a:off x="6719760" y="533700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420560" y="5403960"/>
              <a:ext cx="5298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171880" y="3006720"/>
            <a:ext cx="5398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179800" y="3465360"/>
            <a:ext cx="6448320" cy="3597120"/>
            <a:chOff x="2179800" y="3465360"/>
            <a:chExt cx="6448320" cy="3597120"/>
          </a:xfrm>
        </p:grpSpPr>
        <p:sp>
          <p:nvSpPr>
            <p:cNvPr id="761" name=""/>
            <p:cNvSpPr/>
            <p:nvPr/>
          </p:nvSpPr>
          <p:spPr>
            <a:xfrm>
              <a:off x="2179800" y="3763800"/>
              <a:ext cx="239940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269" swAng="5357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269" swAng="535765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3465360"/>
              <a:ext cx="599760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6175" swAng="534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6175" swAng="534537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54280" y="1158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4880" y="27576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15120" y="29066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3880" y="51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3040" y="3556080"/>
            <a:ext cx="144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8520" y="2569680"/>
            <a:ext cx="3768840" cy="56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46" swAng="2690683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46" swAng="269068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61720" y="160812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neva"/>
              </a:rPr>
              <a:t>Logarithm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0880" y="182556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2438280"/>
            <a:ext cx="2743200" cy="990720"/>
          </a:xfrm>
          <a:custGeom>
            <a:avLst/>
            <a:gdLst/>
            <a:ahLst/>
            <a:rect l="l" t="t" r="r" b="b"/>
            <a:pathLst>
              <a:path w="1728" h="624">
                <a:moveTo>
                  <a:pt x="0" y="624"/>
                </a:moveTo>
                <a:cubicBezTo>
                  <a:pt x="28" y="576"/>
                  <a:pt x="56" y="528"/>
                  <a:pt x="96" y="480"/>
                </a:cubicBezTo>
                <a:cubicBezTo>
                  <a:pt x="136" y="432"/>
                  <a:pt x="168" y="384"/>
                  <a:pt x="240" y="336"/>
                </a:cubicBezTo>
                <a:cubicBezTo>
                  <a:pt x="312" y="288"/>
                  <a:pt x="400" y="232"/>
                  <a:pt x="528" y="192"/>
                </a:cubicBezTo>
                <a:cubicBezTo>
                  <a:pt x="656" y="152"/>
                  <a:pt x="808" y="128"/>
                  <a:pt x="1008" y="96"/>
                </a:cubicBezTo>
                <a:cubicBezTo>
                  <a:pt x="1208" y="64"/>
                  <a:pt x="1608" y="1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E24B-A0DF-46D9-86D5-F3D112BA33FC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ubjective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otions lik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city, reusability, understand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science (due to Halstead) has been an atte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2D92-8673-44D5-97C9-1B176ABEF5C3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stead's software 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measure some software qualities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level, effor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easuring some quantities on code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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number of distinct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distinct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occurrences of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occurrences of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97B4-1F25-4278-AA3C-8A115C39BD89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cCabe's source code metr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 of the control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= e - n + 2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s # edges, n is # nodes, p is # connec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cCabe contends that well-structured modules have C in range 3 .. 7, and C = 10 is a reasonable upper limit for the complexity of a singl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firmed by empirical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B228-623D-4F10-903F-B71C8E2FBC03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-question-metric (GQM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metrics must be used to analyze software qualities, not to evaluate peo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evaluation must be of end product, intermediate products,  and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 must be defined in the context of a complete and well-designed quality improvement paradigm (Q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DBDB-A57D-46B0-B22F-9614E6E3CD57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Q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 concerned with measuring a single quantity or group of qua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ycloma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that is intended to lead from a precise definition of the objectives of measuring qual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to the quant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whose measures are used to verify the achievement of such qualiti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512F-A1D4-4D12-A688-9CE47CF45410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goal precisely—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information sys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the purpos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stimat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point of view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 major software ho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suitable set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imed at achieving the stated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 a preci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every ques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FB9E-5CFA-42BA-B4DE-A90F2AFCE5E8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(program), D (input domain), R (output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 (may be par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defined by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d) correct if &lt;d, P(d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correct if all P(d) are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BD08-3717-472A-8A57-774F383734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d) is not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undefined (error state) or may be the wrong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(DEF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may cause a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ng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forgot to test “x = 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intermediate state entered by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D7EB-83C3-4843-938E-FB3ADA8B18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case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nite subse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is successful if P(t) 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successful if P correct for all t in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4390-DE2D-407B-91F1-08D5863E83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test set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n element of T such that P(d) is in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an ideal test set exists for any program, we could prove program correctness b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0EB4-FD7E-4134-A3AC-37BE73C0D8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riterion C defines finite subsets of D (test s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st set T satisfies C if it is an element o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{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, j, k,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0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5, 0, 22&gt; is a test set that satisfie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10, 2, 8, 33, 0, -19&gt; also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1, 3, 99&gt; doe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B956-961B-47E5-96E2-670B4E7BBFE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airs T1, T2 satisfying C, T1 is successful iff T2 is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either of them provides the “same”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 test set T of C that is not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 and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 ideal test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orrectness to be 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43A6-7D2A-425C-80AF-08849D6D24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 is finer than 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rogram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T1 satisfying C1 there is a subset T2 of T1 which satisfies 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F491-63B1-4508-8A41-3E50FA3A34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 is effective, i.e., no algorithms exist to state if a program, test set, or criterion has that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there is no algorithm to derive a test set that would prove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structive criterion that is consistent and 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D929-FAFB-4DA4-BC5E-922E16E4D9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goals of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kind of assurance do we get through test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esting be done systematical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remove defects (debugging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software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vs.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EAA5-40FB-446F-946C-6A315924C5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irical test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ed compromise between the impossible and the inadequ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strategy to select significant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=has high potential of uncovering presence of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7B10-CCEE-4783-A7E1-45B73F4B0A5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roup elements of D into subdomains D1, D2, …, Dn where any element of each Di is likely to have simila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D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one test as a representative of the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j, k (partition), any element can be chosen from each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choose representatives to minimize number of tests, yet fulfilling the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055E-0C7C-45C1-9354-F7463FE3D35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9320" y="167652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xample of a par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3A3A-3F34-4098-8834-2BA4FE9602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sm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est individu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BOX (function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the module’s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is supposed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BOX (structur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module’s interna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A874-CAFC-4246-917F-0EC6C6BFE9E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progra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A484-D8D3-4498-A791-6B562108853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ctural Coverag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73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)adequacy crite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gnificant parts of program structure are not tested, testing i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coverag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20EB-520B-4248-8923-72669B903D4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lementary statement in P is execut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atum executes many state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y to minimize the number of test cases still preserving the desired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02A7-2AC1-427B-B4D5-53CEFCE635E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08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1905120"/>
            <a:ext cx="498744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66AB-366F-47E8-B40D-5A8979C9517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 of th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24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6B4A-3644-4265-AFE6-6749B35CD16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ge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(branch) of the control flow is exercis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equires formalizing the concept of the control graph, and how to construc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represen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 at the ends of an edge represent entry into the statement and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A27E-70E1-40EA-97BC-36D4D981A20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ed for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are fallible even if they are skilled and follow sound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must be verified, every required quality, process an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verification itsel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7C63-B55C-467E-92F0-50EE395C37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98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171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00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3312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96324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74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56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45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64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84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344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96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65320" y="24912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rol graph constru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83C1-C1AF-448C-BC6B-D434F26DBB6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22080" y="205740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edges can be collapsed into just o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488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A7F6-43CB-4049-9B6C-AB55B003DD4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360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83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5360" y="2491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e: Euclid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7B07-372A-4F26-96A4-0A492953DA8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discover error (&lt; instead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5E4D-290D-42F5-93A7-9513DD03D14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dition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of P’s control flow is traversed and all possible values of the constituents of compound conditions are exercised at least 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1CD8-FC7C-467F-8C2B-D8D0D66AAE5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82392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712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55E9-874B-4E39-8FFC-F6A3F4AA5FF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h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which traverses all paths from the initial to the final node of P’s contro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previous kinds of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number of paths may be too large, or even infinite (see while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onstraints must be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598B-47F1-4ABE-BDD4-52231087C7C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nfeasi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ally indicated behaviors (statements, edges, etc.) are often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achable code, infeasible edges, path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quacy criteria may be impossible to satisf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justification for omitting each impossible te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cy “scores” based on cover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95% statement 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B892-34DC-4E3A-8801-4AA1F2584828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f the code omits the implementation of some part of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box test cases derived from the code will ignore that part of the 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7B35-4621-42D9-9BED-A40F8CB09F6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8D37-4AA2-4FDF-96F2-FE7122B6299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binary (OK, not O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ity of defect is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fects may be tol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ubjective or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mplicit qualities should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requirements are often in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6BDD-4C31-485B-B0FE-975D3E7218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40560" y="1905120"/>
            <a:ext cx="817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receives as input a record describ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. (A detailed description of the forma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cord is given.) The invoice must be ins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o a file of invoices that is sorted by date. The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inserted in the appropriate position: I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s exist in the file with the same date, t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 should be inserted after the last one. Al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nsistency checks must be performed: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uld verify whether the customer is already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sponding file of customers, whether the custom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 the two files match, etc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AE3A-9871-4DAB-B0CE-CA1C58F3638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consider these cas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-67320" y="1828800"/>
            <a:ext cx="942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before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This might be even forbidden by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ase, in turn, can be split into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subca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sam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existing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does not exist in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ously recorded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al incorrect invoices, checking different 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C7F5-00FC-4D29-9762-F0C103D6FE6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atic black-box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driven by logic specifications (pre and postcondi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-drive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able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-effect graph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4D35-2322-4F93-8866-4E5ED39E79C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67920" y="304920"/>
            <a:ext cx="68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gic specification of inser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invoice record in a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5200" y="1752480"/>
            <a:ext cx="862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x in Invoices, f in Invoice_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not exist j, k (j ≠ k and f(j) =f(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(x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old_f(k) = z implies exists j (f(j) = z)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j (f(j). date = x. date and f(j) ≠ x)  implies j &lt; pos(x, f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customer belongs_to customer_fi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n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 belongs_to old_f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A4E8-2AB8-4D97-941D-ED1DC153543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2960" y="990720"/>
            <a:ext cx="840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ed_by_date(f) and for all k old_f(k) =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exists j (f(j) = z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.customer belongs_to customer_fi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(x.customer belongs_to customer_file 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no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belongs_to old_y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6200" y="15228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overage criterion to postcondi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write in a more convenient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ECD3-5135-4DC7-8276-6CFEB619C39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esting an interpreter of the follow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436920"/>
            <a:ext cx="72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::= &lt;expression&gt; + &lt;term&gt;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- &lt;term&gt; | &lt;te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term&gt; ::= &lt;term&gt; * &lt;factor&gt; | &lt;term&gt;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| &lt;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::= ident | ( &lt;expression&gt;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DAA7-BF5C-4359-92DE-63535F3EFAB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complete coverage principle to all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te a test case for each rule of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, however that the test case might also cover other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 specification is formal, and test generation can be auto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3E5F-2236-4F64-B92D-DBE5662019D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ision-table-base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 Century Schlb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ord-processor may present portions of text in three different formats: plain text (p), boldface (b), italics (i). The following commands may be applied to each portion of text: make text plain (P), make boldface (B), make italics (I), emphasize (E), super emphasize (SE). Commands are available to dynamically set E to mean either B or I (we denote such commands as E=B and E=I, respectively.) Similarly, SE can be dynamically set to mean either B (command SE=B) or I (command SE=I), or B and I (command SE=B+I.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D226-2322-4A7F-A714-C04DC4F769D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617220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2920"/>
                    <a:ext cx="61722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A2A5-0D1F-41EA-8548-00C697E5F1A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effect grap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1219320"/>
          <a:ext cx="516420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1642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54880" y="510552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D/OR graph represents the correspond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DB17-41E5-4EB7-993A-216BCD6A559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with behavior of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behaviors vi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find "counterexampl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duct to deduce its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 study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2E3B-1E71-431D-8560-113E434B28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constra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22000" y="9828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oth B and I exclude P (i.e., one cannot ask bot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in text and, say, italics for the same portion of tex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and SE are mutually exclu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47920" y="2209680"/>
          <a:ext cx="51069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1069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5920" y="2479680"/>
            <a:ext cx="10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5600" y="2174760"/>
            <a:ext cx="10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00" y="43848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5440" y="4232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19000" y="438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5AF8-6655-497B-983F-5CF85B288DE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884160"/>
          <a:ext cx="819144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4160"/>
                    <a:ext cx="8191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565440" y="5680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m Y = X implies no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16D4-14EF-409E-BB36-CEA2320F50B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ll possible input combinations and check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reduce the number by going backwards from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node with tru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tru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de with fals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fals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0530-DE48-425B-A254-AC5A36A88CA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boundary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criteria partition input domain in classes, assuming that behavior is "similar" for all data within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typical programming errors, however, just happen to be at the boundary between different 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EF15-B054-49B0-846C-54DD026240C0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partitioning the input domain D into several classes, test the program using input values not only “inside” the classes, but also at their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applies to both white-box and black-box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076A-D86B-4A66-B4B9-49982F7CE45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inspect the results of test executions to reveal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required at each stage of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test oracles are required for running large amounts of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difficult to design - no universal rec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930F-330A-4CA2-AED8-34E71B85A8C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 singl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modules and sub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enti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by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DF8E-40E6-4FD5-9935-0CCB638287CE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ffolding needed to create the environment in which the module should be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used by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 activating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8E11-52D3-469D-85F4-0671C143A424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 functional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38932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3F45-D3C3-4DC4-9800-DD588E9DF0ED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-ba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individual modules in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est integra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are progressively integrated and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ceed both top-down and bottom-up according to the USES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D254-C5B7-4210-B5FA-D482442F50B1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nd lack of "continuity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samples behaviors by examining "test cas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extrapolate behavior of software from a finite set of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ntinuity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exhibit correct behavior in infinitely many cases, but may still be incorrect in so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6145-1E4B-4EAF-8D3B-8089F88AB4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 and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8000" y="2514600"/>
            <a:ext cx="37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if we pro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only stub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3A99-7784-4346-B333-51760DF320A6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478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623040" y="2286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680" y="25146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1 USES M2 and M2 IS_COMPOSED_OF {M2,1, M2,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0240" y="3048120"/>
            <a:ext cx="79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provide an implemen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000" y="4267080"/>
            <a:ext cx="83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by using a driver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the combin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.e., M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a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63DC-4725-4E7E-88AA-D734B96C87B1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OO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problems still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F3F2-CC61-476B-AC6F-8FF231413D9B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7820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383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548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6656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088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616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976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ar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24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688F-D596-41CD-A6A3-B31327CECFE4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test classes of the hierarc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attening” the whole hierarchy and considering every class as a totally 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ploit incremen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n ad-hoc way to take advantage of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945C-1488-42CB-BED1-30814644B24B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ample strate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est that does not have to be repeated for any he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performed for heir class X and all of its further he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redone by applying the same input data, but verifying that the output is not (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modified by adding other input parameters and verifying that the output changes according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F1D5-36D0-4B67-AE77-5949F8C47E31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e concerns i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for functionality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oa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e testing with the purpose of verifying possi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software during its life—that is, degradations of correctness or other qualities due to later modif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6608-39CE-40A3-87F5-0C6BFB2EEB06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concurrent and real-time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determinism inherent in concurrency affects repea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al-time system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case consists not only of input data, but also of the times when such data are suppli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B027-9582-4A44-8210-6E856002B75A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AA55-C049-483E-816F-4839EA13D6F2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vs.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xecutions; it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omplementary advantages and 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3D21-249F-4908-838F-3F2601746233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 in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f brid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assures infinite correct sit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673520"/>
            <a:ext cx="4800600" cy="889200"/>
          </a:xfrm>
          <a:custGeom>
            <a:avLst/>
            <a:gdLst/>
            <a:ahLst/>
            <a:rect l="l" t="t" r="r" b="b"/>
            <a:pathLst>
              <a:path w="3024" h="560">
                <a:moveTo>
                  <a:pt x="0" y="560"/>
                </a:moveTo>
                <a:cubicBezTo>
                  <a:pt x="284" y="388"/>
                  <a:pt x="568" y="216"/>
                  <a:pt x="816" y="128"/>
                </a:cubicBezTo>
                <a:cubicBezTo>
                  <a:pt x="1064" y="40"/>
                  <a:pt x="1264" y="40"/>
                  <a:pt x="1488" y="32"/>
                </a:cubicBezTo>
                <a:cubicBezTo>
                  <a:pt x="1712" y="24"/>
                  <a:pt x="1904" y="0"/>
                  <a:pt x="2160" y="80"/>
                </a:cubicBezTo>
                <a:cubicBezTo>
                  <a:pt x="2416" y="160"/>
                  <a:pt x="2720" y="336"/>
                  <a:pt x="3024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04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81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FBB0-0588-49C3-BECC-3B3753258A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walkthroug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pre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people (three to f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 receive written documentation from the designer a few days before the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efined duration of meeting (a few hou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rrors, not on fix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: designer, moderator, and a secre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ster cooperation; no evaluation of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ence shows that most errors are discovered by the designer during the presentation, while trying to explain the design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7F67-262F-4EE6-B7A0-1760D7D13C0C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insp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ing technique aiming at error dis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checklists; e.g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uninitialized variable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mps into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terminating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ay indexes out of bound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4202-403E-4B45-B868-A05730BC9677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4CBF-613C-4884-B112-11BA9337DE65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d its specification (Hoare notation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414520" y="2548080"/>
            <a:ext cx="39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a); read 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utput = input1 + input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74880" y="54100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of by backwards sub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CF71-24A2-4776-B3B2-B5F3BD7F372A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403848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05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1, Clai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2480" y="19051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Claim 1 and Claim 2 have been prov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e 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duce 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94EF-4749-4A2C-A9E1-2037142302DF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 for a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1905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{F2}, {F2}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;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4382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61480" y="2014560"/>
            <a:ext cx="1555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720" y="3581280"/>
            <a:ext cx="77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 and cond} S1 {Post},{Pre and not cond} S2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} if cond then S1 ; else S 2 ; end if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720" y="4005360"/>
            <a:ext cx="769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80880" y="3124080"/>
            <a:ext cx="1789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6720" y="4648320"/>
            <a:ext cx="14090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-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952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 and cond} S {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} while cond loop S; end loop; {I and not con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52243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05840" y="5791320"/>
            <a:ext cx="2266920" cy="45972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p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6C95-C8A5-4605-86E6-B95200F8C505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of {Pre} Program {Post} guarantees that if the Pre holds before the execution of Program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if the program ever termin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, then Post will be achie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guarantees Program’s termin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ruth of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se problems are undecidabl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42CF-125E-4D40-BFF2-73DF6C491609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21160" y="1785960"/>
            <a:ext cx="613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&gt; 0 and input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x =y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div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rite (div); 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= output1 * input2 + output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=output2 &lt; input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5B4D-5C67-400C-BDDC-F88732FF6E0E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vention of loop invari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and creative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constructed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1 = div * y + x and x =0 and y = inpu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DF3F-76B7-44BD-A239-15DD334D7C98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321560" y="23954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Pre} a(i) := expression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6440" y="330984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assertion obtained from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y substituting every occurrence of an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le a(j) by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j = i then expression else a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DA4E-1F32-43FC-BDC6-7FFE2D8FB0B6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2FF5-2198-4220-9F78-5A093D7C3C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6560" y="685800"/>
            <a:ext cx="75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 =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1; j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i =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table (i) = x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j) := table 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; j := j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:= j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ot exists m (1 =m =n and table (m) = x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=exists m (1 =m 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m) = x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1447920"/>
            <a:ext cx="3792600" cy="19227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tants de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es of table and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for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f the program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3094-E566-46E7-B418-E4DCFEC73289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one by using the following loop invari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(j =i) and (i 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+ 1)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t exists m (1 =m &lt; j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(m) = x)) and (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= exists m (1 =m &lt; i a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(m) = 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29BE-5732-4A7E-8119-09B9F7836D28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            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prove correctness of operations (e.g., operations on an abstract data ty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use the result of the proof in proving fragments that operate on objects of the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69E0-5AE5-49B5-AE7D-02CC9D06E6CD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77920" y="13716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ule T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ype Table_Type (max_size: NATURAL): ?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o more than max_size entrie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red in a table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er modules must guarante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Insert (Table: in out TableTyp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Delete (Table: in out TableTyp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ction Size (Table: in Table_Type) return NATU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vides the current size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4436-16EF-4060-BF6C-FFFA384F29A8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73840" y="1252440"/>
            <a:ext cx="364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ete (Table, Elem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Size (Table) &lt; max_siz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t (Table,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6080" y="5666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proved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3680" y="227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120" y="407196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hen prove properties of programs using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at after executing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not present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994C-B77E-42C9-92DE-622D885BD348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ssess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not used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used for very critical por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rtions may be the basis for a systematic way of inserting runtim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s may become more practical as more powerful support tools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of correctness theory helps programmers being rigor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6771-814B-486D-8833-08E678860D14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iewed as a middle way between testing and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s the program on symbol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ymbolic execution corresponds to many actual exec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9061-8E32-44F0-9500-DF88BB0DF08D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164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84480" y="1981080"/>
            <a:ext cx="632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xecuting the following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x=X, y=Y, 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y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x &gt; a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:= a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 := x +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+ a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66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39160" y="1260360"/>
            <a:ext cx="3713400" cy="4987800"/>
            <a:chOff x="4439160" y="1260360"/>
            <a:chExt cx="3713400" cy="4987800"/>
          </a:xfrm>
        </p:grpSpPr>
        <p:sp>
          <p:nvSpPr>
            <p:cNvPr id="487" name=""/>
            <p:cNvSpPr/>
            <p:nvPr/>
          </p:nvSpPr>
          <p:spPr>
            <a:xfrm>
              <a:off x="6664680" y="172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6000" y="360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0000" y="3692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3520" y="5402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5200" y="172692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y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9160" y="34365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19560" y="326556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 := x +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48520" y="5402160"/>
              <a:ext cx="146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x + a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46880" y="2222280"/>
              <a:ext cx="56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&g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67280" y="4853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84200" y="2268000"/>
              <a:ext cx="36792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50360" y="5861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0200" y="1260360"/>
              <a:ext cx="367560" cy="384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881040" y="1653840"/>
              <a:ext cx="139320" cy="622440"/>
              <a:chOff x="6881040" y="1653840"/>
              <a:chExt cx="139320" cy="62244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1040" y="200232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50520" y="1653840"/>
                <a:ext cx="1800" cy="34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864120" y="5229720"/>
              <a:ext cx="139320" cy="604800"/>
              <a:chOff x="6864120" y="5229720"/>
              <a:chExt cx="139320" cy="604800"/>
            </a:xfrm>
          </p:grpSpPr>
          <p:sp>
            <p:nvSpPr>
              <p:cNvPr id="504" name=""/>
              <p:cNvSpPr/>
              <p:nvPr/>
            </p:nvSpPr>
            <p:spPr>
              <a:xfrm>
                <a:off x="6864120" y="556056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3600" y="5229720"/>
                <a:ext cx="144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86280" y="2620080"/>
              <a:ext cx="1364760" cy="24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0" y="21600"/>
                  </a:moveTo>
                  <a:arcTo wR="10800" hR="10800" stAng="5428724" swAng="539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0" y="21600"/>
                  </a:moveTo>
                  <a:arcTo wR="10800" hR="10800" stAng="5428724" swAng="539153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443640" y="4955400"/>
              <a:ext cx="331560" cy="127800"/>
              <a:chOff x="6443640" y="4955400"/>
              <a:chExt cx="331560" cy="127800"/>
            </a:xfrm>
          </p:grpSpPr>
          <p:sp>
            <p:nvSpPr>
              <p:cNvPr id="508" name=""/>
              <p:cNvSpPr/>
              <p:nvPr/>
            </p:nvSpPr>
            <p:spPr>
              <a:xfrm>
                <a:off x="6530400" y="4955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144" y="41"/>
                    </a:moveTo>
                    <a:lnTo>
                      <a:pt x="0" y="7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3640" y="5028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69360" y="2506680"/>
              <a:ext cx="196092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213" swAng="5362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213" swAng="5362223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126200" y="4937400"/>
              <a:ext cx="331200" cy="127800"/>
              <a:chOff x="7126200" y="4937400"/>
              <a:chExt cx="331200" cy="127800"/>
            </a:xfrm>
          </p:grpSpPr>
          <p:sp>
            <p:nvSpPr>
              <p:cNvPr id="512" name=""/>
              <p:cNvSpPr/>
              <p:nvPr/>
            </p:nvSpPr>
            <p:spPr>
              <a:xfrm>
                <a:off x="7126200" y="4937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0" y="41"/>
                    </a:moveTo>
                    <a:lnTo>
                      <a:pt x="144" y="0"/>
                    </a:lnTo>
                    <a:lnTo>
                      <a:pt x="144" y="41"/>
                    </a:lnTo>
                    <a:lnTo>
                      <a:pt x="144" y="7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0640" y="5010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190560" y="2524680"/>
              <a:ext cx="196020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45" swAng="54079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45" swAng="540792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4560" y="2599200"/>
              <a:ext cx="136800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173" swAng="5451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173" swAng="545158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B168-72EF-465F-9DE9-000BE4C45411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trol reaches the conditional, symbolic values do not allow execution to select a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choose a branch, and record the choice i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{a = A, y = Y + 5, x = 2 * Y + A + 7}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1, 3, 4&gt;, Y + 2 ≤ A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5486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5486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1720" y="5443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7200" y="544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8659-F962-46B8-BA1E-6133F543CCE8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moves any existing binding for x and adds  binding x = X, where X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ly intro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ymbolic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(n) = computed_symbolic_value (n counter initialized to 1 and automatically incremented after each output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2880" y="1143000"/>
            <a:ext cx="8935920" cy="825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ic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ymbolic_variable_values, execution_path, path_condition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41CF-D8DE-46C9-83F6-1CD6CD57FACD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bugs (Dijkstra, 198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ests do detect failures, we cannot conclude that software is defect-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, we need to do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sound and systematic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3668-4D6C-4320-9D23-7433A827FC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:= expre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ymbolic value of expression, SV; replace previous binding for x with x = 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execution of the last statement of a sequence that corresponds to an edge of control graph, append the edge to 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565A-9E9F-4E91-B37D-3D7E05636C38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nd then S1; else S2; end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ond loop…end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 is symbolically evalu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al (con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eval (con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rue or false then execution proceeds by following the appropriate bran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wise, make nondeterministic choice of true or false, and conjoin eval (cond) (resp.,  not eval (cond)) to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C61E-AA01-46B9-B526-A30F581DCE99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t A1 be the symbolic value of array a when statement a(i)= exp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 after execution of the statement, a receives the new symbolic value A2, denoted as A2 = A1&lt;i, exp&gt;, a shorthan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k if k = i then A2(k) = ex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A2(k) = A1(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EA89-C3E2-4643-959C-D1E2A8F9E29B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of concurren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1312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10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1640" y="4695840"/>
            <a:ext cx="1114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26000" y="1808280"/>
            <a:ext cx="714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23652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9560" y="2373480"/>
            <a:ext cx="559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240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5160" y="2365200"/>
            <a:ext cx="5061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28000" y="2373480"/>
            <a:ext cx="541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91040" y="4695840"/>
            <a:ext cx="1096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24600" y="4695840"/>
            <a:ext cx="1095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42440" y="1447920"/>
            <a:ext cx="22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ssage_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4680" y="495288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32440" y="432432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63680" y="434340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88400" y="4343400"/>
            <a:ext cx="117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881360" y="2903400"/>
            <a:ext cx="172800" cy="1792440"/>
            <a:chOff x="1881360" y="2903400"/>
            <a:chExt cx="172800" cy="1792440"/>
          </a:xfrm>
        </p:grpSpPr>
        <p:sp>
          <p:nvSpPr>
            <p:cNvPr id="551" name=""/>
            <p:cNvSpPr/>
            <p:nvPr/>
          </p:nvSpPr>
          <p:spPr>
            <a:xfrm>
              <a:off x="194940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11"/>
                  </a:lnTo>
                  <a:lnTo>
                    <a:pt x="22" y="11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81360" y="2903400"/>
              <a:ext cx="10296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2643120"/>
            <a:ext cx="104760" cy="2052720"/>
            <a:chOff x="2176560" y="2643120"/>
            <a:chExt cx="104760" cy="2052720"/>
          </a:xfrm>
        </p:grpSpPr>
        <p:sp>
          <p:nvSpPr>
            <p:cNvPr id="554" name=""/>
            <p:cNvSpPr/>
            <p:nvPr/>
          </p:nvSpPr>
          <p:spPr>
            <a:xfrm>
              <a:off x="2176560" y="448632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44" y="13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46400" y="2643120"/>
              <a:ext cx="144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091040" y="2903400"/>
            <a:ext cx="401760" cy="1792440"/>
            <a:chOff x="4091040" y="2903400"/>
            <a:chExt cx="401760" cy="1792440"/>
          </a:xfrm>
        </p:grpSpPr>
        <p:sp>
          <p:nvSpPr>
            <p:cNvPr id="557" name=""/>
            <p:cNvSpPr/>
            <p:nvPr/>
          </p:nvSpPr>
          <p:spPr>
            <a:xfrm>
              <a:off x="4387680" y="4468680"/>
              <a:ext cx="10512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143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6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1040" y="2903400"/>
              <a:ext cx="34920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770360" y="2782800"/>
            <a:ext cx="696960" cy="1913040"/>
            <a:chOff x="4770360" y="2782800"/>
            <a:chExt cx="696960" cy="1913040"/>
          </a:xfrm>
        </p:grpSpPr>
        <p:sp>
          <p:nvSpPr>
            <p:cNvPr id="560" name=""/>
            <p:cNvSpPr/>
            <p:nvPr/>
          </p:nvSpPr>
          <p:spPr>
            <a:xfrm>
              <a:off x="4770360" y="4468680"/>
              <a:ext cx="12240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0" y="143"/>
                  </a:moveTo>
                  <a:lnTo>
                    <a:pt x="11" y="0"/>
                  </a:lnTo>
                  <a:lnTo>
                    <a:pt x="44" y="11"/>
                  </a:lnTo>
                  <a:lnTo>
                    <a:pt x="77" y="3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40200" y="2782800"/>
              <a:ext cx="627120" cy="1703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370400" y="2782800"/>
            <a:ext cx="2192400" cy="1913040"/>
            <a:chOff x="4370400" y="2782800"/>
            <a:chExt cx="2192400" cy="1913040"/>
          </a:xfrm>
        </p:grpSpPr>
        <p:sp>
          <p:nvSpPr>
            <p:cNvPr id="563" name=""/>
            <p:cNvSpPr/>
            <p:nvPr/>
          </p:nvSpPr>
          <p:spPr>
            <a:xfrm>
              <a:off x="6372360" y="452124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20" y="110"/>
                  </a:moveTo>
                  <a:lnTo>
                    <a:pt x="0" y="44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70400" y="2782800"/>
              <a:ext cx="2036880" cy="1755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84840" y="2643120"/>
            <a:ext cx="434880" cy="2052720"/>
            <a:chOff x="6684840" y="2643120"/>
            <a:chExt cx="434880" cy="2052720"/>
          </a:xfrm>
        </p:grpSpPr>
        <p:sp>
          <p:nvSpPr>
            <p:cNvPr id="566" name=""/>
            <p:cNvSpPr/>
            <p:nvPr/>
          </p:nvSpPr>
          <p:spPr>
            <a:xfrm>
              <a:off x="668484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11" y="143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6" y="22"/>
                  </a:lnTo>
                  <a:lnTo>
                    <a:pt x="1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37040" y="2643120"/>
              <a:ext cx="38268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881360" y="5391000"/>
            <a:ext cx="52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89280" y="5398920"/>
            <a:ext cx="5569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35480" y="53910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78320" y="5398920"/>
            <a:ext cx="54144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9960" y="53910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5398920"/>
            <a:ext cx="5587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021200" y="1808280"/>
            <a:ext cx="104760" cy="556920"/>
            <a:chOff x="4021200" y="1808280"/>
            <a:chExt cx="104760" cy="556920"/>
          </a:xfrm>
        </p:grpSpPr>
        <p:sp>
          <p:nvSpPr>
            <p:cNvPr id="576" name=""/>
            <p:cNvSpPr/>
            <p:nvPr/>
          </p:nvSpPr>
          <p:spPr>
            <a:xfrm>
              <a:off x="4021200" y="21384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91040" y="1808280"/>
              <a:ext cx="1440" cy="330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20560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58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8480" y="4695840"/>
            <a:ext cx="104760" cy="695160"/>
            <a:chOff x="4578480" y="4695840"/>
            <a:chExt cx="104760" cy="695160"/>
          </a:xfrm>
        </p:grpSpPr>
        <p:sp>
          <p:nvSpPr>
            <p:cNvPr id="581" name=""/>
            <p:cNvSpPr/>
            <p:nvPr/>
          </p:nvSpPr>
          <p:spPr>
            <a:xfrm>
              <a:off x="4578480" y="51642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33" y="143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6" y="0"/>
                  </a:lnTo>
                  <a:lnTo>
                    <a:pt x="3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30680" y="4695840"/>
              <a:ext cx="180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2040" y="4695840"/>
            <a:ext cx="102960" cy="695160"/>
            <a:chOff x="6512040" y="4695840"/>
            <a:chExt cx="102960" cy="695160"/>
          </a:xfrm>
        </p:grpSpPr>
        <p:sp>
          <p:nvSpPr>
            <p:cNvPr id="584" name=""/>
            <p:cNvSpPr/>
            <p:nvPr/>
          </p:nvSpPr>
          <p:spPr>
            <a:xfrm>
              <a:off x="6512040" y="5164200"/>
              <a:ext cx="102960" cy="2268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32" y="14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3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2800" y="4695840"/>
              <a:ext cx="144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84960" y="48006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n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2636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848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84080" y="5668920"/>
            <a:ext cx="1097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4080" y="2573280"/>
            <a:ext cx="817560" cy="104760"/>
            <a:chOff x="784080" y="2573280"/>
            <a:chExt cx="817560" cy="104760"/>
          </a:xfrm>
        </p:grpSpPr>
        <p:sp>
          <p:nvSpPr>
            <p:cNvPr id="591" name=""/>
            <p:cNvSpPr/>
            <p:nvPr/>
          </p:nvSpPr>
          <p:spPr>
            <a:xfrm>
              <a:off x="1376280" y="2573280"/>
              <a:ext cx="225360" cy="104760"/>
            </a:xfrm>
            <a:custGeom>
              <a:avLst/>
              <a:gdLst/>
              <a:ahLst/>
              <a:rect l="l" t="t" r="r" b="b"/>
              <a:pathLst>
                <a:path w="142" h="66">
                  <a:moveTo>
                    <a:pt x="142" y="44"/>
                  </a:moveTo>
                  <a:lnTo>
                    <a:pt x="0" y="66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4080" y="2643120"/>
              <a:ext cx="592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44400" y="469584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84080" y="2643120"/>
            <a:ext cx="1800" cy="2052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5791320"/>
            <a:ext cx="835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484600" y="4468680"/>
            <a:ext cx="556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75400" y="4486320"/>
            <a:ext cx="104760" cy="1304640"/>
            <a:chOff x="5675400" y="4486320"/>
            <a:chExt cx="104760" cy="1304640"/>
          </a:xfrm>
        </p:grpSpPr>
        <p:sp>
          <p:nvSpPr>
            <p:cNvPr id="598" name=""/>
            <p:cNvSpPr/>
            <p:nvPr/>
          </p:nvSpPr>
          <p:spPr>
            <a:xfrm>
              <a:off x="5675400" y="4486320"/>
              <a:ext cx="104760" cy="27792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44" y="0"/>
                  </a:moveTo>
                  <a:lnTo>
                    <a:pt x="66" y="175"/>
                  </a:lnTo>
                  <a:lnTo>
                    <a:pt x="44" y="175"/>
                  </a:lnTo>
                  <a:lnTo>
                    <a:pt x="0" y="1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45240" y="476388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675400" y="2903400"/>
            <a:ext cx="104760" cy="1565280"/>
            <a:chOff x="5675400" y="2903400"/>
            <a:chExt cx="104760" cy="1565280"/>
          </a:xfrm>
        </p:grpSpPr>
        <p:sp>
          <p:nvSpPr>
            <p:cNvPr id="601" name=""/>
            <p:cNvSpPr/>
            <p:nvPr/>
          </p:nvSpPr>
          <p:spPr>
            <a:xfrm>
              <a:off x="5675400" y="290340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4" y="0"/>
                  </a:moveTo>
                  <a:lnTo>
                    <a:pt x="66" y="121"/>
                  </a:lnTo>
                  <a:lnTo>
                    <a:pt x="44" y="121"/>
                  </a:lnTo>
                  <a:lnTo>
                    <a:pt x="0" y="1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45240" y="3095640"/>
              <a:ext cx="1440" cy="137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42160" y="5791320"/>
            <a:ext cx="1374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939080" y="483408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164440" y="4834080"/>
            <a:ext cx="104760" cy="956880"/>
            <a:chOff x="8164440" y="4834080"/>
            <a:chExt cx="104760" cy="956880"/>
          </a:xfrm>
        </p:grpSpPr>
        <p:sp>
          <p:nvSpPr>
            <p:cNvPr id="606" name=""/>
            <p:cNvSpPr/>
            <p:nvPr/>
          </p:nvSpPr>
          <p:spPr>
            <a:xfrm>
              <a:off x="8164440" y="483408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33" y="0"/>
                  </a:moveTo>
                  <a:lnTo>
                    <a:pt x="66" y="132"/>
                  </a:lnTo>
                  <a:lnTo>
                    <a:pt x="33" y="132"/>
                  </a:lnTo>
                  <a:lnTo>
                    <a:pt x="0" y="1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217000" y="5043240"/>
              <a:ext cx="1440" cy="747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8217000" y="2643120"/>
            <a:ext cx="1440" cy="2190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1160" y="2590920"/>
            <a:ext cx="1033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4520" y="264312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0320" y="260820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98600" y="4695840"/>
            <a:ext cx="417600" cy="1650960"/>
            <a:chOff x="2298600" y="4695840"/>
            <a:chExt cx="417600" cy="1650960"/>
          </a:xfrm>
        </p:grpSpPr>
        <p:sp>
          <p:nvSpPr>
            <p:cNvPr id="613" name=""/>
            <p:cNvSpPr/>
            <p:nvPr/>
          </p:nvSpPr>
          <p:spPr>
            <a:xfrm>
              <a:off x="2593800" y="6121440"/>
              <a:ext cx="12240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7" y="142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7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98600" y="4695840"/>
              <a:ext cx="347760" cy="144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972040" y="4695840"/>
            <a:ext cx="172800" cy="1511280"/>
            <a:chOff x="5972040" y="4695840"/>
            <a:chExt cx="172800" cy="1511280"/>
          </a:xfrm>
        </p:grpSpPr>
        <p:sp>
          <p:nvSpPr>
            <p:cNvPr id="616" name=""/>
            <p:cNvSpPr/>
            <p:nvPr/>
          </p:nvSpPr>
          <p:spPr>
            <a:xfrm>
              <a:off x="5972040" y="5981760"/>
              <a:ext cx="10332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33" y="142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5" y="11"/>
                  </a:lnTo>
                  <a:lnTo>
                    <a:pt x="3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024240" y="4695840"/>
              <a:ext cx="120600" cy="130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33000" y="1828800"/>
            <a:ext cx="8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:=  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1904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62320" y="472752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46040" y="2643120"/>
            <a:ext cx="151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736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624800" y="2590920"/>
            <a:ext cx="557280" cy="122040"/>
            <a:chOff x="7624800" y="2590920"/>
            <a:chExt cx="557280" cy="122040"/>
          </a:xfrm>
        </p:grpSpPr>
        <p:sp>
          <p:nvSpPr>
            <p:cNvPr id="624" name=""/>
            <p:cNvSpPr/>
            <p:nvPr/>
          </p:nvSpPr>
          <p:spPr>
            <a:xfrm>
              <a:off x="7624800" y="2590920"/>
              <a:ext cx="209520" cy="12204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0" y="33"/>
                  </a:moveTo>
                  <a:lnTo>
                    <a:pt x="132" y="0"/>
                  </a:lnTo>
                  <a:lnTo>
                    <a:pt x="132" y="33"/>
                  </a:lnTo>
                  <a:lnTo>
                    <a:pt x="132" y="7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34320" y="2643120"/>
              <a:ext cx="347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07072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1640" y="4876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1920" y="2174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080" y="4800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8104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96960" y="4695840"/>
            <a:ext cx="122040" cy="973080"/>
            <a:chOff x="696960" y="4695840"/>
            <a:chExt cx="122040" cy="973080"/>
          </a:xfrm>
        </p:grpSpPr>
        <p:sp>
          <p:nvSpPr>
            <p:cNvPr id="632" name=""/>
            <p:cNvSpPr/>
            <p:nvPr/>
          </p:nvSpPr>
          <p:spPr>
            <a:xfrm>
              <a:off x="696960" y="4695840"/>
              <a:ext cx="122040" cy="24300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44" y="0"/>
                  </a:moveTo>
                  <a:lnTo>
                    <a:pt x="77" y="153"/>
                  </a:lnTo>
                  <a:lnTo>
                    <a:pt x="44" y="153"/>
                  </a:lnTo>
                  <a:lnTo>
                    <a:pt x="0" y="15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6800" y="4938840"/>
              <a:ext cx="1440" cy="73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089080" y="4695840"/>
            <a:ext cx="122400" cy="695160"/>
            <a:chOff x="2089080" y="4695840"/>
            <a:chExt cx="122400" cy="695160"/>
          </a:xfrm>
        </p:grpSpPr>
        <p:sp>
          <p:nvSpPr>
            <p:cNvPr id="635" name=""/>
            <p:cNvSpPr/>
            <p:nvPr/>
          </p:nvSpPr>
          <p:spPr>
            <a:xfrm>
              <a:off x="2089080" y="5146560"/>
              <a:ext cx="122400" cy="244440"/>
            </a:xfrm>
            <a:custGeom>
              <a:avLst/>
              <a:gdLst/>
              <a:ahLst/>
              <a:rect l="l" t="t" r="r" b="b"/>
              <a:pathLst>
                <a:path w="77" h="154">
                  <a:moveTo>
                    <a:pt x="44" y="154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77" y="0"/>
                  </a:lnTo>
                  <a:lnTo>
                    <a:pt x="4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58920" y="4695840"/>
              <a:ext cx="1800" cy="450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21200" y="4695840"/>
            <a:ext cx="436680" cy="1477800"/>
            <a:chOff x="4021200" y="4695840"/>
            <a:chExt cx="436680" cy="1477800"/>
          </a:xfrm>
        </p:grpSpPr>
        <p:sp>
          <p:nvSpPr>
            <p:cNvPr id="638" name=""/>
            <p:cNvSpPr/>
            <p:nvPr/>
          </p:nvSpPr>
          <p:spPr>
            <a:xfrm>
              <a:off x="4021200" y="5911920"/>
              <a:ext cx="122040" cy="26172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0" y="165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77" y="2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073400" y="4695840"/>
              <a:ext cx="384480" cy="12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9935-A948-4AB0-8E4B-B8A9997ACC44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fying assumption: no more than one token in a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atomic steps can be modeled by a firing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resolves the nondeterminism that is due to several transitions being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iple &lt;symbolic_variable_values, execution_path, path_condition&gt; can be used to model the symbolic state of the interpreter (execution_path is the firing sequ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2137-2A92-443F-B151-3C0A5DC30F94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an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condition describes the data that traverse a certai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ally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hesize data that satisfy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ill execute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4395-DF99-45C9-B086-31BBDB461792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53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4440" y="152388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exists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does not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2A8F-1279-4F5B-9D2F-E865986559AF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71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21120" y="110340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1120" y="2201760"/>
            <a:ext cx="264960" cy="27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78360" y="1370160"/>
            <a:ext cx="115920" cy="823680"/>
            <a:chOff x="3978360" y="1370160"/>
            <a:chExt cx="115920" cy="823680"/>
          </a:xfrm>
        </p:grpSpPr>
        <p:sp>
          <p:nvSpPr>
            <p:cNvPr id="651" name=""/>
            <p:cNvSpPr/>
            <p:nvPr/>
          </p:nvSpPr>
          <p:spPr>
            <a:xfrm>
              <a:off x="3978360" y="196524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2" y="144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73" y="0"/>
                  </a:lnTo>
                  <a:lnTo>
                    <a:pt x="4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4960" y="1370160"/>
              <a:ext cx="1440" cy="59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770440" y="5342040"/>
            <a:ext cx="26352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845320" y="4525920"/>
            <a:ext cx="114120" cy="822240"/>
            <a:chOff x="5845320" y="4525920"/>
            <a:chExt cx="114120" cy="822240"/>
          </a:xfrm>
        </p:grpSpPr>
        <p:sp>
          <p:nvSpPr>
            <p:cNvPr id="655" name=""/>
            <p:cNvSpPr/>
            <p:nvPr/>
          </p:nvSpPr>
          <p:spPr>
            <a:xfrm>
              <a:off x="5845320" y="511956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41" y="1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10120" y="4525920"/>
              <a:ext cx="180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770440" y="274968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176720" y="2330280"/>
            <a:ext cx="1585800" cy="549360"/>
            <a:chOff x="4176720" y="2330280"/>
            <a:chExt cx="1585800" cy="549360"/>
          </a:xfrm>
        </p:grpSpPr>
        <p:sp>
          <p:nvSpPr>
            <p:cNvPr id="659" name=""/>
            <p:cNvSpPr/>
            <p:nvPr/>
          </p:nvSpPr>
          <p:spPr>
            <a:xfrm>
              <a:off x="5546880" y="2757600"/>
              <a:ext cx="215640" cy="122040"/>
            </a:xfrm>
            <a:custGeom>
              <a:avLst/>
              <a:gdLst/>
              <a:ahLst/>
              <a:rect l="l" t="t" r="r" b="b"/>
              <a:pathLst>
                <a:path w="136" h="77">
                  <a:moveTo>
                    <a:pt x="136" y="77"/>
                  </a:moveTo>
                  <a:lnTo>
                    <a:pt x="0" y="57"/>
                  </a:lnTo>
                  <a:lnTo>
                    <a:pt x="11" y="29"/>
                  </a:lnTo>
                  <a:lnTo>
                    <a:pt x="21" y="0"/>
                  </a:lnTo>
                  <a:lnTo>
                    <a:pt x="1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76720" y="2330280"/>
              <a:ext cx="1387440" cy="47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45320" y="3032280"/>
            <a:ext cx="114120" cy="1218960"/>
            <a:chOff x="5845320" y="3032280"/>
            <a:chExt cx="114120" cy="1218960"/>
          </a:xfrm>
        </p:grpSpPr>
        <p:sp>
          <p:nvSpPr>
            <p:cNvPr id="662" name=""/>
            <p:cNvSpPr/>
            <p:nvPr/>
          </p:nvSpPr>
          <p:spPr>
            <a:xfrm>
              <a:off x="5845320" y="412920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41" y="7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0120" y="3032280"/>
              <a:ext cx="1800" cy="10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046320" y="474660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8760" y="1582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1120" y="2268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2880" y="3228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54880" y="3473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53320" y="4037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1480" y="4708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64240" y="3565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37120" y="5348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8000" y="5211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0080" y="5913360"/>
            <a:ext cx="50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element exists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1320" y="579132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7120" y="5989680"/>
            <a:ext cx="20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ment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8880" y="6186600"/>
            <a:ext cx="192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ist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97720" y="3549600"/>
            <a:ext cx="143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nd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42080" y="4678200"/>
            <a:ext cx="24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unter := counter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91000" y="2978280"/>
            <a:ext cx="1188720" cy="143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0"/>
                </a:moveTo>
                <a:arcTo wR="10800" hR="10800" stAng="-5421423" swAng="5403237"/>
                <a:lnTo>
                  <a:pt x="10800" y="10800"/>
                </a:lnTo>
                <a:close/>
              </a:path>
              <a:path fill="none" w="21600" h="21600">
                <a:moveTo>
                  <a:pt x="10733" y="0"/>
                </a:moveTo>
                <a:arcTo wR="10800" hR="10800" stAng="-5421423" swAng="540323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02480" y="424332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85360" y="3071160"/>
            <a:ext cx="594360" cy="131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3"/>
                </a:moveTo>
                <a:arcTo wR="10800" hR="10800" stAng="-18127" swAng="5466143"/>
                <a:lnTo>
                  <a:pt x="10800" y="10800"/>
                </a:lnTo>
                <a:close/>
              </a:path>
              <a:path fill="none" w="21600" h="21600">
                <a:moveTo>
                  <a:pt x="21600" y="10743"/>
                </a:moveTo>
                <a:arcTo wR="10800" hR="10800" stAng="-18127" swAng="546614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41880" y="4341960"/>
            <a:ext cx="231840" cy="107640"/>
            <a:chOff x="6041880" y="4341960"/>
            <a:chExt cx="231840" cy="107640"/>
          </a:xfrm>
        </p:grpSpPr>
        <p:sp>
          <p:nvSpPr>
            <p:cNvPr id="684" name=""/>
            <p:cNvSpPr/>
            <p:nvPr/>
          </p:nvSpPr>
          <p:spPr>
            <a:xfrm>
              <a:off x="6041880" y="4341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0" y="29"/>
                  </a:moveTo>
                  <a:lnTo>
                    <a:pt x="146" y="0"/>
                  </a:lnTo>
                  <a:lnTo>
                    <a:pt x="146" y="29"/>
                  </a:lnTo>
                  <a:lnTo>
                    <a:pt x="146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7880" y="4387680"/>
              <a:ext cx="15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052880" y="2750040"/>
            <a:ext cx="34347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9" y="21600"/>
                </a:moveTo>
                <a:arcTo wR="10800" hR="10800" stAng="5416147" swAng="5403840"/>
                <a:lnTo>
                  <a:pt x="10800" y="10800"/>
                </a:lnTo>
                <a:close/>
              </a:path>
              <a:path fill="none" w="21600" h="21600">
                <a:moveTo>
                  <a:pt x="10749" y="21600"/>
                </a:moveTo>
                <a:arcTo wR="10800" hR="10800" stAng="5416147" swAng="540384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962520" y="2452680"/>
            <a:ext cx="131760" cy="1630440"/>
            <a:chOff x="3962520" y="2452680"/>
            <a:chExt cx="131760" cy="1630440"/>
          </a:xfrm>
        </p:grpSpPr>
        <p:sp>
          <p:nvSpPr>
            <p:cNvPr id="688" name=""/>
            <p:cNvSpPr/>
            <p:nvPr/>
          </p:nvSpPr>
          <p:spPr>
            <a:xfrm>
              <a:off x="3962520" y="2452680"/>
              <a:ext cx="131760" cy="21276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42" y="0"/>
                  </a:moveTo>
                  <a:lnTo>
                    <a:pt x="83" y="134"/>
                  </a:lnTo>
                  <a:lnTo>
                    <a:pt x="42" y="134"/>
                  </a:lnTo>
                  <a:lnTo>
                    <a:pt x="0" y="1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029120" y="2665440"/>
              <a:ext cx="1440" cy="141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160800" y="2354400"/>
            <a:ext cx="1551960" cy="41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8"/>
                </a:moveTo>
                <a:arcTo wR="10800" hR="10800" stAng="-10786766" swAng="5351509"/>
                <a:lnTo>
                  <a:pt x="10800" y="10800"/>
                </a:lnTo>
                <a:close/>
              </a:path>
              <a:path fill="none" w="21600" h="21600">
                <a:moveTo>
                  <a:pt x="0" y="10758"/>
                </a:moveTo>
                <a:arcTo wR="10800" hR="10800" stAng="-10786766" swAng="535150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087720" y="4373640"/>
            <a:ext cx="131760" cy="380880"/>
            <a:chOff x="3087720" y="4373640"/>
            <a:chExt cx="131760" cy="380880"/>
          </a:xfrm>
        </p:grpSpPr>
        <p:sp>
          <p:nvSpPr>
            <p:cNvPr id="692" name=""/>
            <p:cNvSpPr/>
            <p:nvPr/>
          </p:nvSpPr>
          <p:spPr>
            <a:xfrm>
              <a:off x="3087720" y="4540320"/>
              <a:ext cx="131760" cy="21420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41" y="1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3" y="0"/>
                  </a:lnTo>
                  <a:lnTo>
                    <a:pt x="4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2880" y="4373640"/>
              <a:ext cx="14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600280" y="4732560"/>
            <a:ext cx="530280" cy="130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21599"/>
                </a:moveTo>
                <a:arcTo wR="10800" hR="10800" stAng="5454071" swAng="5367221"/>
                <a:lnTo>
                  <a:pt x="10800" y="10800"/>
                </a:lnTo>
                <a:close/>
              </a:path>
              <a:path fill="none" w="21600" h="21600">
                <a:moveTo>
                  <a:pt x="10630" y="21599"/>
                </a:moveTo>
                <a:arcTo wR="10800" hR="10800" stAng="5454071" swAng="536722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00280" y="4898880"/>
            <a:ext cx="891720" cy="9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960" swAng="536292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960" swAng="536292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13480" y="4884840"/>
            <a:ext cx="859680" cy="131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5" y="0"/>
                </a:moveTo>
                <a:arcTo wR="10800" hR="10800" stAng="-5427084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15" y="0"/>
                </a:moveTo>
                <a:arcTo wR="10800" hR="10800" stAng="-5427084" swAng="540519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9720" y="5997600"/>
            <a:ext cx="26496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4600" y="4991760"/>
            <a:ext cx="628560" cy="10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31"/>
                </a:moveTo>
                <a:arcTo wR="10800" hR="10800" stAng="-22094" swAng="5453833"/>
                <a:lnTo>
                  <a:pt x="10800" y="10800"/>
                </a:lnTo>
                <a:close/>
              </a:path>
              <a:path fill="none" w="21600" h="21600">
                <a:moveTo>
                  <a:pt x="21600" y="10731"/>
                </a:moveTo>
                <a:arcTo wR="10800" hR="10800" stAng="-22094" swAng="545383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757600" y="5958000"/>
            <a:ext cx="247680" cy="108000"/>
            <a:chOff x="2757600" y="5958000"/>
            <a:chExt cx="247680" cy="108000"/>
          </a:xfrm>
        </p:grpSpPr>
        <p:sp>
          <p:nvSpPr>
            <p:cNvPr id="700" name=""/>
            <p:cNvSpPr/>
            <p:nvPr/>
          </p:nvSpPr>
          <p:spPr>
            <a:xfrm>
              <a:off x="2757600" y="5958000"/>
              <a:ext cx="247680" cy="108000"/>
            </a:xfrm>
            <a:custGeom>
              <a:avLst/>
              <a:gdLst/>
              <a:ahLst/>
              <a:rect l="l" t="t" r="r" b="b"/>
              <a:pathLst>
                <a:path w="156" h="68">
                  <a:moveTo>
                    <a:pt x="156" y="58"/>
                  </a:moveTo>
                  <a:lnTo>
                    <a:pt x="0" y="68"/>
                  </a:lnTo>
                  <a:lnTo>
                    <a:pt x="10" y="29"/>
                  </a:lnTo>
                  <a:lnTo>
                    <a:pt x="21" y="0"/>
                  </a:lnTo>
                  <a:lnTo>
                    <a:pt x="15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773080" y="6004080"/>
              <a:ext cx="666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252960" y="6033960"/>
            <a:ext cx="230040" cy="108000"/>
            <a:chOff x="3252960" y="6033960"/>
            <a:chExt cx="230040" cy="108000"/>
          </a:xfrm>
        </p:grpSpPr>
        <p:sp>
          <p:nvSpPr>
            <p:cNvPr id="703" name=""/>
            <p:cNvSpPr/>
            <p:nvPr/>
          </p:nvSpPr>
          <p:spPr>
            <a:xfrm>
              <a:off x="3252960" y="603396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0" y="29"/>
                  </a:moveTo>
                  <a:lnTo>
                    <a:pt x="145" y="0"/>
                  </a:lnTo>
                  <a:lnTo>
                    <a:pt x="145" y="29"/>
                  </a:lnTo>
                  <a:lnTo>
                    <a:pt x="145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3680" y="6080040"/>
              <a:ext cx="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129A-25BD-450A-A101-99B06523A1F4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verification, in general, is an undecidab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 checking is a rather recent verification technique based on the fact that most interesting system properties become decidable (i.e., algorithmically verifiable) when the system is modeled as a finite state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5664-FDBA-4071-9223-ACEF8FF8B18D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cribe a given system—software or otherwise—as an F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 a given property of interest as a suitable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whether the system’s behavior does indeed satisfy the desir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can be performed automa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del checker either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the property holds or giv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form of a test case that exposes the system’s failure to behave according to the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AA58-163F-40E5-A5B3-E5BF104FD01A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6:31Z</dcterms:created>
  <dc:creator>Carlo Ghezzi</dc:creator>
  <dc:description/>
  <dc:language>en-US</dc:language>
  <cp:lastModifiedBy>jazayeri</cp:lastModifiedBy>
  <dcterms:modified xsi:type="dcterms:W3CDTF">2002-02-19T18:10:32Z</dcterms:modified>
  <cp:revision>27</cp:revision>
  <dc:subject/>
  <dc:title>PowerPoint Presentation</dc:title>
</cp:coreProperties>
</file>