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8ECAF-F3FC-455F-80C3-7F2037071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89C95-3F51-4BE7-9577-BF448C219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B0BDD-43AF-4787-B817-54A250AC5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5D096-79A6-42BC-A008-337F4590A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C6051-F0BB-40F3-B8D8-C6EF58DD9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54565-EF5C-4A93-AD49-F56AFE908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99599-EFBC-4A62-BE5F-92417D2E5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6CEAE-7B49-4016-8CCC-FC8CAE512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29EA7-3585-4396-8E43-A6C5B11A3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8EEB3-E8EF-46BC-861A-4B067EF9B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67FE5-3D96-4D01-993C-1CA27EDD2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EF983-3CCB-4DCA-A034-1B1F22C98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A3C19-56BD-4F73-80BE-5BF131D390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066680" y="1143000"/>
            <a:ext cx="6997680" cy="42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9T02:21:02Z</dcterms:created>
  <dc:creator>Spencer Smith</dc:creator>
  <dc:description/>
  <dc:language>en-US</dc:language>
  <cp:lastModifiedBy>Spencer Smith</cp:lastModifiedBy>
  <dcterms:modified xsi:type="dcterms:W3CDTF">2008-02-29T02:25:49Z</dcterms:modified>
  <cp:revision>2</cp:revision>
  <dc:subject/>
  <dc:title>PowerPoint Presentation</dc:title>
</cp:coreProperties>
</file>