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8E86-F2DD-4E73-82DD-E16DD2FD6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728F-A588-42C7-8F68-5F69C8142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2D44-7C93-47E2-BCA6-FD3727760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199C-FBCE-411C-B097-57C9F49DD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468B-D4B7-4984-BA9C-4FDF0F270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F792-6E61-4F89-98B8-DBA2D7606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7DCD-EED8-4502-82C5-2A4F581AB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511A-6ACA-42EF-B6C5-FD665E2E8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2EE7-E056-4773-9822-C54DFAA01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AAAC-7D19-45CA-ABBE-2AF1E6681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C41E-5710-446D-B244-4A0E1021A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0E49-4F74-4B0B-A5A1-739574DA7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12CA9-283E-49D7-BDAD-E55FA995B6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Engineering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D2E5-BDB5-4F5B-BFC5-DD7EF2825F9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 through phases one after the other (as in waterfal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separation of concerns by separating activities with respect to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49BB-89FD-4AB7-9860-E7065AFB7D1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produ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eep product requirements separ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nterface and us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9215-13CD-43C7-BB32-D2FCA0FC176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ar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complex system may be divided into simpler pieces calle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system that is composed of modules is calle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upports application of 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aling with a module we can ignore details of other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FCAA-9AD6-48BE-977A-503B44E8549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hesion and coupl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ch module should b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highly cohes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understandable as a meaningfu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of a module are closely related to one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s should exhibit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 low coupl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s have low interactions with oth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standable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15DC-05B4-44D6-AB98-D828645A100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visual represen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"/>
          <p:cNvSpPr/>
          <p:nvPr/>
        </p:nvSpPr>
        <p:spPr>
          <a:xfrm>
            <a:off x="1962000" y="248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90720" y="2362320"/>
            <a:ext cx="7562880" cy="32004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815040" y="55958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ou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568120" y="5638680"/>
            <a:ext cx="200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u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96AB-BBDD-4C7D-BBB3-9C95B02B72C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dentify the important aspects of a phenomenon and ignore its detai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pecial case of 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type of abstraction to apply depends on purpo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xample : the user interface of a watch (its buttons) abstracts from the watch's internals for the purpose of setting time; other abstractions needed to support repair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F461-384A-4707-9D0D-B96DF314C87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 ignores detai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quations describing complex circuit (e.g., amplifier) allows designer to reason about signal amplif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quations may approximate description, ignoring details that yield negligible effects (e.g., connectors assumed to be idea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78A9-9098-4F05-A2BE-AE2017D3C46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 yields mode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example, when requirements are analyzed we produce a model of the proposed appl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del can be a formal or semiformal descrip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is then possible to reason about the system by reasoning about the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EA9E-CAFC-4451-88BC-7E6751790BC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ming language semantics described through an abstract machine that ignores details of the real machines used for imple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ion ignores details such as precision of number representation or addressing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B603-E506-40C7-8305-F64A85A5598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 in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we do cost estimation we only take some key factors into accou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pply similarity with previous systems, ignoring detail differen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19AD-C1EA-4AA0-9A91-57D6EE4FA21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Arial"/>
              </a:rPr>
              <a:t>Principles form the basis of methods, techniques, methodologies and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Arial"/>
              </a:rPr>
              <a:t>even important principles that may be used in all phases of software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arity is the cornerstone principle supporting software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se studie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4EDB-D261-45F3-A02D-49CF5A05EE5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ticipation of chan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ility to support software evolution  requires anticipating potential future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is the basis for software evolv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et up a configuration management environment for the project (as we will discus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AD98-D603-4AFE-B441-F41B1A126BE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ner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solving a problem, try to discover if it is an instance of a more general problem whose solution can be reused in other c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refully balance generality against performance and co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ometimes a general problem is easier to solve than a special case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E7D6-CF76-4045-AFCF-B73506D034C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ss proceeds in a stepwise fashion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ncremen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 (proces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 subsets of a system early to get early feedback from expected users, then add new features incremen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first with functionality, then turn to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 a first prototype and then incrementally add effort to turn prototype into produ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BE51-4CAB-40F9-BB92-76FD8C4EDC3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: compil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construction is an area where systematic (formal) design methods have been develop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BNF for formal description of language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C2D3-3F81-42FF-BD1F-EC7A5CECBD2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paration of concerns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designing optimal register allocation algorithm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runtim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fficienc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no need to worry about runtime diagnostic message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user friendlines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BC8A-912E-4688-A900-BD2ECD9999F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ar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ation process decomposed into ph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xical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 analysis (pars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hases can be associated with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057A-DFD2-4531-AD0C-47E3A55D9D4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on of modular stru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"/>
          <p:cNvSpPr/>
          <p:nvPr/>
        </p:nvSpPr>
        <p:spPr>
          <a:xfrm>
            <a:off x="193212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7974000" cy="40035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-20880" y="5410080"/>
            <a:ext cx="508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xes represent mo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ed lines represent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AE0E-C1D7-44CF-9667-9B331708A8B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 decomposition may be itera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"/>
          <p:cNvSpPr/>
          <p:nvPr/>
        </p:nvSpPr>
        <p:spPr>
          <a:xfrm>
            <a:off x="193212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066680" y="2743200"/>
          <a:ext cx="7215480" cy="362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743200"/>
                    <a:ext cx="7215480" cy="362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784800" y="2133720"/>
            <a:ext cx="744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modularization of code-gener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DDFC-ED82-42F2-83AA-625900D012E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plied in many c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 to neglect syntactic details such as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egin…e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vs. {…} to bracket statemen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machine code (e.g., Java Bytecode) for code port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A4AC-DC28-4EF6-8FEC-290590382A6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ticipation of chan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der possible changes o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language (due to standardization committe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1CDB-6476-4984-B74A-6520B240FE6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lication of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inciples apply to process and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inciples become practice through methods and techniq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methods and techniques are packaged in 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ethod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ologies can be enforced b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E35A-DDB3-4DA1-883E-FE590A36392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ner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ameterize with respect to target machine (by defining intermediate c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 compiler generating tool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compiler compiler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ead of just one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ED34-05CA-4AB5-8E2B-54C2CF5704E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mental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 first a kernel version for a subset of the source language, then increasingly larger subs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 compiler with little or no diagnostics/optimizations, then add diagnostics/optimiz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36C4-51BA-4A1A-97FD-942F315BFCC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 (system engineering): elevator syst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many cases, the "software engineering" phase starts after understanding and analyzing the "systems engineering”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elevator case study illustrates the poi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6267-B096-4003-87D6-5ECE418C6A1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igor&amp;formality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ite relevant: it is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safety critica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carry up to 400 Kg. (safety alarm and no operation if overloa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mergency brakes must be able to stop elevator within 1 m. and 2 sec. in case of cable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ter, verify their fulfill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3ADC-89A2-4CA3-A1E9-14C337F9F06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paration of concer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to separ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f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bility (e.g, button illumin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though some are strongly rela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reduction by using cheap material can make solution unsaf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605D-2F91-41B0-9875-A14C700FDB01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modular stru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"/>
          <p:cNvSpPr/>
          <p:nvPr/>
        </p:nvSpPr>
        <p:spPr>
          <a:xfrm>
            <a:off x="269712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305000" y="3121200"/>
            <a:ext cx="1805040" cy="22557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36960" y="2209680"/>
            <a:ext cx="1244520" cy="6717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219640" y="3271680"/>
            <a:ext cx="390600" cy="7383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197320" y="4422600"/>
            <a:ext cx="435240" cy="71604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219640" y="5551560"/>
            <a:ext cx="477720" cy="6285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795920" y="2870280"/>
            <a:ext cx="412560" cy="5652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556160" y="2892600"/>
            <a:ext cx="630360" cy="17794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338720" y="2870280"/>
            <a:ext cx="892080" cy="29955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3098520" y="2717640"/>
            <a:ext cx="847800" cy="8906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533240" y="3565440"/>
            <a:ext cx="9075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Times New Roman"/>
              </a:rPr>
              <a:t>Elevato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02560" y="2219400"/>
            <a:ext cx="8863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Control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055040" y="2479680"/>
            <a:ext cx="1026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Times New Roman"/>
              </a:rPr>
              <a:t>apparatu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345640" y="3413160"/>
            <a:ext cx="313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B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67960" y="4606920"/>
            <a:ext cx="313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B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367960" y="5780160"/>
            <a:ext cx="313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B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71480" y="4714920"/>
            <a:ext cx="54468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19920" y="25146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uttons at floor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BF3A-A87D-45F9-A341-9B03EF87D140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 decomposition may be itera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"/>
          <p:cNvSpPr/>
          <p:nvPr/>
        </p:nvSpPr>
        <p:spPr>
          <a:xfrm>
            <a:off x="2247840" y="195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066680" y="1523880"/>
            <a:ext cx="7010640" cy="444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4B0E-EAB0-4E95-BCC9-70DD24594BD4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dular view we provided does not specify the behavior of the mechanical and electrical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are abstracted a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50A0-8DE2-45AD-A24E-FDB3340713B1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ticipation of change, gener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ke the project parametric wrt the number of elevators (and floor button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2610000" y="217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523880" y="2971800"/>
            <a:ext cx="4953240" cy="3152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38FB-F31F-45CD-BD0A-6521AFED8E30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visual represen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"/>
          <p:cNvSpPr/>
          <p:nvPr/>
        </p:nvSpPr>
        <p:spPr>
          <a:xfrm>
            <a:off x="3532320" y="290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14400" y="2286000"/>
            <a:ext cx="7315200" cy="3724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3BD3-12EA-462D-9279-76ECB2AEF35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Key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igor and form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ar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stra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ticipation of cha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ment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29FA-D777-408B-A9A5-49010B1B8C9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igor and form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engineering is a creative design activity, BU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must be practiced systematic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igor is a necessary complement to creativity that increases our confidence in our develop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mality is rigor at the highest degre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process driven and evaluated by mathematical law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B7DB-3F29-4DAB-AEFC-754FDB73AEF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s: produ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thematical (formal) analysis of program correc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atic (rigorous) test data deriv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D445-BE2B-4A2E-A9CC-EDAF0D47639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igorous documentation of development steps helps project management and assessment of timeli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F8A9-7E43-41AA-AC3E-455356F331B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paration of concer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dominate complexity, separate the issues to concentrate on one at a 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"Divide &amp; conquer"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divide et imper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s parallelization of efforts and separation of responsibi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1A17-881D-4089-8FBA-4B1109B195A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6T12:38:55Z</dcterms:created>
  <dc:creator>Carlo Ghezzi</dc:creator>
  <dc:description/>
  <dc:language>en-US</dc:language>
  <cp:lastModifiedBy>jazayeri</cp:lastModifiedBy>
  <dcterms:modified xsi:type="dcterms:W3CDTF">2002-02-19T18:33:08Z</dcterms:modified>
  <cp:revision>9</cp:revision>
  <dc:subject/>
  <dc:title>Software Engineering Principles</dc:title>
</cp:coreProperties>
</file>