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B5ED-33A8-49E7-BB06-E97CE5299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1EE0-6FFB-41A8-857C-51810CA6A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0723-2C2B-4FA1-8648-629B42085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C0C2-43B4-4607-9A30-6889E30EF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D253-095D-4DFA-AC55-45FFDEFA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BABA-875E-4E49-BCC6-B4DD65ABB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3F35-2FEA-4B86-AEED-D89D5C223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91DD-5AD4-47A1-B302-22E8D5BD3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41B5-C17A-49F5-AB74-17D2070E8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6685-9D0E-42DE-B919-C161DC9F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31F1-B06C-4BF8-A6B9-ACD5AD26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172A-425C-4106-85AF-BFB85228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4FF6D-3B43-4803-88F2-F6C7EF138D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9:55Z</dcterms:modified>
  <cp:revision>4</cp:revision>
  <dc:subject/>
  <dc:title>PowerPoint Presentation</dc:title>
</cp:coreProperties>
</file>