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9C4C-DB4E-44A5-BC3B-587FB0C29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FD0E-AE2F-4AB8-B604-4BBF484C2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CAEE-E9C5-49C2-8ADC-4FA4C3D20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27A1-679B-435F-A50B-BD8E095CE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364B-7C3B-44FA-A62F-E339AC16F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788C-79EC-4C15-BF31-48C04253C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48C3-B238-4DA6-AB74-23FB076CD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5C20-96DB-4CB8-82AA-9773AB12E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BB08-7AD0-4CAB-B673-825E8D880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0A82-6095-4C10-8CEB-24143198B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56BF-C211-4DA2-8B5D-16952C9A5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B31B-0F09-4BEC-B0F0-3928EDF4D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3430B-642E-4FCB-B8F1-E7EA96DEE3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4320" y="1371600"/>
            <a:ext cx="425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ile x ≠ y loo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gt; y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:= x -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 := y -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cd : 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648320" y="2819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181480" y="1143000"/>
            <a:ext cx="34768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20:59Z</dcterms:modified>
  <cp:revision>5</cp:revision>
  <dc:subject/>
  <dc:title>PowerPoint Presentation</dc:title>
</cp:coreProperties>
</file>