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BF38-76CD-413C-A793-54B4D455D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3D3D-6A82-42E4-B140-870E2902A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BD6F-F79F-4F8F-902C-10A2812BC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AA09-D8D3-47AB-BA39-D5CEB6247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CEFD-97E0-4386-BF06-2339AF39D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93AC-B4A8-4010-B2B1-EA2CFF30C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F512-29F3-44B9-8A2A-AE6DB92DD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4476-BC4C-43B0-9AD9-97E7FA331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9305-1E2C-4547-AACD-1DE88FDB9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61D6-613B-46F0-9695-9D2A60A3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426A-14C3-401A-AEB2-EFAEDDAC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C6E1-EE70-489B-878F-E00CEDCF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E1DF9-D695-40AE-BFE4-4E276E5031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468360"/>
            <a:ext cx="6997680" cy="58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2:21Z</dcterms:modified>
  <cp:revision>1</cp:revision>
  <dc:subject/>
  <dc:title>PowerPoint Presentation</dc:title>
</cp:coreProperties>
</file>