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D0B2-2DF2-4BFA-BD1B-1F00478CD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96D2-D7D5-4AAF-A0B3-C94C07237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8AAD-F19E-4A42-ADC6-A421D9D0E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ADF2-80B2-48A6-A212-92EA88CFB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FE2B-9918-4E90-9A18-0203F90D4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A5C3-CA5D-49C4-96F3-DDCBD4FE0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B291-A8BA-4DA4-BC67-C914AF2CC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5020-FB7F-472B-AFB1-460C5A800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02C6-4288-4F0F-A36D-93843103C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2A07-FBA6-4293-B9E7-0626B104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AA62-AE29-4A41-913A-14AA79217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69CD-0E53-48AB-9527-B1AF9A2AE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059AA-5C06-47B5-ADFD-D6A6BB1682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980480" cy="31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8:11Z</dcterms:modified>
  <cp:revision>5</cp:revision>
  <dc:subject/>
  <dc:title>PowerPoint Presentation</dc:title>
</cp:coreProperties>
</file>