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1F11-70B7-4E22-AB73-AACEAE668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AFCD-E8F0-473A-8E2C-314120973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CD9A-31FD-413E-AFC9-6E797B727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1110-E45B-479C-83CE-5C429579D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16FE-DF15-4C2E-9446-CE0751B0D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1CE1-EB2E-4285-9342-17AEC4B00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73B9-E66E-49A1-BDB9-0E8CDEB42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5AA2-19B8-45E2-BC93-67E313F55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5AE5-0204-4236-B63C-DBFBBFD6A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CB00-1646-4581-959B-A750FBE9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7248-0459-4EE0-9E12-C63E062A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A15A-896C-4991-848E-7A0C00CB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90874-A6A1-4BD8-B3D4-DB40754E76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752480" y="1600200"/>
          <a:ext cx="525780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600200"/>
                    <a:ext cx="52578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8:05Z</dcterms:modified>
  <cp:revision>4</cp:revision>
  <dc:subject/>
  <dc:title>PowerPoint Presentation</dc:title>
</cp:coreProperties>
</file>