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9E19-58DA-4EA8-8818-13DA3AAF1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DA98-44E6-4C78-8E78-B1AA5DF08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0365-88F7-46FF-9316-CE46DC2E5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25FF-2497-48B0-BC64-06A2DB580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2AC3-165F-447F-9246-FA03A5C20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95CF-0AE4-4F88-B41A-08E38C77F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9562-DD4D-4FCE-9026-094070509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592C-956C-465D-B6BD-F2E9403FD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0072-A9A9-47F0-9FF7-DD21B0A2F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7A6F-2C41-4BF1-B178-2A095F3E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A001-86B4-4AED-9069-7586206F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04FC-5EEE-4DDB-B1AA-994EFE5F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2DF8-C65A-48FD-AFE5-A0DA71B486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280" y="1430280"/>
            <a:ext cx="3602160" cy="1079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22400" y="3274920"/>
            <a:ext cx="3720960" cy="1065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42920" y="5183280"/>
            <a:ext cx="4451400" cy="1226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775040" y="1338120"/>
            <a:ext cx="4232520" cy="3127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957920" y="5102280"/>
            <a:ext cx="4049640" cy="1165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60" y="111276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9080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b900"/>
                </a:solidFill>
                <a:latin typeface="Times New Roman"/>
              </a:rPr>
              <a:t>Inve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0" y="47102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39080" y="11224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65040" y="466884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5c00"/>
                </a:solidFill>
                <a:latin typeface="Times New Roman"/>
              </a:rPr>
              <a:t>Generalized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934760" y="108432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965000" y="481176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0600" y="63882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94680" y="28224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179520" y="6329160"/>
            <a:ext cx="112680" cy="21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2997000" y="2539800"/>
            <a:ext cx="161640" cy="35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260880" y="3057480"/>
            <a:ext cx="204480" cy="2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7862760" y="1252440"/>
            <a:ext cx="12384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7873560" y="5010120"/>
            <a:ext cx="13356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108080"/>
            <a:ext cx="4308480" cy="1736640"/>
          </a:xfrm>
          <a:prstGeom prst="rect">
            <a:avLst/>
          </a:prstGeom>
          <a:solidFill>
            <a:srgbClr val="bbe0e3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865600"/>
            <a:ext cx="4308480" cy="1747800"/>
          </a:xfrm>
          <a:prstGeom prst="rect">
            <a:avLst/>
          </a:prstGeom>
          <a:solidFill>
            <a:srgbClr val="3333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622760"/>
            <a:ext cx="4794120" cy="1979640"/>
          </a:xfrm>
          <a:prstGeom prst="rect">
            <a:avLst/>
          </a:prstGeom>
          <a:solidFill>
            <a:srgbClr val="cdffc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5280" y="4632480"/>
            <a:ext cx="4338720" cy="1962000"/>
          </a:xfrm>
          <a:prstGeom prst="rect">
            <a:avLst/>
          </a:prstGeom>
          <a:solidFill>
            <a:srgbClr val="b4b9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08480" y="1087560"/>
            <a:ext cx="4835520" cy="3535200"/>
          </a:xfrm>
          <a:prstGeom prst="rect">
            <a:avLst/>
          </a:prstGeom>
          <a:solidFill>
            <a:srgbClr val="0099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17320" y="6287760"/>
            <a:ext cx="2786040" cy="297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8:55Z</dcterms:modified>
  <cp:revision>3</cp:revision>
  <dc:subject/>
  <dc:title>PowerPoint Presentation</dc:title>
</cp:coreProperties>
</file>