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E4C6-FF3E-44F8-BF1D-AC177DDA9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CFDB-4BE0-4A06-9900-F832FE62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50F9-788A-44AE-950B-1739FECAB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2852-365C-4CBF-8C87-50402876A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ADEC-595F-4EAD-B74D-236C2663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D5D9-A481-4E30-ABB3-4A531832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1932-E07E-4010-9640-365923DE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6A5C-BFAC-4BD7-A35E-3B8E1E53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A520-BBE9-4A91-A696-469175FF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7B48-64DA-442E-A3E9-1A6C52D7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501A-F9F9-4ACF-AF3F-3ADAC6D1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034F-3494-40AC-8FD7-0B4F982C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A28D-A939-4560-85CB-C39ABB3D0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976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5:49Z</dcterms:modified>
  <cp:revision>2</cp:revision>
  <dc:subject/>
  <dc:title>PowerPoint Presentation</dc:title>
</cp:coreProperties>
</file>