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AA7C-AF99-430F-9FBC-73DB26C3D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C655-48AB-4A87-AEB8-B2D016ABE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1A54-E896-41CB-BE1D-207BBC9EF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EB21-5ED0-486D-9C08-C3E02AF02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4411-B278-4F46-B6AF-FA69A1EA8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30F4-48B8-414D-8B0E-AF2A5681D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54DB-64DE-4813-BACB-5ABDAF751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9E75-A9D6-47C4-AC39-1382306D4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6ABD-4A3E-43B8-B2C3-8BC87F171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69D8-55C8-41E0-805F-57469F7C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77EC-2901-407A-84FE-93B1C53C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C70A-80BE-490F-92FD-4654AB46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F3819-6C25-456E-953A-59CDC75593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43000" y="762120"/>
          <a:ext cx="7008840" cy="550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762120"/>
                    <a:ext cx="700884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6:45Z</dcterms:modified>
  <cp:revision>3</cp:revision>
  <dc:subject/>
  <dc:title>PowerPoint Presentation</dc:title>
</cp:coreProperties>
</file>