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5D3C-DF3B-4272-905B-6AD3E9127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B922-48E3-4601-B7DF-76E081FAA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5686-0398-4F42-BEE3-CCA939C49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F61D-0B6F-4C52-90A9-187B559AC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4737-6AB1-4898-A3C2-9F4BFC73F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7670-B554-437C-BE3F-2D50EC162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6EEF-A07B-4E42-A6E6-1EA4933CA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FB49-319C-4B8C-A9AB-34EFDEA1C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4F09-26F8-45E6-A957-A612779C5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C4AB-A3E6-4675-8BC7-E67A86CA6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A8F7-651D-4C04-9229-57C93211F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F870-86D0-4672-8C49-397CEAE7F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77D1F-DE60-4A2A-8F8F-1B52EAA7B7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software production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C4B8-35B5-4A75-BCD0-C0F8D0F923B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bl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ssumption is that requirements can be fully understood prior to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action with the customer occurs only at the beginning (requirements) and end (after delivery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fortunately the assumption almost never hol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DE61-6124-46D0-8974-264E55657D3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cess as a "white box"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"/>
          <p:cNvSpPr/>
          <p:nvPr/>
        </p:nvSpPr>
        <p:spPr>
          <a:xfrm>
            <a:off x="1833480" y="217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04920" y="1905120"/>
            <a:ext cx="8458200" cy="3857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0EF5-E0AC-41FA-A47B-C11A4D744EA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dvantag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duce risks by improving visi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low project changes as the project progre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feedback from the cust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5743-3BD5-4B15-9326-938D0889E7C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main activities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must be performed independently of the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del simply affects the flow among activ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137C-73B2-4B1E-B655-ADE05AD344B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easibility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 new projec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/benefits tradeoff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y vs m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o perform preliminary requirements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a Feasibility Study Docu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752480" indent="-3808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Definition of the probl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752480" indent="-3808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lternative solutions and their expected benef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752480" indent="-3808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equired resources, costs, and delivery dates in each proposed alternative solu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9E16-51CD-4182-BE90-FD00A4E452D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quirements engineering activ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14D6-841C-4E94-B43B-3A52C784A90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quirements 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olv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ic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st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yz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cus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wha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qualities are needed, NOT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achieve the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3565-34E2-433B-A24F-45F03ECCA2E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is need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derstand interface between the application and the external wor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derstand the application doma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ntify the main stakeholders and understand expect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takeholders have different view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ware engineer must integrate and reconcile th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5EF5-E5D8-4CAB-A832-BB59B1028B6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requirements specification document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s a specification for the interface between the application and the external wor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e qualities to be m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s its own qu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nderstandab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ecis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ple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ist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nambiguous, easil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ab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6CE0-89E1-4B0E-B6F2-B16D1685146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requirements specification document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st be analyzed and confirmed by the stakehold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even include version 0 of user 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be accompanied by the system test plan docu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D9D9-C48C-4D0D-A29E-81406C39963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What is the life cycle of a software produc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Why do we need software process model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What are the goals of a software process and what makes it different from other industrial processe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611E-AEE9-4274-BCF0-471A361A4AF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requirements specification document (3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 any large document, it must be modul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vertical" modu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ual decomposition, which may be hierarch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horizontal" modu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view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s both functional and non functional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2D55-5634-47A6-B1A0-450EB1C5F87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ase stud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Comic Sans MS"/>
              </a:rPr>
              <a:t>railway automati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are the stakeholder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of the train comp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in drivers and their un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ngers (customer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ac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ch has different go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8043-1206-4047-A719-338883CBCCC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ow to classify requirement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afety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probability of accidents should be less than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-9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per yea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tility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level of usefulness of the system as perceived by the various stakehold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2D67-3695-40D0-A762-20535D0A1FD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produced documen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troduction: the “mission” of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rchitecture: the main structure of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pecific requirements associated with each sub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iscussion of how the subsystems’ requirements guarantee that the overall goals are indeed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47E6-3D97-48BD-91FF-3FBC3306EAC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architecture and detailed design a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result of this activity is a Design Specification Docu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ually follows a company standard, which may include a standard notation, such as U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62D6-EAE1-4E60-82FD-1710C0512B6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ing and module testing a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any wide standards often followed for coding sty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lack box/white box criter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BA80-8651-41CB-A392-B0E980FB8AF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gration and system test a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se activities may be integrated with coding and module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gration may be done incrementally through sub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 down vs. bottom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last step i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system te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followed b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lpha te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76F1-BD75-4E3C-BD8A-7976BA165C4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livery, deployment, and maintenance activ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liv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delivery may be preceded b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eta te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ploy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llocated on physica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te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ctive, adaptive, perfe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1842-FEE0-45BD-99CD-FE97AE1C48D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inten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errors are main cause of maintenance activ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 discovery of requirements errors causes increased co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E393-2750-4854-BB08-56950BB018B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ther software activ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if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can be considered as parts of any kind of software related activ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3F07-91C1-4F1F-AC10-28D5EC9CD80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 answer: "waterfall" life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Flexible, incremental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Case stud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"synchronize-and-stabilize"  (Microsof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the "open source" development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Organizing the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software method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the "Unified Process"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Organizing artifacts: configuration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Stand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67F6-DDDC-4D2A-9E50-40898E1C093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verview of software process mode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B93D-4F01-425B-A5BF-DD9E444B654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aterfall model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ented in the late 1950s for large air defense systems, popularized in the 1970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organize activities in a sequential fl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ist in many variants, all sharing sequential flow sty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2669-F0E8-433D-923E-7A81E2928BE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874880" y="14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85800" y="628560"/>
            <a:ext cx="8001000" cy="5765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4475160" y="482760"/>
            <a:ext cx="4367160" cy="7034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A waterfall mod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CD9F-FF49-472A-BF3D-9DB7996038C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aterfall model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ganizations adopting them standardize the outputs of the various phase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deliverabl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also prescribe methods to follow in each pha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ganization of methods in frameworks often called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ethod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Military Standard (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IL-STD-2167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7D72-B64A-4976-B6FC-C44006CFDEF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ritical evaluation of the waterfall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w process subject to discipline, planning, and man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stpone implementation to after understanding objectiv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near, rigid, monolith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parallel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ingle delivery 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200A-AE78-48C3-A71D-A314FC7912D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417680" y="169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8412120" cy="49989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067920" y="380880"/>
            <a:ext cx="5805720" cy="7034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Waterfall with feedbac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9E12-94D0-4367-A9B0-5CE4B43E390D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blems with waterfal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timates made when limited knowledge avail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icult to gather all requirements once and for a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s may not know what they w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cannot be froz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3987-44CF-4CB6-ABE1-A4240D7A030D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volutionary mode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variants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t development evolves through inc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"do it twice" (F. Brooks, 199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olutionary proto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ary process model (B. Boehm, 1988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"model whose stages consist of expanding increments of an operational software product, with the direction of evolution being determined by operational experience"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8342-051F-4E30-B2CF-D1F8E04D35EA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 delive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ntify self-contained functional units that may be delivered to custom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get early feedb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ccording to T. Gilb, 1988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liv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something to the real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the added value to the user in all critical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djust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sign and objectiv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5602-A381-458C-B5BC-FA9701CC8C3B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ransformation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uided by formal metho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ifications transformed into implementations via transform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a theoretical reference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0EC8-F64C-4978-B75C-7D6EA1EC9BB3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fe cyc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The life cycle of a software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from inception of an idea for a product throug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requirements gathering and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architecture design and spec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coding and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delivery and deploy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maintenance and ev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reti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49A4-14B1-40B1-9530-B66E98672EA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274840" y="196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8001000" cy="50958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809720" y="228600"/>
            <a:ext cx="5543640" cy="7034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ransformation mod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FDAC-BFAD-48B9-BB86-9353C250EFEB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27800" y="762120"/>
            <a:ext cx="3183120" cy="1190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Spiral mod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. Boehm, 198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66920" y="97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645000" y="609480"/>
            <a:ext cx="5254560" cy="5585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50D7-6601-4D63-8E02-42EB03E700A2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final model assessment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terfa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 driv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formation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ation driv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ir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sk driv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B4D5-8DCC-40C9-BCBF-6DE184378DEB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final model assessment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lexibility needed to reduce ri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sunderstandings in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ceptable time to mar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terfall may be useful as a reference structure for 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s the "rationale" a posteriori (Parnas and Clements, 198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8F08-6E46-4938-B781-1F5070C41B8A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gacy 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7F44-8483-493D-9DD1-EE837065AD8A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isting software must evolve because requirements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engine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ss through which an existing system undergoes an alteration, to be reconstituted in a new for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verse engine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n existing system to its documentation, which may not exist, or may be in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rogram understa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reventive mainten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250A-CD6E-4771-8E26-FE4E22EE4DC5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nchronize&amp;Stabiliz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The Microsoft Software Proces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5379-8DCD-428F-BDA5-2CD515C77F3F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anning pha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sion of the product, specification, sche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ment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am composed of 2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nd testers (continuous tes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prescrib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ily 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t stab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136C-B302-414F-9978-3852DAC9E9DB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Open Source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9641-F68E-42A3-B618-43F8A1CBE427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pen sour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gulates licensed software, specifying its use, copy, modification, and distribution righ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Business does not derive from selling software, but rather from other, indirect activiti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(services, accessories, advertisement, etc.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0F48-260B-48ED-88DE-434B6B20BFEC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process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Attempt to organize the software life cycle b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defining activities involved in software pro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order of activities and their relationsh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oals of a software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standardization, predictability, productivity, high product quality, ability to plan time and budge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5A45-0554-47E5-B474-63AAA9F41ED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ighly distributed process characterized by frequent iter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ide availability of source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penness to contributions from a large community of develop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abling technolo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(large scale and fast collabora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ositories with version control and configuration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562C-3A08-4CC4-AED5-C632DFEDA4F4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ethodologies to organize the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0232-F881-4CF2-93CE-17AD4CA88699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A/S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ructured Analysis/Structured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 major conceptual tools for model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flow dia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specif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diction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 defin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Engl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scribe transformation of terminal bub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2E78-52DF-4487-8869-B7417F3E7BD8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FDs: a remind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"/>
          <p:cNvSpPr/>
          <p:nvPr/>
        </p:nvSpPr>
        <p:spPr>
          <a:xfrm>
            <a:off x="2941560" y="24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295280" y="1600200"/>
            <a:ext cx="7239240" cy="4483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9055-C79E-4C4A-A57E-1A16587D5452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2397240" y="70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990720" y="228600"/>
            <a:ext cx="6172200" cy="59292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6368040" y="3124080"/>
            <a:ext cx="189216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nalysis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ffic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8C33-BD7B-4877-A21F-0EB1373D4664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419200" y="15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6324480" cy="5586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35040" y="3657600"/>
            <a:ext cx="190116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utom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or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8B21-C223-4FAE-8BB6-C85E979876A8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rom analysis to desig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of Structured Diagrams (SD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"method" is provided to transform DFDs into SDs; tries 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coup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imize cohe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C458-8A50-4C42-9C07-7DC82B4BF7A0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/>
          <p:nvPr/>
        </p:nvSpPr>
        <p:spPr>
          <a:xfrm>
            <a:off x="762840" y="1523880"/>
            <a:ext cx="8206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DAG of functional modul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(direction of arrow is implicitly downwar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71296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000080" y="2557440"/>
            <a:ext cx="6553080" cy="3679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A3A4-B1BA-4ECA-97BF-FAC33E472F6A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orated S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/>
          <p:nvPr/>
        </p:nvSpPr>
        <p:spPr>
          <a:xfrm>
            <a:off x="301464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928960" y="2422440"/>
            <a:ext cx="1598760" cy="106704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525920" y="4551480"/>
            <a:ext cx="1598760" cy="106668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332000" y="4551480"/>
            <a:ext cx="1598400" cy="106668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516840" y="2800440"/>
            <a:ext cx="24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CenturySchlbk"/>
              </a:rPr>
              <a:t>M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80560" y="4929120"/>
            <a:ext cx="24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CenturySchlbk"/>
              </a:rPr>
              <a:t>M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053080" y="4929120"/>
            <a:ext cx="24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CenturySchlbk"/>
              </a:rPr>
              <a:t>M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301120" y="5032440"/>
            <a:ext cx="102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628600" y="5032440"/>
            <a:ext cx="102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321000" y="3479760"/>
            <a:ext cx="531720" cy="266760"/>
          </a:xfrm>
          <a:custGeom>
            <a:avLst/>
            <a:gdLst/>
            <a:ahLst/>
            <a:rect l="l" t="t" r="r" b="b"/>
            <a:pathLst>
              <a:path w="335" h="168">
                <a:moveTo>
                  <a:pt x="168" y="0"/>
                </a:moveTo>
                <a:lnTo>
                  <a:pt x="0" y="84"/>
                </a:lnTo>
                <a:lnTo>
                  <a:pt x="168" y="168"/>
                </a:lnTo>
                <a:lnTo>
                  <a:pt x="335" y="84"/>
                </a:lnTo>
                <a:lnTo>
                  <a:pt x="168" y="0"/>
                </a:lnTo>
                <a:close/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2212560" y="3672000"/>
            <a:ext cx="1241640" cy="8586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735360" y="3672000"/>
            <a:ext cx="1508040" cy="8730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492000" y="3634920"/>
            <a:ext cx="770040" cy="446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698"/>
                </a:moveTo>
                <a:arcTo wR="10800" hR="10800" stAng="-32352" swAng="5451285"/>
                <a:lnTo>
                  <a:pt x="10800" y="10800"/>
                </a:lnTo>
                <a:close/>
              </a:path>
              <a:path fill="none" w="21600" h="21600">
                <a:moveTo>
                  <a:pt x="21600" y="10698"/>
                </a:moveTo>
                <a:arcTo wR="10800" hR="10800" stAng="-32352" swAng="5451285"/>
              </a:path>
            </a:pathLst>
          </a:cu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4194000" y="3716280"/>
            <a:ext cx="103320" cy="208080"/>
            <a:chOff x="4194000" y="3716280"/>
            <a:chExt cx="103320" cy="208080"/>
          </a:xfrm>
        </p:grpSpPr>
        <p:sp>
          <p:nvSpPr>
            <p:cNvPr id="181" name=""/>
            <p:cNvSpPr/>
            <p:nvPr/>
          </p:nvSpPr>
          <p:spPr>
            <a:xfrm>
              <a:off x="4194000" y="3716280"/>
              <a:ext cx="103320" cy="208080"/>
            </a:xfrm>
            <a:custGeom>
              <a:avLst/>
              <a:gdLst/>
              <a:ahLst/>
              <a:rect l="l" t="t" r="r" b="b"/>
              <a:pathLst>
                <a:path w="65" h="131">
                  <a:moveTo>
                    <a:pt x="37" y="0"/>
                  </a:moveTo>
                  <a:lnTo>
                    <a:pt x="65" y="131"/>
                  </a:lnTo>
                  <a:lnTo>
                    <a:pt x="37" y="131"/>
                  </a:lnTo>
                  <a:lnTo>
                    <a:pt x="0" y="131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253040" y="3849840"/>
              <a:ext cx="1440" cy="745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2922480" y="3671640"/>
            <a:ext cx="309600" cy="222480"/>
            <a:chOff x="2922480" y="3671640"/>
            <a:chExt cx="309600" cy="222480"/>
          </a:xfrm>
        </p:grpSpPr>
        <p:sp>
          <p:nvSpPr>
            <p:cNvPr id="184" name=""/>
            <p:cNvSpPr/>
            <p:nvPr/>
          </p:nvSpPr>
          <p:spPr>
            <a:xfrm>
              <a:off x="2922480" y="3716280"/>
              <a:ext cx="192240" cy="177840"/>
            </a:xfrm>
            <a:custGeom>
              <a:avLst/>
              <a:gdLst/>
              <a:ahLst/>
              <a:rect l="l" t="t" r="r" b="b"/>
              <a:pathLst>
                <a:path w="121" h="112">
                  <a:moveTo>
                    <a:pt x="0" y="112"/>
                  </a:moveTo>
                  <a:lnTo>
                    <a:pt x="83" y="0"/>
                  </a:lnTo>
                  <a:lnTo>
                    <a:pt x="102" y="28"/>
                  </a:lnTo>
                  <a:lnTo>
                    <a:pt x="121" y="56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3084480" y="3671640"/>
              <a:ext cx="147600" cy="889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2152800" y="4205160"/>
            <a:ext cx="311040" cy="220680"/>
            <a:chOff x="2152800" y="4205160"/>
            <a:chExt cx="311040" cy="220680"/>
          </a:xfrm>
        </p:grpSpPr>
        <p:sp>
          <p:nvSpPr>
            <p:cNvPr id="187" name=""/>
            <p:cNvSpPr/>
            <p:nvPr/>
          </p:nvSpPr>
          <p:spPr>
            <a:xfrm>
              <a:off x="2255760" y="4205160"/>
              <a:ext cx="208080" cy="162000"/>
            </a:xfrm>
            <a:custGeom>
              <a:avLst/>
              <a:gdLst/>
              <a:ahLst/>
              <a:rect l="l" t="t" r="r" b="b"/>
              <a:pathLst>
                <a:path w="131" h="102">
                  <a:moveTo>
                    <a:pt x="131" y="0"/>
                  </a:moveTo>
                  <a:lnTo>
                    <a:pt x="38" y="102"/>
                  </a:lnTo>
                  <a:lnTo>
                    <a:pt x="19" y="74"/>
                  </a:lnTo>
                  <a:lnTo>
                    <a:pt x="0" y="46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2152800" y="4322880"/>
              <a:ext cx="133200" cy="1029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4976640" y="4205160"/>
            <a:ext cx="370080" cy="250920"/>
            <a:chOff x="4976640" y="4205160"/>
            <a:chExt cx="370080" cy="250920"/>
          </a:xfrm>
        </p:grpSpPr>
        <p:sp>
          <p:nvSpPr>
            <p:cNvPr id="190" name=""/>
            <p:cNvSpPr/>
            <p:nvPr/>
          </p:nvSpPr>
          <p:spPr>
            <a:xfrm>
              <a:off x="4976640" y="4205160"/>
              <a:ext cx="193680" cy="147600"/>
            </a:xfrm>
            <a:custGeom>
              <a:avLst/>
              <a:gdLst/>
              <a:ahLst/>
              <a:rect l="l" t="t" r="r" b="b"/>
              <a:pathLst>
                <a:path w="122" h="93">
                  <a:moveTo>
                    <a:pt x="0" y="0"/>
                  </a:moveTo>
                  <a:lnTo>
                    <a:pt x="122" y="46"/>
                  </a:lnTo>
                  <a:lnTo>
                    <a:pt x="103" y="65"/>
                  </a:lnTo>
                  <a:lnTo>
                    <a:pt x="84" y="9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140440" y="4308480"/>
              <a:ext cx="206280" cy="1476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1947240" y="4189320"/>
            <a:ext cx="115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26720" y="3687840"/>
            <a:ext cx="116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357520" y="4160880"/>
            <a:ext cx="113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495120" y="2243160"/>
            <a:ext cx="1538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924680" y="2362320"/>
            <a:ext cx="532080" cy="266760"/>
          </a:xfrm>
          <a:custGeom>
            <a:avLst/>
            <a:gdLst/>
            <a:ahLst/>
            <a:rect l="l" t="t" r="r" b="b"/>
            <a:pathLst>
              <a:path w="335" h="168">
                <a:moveTo>
                  <a:pt x="168" y="0"/>
                </a:moveTo>
                <a:lnTo>
                  <a:pt x="0" y="84"/>
                </a:lnTo>
                <a:lnTo>
                  <a:pt x="168" y="168"/>
                </a:lnTo>
                <a:lnTo>
                  <a:pt x="335" y="84"/>
                </a:lnTo>
                <a:lnTo>
                  <a:pt x="168" y="0"/>
                </a:lnTo>
                <a:close/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895800" y="2623680"/>
            <a:ext cx="770040" cy="446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698"/>
                </a:moveTo>
                <a:arcTo wR="10800" hR="10800" stAng="-32352" swAng="5451285"/>
                <a:lnTo>
                  <a:pt x="10800" y="10800"/>
                </a:lnTo>
                <a:close/>
              </a:path>
              <a:path fill="none" w="21600" h="21600">
                <a:moveTo>
                  <a:pt x="21600" y="10698"/>
                </a:moveTo>
                <a:arcTo wR="10800" hR="10800" stAng="-32352" swAng="5451285"/>
              </a:path>
            </a:pathLst>
          </a:cu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7620120" y="2666880"/>
            <a:ext cx="102960" cy="208080"/>
            <a:chOff x="7620120" y="2666880"/>
            <a:chExt cx="102960" cy="208080"/>
          </a:xfrm>
        </p:grpSpPr>
        <p:sp>
          <p:nvSpPr>
            <p:cNvPr id="199" name=""/>
            <p:cNvSpPr/>
            <p:nvPr/>
          </p:nvSpPr>
          <p:spPr>
            <a:xfrm>
              <a:off x="7620120" y="2666880"/>
              <a:ext cx="102960" cy="208080"/>
            </a:xfrm>
            <a:custGeom>
              <a:avLst/>
              <a:gdLst/>
              <a:ahLst/>
              <a:rect l="l" t="t" r="r" b="b"/>
              <a:pathLst>
                <a:path w="65" h="131">
                  <a:moveTo>
                    <a:pt x="37" y="0"/>
                  </a:moveTo>
                  <a:lnTo>
                    <a:pt x="65" y="131"/>
                  </a:lnTo>
                  <a:lnTo>
                    <a:pt x="37" y="131"/>
                  </a:lnTo>
                  <a:lnTo>
                    <a:pt x="0" y="131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678800" y="2800440"/>
              <a:ext cx="1080" cy="745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8267760" y="3095640"/>
            <a:ext cx="311040" cy="220680"/>
            <a:chOff x="8267760" y="3095640"/>
            <a:chExt cx="311040" cy="220680"/>
          </a:xfrm>
        </p:grpSpPr>
        <p:sp>
          <p:nvSpPr>
            <p:cNvPr id="202" name=""/>
            <p:cNvSpPr/>
            <p:nvPr/>
          </p:nvSpPr>
          <p:spPr>
            <a:xfrm>
              <a:off x="8370720" y="3095640"/>
              <a:ext cx="208080" cy="162000"/>
            </a:xfrm>
            <a:custGeom>
              <a:avLst/>
              <a:gdLst/>
              <a:ahLst/>
              <a:rect l="l" t="t" r="r" b="b"/>
              <a:pathLst>
                <a:path w="131" h="102">
                  <a:moveTo>
                    <a:pt x="131" y="0"/>
                  </a:moveTo>
                  <a:lnTo>
                    <a:pt x="38" y="102"/>
                  </a:lnTo>
                  <a:lnTo>
                    <a:pt x="19" y="74"/>
                  </a:lnTo>
                  <a:lnTo>
                    <a:pt x="0" y="46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8267760" y="3213360"/>
              <a:ext cx="133200" cy="1029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8030160" y="3079800"/>
            <a:ext cx="119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ewCenturySchlbk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CEEE-DB45-4E7D-ADD4-DC357B647F52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7140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orated S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"/>
          <p:cNvSpPr/>
          <p:nvPr/>
        </p:nvSpPr>
        <p:spPr>
          <a:xfrm>
            <a:off x="2701800" y="168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1362240" y="1303200"/>
            <a:ext cx="5378400" cy="501516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5873400" y="1611360"/>
            <a:ext cx="285192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bstract 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rans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bstract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A4E7-A37F-4C60-8994-5DA92297B7D0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&amp;Fix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earliest approach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ix it to eliminate any errors that have been detected, to enhance existing functionality, or to add new featur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urce of difficulties and deficienc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sible to predi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sible to man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B628-468C-47C8-A646-255AA3E6677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D for the "order" DF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"/>
          <p:cNvSpPr/>
          <p:nvPr/>
        </p:nvSpPr>
        <p:spPr>
          <a:xfrm>
            <a:off x="271296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957240" y="2141640"/>
            <a:ext cx="6516720" cy="36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122E-8416-4DAC-A039-487B586075F3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JSD and JSP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ackson's System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odeling s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sis and modeling of the external wor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ctions (described by process structure diagra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etwork s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ystem modeled as a network of interconnected and communicating processes—system specification network (SS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mplementation stag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BBC9-6C5C-40C8-B7CE-ECA9748638E1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2538360" y="88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412920" y="387360"/>
            <a:ext cx="4472640" cy="3139560"/>
            <a:chOff x="412920" y="387360"/>
            <a:chExt cx="4472640" cy="3139560"/>
          </a:xfrm>
        </p:grpSpPr>
        <p:sp>
          <p:nvSpPr>
            <p:cNvPr id="216" name=""/>
            <p:cNvSpPr/>
            <p:nvPr/>
          </p:nvSpPr>
          <p:spPr>
            <a:xfrm>
              <a:off x="1972800" y="387360"/>
              <a:ext cx="1249200" cy="92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638160" y="2243880"/>
              <a:ext cx="1247400" cy="92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972800" y="2243880"/>
              <a:ext cx="1249200" cy="92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12920" y="2243880"/>
              <a:ext cx="1247400" cy="92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410200" y="69012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79320" y="25470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505240" y="25470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948960" y="25470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1134720" y="1309320"/>
              <a:ext cx="1455840" cy="92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590560" y="1309320"/>
              <a:ext cx="2160" cy="92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590560" y="1309320"/>
              <a:ext cx="1665720" cy="92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500560" y="3359160"/>
              <a:ext cx="172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(a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5899320" y="3178080"/>
            <a:ext cx="1531440" cy="2921040"/>
            <a:chOff x="5899320" y="3178080"/>
            <a:chExt cx="1531440" cy="2921040"/>
          </a:xfrm>
        </p:grpSpPr>
        <p:sp>
          <p:nvSpPr>
            <p:cNvPr id="229" name=""/>
            <p:cNvSpPr/>
            <p:nvPr/>
          </p:nvSpPr>
          <p:spPr>
            <a:xfrm>
              <a:off x="5899320" y="3178080"/>
              <a:ext cx="1531440" cy="852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899320" y="4883040"/>
              <a:ext cx="1531440" cy="852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521400" y="344412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562440" y="516168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657840" y="4024800"/>
              <a:ext cx="2520" cy="8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247160" y="4924800"/>
              <a:ext cx="70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495840" y="5931360"/>
              <a:ext cx="165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(c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743040" y="3828960"/>
            <a:ext cx="3094920" cy="2808360"/>
            <a:chOff x="743040" y="3828960"/>
            <a:chExt cx="3094920" cy="2808360"/>
          </a:xfrm>
        </p:grpSpPr>
        <p:sp>
          <p:nvSpPr>
            <p:cNvPr id="237" name=""/>
            <p:cNvSpPr/>
            <p:nvPr/>
          </p:nvSpPr>
          <p:spPr>
            <a:xfrm>
              <a:off x="1679760" y="3828960"/>
              <a:ext cx="1386360" cy="81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450160" y="5438880"/>
              <a:ext cx="1387800" cy="81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43040" y="5428080"/>
              <a:ext cx="1386000" cy="81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250720" y="40258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355760" y="5681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924280" y="565884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1531800" y="4634280"/>
              <a:ext cx="821160" cy="78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28120" y="4622760"/>
              <a:ext cx="757080" cy="82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975320" y="54000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685680" y="54334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207520" y="6469560"/>
              <a:ext cx="172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(b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6082200" y="695160"/>
            <a:ext cx="2091600" cy="1557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S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82C2-C995-4A5C-9742-2C37133B4619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3102120" y="2190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944720" y="1781280"/>
            <a:ext cx="1487520" cy="1041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513400" y="4162320"/>
            <a:ext cx="1487520" cy="10414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944720" y="4162320"/>
            <a:ext cx="1487520" cy="10414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513400" y="1781280"/>
            <a:ext cx="1487520" cy="1041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665360" y="3086280"/>
            <a:ext cx="5729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cesses connected by data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273560" y="2128680"/>
            <a:ext cx="447840" cy="44640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4729320" y="2268360"/>
            <a:ext cx="825480" cy="115920"/>
            <a:chOff x="4729320" y="2268360"/>
            <a:chExt cx="825480" cy="115920"/>
          </a:xfrm>
        </p:grpSpPr>
        <p:sp>
          <p:nvSpPr>
            <p:cNvPr id="257" name=""/>
            <p:cNvSpPr/>
            <p:nvPr/>
          </p:nvSpPr>
          <p:spPr>
            <a:xfrm>
              <a:off x="5307120" y="2268360"/>
              <a:ext cx="247680" cy="115920"/>
            </a:xfrm>
            <a:custGeom>
              <a:avLst/>
              <a:gdLst/>
              <a:ahLst/>
              <a:rect l="l" t="t" r="r" b="b"/>
              <a:pathLst>
                <a:path w="156" h="73">
                  <a:moveTo>
                    <a:pt x="156" y="42"/>
                  </a:moveTo>
                  <a:lnTo>
                    <a:pt x="0" y="73"/>
                  </a:lnTo>
                  <a:lnTo>
                    <a:pt x="0" y="42"/>
                  </a:lnTo>
                  <a:lnTo>
                    <a:pt x="0" y="0"/>
                  </a:lnTo>
                  <a:lnTo>
                    <a:pt x="156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729320" y="2335320"/>
              <a:ext cx="5778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9" name=""/>
          <p:cNvSpPr/>
          <p:nvPr/>
        </p:nvSpPr>
        <p:spPr>
          <a:xfrm flipH="1">
            <a:off x="3423960" y="2368440"/>
            <a:ext cx="82548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29360" y="21207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282720" y="21049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269400" y="4600440"/>
            <a:ext cx="223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596680" y="4551480"/>
            <a:ext cx="197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594880" y="5638680"/>
            <a:ext cx="4068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nection by state 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282920" y="4500720"/>
            <a:ext cx="495360" cy="496800"/>
          </a:xfrm>
          <a:custGeom>
            <a:avLst/>
            <a:gdLst/>
            <a:ahLst/>
            <a:rect l="l" t="t" r="r" b="b"/>
            <a:pathLst>
              <a:path w="312" h="313">
                <a:moveTo>
                  <a:pt x="0" y="167"/>
                </a:moveTo>
                <a:lnTo>
                  <a:pt x="156" y="0"/>
                </a:lnTo>
                <a:lnTo>
                  <a:pt x="312" y="157"/>
                </a:lnTo>
                <a:lnTo>
                  <a:pt x="156" y="313"/>
                </a:lnTo>
                <a:lnTo>
                  <a:pt x="21" y="16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3424320" y="4749840"/>
            <a:ext cx="92376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4762440" y="4667400"/>
            <a:ext cx="758880" cy="114120"/>
            <a:chOff x="4762440" y="4667400"/>
            <a:chExt cx="758880" cy="114120"/>
          </a:xfrm>
        </p:grpSpPr>
        <p:sp>
          <p:nvSpPr>
            <p:cNvPr id="268" name=""/>
            <p:cNvSpPr/>
            <p:nvPr/>
          </p:nvSpPr>
          <p:spPr>
            <a:xfrm>
              <a:off x="5273640" y="4667400"/>
              <a:ext cx="247680" cy="114120"/>
            </a:xfrm>
            <a:custGeom>
              <a:avLst/>
              <a:gdLst/>
              <a:ahLst/>
              <a:rect l="l" t="t" r="r" b="b"/>
              <a:pathLst>
                <a:path w="156" h="72">
                  <a:moveTo>
                    <a:pt x="156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6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762440" y="4732200"/>
              <a:ext cx="5112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4470840" y="21542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506480" y="4584600"/>
            <a:ext cx="197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572920" y="490680"/>
            <a:ext cx="427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twork stage (SS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B6D3-03C6-4158-9003-597169A533FC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0020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mplementation stage (JSP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"/>
          <p:cNvSpPr/>
          <p:nvPr/>
        </p:nvSpPr>
        <p:spPr>
          <a:xfrm>
            <a:off x="2595600" y="18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623880" y="1241280"/>
            <a:ext cx="6324480" cy="498492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4135320" y="5062680"/>
            <a:ext cx="4892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put and output data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spondence between n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541920" y="5834160"/>
            <a:ext cx="0" cy="449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137920" y="6087960"/>
            <a:ext cx="284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49BA-F3ED-4766-A646-91811446C2DF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2770200" y="61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414360" y="833400"/>
            <a:ext cx="4501440" cy="5225400"/>
            <a:chOff x="414360" y="833400"/>
            <a:chExt cx="4501440" cy="5225400"/>
          </a:xfrm>
        </p:grpSpPr>
        <p:sp>
          <p:nvSpPr>
            <p:cNvPr id="281" name=""/>
            <p:cNvSpPr/>
            <p:nvPr/>
          </p:nvSpPr>
          <p:spPr>
            <a:xfrm>
              <a:off x="2256120" y="833400"/>
              <a:ext cx="103464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367720" y="1024200"/>
              <a:ext cx="439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rogra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869560" y="1793520"/>
              <a:ext cx="103680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629720" y="1780560"/>
              <a:ext cx="103536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805400" y="1945080"/>
              <a:ext cx="5112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nerate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813680" y="212940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033360" y="1971720"/>
              <a:ext cx="5112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nerate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057120" y="2155680"/>
              <a:ext cx="250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bod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2543040" y="1523880"/>
              <a:ext cx="230040" cy="24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760840" y="1536840"/>
              <a:ext cx="229680" cy="22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869560" y="2675520"/>
              <a:ext cx="1036800" cy="712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010320" y="2737080"/>
              <a:ext cx="619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nerate  *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030120" y="2921040"/>
              <a:ext cx="366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line by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019680" y="3105000"/>
              <a:ext cx="543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item grou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336120" y="2497680"/>
              <a:ext cx="1800" cy="15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642680" y="3558960"/>
              <a:ext cx="103464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881160" y="3572640"/>
              <a:ext cx="1034640" cy="70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668240" y="4467240"/>
              <a:ext cx="103464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856600" y="5348880"/>
              <a:ext cx="1037160" cy="70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14360" y="5322600"/>
              <a:ext cx="1036800" cy="70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2530800" y="3394800"/>
              <a:ext cx="357840" cy="15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798360" y="3381480"/>
              <a:ext cx="331560" cy="18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742040" y="365796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Proces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768320" y="3841920"/>
              <a:ext cx="249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item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763640" y="4026600"/>
              <a:ext cx="294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grou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949200" y="3592080"/>
              <a:ext cx="569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utput net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948480" y="3776400"/>
              <a:ext cx="567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movement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971880" y="3960360"/>
              <a:ext cx="180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lin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754640" y="461844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Proces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771920" y="4802760"/>
              <a:ext cx="326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ecor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549520" y="4512960"/>
              <a:ext cx="45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99320" y="543456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Proces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17320" y="5618520"/>
              <a:ext cx="34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receip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298160" y="53290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993400" y="547380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Proces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17520" y="5657760"/>
              <a:ext cx="398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eliver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741840" y="53820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121840" y="4263480"/>
              <a:ext cx="216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1316880" y="5171040"/>
              <a:ext cx="49824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530800" y="5171040"/>
              <a:ext cx="510840" cy="17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5107680" y="1143000"/>
            <a:ext cx="3068640" cy="2759040"/>
            <a:chOff x="5107680" y="1143000"/>
            <a:chExt cx="3068640" cy="2759040"/>
          </a:xfrm>
        </p:grpSpPr>
        <p:sp>
          <p:nvSpPr>
            <p:cNvPr id="322" name=""/>
            <p:cNvSpPr/>
            <p:nvPr/>
          </p:nvSpPr>
          <p:spPr>
            <a:xfrm>
              <a:off x="5218920" y="1143000"/>
              <a:ext cx="654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1. open file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218200" y="1517040"/>
              <a:ext cx="668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2. close file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184000" y="1891440"/>
              <a:ext cx="1468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3. read (item_id, movement)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184720" y="2266560"/>
              <a:ext cx="142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. net_item_movement := 0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107680" y="2640600"/>
              <a:ext cx="3068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5. net_movement_item := net_movement_item + movement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108400" y="3016080"/>
              <a:ext cx="3039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6. net_movement_item := net_movement_item - movement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10280" y="3390120"/>
              <a:ext cx="869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7. write (header)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1840" y="3764520"/>
              <a:ext cx="1762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8. write (net_item_movement_line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4846320" y="4610160"/>
            <a:ext cx="361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 resulting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D734-EFF1-4CED-AE04-5937D501D3D7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2941560" y="139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752400" y="687240"/>
            <a:ext cx="4251240" cy="530568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5531760" y="1893960"/>
            <a:ext cx="3346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nnotated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rivially transla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to a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A959-28C6-4C35-8830-D6DF47F8ED8E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nified Software Development Proce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(UP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3DBD-33B8-4BA9-807C-C2656AC549F6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ment of an OO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the UML notation throughout the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s an iterative and incremental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mposes a large process into controlled iteration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mini projec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43BA-1990-44EA-AA38-FAF35E35783E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350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ycles and phases of a cyc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"/>
          <p:cNvSpPr/>
          <p:nvPr/>
        </p:nvSpPr>
        <p:spPr>
          <a:xfrm>
            <a:off x="2103480" y="273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366840" y="1741320"/>
            <a:ext cx="8777160" cy="247824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1951200" y="286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218600" y="4505400"/>
            <a:ext cx="61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129840" y="5560920"/>
            <a:ext cx="93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000000"/>
                </a:solidFill>
                <a:latin typeface="Times New Roman"/>
              </a:rPr>
              <a:t>mileston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797080" y="5521320"/>
            <a:ext cx="61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975360" y="4500720"/>
            <a:ext cx="141948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116840" y="4565520"/>
            <a:ext cx="622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719840" y="456552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18640" y="4797360"/>
            <a:ext cx="56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rele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664400" y="479736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214280" y="4599000"/>
            <a:ext cx="5100840" cy="42372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63840" y="4730760"/>
            <a:ext cx="4559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Inception Elaboration         Construction       Transition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245280" y="473076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294000" y="4970520"/>
            <a:ext cx="155520" cy="150840"/>
          </a:xfrm>
          <a:custGeom>
            <a:avLst/>
            <a:gdLst/>
            <a:ahLst/>
            <a:rect l="l" t="t" r="r" b="b"/>
            <a:pathLst>
              <a:path w="98" h="95">
                <a:moveTo>
                  <a:pt x="50" y="0"/>
                </a:moveTo>
                <a:lnTo>
                  <a:pt x="0" y="95"/>
                </a:lnTo>
                <a:lnTo>
                  <a:pt x="98" y="95"/>
                </a:lnTo>
                <a:lnTo>
                  <a:pt x="50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962600" y="4965840"/>
            <a:ext cx="155520" cy="155520"/>
          </a:xfrm>
          <a:custGeom>
            <a:avLst/>
            <a:gdLst/>
            <a:ahLst/>
            <a:rect l="l" t="t" r="r" b="b"/>
            <a:pathLst>
              <a:path w="98" h="98">
                <a:moveTo>
                  <a:pt x="50" y="0"/>
                </a:moveTo>
                <a:lnTo>
                  <a:pt x="0" y="98"/>
                </a:lnTo>
                <a:lnTo>
                  <a:pt x="98" y="98"/>
                </a:lnTo>
                <a:lnTo>
                  <a:pt x="50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340160" y="5614920"/>
            <a:ext cx="155520" cy="155520"/>
          </a:xfrm>
          <a:custGeom>
            <a:avLst/>
            <a:gdLst/>
            <a:ahLst/>
            <a:rect l="l" t="t" r="r" b="b"/>
            <a:pathLst>
              <a:path w="98" h="98">
                <a:moveTo>
                  <a:pt x="50" y="0"/>
                </a:moveTo>
                <a:lnTo>
                  <a:pt x="0" y="98"/>
                </a:lnTo>
                <a:lnTo>
                  <a:pt x="98" y="98"/>
                </a:lnTo>
                <a:lnTo>
                  <a:pt x="50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373560" y="4599000"/>
            <a:ext cx="1440" cy="4190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041800" y="4599000"/>
            <a:ext cx="1800" cy="4190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085840" y="4965840"/>
            <a:ext cx="155880" cy="155520"/>
          </a:xfrm>
          <a:custGeom>
            <a:avLst/>
            <a:gdLst/>
            <a:ahLst/>
            <a:rect l="l" t="t" r="r" b="b"/>
            <a:pathLst>
              <a:path w="98" h="98">
                <a:moveTo>
                  <a:pt x="48" y="0"/>
                </a:moveTo>
                <a:lnTo>
                  <a:pt x="0" y="98"/>
                </a:lnTo>
                <a:lnTo>
                  <a:pt x="98" y="98"/>
                </a:lnTo>
                <a:lnTo>
                  <a:pt x="48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162160" y="4552920"/>
            <a:ext cx="1440" cy="4129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475320" y="4740120"/>
            <a:ext cx="500040" cy="136800"/>
          </a:xfrm>
          <a:custGeom>
            <a:avLst/>
            <a:gdLst/>
            <a:ahLst/>
            <a:rect l="l" t="t" r="r" b="b"/>
            <a:pathLst>
              <a:path w="315" h="86">
                <a:moveTo>
                  <a:pt x="238" y="0"/>
                </a:moveTo>
                <a:lnTo>
                  <a:pt x="238" y="21"/>
                </a:lnTo>
                <a:lnTo>
                  <a:pt x="0" y="21"/>
                </a:lnTo>
                <a:lnTo>
                  <a:pt x="0" y="65"/>
                </a:lnTo>
                <a:lnTo>
                  <a:pt x="238" y="65"/>
                </a:lnTo>
                <a:lnTo>
                  <a:pt x="238" y="86"/>
                </a:lnTo>
                <a:lnTo>
                  <a:pt x="315" y="42"/>
                </a:lnTo>
                <a:lnTo>
                  <a:pt x="238" y="0"/>
                </a:lnTo>
                <a:close/>
              </a:path>
            </a:pathLst>
          </a:custGeom>
          <a:solidFill>
            <a:srgbClr val="ffff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69C2-F02F-47ED-A5A7-BD1350CD3691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els are need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mptoms of inadequacy: the software cri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heduled time and cost exc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expectations not m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or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size and economic value of software applications required appropriate "process models"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275D-ECC6-4B35-A26F-A6D815820DE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35040" y="158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stribution of workflows over phas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"/>
          <p:cNvSpPr/>
          <p:nvPr/>
        </p:nvSpPr>
        <p:spPr>
          <a:xfrm>
            <a:off x="1981080" y="14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669960" y="1339920"/>
            <a:ext cx="6956280" cy="521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9661-75E0-4394-85FE-6368C62593F0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rganizing artifact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figuration 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A03C-F83B-4DDF-9CDF-ED3565358232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M concep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dentifies components and their ver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guration man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scipline of coordinating software development and controlling the change and evolution of software products and component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2D45-1325-4EF3-B289-4C7828A91C29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Key CM issu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access to shared reposit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ing product famil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members of the family comprise components which may have different ver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"/>
          <p:cNvSpPr/>
          <p:nvPr/>
        </p:nvSpPr>
        <p:spPr>
          <a:xfrm>
            <a:off x="1833480" y="12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F344-32D3-4DFA-97D3-40635EA71530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1144800" y="60480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562040" y="919080"/>
            <a:ext cx="1436760" cy="169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569960" y="927000"/>
            <a:ext cx="1436760" cy="169092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562040" y="130968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562040" y="144000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706760" y="1012680"/>
            <a:ext cx="739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Member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460960" y="103968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562040" y="183024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562040" y="221940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135880" y="152892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257560" y="15559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135520" y="1920960"/>
            <a:ext cx="11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248200" y="194796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120040" y="2281320"/>
            <a:ext cx="20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319480" y="23083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608200" y="3319560"/>
            <a:ext cx="1436760" cy="169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627200" y="3325680"/>
            <a:ext cx="1438200" cy="169236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20720" y="370836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620720" y="384012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765440" y="3411360"/>
            <a:ext cx="739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Member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518200" y="343836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620720" y="422928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620720" y="461952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192760" y="392904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314800" y="39560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92760" y="4319640"/>
            <a:ext cx="11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305440" y="43466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24800" y="4681440"/>
            <a:ext cx="20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424240" y="47084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711600" y="3968640"/>
            <a:ext cx="1436760" cy="130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718080" y="3975120"/>
            <a:ext cx="1436400" cy="130176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711600" y="435924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711600" y="448956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854520" y="4062240"/>
            <a:ext cx="739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Member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608720" y="40892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711600" y="487980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283640" y="457992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405680" y="46069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283640" y="497052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405680" y="49975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177920" y="666720"/>
            <a:ext cx="1039680" cy="384120"/>
          </a:xfrm>
          <a:custGeom>
            <a:avLst/>
            <a:gdLst/>
            <a:ahLst/>
            <a:rect l="l" t="t" r="r" b="b"/>
            <a:pathLst>
              <a:path w="1311" h="484">
                <a:moveTo>
                  <a:pt x="0" y="484"/>
                </a:moveTo>
                <a:lnTo>
                  <a:pt x="0" y="472"/>
                </a:lnTo>
                <a:lnTo>
                  <a:pt x="2" y="459"/>
                </a:lnTo>
                <a:lnTo>
                  <a:pt x="5" y="447"/>
                </a:lnTo>
                <a:lnTo>
                  <a:pt x="8" y="435"/>
                </a:lnTo>
                <a:lnTo>
                  <a:pt x="12" y="423"/>
                </a:lnTo>
                <a:lnTo>
                  <a:pt x="18" y="411"/>
                </a:lnTo>
                <a:lnTo>
                  <a:pt x="23" y="399"/>
                </a:lnTo>
                <a:lnTo>
                  <a:pt x="30" y="387"/>
                </a:lnTo>
                <a:lnTo>
                  <a:pt x="37" y="375"/>
                </a:lnTo>
                <a:lnTo>
                  <a:pt x="45" y="364"/>
                </a:lnTo>
                <a:lnTo>
                  <a:pt x="54" y="352"/>
                </a:lnTo>
                <a:lnTo>
                  <a:pt x="63" y="341"/>
                </a:lnTo>
                <a:lnTo>
                  <a:pt x="85" y="318"/>
                </a:lnTo>
                <a:lnTo>
                  <a:pt x="108" y="296"/>
                </a:lnTo>
                <a:lnTo>
                  <a:pt x="134" y="274"/>
                </a:lnTo>
                <a:lnTo>
                  <a:pt x="164" y="253"/>
                </a:lnTo>
                <a:lnTo>
                  <a:pt x="196" y="233"/>
                </a:lnTo>
                <a:lnTo>
                  <a:pt x="230" y="214"/>
                </a:lnTo>
                <a:lnTo>
                  <a:pt x="267" y="195"/>
                </a:lnTo>
                <a:lnTo>
                  <a:pt x="305" y="176"/>
                </a:lnTo>
                <a:lnTo>
                  <a:pt x="347" y="159"/>
                </a:lnTo>
                <a:lnTo>
                  <a:pt x="390" y="143"/>
                </a:lnTo>
                <a:lnTo>
                  <a:pt x="435" y="126"/>
                </a:lnTo>
                <a:lnTo>
                  <a:pt x="483" y="111"/>
                </a:lnTo>
                <a:lnTo>
                  <a:pt x="533" y="97"/>
                </a:lnTo>
                <a:lnTo>
                  <a:pt x="583" y="83"/>
                </a:lnTo>
                <a:lnTo>
                  <a:pt x="636" y="70"/>
                </a:lnTo>
                <a:lnTo>
                  <a:pt x="691" y="58"/>
                </a:lnTo>
                <a:lnTo>
                  <a:pt x="746" y="48"/>
                </a:lnTo>
                <a:lnTo>
                  <a:pt x="805" y="38"/>
                </a:lnTo>
                <a:lnTo>
                  <a:pt x="863" y="30"/>
                </a:lnTo>
                <a:lnTo>
                  <a:pt x="923" y="22"/>
                </a:lnTo>
                <a:lnTo>
                  <a:pt x="986" y="15"/>
                </a:lnTo>
                <a:lnTo>
                  <a:pt x="1048" y="10"/>
                </a:lnTo>
                <a:lnTo>
                  <a:pt x="1112" y="6"/>
                </a:lnTo>
                <a:lnTo>
                  <a:pt x="1178" y="2"/>
                </a:lnTo>
                <a:lnTo>
                  <a:pt x="1244" y="0"/>
                </a:lnTo>
                <a:lnTo>
                  <a:pt x="1311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217600" y="666720"/>
            <a:ext cx="1181160" cy="384120"/>
          </a:xfrm>
          <a:custGeom>
            <a:avLst/>
            <a:gdLst/>
            <a:ahLst/>
            <a:rect l="l" t="t" r="r" b="b"/>
            <a:pathLst>
              <a:path w="1490" h="483">
                <a:moveTo>
                  <a:pt x="0" y="0"/>
                </a:moveTo>
                <a:lnTo>
                  <a:pt x="8" y="0"/>
                </a:lnTo>
                <a:lnTo>
                  <a:pt x="83" y="0"/>
                </a:lnTo>
                <a:lnTo>
                  <a:pt x="157" y="2"/>
                </a:lnTo>
                <a:lnTo>
                  <a:pt x="231" y="6"/>
                </a:lnTo>
                <a:lnTo>
                  <a:pt x="303" y="9"/>
                </a:lnTo>
                <a:lnTo>
                  <a:pt x="374" y="14"/>
                </a:lnTo>
                <a:lnTo>
                  <a:pt x="444" y="21"/>
                </a:lnTo>
                <a:lnTo>
                  <a:pt x="512" y="29"/>
                </a:lnTo>
                <a:lnTo>
                  <a:pt x="579" y="37"/>
                </a:lnTo>
                <a:lnTo>
                  <a:pt x="643" y="47"/>
                </a:lnTo>
                <a:lnTo>
                  <a:pt x="707" y="58"/>
                </a:lnTo>
                <a:lnTo>
                  <a:pt x="769" y="69"/>
                </a:lnTo>
                <a:lnTo>
                  <a:pt x="828" y="82"/>
                </a:lnTo>
                <a:lnTo>
                  <a:pt x="886" y="95"/>
                </a:lnTo>
                <a:lnTo>
                  <a:pt x="942" y="110"/>
                </a:lnTo>
                <a:lnTo>
                  <a:pt x="995" y="125"/>
                </a:lnTo>
                <a:lnTo>
                  <a:pt x="1046" y="140"/>
                </a:lnTo>
                <a:lnTo>
                  <a:pt x="1096" y="158"/>
                </a:lnTo>
                <a:lnTo>
                  <a:pt x="1142" y="175"/>
                </a:lnTo>
                <a:lnTo>
                  <a:pt x="1186" y="193"/>
                </a:lnTo>
                <a:lnTo>
                  <a:pt x="1227" y="213"/>
                </a:lnTo>
                <a:lnTo>
                  <a:pt x="1267" y="232"/>
                </a:lnTo>
                <a:lnTo>
                  <a:pt x="1302" y="252"/>
                </a:lnTo>
                <a:lnTo>
                  <a:pt x="1319" y="263"/>
                </a:lnTo>
                <a:lnTo>
                  <a:pt x="1336" y="273"/>
                </a:lnTo>
                <a:lnTo>
                  <a:pt x="1351" y="284"/>
                </a:lnTo>
                <a:lnTo>
                  <a:pt x="1366" y="295"/>
                </a:lnTo>
                <a:lnTo>
                  <a:pt x="1380" y="306"/>
                </a:lnTo>
                <a:lnTo>
                  <a:pt x="1393" y="317"/>
                </a:lnTo>
                <a:lnTo>
                  <a:pt x="1405" y="328"/>
                </a:lnTo>
                <a:lnTo>
                  <a:pt x="1416" y="339"/>
                </a:lnTo>
                <a:lnTo>
                  <a:pt x="1427" y="351"/>
                </a:lnTo>
                <a:lnTo>
                  <a:pt x="1437" y="362"/>
                </a:lnTo>
                <a:lnTo>
                  <a:pt x="1447" y="374"/>
                </a:lnTo>
                <a:lnTo>
                  <a:pt x="1454" y="386"/>
                </a:lnTo>
                <a:lnTo>
                  <a:pt x="1462" y="398"/>
                </a:lnTo>
                <a:lnTo>
                  <a:pt x="1469" y="410"/>
                </a:lnTo>
                <a:lnTo>
                  <a:pt x="1474" y="422"/>
                </a:lnTo>
                <a:lnTo>
                  <a:pt x="1479" y="434"/>
                </a:lnTo>
                <a:lnTo>
                  <a:pt x="1483" y="446"/>
                </a:lnTo>
                <a:lnTo>
                  <a:pt x="1486" y="458"/>
                </a:lnTo>
                <a:lnTo>
                  <a:pt x="1488" y="471"/>
                </a:lnTo>
                <a:lnTo>
                  <a:pt x="1490" y="483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170000" y="1049400"/>
            <a:ext cx="1440" cy="44226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390840" y="1049400"/>
            <a:ext cx="1800" cy="234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398760" y="3395520"/>
            <a:ext cx="520920" cy="392400"/>
          </a:xfrm>
          <a:custGeom>
            <a:avLst/>
            <a:gdLst/>
            <a:ahLst/>
            <a:rect l="l" t="t" r="r" b="b"/>
            <a:pathLst>
              <a:path w="657" h="494">
                <a:moveTo>
                  <a:pt x="657" y="494"/>
                </a:moveTo>
                <a:lnTo>
                  <a:pt x="639" y="494"/>
                </a:lnTo>
                <a:lnTo>
                  <a:pt x="623" y="494"/>
                </a:lnTo>
                <a:lnTo>
                  <a:pt x="606" y="493"/>
                </a:lnTo>
                <a:lnTo>
                  <a:pt x="589" y="492"/>
                </a:lnTo>
                <a:lnTo>
                  <a:pt x="572" y="491"/>
                </a:lnTo>
                <a:lnTo>
                  <a:pt x="556" y="489"/>
                </a:lnTo>
                <a:lnTo>
                  <a:pt x="540" y="487"/>
                </a:lnTo>
                <a:lnTo>
                  <a:pt x="524" y="485"/>
                </a:lnTo>
                <a:lnTo>
                  <a:pt x="509" y="481"/>
                </a:lnTo>
                <a:lnTo>
                  <a:pt x="492" y="479"/>
                </a:lnTo>
                <a:lnTo>
                  <a:pt x="477" y="476"/>
                </a:lnTo>
                <a:lnTo>
                  <a:pt x="461" y="472"/>
                </a:lnTo>
                <a:lnTo>
                  <a:pt x="431" y="465"/>
                </a:lnTo>
                <a:lnTo>
                  <a:pt x="401" y="456"/>
                </a:lnTo>
                <a:lnTo>
                  <a:pt x="371" y="445"/>
                </a:lnTo>
                <a:lnTo>
                  <a:pt x="344" y="435"/>
                </a:lnTo>
                <a:lnTo>
                  <a:pt x="316" y="423"/>
                </a:lnTo>
                <a:lnTo>
                  <a:pt x="289" y="410"/>
                </a:lnTo>
                <a:lnTo>
                  <a:pt x="264" y="397"/>
                </a:lnTo>
                <a:lnTo>
                  <a:pt x="240" y="382"/>
                </a:lnTo>
                <a:lnTo>
                  <a:pt x="216" y="366"/>
                </a:lnTo>
                <a:lnTo>
                  <a:pt x="192" y="350"/>
                </a:lnTo>
                <a:lnTo>
                  <a:pt x="182" y="342"/>
                </a:lnTo>
                <a:lnTo>
                  <a:pt x="171" y="333"/>
                </a:lnTo>
                <a:lnTo>
                  <a:pt x="161" y="325"/>
                </a:lnTo>
                <a:lnTo>
                  <a:pt x="151" y="315"/>
                </a:lnTo>
                <a:lnTo>
                  <a:pt x="141" y="306"/>
                </a:lnTo>
                <a:lnTo>
                  <a:pt x="131" y="297"/>
                </a:lnTo>
                <a:lnTo>
                  <a:pt x="121" y="287"/>
                </a:lnTo>
                <a:lnTo>
                  <a:pt x="112" y="278"/>
                </a:lnTo>
                <a:lnTo>
                  <a:pt x="104" y="268"/>
                </a:lnTo>
                <a:lnTo>
                  <a:pt x="96" y="258"/>
                </a:lnTo>
                <a:lnTo>
                  <a:pt x="87" y="248"/>
                </a:lnTo>
                <a:lnTo>
                  <a:pt x="79" y="237"/>
                </a:lnTo>
                <a:lnTo>
                  <a:pt x="73" y="226"/>
                </a:lnTo>
                <a:lnTo>
                  <a:pt x="65" y="216"/>
                </a:lnTo>
                <a:lnTo>
                  <a:pt x="59" y="205"/>
                </a:lnTo>
                <a:lnTo>
                  <a:pt x="52" y="194"/>
                </a:lnTo>
                <a:lnTo>
                  <a:pt x="47" y="183"/>
                </a:lnTo>
                <a:lnTo>
                  <a:pt x="41" y="172"/>
                </a:lnTo>
                <a:lnTo>
                  <a:pt x="36" y="160"/>
                </a:lnTo>
                <a:lnTo>
                  <a:pt x="30" y="149"/>
                </a:lnTo>
                <a:lnTo>
                  <a:pt x="26" y="137"/>
                </a:lnTo>
                <a:lnTo>
                  <a:pt x="21" y="126"/>
                </a:lnTo>
                <a:lnTo>
                  <a:pt x="18" y="114"/>
                </a:lnTo>
                <a:lnTo>
                  <a:pt x="15" y="102"/>
                </a:lnTo>
                <a:lnTo>
                  <a:pt x="11" y="90"/>
                </a:lnTo>
                <a:lnTo>
                  <a:pt x="8" y="78"/>
                </a:lnTo>
                <a:lnTo>
                  <a:pt x="6" y="66"/>
                </a:lnTo>
                <a:lnTo>
                  <a:pt x="4" y="54"/>
                </a:lnTo>
                <a:lnTo>
                  <a:pt x="3" y="41"/>
                </a:lnTo>
                <a:lnTo>
                  <a:pt x="2" y="29"/>
                </a:lnTo>
                <a:lnTo>
                  <a:pt x="2" y="16"/>
                </a:lnTo>
                <a:lnTo>
                  <a:pt x="0" y="4"/>
                </a:lnTo>
                <a:lnTo>
                  <a:pt x="2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914640" y="3781440"/>
            <a:ext cx="156708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177920" y="5477040"/>
            <a:ext cx="388800" cy="522000"/>
          </a:xfrm>
          <a:custGeom>
            <a:avLst/>
            <a:gdLst/>
            <a:ahLst/>
            <a:rect l="l" t="t" r="r" b="b"/>
            <a:pathLst>
              <a:path w="492" h="659">
                <a:moveTo>
                  <a:pt x="492" y="659"/>
                </a:moveTo>
                <a:lnTo>
                  <a:pt x="479" y="658"/>
                </a:lnTo>
                <a:lnTo>
                  <a:pt x="465" y="658"/>
                </a:lnTo>
                <a:lnTo>
                  <a:pt x="453" y="657"/>
                </a:lnTo>
                <a:lnTo>
                  <a:pt x="441" y="655"/>
                </a:lnTo>
                <a:lnTo>
                  <a:pt x="429" y="652"/>
                </a:lnTo>
                <a:lnTo>
                  <a:pt x="416" y="650"/>
                </a:lnTo>
                <a:lnTo>
                  <a:pt x="404" y="648"/>
                </a:lnTo>
                <a:lnTo>
                  <a:pt x="392" y="645"/>
                </a:lnTo>
                <a:lnTo>
                  <a:pt x="380" y="641"/>
                </a:lnTo>
                <a:lnTo>
                  <a:pt x="369" y="637"/>
                </a:lnTo>
                <a:lnTo>
                  <a:pt x="357" y="633"/>
                </a:lnTo>
                <a:lnTo>
                  <a:pt x="345" y="628"/>
                </a:lnTo>
                <a:lnTo>
                  <a:pt x="334" y="623"/>
                </a:lnTo>
                <a:lnTo>
                  <a:pt x="323" y="617"/>
                </a:lnTo>
                <a:lnTo>
                  <a:pt x="311" y="612"/>
                </a:lnTo>
                <a:lnTo>
                  <a:pt x="300" y="606"/>
                </a:lnTo>
                <a:lnTo>
                  <a:pt x="289" y="600"/>
                </a:lnTo>
                <a:lnTo>
                  <a:pt x="279" y="593"/>
                </a:lnTo>
                <a:lnTo>
                  <a:pt x="268" y="586"/>
                </a:lnTo>
                <a:lnTo>
                  <a:pt x="257" y="578"/>
                </a:lnTo>
                <a:lnTo>
                  <a:pt x="247" y="570"/>
                </a:lnTo>
                <a:lnTo>
                  <a:pt x="237" y="563"/>
                </a:lnTo>
                <a:lnTo>
                  <a:pt x="226" y="554"/>
                </a:lnTo>
                <a:lnTo>
                  <a:pt x="216" y="545"/>
                </a:lnTo>
                <a:lnTo>
                  <a:pt x="208" y="536"/>
                </a:lnTo>
                <a:lnTo>
                  <a:pt x="198" y="526"/>
                </a:lnTo>
                <a:lnTo>
                  <a:pt x="188" y="518"/>
                </a:lnTo>
                <a:lnTo>
                  <a:pt x="179" y="508"/>
                </a:lnTo>
                <a:lnTo>
                  <a:pt x="170" y="497"/>
                </a:lnTo>
                <a:lnTo>
                  <a:pt x="162" y="487"/>
                </a:lnTo>
                <a:lnTo>
                  <a:pt x="144" y="465"/>
                </a:lnTo>
                <a:lnTo>
                  <a:pt x="129" y="442"/>
                </a:lnTo>
                <a:lnTo>
                  <a:pt x="112" y="419"/>
                </a:lnTo>
                <a:lnTo>
                  <a:pt x="98" y="394"/>
                </a:lnTo>
                <a:lnTo>
                  <a:pt x="85" y="369"/>
                </a:lnTo>
                <a:lnTo>
                  <a:pt x="72" y="341"/>
                </a:lnTo>
                <a:lnTo>
                  <a:pt x="59" y="314"/>
                </a:lnTo>
                <a:lnTo>
                  <a:pt x="50" y="286"/>
                </a:lnTo>
                <a:lnTo>
                  <a:pt x="40" y="257"/>
                </a:lnTo>
                <a:lnTo>
                  <a:pt x="31" y="227"/>
                </a:lnTo>
                <a:lnTo>
                  <a:pt x="27" y="212"/>
                </a:lnTo>
                <a:lnTo>
                  <a:pt x="23" y="197"/>
                </a:lnTo>
                <a:lnTo>
                  <a:pt x="19" y="181"/>
                </a:lnTo>
                <a:lnTo>
                  <a:pt x="17" y="166"/>
                </a:lnTo>
                <a:lnTo>
                  <a:pt x="13" y="151"/>
                </a:lnTo>
                <a:lnTo>
                  <a:pt x="11" y="134"/>
                </a:lnTo>
                <a:lnTo>
                  <a:pt x="8" y="119"/>
                </a:lnTo>
                <a:lnTo>
                  <a:pt x="7" y="102"/>
                </a:lnTo>
                <a:lnTo>
                  <a:pt x="5" y="86"/>
                </a:lnTo>
                <a:lnTo>
                  <a:pt x="3" y="70"/>
                </a:lnTo>
                <a:lnTo>
                  <a:pt x="2" y="53"/>
                </a:lnTo>
                <a:lnTo>
                  <a:pt x="1" y="37"/>
                </a:lnTo>
                <a:lnTo>
                  <a:pt x="1" y="20"/>
                </a:lnTo>
                <a:lnTo>
                  <a:pt x="0" y="3"/>
                </a:lnTo>
                <a:lnTo>
                  <a:pt x="1" y="2"/>
                </a:lnTo>
                <a:lnTo>
                  <a:pt x="1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562040" y="5992920"/>
            <a:ext cx="391968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486400" y="3789360"/>
            <a:ext cx="393840" cy="387360"/>
          </a:xfrm>
          <a:custGeom>
            <a:avLst/>
            <a:gdLst/>
            <a:ahLst/>
            <a:rect l="l" t="t" r="r" b="b"/>
            <a:pathLst>
              <a:path w="496" h="489">
                <a:moveTo>
                  <a:pt x="0" y="0"/>
                </a:moveTo>
                <a:lnTo>
                  <a:pt x="2" y="0"/>
                </a:lnTo>
                <a:lnTo>
                  <a:pt x="15" y="0"/>
                </a:lnTo>
                <a:lnTo>
                  <a:pt x="27" y="0"/>
                </a:lnTo>
                <a:lnTo>
                  <a:pt x="40" y="2"/>
                </a:lnTo>
                <a:lnTo>
                  <a:pt x="53" y="3"/>
                </a:lnTo>
                <a:lnTo>
                  <a:pt x="65" y="4"/>
                </a:lnTo>
                <a:lnTo>
                  <a:pt x="78" y="6"/>
                </a:lnTo>
                <a:lnTo>
                  <a:pt x="90" y="7"/>
                </a:lnTo>
                <a:lnTo>
                  <a:pt x="102" y="10"/>
                </a:lnTo>
                <a:lnTo>
                  <a:pt x="114" y="13"/>
                </a:lnTo>
                <a:lnTo>
                  <a:pt x="125" y="16"/>
                </a:lnTo>
                <a:lnTo>
                  <a:pt x="137" y="18"/>
                </a:lnTo>
                <a:lnTo>
                  <a:pt x="149" y="22"/>
                </a:lnTo>
                <a:lnTo>
                  <a:pt x="160" y="26"/>
                </a:lnTo>
                <a:lnTo>
                  <a:pt x="172" y="30"/>
                </a:lnTo>
                <a:lnTo>
                  <a:pt x="194" y="39"/>
                </a:lnTo>
                <a:lnTo>
                  <a:pt x="216" y="49"/>
                </a:lnTo>
                <a:lnTo>
                  <a:pt x="237" y="59"/>
                </a:lnTo>
                <a:lnTo>
                  <a:pt x="258" y="71"/>
                </a:lnTo>
                <a:lnTo>
                  <a:pt x="278" y="84"/>
                </a:lnTo>
                <a:lnTo>
                  <a:pt x="297" y="97"/>
                </a:lnTo>
                <a:lnTo>
                  <a:pt x="316" y="111"/>
                </a:lnTo>
                <a:lnTo>
                  <a:pt x="333" y="126"/>
                </a:lnTo>
                <a:lnTo>
                  <a:pt x="351" y="143"/>
                </a:lnTo>
                <a:lnTo>
                  <a:pt x="368" y="160"/>
                </a:lnTo>
                <a:lnTo>
                  <a:pt x="383" y="178"/>
                </a:lnTo>
                <a:lnTo>
                  <a:pt x="397" y="197"/>
                </a:lnTo>
                <a:lnTo>
                  <a:pt x="411" y="215"/>
                </a:lnTo>
                <a:lnTo>
                  <a:pt x="425" y="235"/>
                </a:lnTo>
                <a:lnTo>
                  <a:pt x="436" y="256"/>
                </a:lnTo>
                <a:lnTo>
                  <a:pt x="447" y="277"/>
                </a:lnTo>
                <a:lnTo>
                  <a:pt x="456" y="298"/>
                </a:lnTo>
                <a:lnTo>
                  <a:pt x="466" y="320"/>
                </a:lnTo>
                <a:lnTo>
                  <a:pt x="470" y="332"/>
                </a:lnTo>
                <a:lnTo>
                  <a:pt x="474" y="343"/>
                </a:lnTo>
                <a:lnTo>
                  <a:pt x="477" y="355"/>
                </a:lnTo>
                <a:lnTo>
                  <a:pt x="481" y="366"/>
                </a:lnTo>
                <a:lnTo>
                  <a:pt x="484" y="378"/>
                </a:lnTo>
                <a:lnTo>
                  <a:pt x="486" y="390"/>
                </a:lnTo>
                <a:lnTo>
                  <a:pt x="488" y="402"/>
                </a:lnTo>
                <a:lnTo>
                  <a:pt x="490" y="415"/>
                </a:lnTo>
                <a:lnTo>
                  <a:pt x="493" y="427"/>
                </a:lnTo>
                <a:lnTo>
                  <a:pt x="494" y="439"/>
                </a:lnTo>
                <a:lnTo>
                  <a:pt x="495" y="452"/>
                </a:lnTo>
                <a:lnTo>
                  <a:pt x="496" y="464"/>
                </a:lnTo>
                <a:lnTo>
                  <a:pt x="496" y="477"/>
                </a:lnTo>
                <a:lnTo>
                  <a:pt x="496" y="489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873760" y="4172040"/>
            <a:ext cx="1440" cy="14302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486400" y="5607000"/>
            <a:ext cx="395280" cy="392040"/>
          </a:xfrm>
          <a:custGeom>
            <a:avLst/>
            <a:gdLst/>
            <a:ahLst/>
            <a:rect l="l" t="t" r="r" b="b"/>
            <a:pathLst>
              <a:path w="497" h="494">
                <a:moveTo>
                  <a:pt x="497" y="0"/>
                </a:moveTo>
                <a:lnTo>
                  <a:pt x="497" y="2"/>
                </a:lnTo>
                <a:lnTo>
                  <a:pt x="496" y="15"/>
                </a:lnTo>
                <a:lnTo>
                  <a:pt x="496" y="27"/>
                </a:lnTo>
                <a:lnTo>
                  <a:pt x="495" y="40"/>
                </a:lnTo>
                <a:lnTo>
                  <a:pt x="494" y="52"/>
                </a:lnTo>
                <a:lnTo>
                  <a:pt x="493" y="65"/>
                </a:lnTo>
                <a:lnTo>
                  <a:pt x="490" y="78"/>
                </a:lnTo>
                <a:lnTo>
                  <a:pt x="488" y="90"/>
                </a:lnTo>
                <a:lnTo>
                  <a:pt x="486" y="102"/>
                </a:lnTo>
                <a:lnTo>
                  <a:pt x="484" y="114"/>
                </a:lnTo>
                <a:lnTo>
                  <a:pt x="481" y="125"/>
                </a:lnTo>
                <a:lnTo>
                  <a:pt x="477" y="137"/>
                </a:lnTo>
                <a:lnTo>
                  <a:pt x="474" y="149"/>
                </a:lnTo>
                <a:lnTo>
                  <a:pt x="471" y="160"/>
                </a:lnTo>
                <a:lnTo>
                  <a:pt x="466" y="171"/>
                </a:lnTo>
                <a:lnTo>
                  <a:pt x="457" y="194"/>
                </a:lnTo>
                <a:lnTo>
                  <a:pt x="448" y="216"/>
                </a:lnTo>
                <a:lnTo>
                  <a:pt x="437" y="236"/>
                </a:lnTo>
                <a:lnTo>
                  <a:pt x="425" y="257"/>
                </a:lnTo>
                <a:lnTo>
                  <a:pt x="412" y="277"/>
                </a:lnTo>
                <a:lnTo>
                  <a:pt x="398" y="297"/>
                </a:lnTo>
                <a:lnTo>
                  <a:pt x="384" y="315"/>
                </a:lnTo>
                <a:lnTo>
                  <a:pt x="369" y="333"/>
                </a:lnTo>
                <a:lnTo>
                  <a:pt x="352" y="349"/>
                </a:lnTo>
                <a:lnTo>
                  <a:pt x="335" y="366"/>
                </a:lnTo>
                <a:lnTo>
                  <a:pt x="317" y="381"/>
                </a:lnTo>
                <a:lnTo>
                  <a:pt x="298" y="396"/>
                </a:lnTo>
                <a:lnTo>
                  <a:pt x="279" y="410"/>
                </a:lnTo>
                <a:lnTo>
                  <a:pt x="259" y="423"/>
                </a:lnTo>
                <a:lnTo>
                  <a:pt x="238" y="435"/>
                </a:lnTo>
                <a:lnTo>
                  <a:pt x="217" y="446"/>
                </a:lnTo>
                <a:lnTo>
                  <a:pt x="195" y="456"/>
                </a:lnTo>
                <a:lnTo>
                  <a:pt x="172" y="464"/>
                </a:lnTo>
                <a:lnTo>
                  <a:pt x="161" y="468"/>
                </a:lnTo>
                <a:lnTo>
                  <a:pt x="149" y="472"/>
                </a:lnTo>
                <a:lnTo>
                  <a:pt x="138" y="475"/>
                </a:lnTo>
                <a:lnTo>
                  <a:pt x="126" y="479"/>
                </a:lnTo>
                <a:lnTo>
                  <a:pt x="114" y="481"/>
                </a:lnTo>
                <a:lnTo>
                  <a:pt x="102" y="484"/>
                </a:lnTo>
                <a:lnTo>
                  <a:pt x="90" y="486"/>
                </a:lnTo>
                <a:lnTo>
                  <a:pt x="78" y="488"/>
                </a:lnTo>
                <a:lnTo>
                  <a:pt x="66" y="490"/>
                </a:lnTo>
                <a:lnTo>
                  <a:pt x="53" y="491"/>
                </a:lnTo>
                <a:lnTo>
                  <a:pt x="40" y="492"/>
                </a:lnTo>
                <a:lnTo>
                  <a:pt x="28" y="493"/>
                </a:lnTo>
                <a:lnTo>
                  <a:pt x="15" y="494"/>
                </a:lnTo>
                <a:lnTo>
                  <a:pt x="2" y="494"/>
                </a:lnTo>
                <a:lnTo>
                  <a:pt x="1" y="494"/>
                </a:lnTo>
                <a:lnTo>
                  <a:pt x="0" y="494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283480" y="16477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373480" y="167328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328120" y="39895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418120" y="40147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433040" y="46404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523040" y="466560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592600" y="3060720"/>
            <a:ext cx="2298960" cy="41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4068720" y="1089000"/>
            <a:ext cx="4209840" cy="3035160"/>
            <a:chOff x="4068720" y="1089000"/>
            <a:chExt cx="4209840" cy="3035160"/>
          </a:xfrm>
        </p:grpSpPr>
        <p:sp>
          <p:nvSpPr>
            <p:cNvPr id="430" name=""/>
            <p:cNvSpPr/>
            <p:nvPr/>
          </p:nvSpPr>
          <p:spPr>
            <a:xfrm>
              <a:off x="4481280" y="1423800"/>
              <a:ext cx="104472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487760" y="1431720"/>
              <a:ext cx="1046160" cy="51912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656320" y="2725560"/>
              <a:ext cx="104616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664240" y="273204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656320" y="2074680"/>
              <a:ext cx="1046160" cy="51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664240" y="208116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656320" y="1423800"/>
              <a:ext cx="104616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664240" y="1431720"/>
              <a:ext cx="1046160" cy="51912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962760" y="2725560"/>
              <a:ext cx="104616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970680" y="273204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962760" y="2074680"/>
              <a:ext cx="1046160" cy="51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970680" y="208116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962760" y="1423800"/>
              <a:ext cx="104616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970680" y="1431720"/>
              <a:ext cx="1046160" cy="51912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481280" y="2074680"/>
              <a:ext cx="1044720" cy="51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87760" y="208116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887720" y="161604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013000" y="16430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064200" y="22654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189120" y="229248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064200" y="161604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179760" y="16430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887720" y="22953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013000" y="23223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370280" y="164448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476840" y="167148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370640" y="22953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495560" y="23223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064200" y="29448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179760" y="297180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370640" y="29448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486200" y="297180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031720" y="17193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128920" y="17445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165000" y="3035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262200" y="306072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208200" y="23400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305040" y="236520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500240" y="3035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597440" y="306072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514640" y="23842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611480" y="24098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743240" y="33638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068720" y="1089000"/>
              <a:ext cx="4209840" cy="3035160"/>
            </a:xfrm>
            <a:custGeom>
              <a:avLst/>
              <a:gdLst/>
              <a:ahLst/>
              <a:rect l="l" t="t" r="r" b="b"/>
              <a:pathLst>
                <a:path w="5304" h="3824">
                  <a:moveTo>
                    <a:pt x="0" y="363"/>
                  </a:moveTo>
                  <a:lnTo>
                    <a:pt x="19" y="346"/>
                  </a:lnTo>
                  <a:lnTo>
                    <a:pt x="55" y="327"/>
                  </a:lnTo>
                  <a:lnTo>
                    <a:pt x="91" y="308"/>
                  </a:lnTo>
                  <a:lnTo>
                    <a:pt x="128" y="291"/>
                  </a:lnTo>
                  <a:lnTo>
                    <a:pt x="165" y="272"/>
                  </a:lnTo>
                  <a:lnTo>
                    <a:pt x="201" y="254"/>
                  </a:lnTo>
                  <a:lnTo>
                    <a:pt x="238" y="237"/>
                  </a:lnTo>
                  <a:lnTo>
                    <a:pt x="274" y="219"/>
                  </a:lnTo>
                  <a:lnTo>
                    <a:pt x="293" y="219"/>
                  </a:lnTo>
                  <a:lnTo>
                    <a:pt x="329" y="200"/>
                  </a:lnTo>
                  <a:lnTo>
                    <a:pt x="348" y="183"/>
                  </a:lnTo>
                  <a:lnTo>
                    <a:pt x="384" y="164"/>
                  </a:lnTo>
                  <a:lnTo>
                    <a:pt x="403" y="145"/>
                  </a:lnTo>
                  <a:lnTo>
                    <a:pt x="420" y="145"/>
                  </a:lnTo>
                  <a:lnTo>
                    <a:pt x="439" y="128"/>
                  </a:lnTo>
                  <a:lnTo>
                    <a:pt x="475" y="109"/>
                  </a:lnTo>
                  <a:lnTo>
                    <a:pt x="494" y="109"/>
                  </a:lnTo>
                  <a:lnTo>
                    <a:pt x="494" y="91"/>
                  </a:lnTo>
                  <a:lnTo>
                    <a:pt x="512" y="91"/>
                  </a:lnTo>
                  <a:lnTo>
                    <a:pt x="530" y="73"/>
                  </a:lnTo>
                  <a:lnTo>
                    <a:pt x="549" y="73"/>
                  </a:lnTo>
                  <a:lnTo>
                    <a:pt x="567" y="54"/>
                  </a:lnTo>
                  <a:lnTo>
                    <a:pt x="585" y="54"/>
                  </a:lnTo>
                  <a:lnTo>
                    <a:pt x="604" y="36"/>
                  </a:lnTo>
                  <a:lnTo>
                    <a:pt x="622" y="36"/>
                  </a:lnTo>
                  <a:lnTo>
                    <a:pt x="640" y="18"/>
                  </a:lnTo>
                  <a:lnTo>
                    <a:pt x="658" y="18"/>
                  </a:lnTo>
                  <a:lnTo>
                    <a:pt x="677" y="18"/>
                  </a:lnTo>
                  <a:lnTo>
                    <a:pt x="695" y="18"/>
                  </a:lnTo>
                  <a:lnTo>
                    <a:pt x="713" y="0"/>
                  </a:lnTo>
                  <a:lnTo>
                    <a:pt x="732" y="0"/>
                  </a:lnTo>
                  <a:lnTo>
                    <a:pt x="750" y="0"/>
                  </a:lnTo>
                  <a:lnTo>
                    <a:pt x="768" y="0"/>
                  </a:lnTo>
                  <a:lnTo>
                    <a:pt x="787" y="0"/>
                  </a:lnTo>
                  <a:lnTo>
                    <a:pt x="804" y="0"/>
                  </a:lnTo>
                  <a:lnTo>
                    <a:pt x="823" y="0"/>
                  </a:lnTo>
                  <a:lnTo>
                    <a:pt x="842" y="0"/>
                  </a:lnTo>
                  <a:lnTo>
                    <a:pt x="859" y="0"/>
                  </a:lnTo>
                  <a:lnTo>
                    <a:pt x="878" y="0"/>
                  </a:lnTo>
                  <a:lnTo>
                    <a:pt x="897" y="0"/>
                  </a:lnTo>
                  <a:lnTo>
                    <a:pt x="914" y="0"/>
                  </a:lnTo>
                  <a:lnTo>
                    <a:pt x="933" y="0"/>
                  </a:lnTo>
                  <a:lnTo>
                    <a:pt x="951" y="0"/>
                  </a:lnTo>
                  <a:lnTo>
                    <a:pt x="988" y="0"/>
                  </a:lnTo>
                  <a:lnTo>
                    <a:pt x="1006" y="0"/>
                  </a:lnTo>
                  <a:lnTo>
                    <a:pt x="1024" y="0"/>
                  </a:lnTo>
                  <a:lnTo>
                    <a:pt x="1043" y="0"/>
                  </a:lnTo>
                  <a:lnTo>
                    <a:pt x="1061" y="0"/>
                  </a:lnTo>
                  <a:lnTo>
                    <a:pt x="1097" y="0"/>
                  </a:lnTo>
                  <a:lnTo>
                    <a:pt x="1116" y="0"/>
                  </a:lnTo>
                  <a:lnTo>
                    <a:pt x="1134" y="0"/>
                  </a:lnTo>
                  <a:lnTo>
                    <a:pt x="1152" y="0"/>
                  </a:lnTo>
                  <a:lnTo>
                    <a:pt x="1188" y="18"/>
                  </a:lnTo>
                  <a:lnTo>
                    <a:pt x="1207" y="18"/>
                  </a:lnTo>
                  <a:lnTo>
                    <a:pt x="1226" y="18"/>
                  </a:lnTo>
                  <a:lnTo>
                    <a:pt x="1243" y="18"/>
                  </a:lnTo>
                  <a:lnTo>
                    <a:pt x="1262" y="18"/>
                  </a:lnTo>
                  <a:lnTo>
                    <a:pt x="1298" y="36"/>
                  </a:lnTo>
                  <a:lnTo>
                    <a:pt x="1317" y="36"/>
                  </a:lnTo>
                  <a:lnTo>
                    <a:pt x="1336" y="36"/>
                  </a:lnTo>
                  <a:lnTo>
                    <a:pt x="1353" y="36"/>
                  </a:lnTo>
                  <a:lnTo>
                    <a:pt x="1390" y="36"/>
                  </a:lnTo>
                  <a:lnTo>
                    <a:pt x="1408" y="54"/>
                  </a:lnTo>
                  <a:lnTo>
                    <a:pt x="1427" y="54"/>
                  </a:lnTo>
                  <a:lnTo>
                    <a:pt x="1445" y="54"/>
                  </a:lnTo>
                  <a:lnTo>
                    <a:pt x="1463" y="54"/>
                  </a:lnTo>
                  <a:lnTo>
                    <a:pt x="1500" y="73"/>
                  </a:lnTo>
                  <a:lnTo>
                    <a:pt x="1518" y="73"/>
                  </a:lnTo>
                  <a:lnTo>
                    <a:pt x="1555" y="73"/>
                  </a:lnTo>
                  <a:lnTo>
                    <a:pt x="1573" y="73"/>
                  </a:lnTo>
                  <a:lnTo>
                    <a:pt x="1610" y="73"/>
                  </a:lnTo>
                  <a:lnTo>
                    <a:pt x="1627" y="91"/>
                  </a:lnTo>
                  <a:lnTo>
                    <a:pt x="1665" y="91"/>
                  </a:lnTo>
                  <a:lnTo>
                    <a:pt x="1701" y="91"/>
                  </a:lnTo>
                  <a:lnTo>
                    <a:pt x="1737" y="91"/>
                  </a:lnTo>
                  <a:lnTo>
                    <a:pt x="1774" y="91"/>
                  </a:lnTo>
                  <a:lnTo>
                    <a:pt x="1811" y="109"/>
                  </a:lnTo>
                  <a:lnTo>
                    <a:pt x="1847" y="109"/>
                  </a:lnTo>
                  <a:lnTo>
                    <a:pt x="1902" y="109"/>
                  </a:lnTo>
                  <a:lnTo>
                    <a:pt x="1939" y="109"/>
                  </a:lnTo>
                  <a:lnTo>
                    <a:pt x="1975" y="109"/>
                  </a:lnTo>
                  <a:lnTo>
                    <a:pt x="2030" y="109"/>
                  </a:lnTo>
                  <a:lnTo>
                    <a:pt x="2066" y="109"/>
                  </a:lnTo>
                  <a:lnTo>
                    <a:pt x="2104" y="109"/>
                  </a:lnTo>
                  <a:lnTo>
                    <a:pt x="2140" y="109"/>
                  </a:lnTo>
                  <a:lnTo>
                    <a:pt x="2195" y="109"/>
                  </a:lnTo>
                  <a:lnTo>
                    <a:pt x="2231" y="109"/>
                  </a:lnTo>
                  <a:lnTo>
                    <a:pt x="2268" y="128"/>
                  </a:lnTo>
                  <a:lnTo>
                    <a:pt x="2304" y="128"/>
                  </a:lnTo>
                  <a:lnTo>
                    <a:pt x="2359" y="109"/>
                  </a:lnTo>
                  <a:lnTo>
                    <a:pt x="2396" y="109"/>
                  </a:lnTo>
                  <a:lnTo>
                    <a:pt x="2433" y="109"/>
                  </a:lnTo>
                  <a:lnTo>
                    <a:pt x="2469" y="109"/>
                  </a:lnTo>
                  <a:lnTo>
                    <a:pt x="2505" y="109"/>
                  </a:lnTo>
                  <a:lnTo>
                    <a:pt x="2543" y="109"/>
                  </a:lnTo>
                  <a:lnTo>
                    <a:pt x="2579" y="109"/>
                  </a:lnTo>
                  <a:lnTo>
                    <a:pt x="2615" y="109"/>
                  </a:lnTo>
                  <a:lnTo>
                    <a:pt x="2652" y="109"/>
                  </a:lnTo>
                  <a:lnTo>
                    <a:pt x="2689" y="109"/>
                  </a:lnTo>
                  <a:lnTo>
                    <a:pt x="2725" y="109"/>
                  </a:lnTo>
                  <a:lnTo>
                    <a:pt x="2762" y="109"/>
                  </a:lnTo>
                  <a:lnTo>
                    <a:pt x="2798" y="109"/>
                  </a:lnTo>
                  <a:lnTo>
                    <a:pt x="2817" y="109"/>
                  </a:lnTo>
                  <a:lnTo>
                    <a:pt x="2853" y="109"/>
                  </a:lnTo>
                  <a:lnTo>
                    <a:pt x="2889" y="109"/>
                  </a:lnTo>
                  <a:lnTo>
                    <a:pt x="2927" y="109"/>
                  </a:lnTo>
                  <a:lnTo>
                    <a:pt x="2944" y="109"/>
                  </a:lnTo>
                  <a:lnTo>
                    <a:pt x="2982" y="109"/>
                  </a:lnTo>
                  <a:lnTo>
                    <a:pt x="3018" y="109"/>
                  </a:lnTo>
                  <a:lnTo>
                    <a:pt x="3036" y="109"/>
                  </a:lnTo>
                  <a:lnTo>
                    <a:pt x="3073" y="109"/>
                  </a:lnTo>
                  <a:lnTo>
                    <a:pt x="3091" y="109"/>
                  </a:lnTo>
                  <a:lnTo>
                    <a:pt x="3127" y="109"/>
                  </a:lnTo>
                  <a:lnTo>
                    <a:pt x="3146" y="109"/>
                  </a:lnTo>
                  <a:lnTo>
                    <a:pt x="3182" y="109"/>
                  </a:lnTo>
                  <a:lnTo>
                    <a:pt x="3201" y="109"/>
                  </a:lnTo>
                  <a:lnTo>
                    <a:pt x="3219" y="109"/>
                  </a:lnTo>
                  <a:lnTo>
                    <a:pt x="3256" y="109"/>
                  </a:lnTo>
                  <a:lnTo>
                    <a:pt x="3273" y="109"/>
                  </a:lnTo>
                  <a:lnTo>
                    <a:pt x="3292" y="109"/>
                  </a:lnTo>
                  <a:lnTo>
                    <a:pt x="3328" y="109"/>
                  </a:lnTo>
                  <a:lnTo>
                    <a:pt x="3347" y="109"/>
                  </a:lnTo>
                  <a:lnTo>
                    <a:pt x="3366" y="109"/>
                  </a:lnTo>
                  <a:lnTo>
                    <a:pt x="3383" y="109"/>
                  </a:lnTo>
                  <a:lnTo>
                    <a:pt x="3402" y="109"/>
                  </a:lnTo>
                  <a:lnTo>
                    <a:pt x="3420" y="109"/>
                  </a:lnTo>
                  <a:lnTo>
                    <a:pt x="3438" y="91"/>
                  </a:lnTo>
                  <a:lnTo>
                    <a:pt x="3475" y="91"/>
                  </a:lnTo>
                  <a:lnTo>
                    <a:pt x="3493" y="91"/>
                  </a:lnTo>
                  <a:lnTo>
                    <a:pt x="3512" y="91"/>
                  </a:lnTo>
                  <a:lnTo>
                    <a:pt x="3530" y="73"/>
                  </a:lnTo>
                  <a:lnTo>
                    <a:pt x="3548" y="73"/>
                  </a:lnTo>
                  <a:lnTo>
                    <a:pt x="3585" y="73"/>
                  </a:lnTo>
                  <a:lnTo>
                    <a:pt x="3603" y="73"/>
                  </a:lnTo>
                  <a:lnTo>
                    <a:pt x="3640" y="73"/>
                  </a:lnTo>
                  <a:lnTo>
                    <a:pt x="3676" y="73"/>
                  </a:lnTo>
                  <a:lnTo>
                    <a:pt x="3712" y="73"/>
                  </a:lnTo>
                  <a:lnTo>
                    <a:pt x="3750" y="73"/>
                  </a:lnTo>
                  <a:lnTo>
                    <a:pt x="3805" y="54"/>
                  </a:lnTo>
                  <a:lnTo>
                    <a:pt x="3841" y="54"/>
                  </a:lnTo>
                  <a:lnTo>
                    <a:pt x="3896" y="54"/>
                  </a:lnTo>
                  <a:lnTo>
                    <a:pt x="3950" y="54"/>
                  </a:lnTo>
                  <a:lnTo>
                    <a:pt x="3987" y="54"/>
                  </a:lnTo>
                  <a:lnTo>
                    <a:pt x="4042" y="54"/>
                  </a:lnTo>
                  <a:lnTo>
                    <a:pt x="4115" y="73"/>
                  </a:lnTo>
                  <a:lnTo>
                    <a:pt x="4170" y="73"/>
                  </a:lnTo>
                  <a:lnTo>
                    <a:pt x="4206" y="73"/>
                  </a:lnTo>
                  <a:lnTo>
                    <a:pt x="4261" y="73"/>
                  </a:lnTo>
                  <a:lnTo>
                    <a:pt x="4316" y="73"/>
                  </a:lnTo>
                  <a:lnTo>
                    <a:pt x="4353" y="91"/>
                  </a:lnTo>
                  <a:lnTo>
                    <a:pt x="4408" y="91"/>
                  </a:lnTo>
                  <a:lnTo>
                    <a:pt x="4444" y="91"/>
                  </a:lnTo>
                  <a:lnTo>
                    <a:pt x="4481" y="109"/>
                  </a:lnTo>
                  <a:lnTo>
                    <a:pt x="4518" y="109"/>
                  </a:lnTo>
                  <a:lnTo>
                    <a:pt x="4554" y="128"/>
                  </a:lnTo>
                  <a:lnTo>
                    <a:pt x="4590" y="128"/>
                  </a:lnTo>
                  <a:lnTo>
                    <a:pt x="4628" y="145"/>
                  </a:lnTo>
                  <a:lnTo>
                    <a:pt x="4664" y="164"/>
                  </a:lnTo>
                  <a:lnTo>
                    <a:pt x="4682" y="164"/>
                  </a:lnTo>
                  <a:lnTo>
                    <a:pt x="4700" y="183"/>
                  </a:lnTo>
                  <a:lnTo>
                    <a:pt x="4737" y="200"/>
                  </a:lnTo>
                  <a:lnTo>
                    <a:pt x="4755" y="219"/>
                  </a:lnTo>
                  <a:lnTo>
                    <a:pt x="4774" y="237"/>
                  </a:lnTo>
                  <a:lnTo>
                    <a:pt x="4792" y="237"/>
                  </a:lnTo>
                  <a:lnTo>
                    <a:pt x="4810" y="254"/>
                  </a:lnTo>
                  <a:lnTo>
                    <a:pt x="4828" y="272"/>
                  </a:lnTo>
                  <a:lnTo>
                    <a:pt x="4847" y="291"/>
                  </a:lnTo>
                  <a:lnTo>
                    <a:pt x="4865" y="308"/>
                  </a:lnTo>
                  <a:lnTo>
                    <a:pt x="4883" y="327"/>
                  </a:lnTo>
                  <a:lnTo>
                    <a:pt x="4902" y="346"/>
                  </a:lnTo>
                  <a:lnTo>
                    <a:pt x="4919" y="363"/>
                  </a:lnTo>
                  <a:lnTo>
                    <a:pt x="4938" y="382"/>
                  </a:lnTo>
                  <a:lnTo>
                    <a:pt x="4957" y="400"/>
                  </a:lnTo>
                  <a:lnTo>
                    <a:pt x="4957" y="418"/>
                  </a:lnTo>
                  <a:lnTo>
                    <a:pt x="4974" y="437"/>
                  </a:lnTo>
                  <a:lnTo>
                    <a:pt x="4993" y="455"/>
                  </a:lnTo>
                  <a:lnTo>
                    <a:pt x="4993" y="491"/>
                  </a:lnTo>
                  <a:lnTo>
                    <a:pt x="5012" y="510"/>
                  </a:lnTo>
                  <a:lnTo>
                    <a:pt x="5029" y="528"/>
                  </a:lnTo>
                  <a:lnTo>
                    <a:pt x="5029" y="546"/>
                  </a:lnTo>
                  <a:lnTo>
                    <a:pt x="5048" y="565"/>
                  </a:lnTo>
                  <a:lnTo>
                    <a:pt x="5048" y="582"/>
                  </a:lnTo>
                  <a:lnTo>
                    <a:pt x="5066" y="582"/>
                  </a:lnTo>
                  <a:lnTo>
                    <a:pt x="5066" y="601"/>
                  </a:lnTo>
                  <a:lnTo>
                    <a:pt x="5084" y="618"/>
                  </a:lnTo>
                  <a:lnTo>
                    <a:pt x="5084" y="637"/>
                  </a:lnTo>
                  <a:lnTo>
                    <a:pt x="5103" y="655"/>
                  </a:lnTo>
                  <a:lnTo>
                    <a:pt x="5121" y="673"/>
                  </a:lnTo>
                  <a:lnTo>
                    <a:pt x="5121" y="692"/>
                  </a:lnTo>
                  <a:lnTo>
                    <a:pt x="5139" y="709"/>
                  </a:lnTo>
                  <a:lnTo>
                    <a:pt x="5158" y="728"/>
                  </a:lnTo>
                  <a:lnTo>
                    <a:pt x="5158" y="747"/>
                  </a:lnTo>
                  <a:lnTo>
                    <a:pt x="5176" y="764"/>
                  </a:lnTo>
                  <a:lnTo>
                    <a:pt x="5176" y="783"/>
                  </a:lnTo>
                  <a:lnTo>
                    <a:pt x="5194" y="783"/>
                  </a:lnTo>
                  <a:lnTo>
                    <a:pt x="5194" y="801"/>
                  </a:lnTo>
                  <a:lnTo>
                    <a:pt x="5194" y="819"/>
                  </a:lnTo>
                  <a:lnTo>
                    <a:pt x="5212" y="838"/>
                  </a:lnTo>
                  <a:lnTo>
                    <a:pt x="5212" y="856"/>
                  </a:lnTo>
                  <a:lnTo>
                    <a:pt x="5231" y="892"/>
                  </a:lnTo>
                  <a:lnTo>
                    <a:pt x="5231" y="911"/>
                  </a:lnTo>
                  <a:lnTo>
                    <a:pt x="5231" y="928"/>
                  </a:lnTo>
                  <a:lnTo>
                    <a:pt x="5249" y="947"/>
                  </a:lnTo>
                  <a:lnTo>
                    <a:pt x="5249" y="982"/>
                  </a:lnTo>
                  <a:lnTo>
                    <a:pt x="5267" y="1001"/>
                  </a:lnTo>
                  <a:lnTo>
                    <a:pt x="5267" y="1037"/>
                  </a:lnTo>
                  <a:lnTo>
                    <a:pt x="5267" y="1055"/>
                  </a:lnTo>
                  <a:lnTo>
                    <a:pt x="5286" y="1092"/>
                  </a:lnTo>
                  <a:lnTo>
                    <a:pt x="5286" y="1110"/>
                  </a:lnTo>
                  <a:lnTo>
                    <a:pt x="5286" y="1129"/>
                  </a:lnTo>
                  <a:lnTo>
                    <a:pt x="5304" y="1165"/>
                  </a:lnTo>
                  <a:lnTo>
                    <a:pt x="5304" y="1184"/>
                  </a:lnTo>
                  <a:lnTo>
                    <a:pt x="5304" y="1220"/>
                  </a:lnTo>
                  <a:lnTo>
                    <a:pt x="5304" y="1238"/>
                  </a:lnTo>
                  <a:lnTo>
                    <a:pt x="5304" y="1256"/>
                  </a:lnTo>
                  <a:lnTo>
                    <a:pt x="5304" y="1293"/>
                  </a:lnTo>
                  <a:lnTo>
                    <a:pt x="5304" y="1311"/>
                  </a:lnTo>
                  <a:lnTo>
                    <a:pt x="5304" y="1347"/>
                  </a:lnTo>
                  <a:lnTo>
                    <a:pt x="5304" y="1365"/>
                  </a:lnTo>
                  <a:lnTo>
                    <a:pt x="5304" y="1383"/>
                  </a:lnTo>
                  <a:lnTo>
                    <a:pt x="5304" y="1420"/>
                  </a:lnTo>
                  <a:lnTo>
                    <a:pt x="5304" y="1438"/>
                  </a:lnTo>
                  <a:lnTo>
                    <a:pt x="5304" y="1456"/>
                  </a:lnTo>
                  <a:lnTo>
                    <a:pt x="5286" y="1493"/>
                  </a:lnTo>
                  <a:lnTo>
                    <a:pt x="5286" y="1511"/>
                  </a:lnTo>
                  <a:lnTo>
                    <a:pt x="5286" y="1547"/>
                  </a:lnTo>
                  <a:lnTo>
                    <a:pt x="5286" y="1566"/>
                  </a:lnTo>
                  <a:lnTo>
                    <a:pt x="5286" y="1602"/>
                  </a:lnTo>
                  <a:lnTo>
                    <a:pt x="5267" y="1621"/>
                  </a:lnTo>
                  <a:lnTo>
                    <a:pt x="5267" y="1657"/>
                  </a:lnTo>
                  <a:lnTo>
                    <a:pt x="5267" y="1675"/>
                  </a:lnTo>
                  <a:lnTo>
                    <a:pt x="5249" y="1711"/>
                  </a:lnTo>
                  <a:lnTo>
                    <a:pt x="5249" y="1729"/>
                  </a:lnTo>
                  <a:lnTo>
                    <a:pt x="5249" y="1765"/>
                  </a:lnTo>
                  <a:lnTo>
                    <a:pt x="5231" y="1803"/>
                  </a:lnTo>
                  <a:lnTo>
                    <a:pt x="5231" y="1820"/>
                  </a:lnTo>
                  <a:lnTo>
                    <a:pt x="5212" y="1857"/>
                  </a:lnTo>
                  <a:lnTo>
                    <a:pt x="5212" y="1875"/>
                  </a:lnTo>
                  <a:lnTo>
                    <a:pt x="5194" y="1912"/>
                  </a:lnTo>
                  <a:lnTo>
                    <a:pt x="5194" y="1948"/>
                  </a:lnTo>
                  <a:lnTo>
                    <a:pt x="5194" y="1984"/>
                  </a:lnTo>
                  <a:lnTo>
                    <a:pt x="5194" y="2003"/>
                  </a:lnTo>
                  <a:lnTo>
                    <a:pt x="5176" y="2039"/>
                  </a:lnTo>
                  <a:lnTo>
                    <a:pt x="5176" y="2075"/>
                  </a:lnTo>
                  <a:lnTo>
                    <a:pt x="5176" y="2111"/>
                  </a:lnTo>
                  <a:lnTo>
                    <a:pt x="5176" y="2149"/>
                  </a:lnTo>
                  <a:lnTo>
                    <a:pt x="5158" y="2185"/>
                  </a:lnTo>
                  <a:lnTo>
                    <a:pt x="5158" y="2221"/>
                  </a:lnTo>
                  <a:lnTo>
                    <a:pt x="5158" y="2258"/>
                  </a:lnTo>
                  <a:lnTo>
                    <a:pt x="5158" y="2294"/>
                  </a:lnTo>
                  <a:lnTo>
                    <a:pt x="5158" y="2330"/>
                  </a:lnTo>
                  <a:lnTo>
                    <a:pt x="5158" y="2368"/>
                  </a:lnTo>
                  <a:lnTo>
                    <a:pt x="5158" y="2421"/>
                  </a:lnTo>
                  <a:lnTo>
                    <a:pt x="5158" y="2458"/>
                  </a:lnTo>
                  <a:lnTo>
                    <a:pt x="5158" y="2494"/>
                  </a:lnTo>
                  <a:lnTo>
                    <a:pt x="5158" y="2531"/>
                  </a:lnTo>
                  <a:lnTo>
                    <a:pt x="5158" y="2567"/>
                  </a:lnTo>
                  <a:lnTo>
                    <a:pt x="5158" y="2603"/>
                  </a:lnTo>
                  <a:lnTo>
                    <a:pt x="5158" y="2640"/>
                  </a:lnTo>
                  <a:lnTo>
                    <a:pt x="5158" y="2658"/>
                  </a:lnTo>
                  <a:lnTo>
                    <a:pt x="5158" y="2695"/>
                  </a:lnTo>
                  <a:lnTo>
                    <a:pt x="5158" y="2731"/>
                  </a:lnTo>
                  <a:lnTo>
                    <a:pt x="5158" y="2767"/>
                  </a:lnTo>
                  <a:lnTo>
                    <a:pt x="5158" y="2785"/>
                  </a:lnTo>
                  <a:lnTo>
                    <a:pt x="5158" y="2822"/>
                  </a:lnTo>
                  <a:lnTo>
                    <a:pt x="5158" y="2840"/>
                  </a:lnTo>
                  <a:lnTo>
                    <a:pt x="5158" y="2877"/>
                  </a:lnTo>
                  <a:lnTo>
                    <a:pt x="5158" y="2895"/>
                  </a:lnTo>
                  <a:lnTo>
                    <a:pt x="5176" y="2932"/>
                  </a:lnTo>
                  <a:lnTo>
                    <a:pt x="5176" y="2949"/>
                  </a:lnTo>
                  <a:lnTo>
                    <a:pt x="5176" y="2968"/>
                  </a:lnTo>
                  <a:lnTo>
                    <a:pt x="5176" y="3004"/>
                  </a:lnTo>
                  <a:lnTo>
                    <a:pt x="5176" y="3023"/>
                  </a:lnTo>
                  <a:lnTo>
                    <a:pt x="5176" y="3041"/>
                  </a:lnTo>
                  <a:lnTo>
                    <a:pt x="5176" y="3077"/>
                  </a:lnTo>
                  <a:lnTo>
                    <a:pt x="5176" y="3096"/>
                  </a:lnTo>
                  <a:lnTo>
                    <a:pt x="5158" y="3114"/>
                  </a:lnTo>
                  <a:lnTo>
                    <a:pt x="5158" y="3150"/>
                  </a:lnTo>
                  <a:lnTo>
                    <a:pt x="5158" y="3167"/>
                  </a:lnTo>
                  <a:lnTo>
                    <a:pt x="5158" y="3186"/>
                  </a:lnTo>
                  <a:lnTo>
                    <a:pt x="5158" y="3222"/>
                  </a:lnTo>
                  <a:lnTo>
                    <a:pt x="5158" y="3241"/>
                  </a:lnTo>
                  <a:lnTo>
                    <a:pt x="5158" y="3259"/>
                  </a:lnTo>
                  <a:lnTo>
                    <a:pt x="5158" y="3277"/>
                  </a:lnTo>
                  <a:lnTo>
                    <a:pt x="5139" y="3314"/>
                  </a:lnTo>
                  <a:lnTo>
                    <a:pt x="5139" y="3332"/>
                  </a:lnTo>
                  <a:lnTo>
                    <a:pt x="5139" y="3350"/>
                  </a:lnTo>
                  <a:lnTo>
                    <a:pt x="5139" y="3369"/>
                  </a:lnTo>
                  <a:lnTo>
                    <a:pt x="5121" y="3386"/>
                  </a:lnTo>
                  <a:lnTo>
                    <a:pt x="5121" y="3424"/>
                  </a:lnTo>
                  <a:lnTo>
                    <a:pt x="5121" y="3441"/>
                  </a:lnTo>
                  <a:lnTo>
                    <a:pt x="5103" y="3460"/>
                  </a:lnTo>
                  <a:lnTo>
                    <a:pt x="5103" y="3478"/>
                  </a:lnTo>
                  <a:lnTo>
                    <a:pt x="5103" y="3496"/>
                  </a:lnTo>
                  <a:lnTo>
                    <a:pt x="5084" y="3513"/>
                  </a:lnTo>
                  <a:lnTo>
                    <a:pt x="5084" y="3532"/>
                  </a:lnTo>
                  <a:lnTo>
                    <a:pt x="5066" y="3551"/>
                  </a:lnTo>
                  <a:lnTo>
                    <a:pt x="5066" y="3568"/>
                  </a:lnTo>
                  <a:lnTo>
                    <a:pt x="5048" y="3587"/>
                  </a:lnTo>
                  <a:lnTo>
                    <a:pt x="5048" y="3605"/>
                  </a:lnTo>
                  <a:lnTo>
                    <a:pt x="5029" y="3605"/>
                  </a:lnTo>
                  <a:lnTo>
                    <a:pt x="5029" y="3623"/>
                  </a:lnTo>
                  <a:lnTo>
                    <a:pt x="5012" y="3642"/>
                  </a:lnTo>
                  <a:lnTo>
                    <a:pt x="4993" y="3660"/>
                  </a:lnTo>
                  <a:lnTo>
                    <a:pt x="4974" y="3678"/>
                  </a:lnTo>
                  <a:lnTo>
                    <a:pt x="4957" y="3696"/>
                  </a:lnTo>
                  <a:lnTo>
                    <a:pt x="4938" y="3715"/>
                  </a:lnTo>
                  <a:lnTo>
                    <a:pt x="4919" y="3715"/>
                  </a:lnTo>
                  <a:lnTo>
                    <a:pt x="4902" y="3732"/>
                  </a:lnTo>
                  <a:lnTo>
                    <a:pt x="4883" y="3732"/>
                  </a:lnTo>
                  <a:lnTo>
                    <a:pt x="4865" y="3751"/>
                  </a:lnTo>
                  <a:lnTo>
                    <a:pt x="4847" y="3770"/>
                  </a:lnTo>
                  <a:lnTo>
                    <a:pt x="4810" y="3770"/>
                  </a:lnTo>
                  <a:lnTo>
                    <a:pt x="4792" y="3770"/>
                  </a:lnTo>
                  <a:lnTo>
                    <a:pt x="4774" y="3787"/>
                  </a:lnTo>
                  <a:lnTo>
                    <a:pt x="4737" y="3787"/>
                  </a:lnTo>
                  <a:lnTo>
                    <a:pt x="4719" y="3806"/>
                  </a:lnTo>
                  <a:lnTo>
                    <a:pt x="4700" y="3806"/>
                  </a:lnTo>
                  <a:lnTo>
                    <a:pt x="4664" y="3806"/>
                  </a:lnTo>
                  <a:lnTo>
                    <a:pt x="4645" y="3806"/>
                  </a:lnTo>
                  <a:lnTo>
                    <a:pt x="4628" y="3824"/>
                  </a:lnTo>
                  <a:lnTo>
                    <a:pt x="4609" y="3824"/>
                  </a:lnTo>
                  <a:lnTo>
                    <a:pt x="4573" y="3824"/>
                  </a:lnTo>
                  <a:lnTo>
                    <a:pt x="4554" y="3824"/>
                  </a:lnTo>
                  <a:lnTo>
                    <a:pt x="4535" y="3824"/>
                  </a:lnTo>
                  <a:lnTo>
                    <a:pt x="4518" y="3824"/>
                  </a:lnTo>
                  <a:lnTo>
                    <a:pt x="4499" y="3824"/>
                  </a:lnTo>
                  <a:lnTo>
                    <a:pt x="4481" y="3824"/>
                  </a:lnTo>
                  <a:lnTo>
                    <a:pt x="4463" y="3824"/>
                  </a:lnTo>
                  <a:lnTo>
                    <a:pt x="4444" y="3824"/>
                  </a:lnTo>
                  <a:lnTo>
                    <a:pt x="4426" y="3824"/>
                  </a:lnTo>
                  <a:lnTo>
                    <a:pt x="4408" y="3806"/>
                  </a:lnTo>
                  <a:lnTo>
                    <a:pt x="4371" y="3806"/>
                  </a:lnTo>
                  <a:lnTo>
                    <a:pt x="4353" y="3806"/>
                  </a:lnTo>
                  <a:lnTo>
                    <a:pt x="4335" y="3787"/>
                  </a:lnTo>
                  <a:lnTo>
                    <a:pt x="4316" y="3787"/>
                  </a:lnTo>
                  <a:lnTo>
                    <a:pt x="4280" y="3770"/>
                  </a:lnTo>
                  <a:lnTo>
                    <a:pt x="4261" y="3770"/>
                  </a:lnTo>
                  <a:lnTo>
                    <a:pt x="4225" y="3751"/>
                  </a:lnTo>
                  <a:lnTo>
                    <a:pt x="4206" y="3732"/>
                  </a:lnTo>
                  <a:lnTo>
                    <a:pt x="4170" y="3732"/>
                  </a:lnTo>
                  <a:lnTo>
                    <a:pt x="4134" y="3715"/>
                  </a:lnTo>
                  <a:lnTo>
                    <a:pt x="4115" y="3696"/>
                  </a:lnTo>
                  <a:lnTo>
                    <a:pt x="4079" y="3678"/>
                  </a:lnTo>
                  <a:lnTo>
                    <a:pt x="4042" y="3660"/>
                  </a:lnTo>
                  <a:lnTo>
                    <a:pt x="4005" y="3623"/>
                  </a:lnTo>
                  <a:lnTo>
                    <a:pt x="3969" y="3605"/>
                  </a:lnTo>
                  <a:lnTo>
                    <a:pt x="3914" y="3587"/>
                  </a:lnTo>
                  <a:lnTo>
                    <a:pt x="3877" y="3568"/>
                  </a:lnTo>
                  <a:lnTo>
                    <a:pt x="3841" y="3532"/>
                  </a:lnTo>
                  <a:lnTo>
                    <a:pt x="3805" y="3513"/>
                  </a:lnTo>
                  <a:lnTo>
                    <a:pt x="3767" y="3496"/>
                  </a:lnTo>
                  <a:lnTo>
                    <a:pt x="3731" y="3478"/>
                  </a:lnTo>
                  <a:lnTo>
                    <a:pt x="3712" y="3441"/>
                  </a:lnTo>
                  <a:lnTo>
                    <a:pt x="3676" y="3424"/>
                  </a:lnTo>
                  <a:lnTo>
                    <a:pt x="3640" y="3405"/>
                  </a:lnTo>
                  <a:lnTo>
                    <a:pt x="3621" y="3386"/>
                  </a:lnTo>
                  <a:lnTo>
                    <a:pt x="3585" y="3369"/>
                  </a:lnTo>
                  <a:lnTo>
                    <a:pt x="3566" y="3350"/>
                  </a:lnTo>
                  <a:lnTo>
                    <a:pt x="3530" y="3332"/>
                  </a:lnTo>
                  <a:lnTo>
                    <a:pt x="3512" y="3314"/>
                  </a:lnTo>
                  <a:lnTo>
                    <a:pt x="3493" y="3295"/>
                  </a:lnTo>
                  <a:lnTo>
                    <a:pt x="3475" y="3277"/>
                  </a:lnTo>
                  <a:lnTo>
                    <a:pt x="3438" y="3259"/>
                  </a:lnTo>
                  <a:lnTo>
                    <a:pt x="3420" y="3241"/>
                  </a:lnTo>
                  <a:lnTo>
                    <a:pt x="3402" y="3222"/>
                  </a:lnTo>
                  <a:lnTo>
                    <a:pt x="3383" y="3205"/>
                  </a:lnTo>
                  <a:lnTo>
                    <a:pt x="3366" y="3205"/>
                  </a:lnTo>
                  <a:lnTo>
                    <a:pt x="3347" y="3186"/>
                  </a:lnTo>
                  <a:lnTo>
                    <a:pt x="3328" y="3167"/>
                  </a:lnTo>
                  <a:lnTo>
                    <a:pt x="3311" y="3167"/>
                  </a:lnTo>
                  <a:lnTo>
                    <a:pt x="3311" y="3150"/>
                  </a:lnTo>
                  <a:lnTo>
                    <a:pt x="3292" y="3150"/>
                  </a:lnTo>
                  <a:lnTo>
                    <a:pt x="3273" y="3132"/>
                  </a:lnTo>
                  <a:lnTo>
                    <a:pt x="3256" y="3132"/>
                  </a:lnTo>
                  <a:lnTo>
                    <a:pt x="3237" y="3114"/>
                  </a:lnTo>
                  <a:lnTo>
                    <a:pt x="3219" y="3096"/>
                  </a:lnTo>
                  <a:lnTo>
                    <a:pt x="3201" y="3096"/>
                  </a:lnTo>
                  <a:lnTo>
                    <a:pt x="3182" y="3096"/>
                  </a:lnTo>
                  <a:lnTo>
                    <a:pt x="3164" y="3077"/>
                  </a:lnTo>
                  <a:lnTo>
                    <a:pt x="3146" y="3077"/>
                  </a:lnTo>
                  <a:lnTo>
                    <a:pt x="3127" y="3077"/>
                  </a:lnTo>
                  <a:lnTo>
                    <a:pt x="3109" y="3077"/>
                  </a:lnTo>
                  <a:lnTo>
                    <a:pt x="3091" y="3077"/>
                  </a:lnTo>
                  <a:lnTo>
                    <a:pt x="3054" y="3077"/>
                  </a:lnTo>
                  <a:lnTo>
                    <a:pt x="3036" y="3059"/>
                  </a:lnTo>
                  <a:lnTo>
                    <a:pt x="2999" y="3059"/>
                  </a:lnTo>
                  <a:lnTo>
                    <a:pt x="2982" y="3059"/>
                  </a:lnTo>
                  <a:lnTo>
                    <a:pt x="2944" y="3059"/>
                  </a:lnTo>
                  <a:lnTo>
                    <a:pt x="2908" y="3059"/>
                  </a:lnTo>
                  <a:lnTo>
                    <a:pt x="2872" y="3059"/>
                  </a:lnTo>
                  <a:lnTo>
                    <a:pt x="2834" y="3059"/>
                  </a:lnTo>
                  <a:lnTo>
                    <a:pt x="2798" y="3059"/>
                  </a:lnTo>
                  <a:lnTo>
                    <a:pt x="2762" y="3059"/>
                  </a:lnTo>
                  <a:lnTo>
                    <a:pt x="2725" y="3059"/>
                  </a:lnTo>
                  <a:lnTo>
                    <a:pt x="2670" y="3059"/>
                  </a:lnTo>
                  <a:lnTo>
                    <a:pt x="2634" y="3059"/>
                  </a:lnTo>
                  <a:lnTo>
                    <a:pt x="2597" y="3059"/>
                  </a:lnTo>
                  <a:lnTo>
                    <a:pt x="2560" y="3059"/>
                  </a:lnTo>
                  <a:lnTo>
                    <a:pt x="2524" y="3059"/>
                  </a:lnTo>
                  <a:lnTo>
                    <a:pt x="2488" y="3059"/>
                  </a:lnTo>
                  <a:lnTo>
                    <a:pt x="2450" y="3059"/>
                  </a:lnTo>
                  <a:lnTo>
                    <a:pt x="2414" y="3059"/>
                  </a:lnTo>
                  <a:lnTo>
                    <a:pt x="2359" y="3059"/>
                  </a:lnTo>
                  <a:lnTo>
                    <a:pt x="2323" y="3059"/>
                  </a:lnTo>
                  <a:lnTo>
                    <a:pt x="2286" y="3059"/>
                  </a:lnTo>
                  <a:lnTo>
                    <a:pt x="2250" y="3059"/>
                  </a:lnTo>
                  <a:lnTo>
                    <a:pt x="2213" y="3059"/>
                  </a:lnTo>
                  <a:lnTo>
                    <a:pt x="2176" y="3059"/>
                  </a:lnTo>
                  <a:lnTo>
                    <a:pt x="2159" y="3077"/>
                  </a:lnTo>
                  <a:lnTo>
                    <a:pt x="2121" y="3077"/>
                  </a:lnTo>
                  <a:lnTo>
                    <a:pt x="2085" y="3077"/>
                  </a:lnTo>
                  <a:lnTo>
                    <a:pt x="2049" y="3077"/>
                  </a:lnTo>
                  <a:lnTo>
                    <a:pt x="2011" y="3059"/>
                  </a:lnTo>
                  <a:lnTo>
                    <a:pt x="1994" y="3059"/>
                  </a:lnTo>
                  <a:lnTo>
                    <a:pt x="1957" y="3059"/>
                  </a:lnTo>
                  <a:lnTo>
                    <a:pt x="1939" y="3059"/>
                  </a:lnTo>
                  <a:lnTo>
                    <a:pt x="1902" y="3059"/>
                  </a:lnTo>
                  <a:lnTo>
                    <a:pt x="1884" y="3059"/>
                  </a:lnTo>
                  <a:lnTo>
                    <a:pt x="1847" y="3041"/>
                  </a:lnTo>
                  <a:lnTo>
                    <a:pt x="1829" y="3041"/>
                  </a:lnTo>
                  <a:lnTo>
                    <a:pt x="1811" y="3041"/>
                  </a:lnTo>
                  <a:lnTo>
                    <a:pt x="1774" y="3041"/>
                  </a:lnTo>
                  <a:lnTo>
                    <a:pt x="1756" y="3023"/>
                  </a:lnTo>
                  <a:lnTo>
                    <a:pt x="1737" y="3023"/>
                  </a:lnTo>
                  <a:lnTo>
                    <a:pt x="1720" y="3004"/>
                  </a:lnTo>
                  <a:lnTo>
                    <a:pt x="1701" y="3004"/>
                  </a:lnTo>
                  <a:lnTo>
                    <a:pt x="1682" y="2987"/>
                  </a:lnTo>
                  <a:lnTo>
                    <a:pt x="1665" y="2987"/>
                  </a:lnTo>
                  <a:lnTo>
                    <a:pt x="1627" y="2968"/>
                  </a:lnTo>
                  <a:lnTo>
                    <a:pt x="1610" y="2968"/>
                  </a:lnTo>
                  <a:lnTo>
                    <a:pt x="1591" y="2949"/>
                  </a:lnTo>
                  <a:lnTo>
                    <a:pt x="1573" y="2949"/>
                  </a:lnTo>
                  <a:lnTo>
                    <a:pt x="1536" y="2932"/>
                  </a:lnTo>
                  <a:lnTo>
                    <a:pt x="1518" y="2932"/>
                  </a:lnTo>
                  <a:lnTo>
                    <a:pt x="1500" y="2913"/>
                  </a:lnTo>
                  <a:lnTo>
                    <a:pt x="1463" y="2895"/>
                  </a:lnTo>
                  <a:lnTo>
                    <a:pt x="1445" y="2895"/>
                  </a:lnTo>
                  <a:lnTo>
                    <a:pt x="1427" y="2877"/>
                  </a:lnTo>
                  <a:lnTo>
                    <a:pt x="1390" y="2877"/>
                  </a:lnTo>
                  <a:lnTo>
                    <a:pt x="1372" y="2858"/>
                  </a:lnTo>
                  <a:lnTo>
                    <a:pt x="1336" y="2840"/>
                  </a:lnTo>
                  <a:lnTo>
                    <a:pt x="1317" y="2822"/>
                  </a:lnTo>
                  <a:lnTo>
                    <a:pt x="1281" y="2822"/>
                  </a:lnTo>
                  <a:lnTo>
                    <a:pt x="1262" y="2804"/>
                  </a:lnTo>
                  <a:lnTo>
                    <a:pt x="1243" y="2804"/>
                  </a:lnTo>
                  <a:lnTo>
                    <a:pt x="1207" y="2785"/>
                  </a:lnTo>
                  <a:lnTo>
                    <a:pt x="1188" y="2785"/>
                  </a:lnTo>
                  <a:lnTo>
                    <a:pt x="1171" y="2767"/>
                  </a:lnTo>
                  <a:lnTo>
                    <a:pt x="1152" y="2767"/>
                  </a:lnTo>
                  <a:lnTo>
                    <a:pt x="1134" y="2750"/>
                  </a:lnTo>
                  <a:lnTo>
                    <a:pt x="1116" y="2750"/>
                  </a:lnTo>
                  <a:lnTo>
                    <a:pt x="1097" y="2731"/>
                  </a:lnTo>
                  <a:lnTo>
                    <a:pt x="1079" y="2731"/>
                  </a:lnTo>
                  <a:lnTo>
                    <a:pt x="1061" y="2731"/>
                  </a:lnTo>
                  <a:lnTo>
                    <a:pt x="1043" y="2713"/>
                  </a:lnTo>
                  <a:lnTo>
                    <a:pt x="1024" y="2713"/>
                  </a:lnTo>
                  <a:lnTo>
                    <a:pt x="1006" y="2713"/>
                  </a:lnTo>
                  <a:lnTo>
                    <a:pt x="988" y="2695"/>
                  </a:lnTo>
                  <a:lnTo>
                    <a:pt x="969" y="2695"/>
                  </a:lnTo>
                  <a:lnTo>
                    <a:pt x="969" y="2677"/>
                  </a:lnTo>
                  <a:lnTo>
                    <a:pt x="951" y="2677"/>
                  </a:lnTo>
                  <a:lnTo>
                    <a:pt x="933" y="2658"/>
                  </a:lnTo>
                  <a:lnTo>
                    <a:pt x="914" y="2640"/>
                  </a:lnTo>
                  <a:lnTo>
                    <a:pt x="897" y="2622"/>
                  </a:lnTo>
                  <a:lnTo>
                    <a:pt x="878" y="2603"/>
                  </a:lnTo>
                  <a:lnTo>
                    <a:pt x="878" y="2586"/>
                  </a:lnTo>
                  <a:lnTo>
                    <a:pt x="859" y="2567"/>
                  </a:lnTo>
                  <a:lnTo>
                    <a:pt x="859" y="2548"/>
                  </a:lnTo>
                  <a:lnTo>
                    <a:pt x="842" y="2548"/>
                  </a:lnTo>
                  <a:lnTo>
                    <a:pt x="842" y="2531"/>
                  </a:lnTo>
                  <a:lnTo>
                    <a:pt x="823" y="2512"/>
                  </a:lnTo>
                  <a:lnTo>
                    <a:pt x="823" y="2494"/>
                  </a:lnTo>
                  <a:lnTo>
                    <a:pt x="804" y="2476"/>
                  </a:lnTo>
                  <a:lnTo>
                    <a:pt x="804" y="2458"/>
                  </a:lnTo>
                  <a:lnTo>
                    <a:pt x="787" y="2439"/>
                  </a:lnTo>
                  <a:lnTo>
                    <a:pt x="787" y="2421"/>
                  </a:lnTo>
                  <a:lnTo>
                    <a:pt x="768" y="2404"/>
                  </a:lnTo>
                  <a:lnTo>
                    <a:pt x="768" y="2385"/>
                  </a:lnTo>
                  <a:lnTo>
                    <a:pt x="750" y="2385"/>
                  </a:lnTo>
                  <a:lnTo>
                    <a:pt x="750" y="2368"/>
                  </a:lnTo>
                  <a:lnTo>
                    <a:pt x="732" y="2349"/>
                  </a:lnTo>
                  <a:lnTo>
                    <a:pt x="732" y="2330"/>
                  </a:lnTo>
                  <a:lnTo>
                    <a:pt x="713" y="2330"/>
                  </a:lnTo>
                  <a:lnTo>
                    <a:pt x="713" y="2313"/>
                  </a:lnTo>
                  <a:lnTo>
                    <a:pt x="695" y="2294"/>
                  </a:lnTo>
                  <a:lnTo>
                    <a:pt x="677" y="2276"/>
                  </a:lnTo>
                  <a:lnTo>
                    <a:pt x="658" y="2258"/>
                  </a:lnTo>
                  <a:lnTo>
                    <a:pt x="640" y="2258"/>
                  </a:lnTo>
                  <a:lnTo>
                    <a:pt x="640" y="2240"/>
                  </a:lnTo>
                  <a:lnTo>
                    <a:pt x="622" y="2240"/>
                  </a:lnTo>
                  <a:lnTo>
                    <a:pt x="604" y="2221"/>
                  </a:lnTo>
                  <a:lnTo>
                    <a:pt x="585" y="2203"/>
                  </a:lnTo>
                  <a:lnTo>
                    <a:pt x="567" y="2203"/>
                  </a:lnTo>
                  <a:lnTo>
                    <a:pt x="549" y="2203"/>
                  </a:lnTo>
                  <a:lnTo>
                    <a:pt x="530" y="2203"/>
                  </a:lnTo>
                  <a:lnTo>
                    <a:pt x="512" y="2185"/>
                  </a:lnTo>
                  <a:lnTo>
                    <a:pt x="494" y="2185"/>
                  </a:lnTo>
                  <a:lnTo>
                    <a:pt x="475" y="2185"/>
                  </a:lnTo>
                  <a:lnTo>
                    <a:pt x="458" y="2185"/>
                  </a:lnTo>
                  <a:lnTo>
                    <a:pt x="439" y="2185"/>
                  </a:lnTo>
                  <a:lnTo>
                    <a:pt x="420" y="2166"/>
                  </a:lnTo>
                  <a:lnTo>
                    <a:pt x="403" y="2166"/>
                  </a:lnTo>
                  <a:lnTo>
                    <a:pt x="384" y="2166"/>
                  </a:lnTo>
                  <a:lnTo>
                    <a:pt x="365" y="2149"/>
                  </a:lnTo>
                  <a:lnTo>
                    <a:pt x="348" y="2149"/>
                  </a:lnTo>
                  <a:lnTo>
                    <a:pt x="329" y="2149"/>
                  </a:lnTo>
                  <a:lnTo>
                    <a:pt x="311" y="2130"/>
                  </a:lnTo>
                  <a:lnTo>
                    <a:pt x="293" y="2130"/>
                  </a:lnTo>
                  <a:lnTo>
                    <a:pt x="274" y="2111"/>
                  </a:lnTo>
                  <a:lnTo>
                    <a:pt x="256" y="2111"/>
                  </a:lnTo>
                  <a:lnTo>
                    <a:pt x="256" y="2094"/>
                  </a:lnTo>
                  <a:lnTo>
                    <a:pt x="238" y="2075"/>
                  </a:lnTo>
                  <a:lnTo>
                    <a:pt x="220" y="2075"/>
                  </a:lnTo>
                  <a:lnTo>
                    <a:pt x="201" y="2057"/>
                  </a:lnTo>
                  <a:lnTo>
                    <a:pt x="183" y="2039"/>
                  </a:lnTo>
                  <a:lnTo>
                    <a:pt x="165" y="2022"/>
                  </a:lnTo>
                  <a:lnTo>
                    <a:pt x="146" y="2003"/>
                  </a:lnTo>
                  <a:lnTo>
                    <a:pt x="128" y="1984"/>
                  </a:lnTo>
                  <a:lnTo>
                    <a:pt x="128" y="1967"/>
                  </a:lnTo>
                  <a:lnTo>
                    <a:pt x="128" y="1948"/>
                  </a:lnTo>
                  <a:lnTo>
                    <a:pt x="110" y="1930"/>
                  </a:lnTo>
                  <a:lnTo>
                    <a:pt x="110" y="1912"/>
                  </a:lnTo>
                  <a:lnTo>
                    <a:pt x="110" y="1893"/>
                  </a:lnTo>
                  <a:lnTo>
                    <a:pt x="110" y="1875"/>
                  </a:lnTo>
                  <a:lnTo>
                    <a:pt x="91" y="1857"/>
                  </a:lnTo>
                  <a:lnTo>
                    <a:pt x="91" y="1839"/>
                  </a:lnTo>
                  <a:lnTo>
                    <a:pt x="110" y="1839"/>
                  </a:lnTo>
                  <a:lnTo>
                    <a:pt x="110" y="1820"/>
                  </a:lnTo>
                  <a:lnTo>
                    <a:pt x="110" y="1803"/>
                  </a:lnTo>
                  <a:lnTo>
                    <a:pt x="110" y="1784"/>
                  </a:lnTo>
                  <a:lnTo>
                    <a:pt x="110" y="1765"/>
                  </a:lnTo>
                  <a:lnTo>
                    <a:pt x="110" y="1748"/>
                  </a:lnTo>
                  <a:lnTo>
                    <a:pt x="110" y="1729"/>
                  </a:lnTo>
                  <a:lnTo>
                    <a:pt x="110" y="1711"/>
                  </a:lnTo>
                  <a:lnTo>
                    <a:pt x="128" y="1711"/>
                  </a:lnTo>
                  <a:lnTo>
                    <a:pt x="128" y="1693"/>
                  </a:lnTo>
                  <a:lnTo>
                    <a:pt x="128" y="1675"/>
                  </a:lnTo>
                  <a:lnTo>
                    <a:pt x="146" y="1675"/>
                  </a:lnTo>
                  <a:lnTo>
                    <a:pt x="146" y="1657"/>
                  </a:lnTo>
                  <a:lnTo>
                    <a:pt x="146" y="1639"/>
                  </a:lnTo>
                  <a:lnTo>
                    <a:pt x="146" y="1621"/>
                  </a:lnTo>
                  <a:lnTo>
                    <a:pt x="146" y="1602"/>
                  </a:lnTo>
                  <a:lnTo>
                    <a:pt x="146" y="1585"/>
                  </a:lnTo>
                  <a:lnTo>
                    <a:pt x="146" y="1566"/>
                  </a:lnTo>
                  <a:lnTo>
                    <a:pt x="146" y="1547"/>
                  </a:lnTo>
                  <a:lnTo>
                    <a:pt x="146" y="1530"/>
                  </a:lnTo>
                  <a:lnTo>
                    <a:pt x="146" y="1511"/>
                  </a:lnTo>
                  <a:lnTo>
                    <a:pt x="128" y="1475"/>
                  </a:lnTo>
                  <a:lnTo>
                    <a:pt x="128" y="1456"/>
                  </a:lnTo>
                  <a:lnTo>
                    <a:pt x="128" y="1420"/>
                  </a:lnTo>
                  <a:lnTo>
                    <a:pt x="128" y="1383"/>
                  </a:lnTo>
                  <a:lnTo>
                    <a:pt x="110" y="1365"/>
                  </a:lnTo>
                  <a:lnTo>
                    <a:pt x="110" y="1329"/>
                  </a:lnTo>
                  <a:lnTo>
                    <a:pt x="110" y="1293"/>
                  </a:lnTo>
                  <a:lnTo>
                    <a:pt x="110" y="1275"/>
                  </a:lnTo>
                  <a:lnTo>
                    <a:pt x="91" y="1238"/>
                  </a:lnTo>
                  <a:lnTo>
                    <a:pt x="91" y="1220"/>
                  </a:lnTo>
                  <a:lnTo>
                    <a:pt x="91" y="1184"/>
                  </a:lnTo>
                  <a:lnTo>
                    <a:pt x="91" y="1165"/>
                  </a:lnTo>
                  <a:lnTo>
                    <a:pt x="91" y="1146"/>
                  </a:lnTo>
                  <a:lnTo>
                    <a:pt x="91" y="1129"/>
                  </a:lnTo>
                  <a:lnTo>
                    <a:pt x="91" y="1110"/>
                  </a:lnTo>
                  <a:lnTo>
                    <a:pt x="91" y="1092"/>
                  </a:lnTo>
                  <a:lnTo>
                    <a:pt x="91" y="1074"/>
                  </a:lnTo>
                  <a:lnTo>
                    <a:pt x="91" y="1055"/>
                  </a:lnTo>
                  <a:lnTo>
                    <a:pt x="91" y="1037"/>
                  </a:lnTo>
                  <a:lnTo>
                    <a:pt x="110" y="1037"/>
                  </a:lnTo>
                  <a:lnTo>
                    <a:pt x="110" y="1019"/>
                  </a:lnTo>
                  <a:lnTo>
                    <a:pt x="110" y="1001"/>
                  </a:lnTo>
                  <a:lnTo>
                    <a:pt x="110" y="982"/>
                  </a:lnTo>
                  <a:lnTo>
                    <a:pt x="110" y="966"/>
                  </a:lnTo>
                  <a:lnTo>
                    <a:pt x="110" y="947"/>
                  </a:lnTo>
                  <a:lnTo>
                    <a:pt x="128" y="928"/>
                  </a:lnTo>
                  <a:lnTo>
                    <a:pt x="128" y="911"/>
                  </a:lnTo>
                  <a:lnTo>
                    <a:pt x="128" y="892"/>
                  </a:lnTo>
                  <a:lnTo>
                    <a:pt x="128" y="856"/>
                  </a:lnTo>
                  <a:lnTo>
                    <a:pt x="128" y="838"/>
                  </a:lnTo>
                  <a:lnTo>
                    <a:pt x="128" y="819"/>
                  </a:lnTo>
                  <a:lnTo>
                    <a:pt x="128" y="801"/>
                  </a:lnTo>
                  <a:lnTo>
                    <a:pt x="128" y="764"/>
                  </a:lnTo>
                  <a:lnTo>
                    <a:pt x="110" y="747"/>
                  </a:lnTo>
                  <a:lnTo>
                    <a:pt x="110" y="709"/>
                  </a:lnTo>
                  <a:lnTo>
                    <a:pt x="110" y="692"/>
                  </a:lnTo>
                  <a:lnTo>
                    <a:pt x="110" y="673"/>
                  </a:lnTo>
                  <a:lnTo>
                    <a:pt x="110" y="637"/>
                  </a:lnTo>
                  <a:lnTo>
                    <a:pt x="110" y="618"/>
                  </a:lnTo>
                  <a:lnTo>
                    <a:pt x="110" y="601"/>
                  </a:lnTo>
                  <a:lnTo>
                    <a:pt x="91" y="565"/>
                  </a:lnTo>
                  <a:lnTo>
                    <a:pt x="91" y="546"/>
                  </a:lnTo>
                  <a:lnTo>
                    <a:pt x="91" y="528"/>
                  </a:lnTo>
                  <a:lnTo>
                    <a:pt x="74" y="491"/>
                  </a:lnTo>
                  <a:lnTo>
                    <a:pt x="74" y="473"/>
                  </a:lnTo>
                  <a:lnTo>
                    <a:pt x="74" y="455"/>
                  </a:lnTo>
                  <a:lnTo>
                    <a:pt x="55" y="437"/>
                  </a:lnTo>
                  <a:lnTo>
                    <a:pt x="55" y="418"/>
                  </a:lnTo>
                  <a:lnTo>
                    <a:pt x="36" y="400"/>
                  </a:lnTo>
                  <a:lnTo>
                    <a:pt x="36" y="382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4" name=""/>
          <p:cNvSpPr/>
          <p:nvPr/>
        </p:nvSpPr>
        <p:spPr>
          <a:xfrm>
            <a:off x="4502160" y="554040"/>
            <a:ext cx="34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ponent 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72B0-F6F6-4DA4-BB5E-1DE63F3519FA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aseline and private workspac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ject baseli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ntral repository of reviewed and approved artifacts that represent a given stable point in system developm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ivate workspa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and intermediate versions of compon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4F74-86A7-4EA4-99FC-63C83E5F732F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s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refined in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v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ew version supersedes the previ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fine a linear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lternative implementations of the same specification for different machin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or access to different I/O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8540-14D2-4D9D-8388-8F6E1468447D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rived vers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logical relations may exist among versions of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mponent may be derived from ano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bject code component is a derived version of a source code compon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9676-AD84-43DA-82D6-ADE896B4D587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standar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530A-CC66-43F1-91F2-6CCB2C33492B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y standard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are needed to achieve quality in both software products and proce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may be imposed internally or externall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IL-STD 2167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mposed to contractors for military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ther examples: ISO series, IEE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D07A-8BF5-49A5-9D79-F80D9E80ACF8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cess model goals 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B. Boehm 1988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"/>
          <p:cNvSpPr/>
          <p:nvPr/>
        </p:nvSpPr>
        <p:spPr>
          <a:xfrm>
            <a:off x="18000" y="1676520"/>
            <a:ext cx="88401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"determine the order of stages involved i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development and evolution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d to establish the transition criteria f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gressing from one stage to the nex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se include completion criteria for the curr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tage plus choice criteria and entrance criteri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the next stage. Thus a process model address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following software project ques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shall we do nex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How long shall we continue to do it?"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9D5D-199D-4E89-A11F-094540BDC09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in benefi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developers' view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andards enforce a uniform behavior within an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facilitate communication among people, stabilizes the production process, and makes it easier to add new people to ongoing projec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rom the customers' view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make it easier to assess the progress and quality of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reduce the strict dependency of customers on specific contract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0603-2AEB-4FB6-9C3F-C0FFB7A2EC83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sues with standar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eezing premature standar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hibit acceptance of new id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ards prolifer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-facto standards vs. official standar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9B5F-CC7C-406C-BAA5-7D8EC10AD5E0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cess as a "black box"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"/>
          <p:cNvSpPr/>
          <p:nvPr/>
        </p:nvSpPr>
        <p:spPr>
          <a:xfrm>
            <a:off x="1828800" y="227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require2" descr=""/>
          <p:cNvPicPr/>
          <p:nvPr/>
        </p:nvPicPr>
        <p:blipFill>
          <a:blip r:embed="rId1"/>
          <a:stretch/>
        </p:blipFill>
        <p:spPr>
          <a:xfrm>
            <a:off x="304920" y="2133720"/>
            <a:ext cx="8534160" cy="3579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2BB1-A9BA-4588-B3A4-A3E30198CD1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8T08:37:01Z</dcterms:created>
  <dc:creator>Carlo Ghezzi</dc:creator>
  <dc:description/>
  <dc:language>en-US</dc:language>
  <cp:lastModifiedBy>jazayeri</cp:lastModifiedBy>
  <dcterms:modified xsi:type="dcterms:W3CDTF">2002-02-19T18:17:03Z</dcterms:modified>
  <cp:revision>21</cp:revision>
  <dc:subject/>
  <dc:title>The software production process</dc:title>
</cp:coreProperties>
</file>