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CE71-73EB-493B-AE87-096D47D5A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1D5E-BC31-45D2-A151-85847F531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D3D5-EF48-46A8-9C63-0B02CC473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0290-EBB3-4F1F-8D94-F71092DD3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C7E4-B1BF-464C-9CF6-8E8A7FFAC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1C0C-3585-43FA-B10C-63F4B79E1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FB5B-2840-4755-A4DD-D10264CA2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F25E-9C23-4D11-AF93-7766C90E1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5F8B-5AB2-449B-90FB-A5E528ECA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7749-E20C-44EA-8C06-A19CA4EA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D3ED-DA46-4897-97AB-638E7A36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1F46-EFB5-493A-93C3-83675942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6DCA4-BAC4-4B89-A130-C3272B1E3B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468360"/>
            <a:ext cx="6997680" cy="58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2:21Z</dcterms:modified>
  <cp:revision>1</cp:revision>
  <dc:subject/>
  <dc:title>PowerPoint Presentation</dc:title>
</cp:coreProperties>
</file>