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063D0-6EB7-4710-AB1C-1395DDB69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8CF07-6642-4148-AD30-72201B9FC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01E2D-D474-4F61-AE3E-9E2E1F253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963F1-3E1E-4498-84DC-6D344E088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A4AFC-87A4-4451-834A-910085046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C4F2E-ED60-4419-ACC9-C31C320BC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62121-15C9-467D-BD4B-EB4F505C4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84333-9374-4500-B648-772260223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55EA7-7259-45C7-BF5E-7E1336E94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496B8-5F50-422C-A151-1ED9AD60E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14F2D-65DA-4B1C-B67D-5B7A62A8D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A4017-2EE7-48FE-94ED-3E933908E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A4D08-5BB9-480D-BCC2-3114AFA87F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690560" y="2889360"/>
          <a:ext cx="2256120" cy="1038240"/>
        </p:xfrm>
        <a:graphic>
          <a:graphicData uri="http://schemas.openxmlformats.org/drawingml/2006/table">
            <a:tbl>
              <a:tblPr/>
              <a:tblGrid>
                <a:gridCol w="752760"/>
                <a:gridCol w="750600"/>
                <a:gridCol w="752760"/>
              </a:tblGrid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8720">
                      <a:solidFill>
                        <a:srgbClr val="03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c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c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r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v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v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6:09:30Z</dcterms:created>
  <dc:creator>Spencer Smith</dc:creator>
  <dc:description/>
  <dc:language>en-US</dc:language>
  <cp:lastModifiedBy>Spencer Smith</cp:lastModifiedBy>
  <dcterms:modified xsi:type="dcterms:W3CDTF">2008-03-12T16:23:19Z</dcterms:modified>
  <cp:revision>1</cp:revision>
  <dc:subject/>
  <dc:title>PowerPoint Presentation</dc:title>
</cp:coreProperties>
</file>