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F7C4-905B-4448-BD3E-A56075565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5190-EBF1-41C2-99DF-F9D47174F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4B38-3C11-419C-8F19-BD4A399BF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560A-A57E-4285-BAE1-5D6D6EEE0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302A-BB2D-4B82-A2B8-1CF6CE7FD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CE03-D007-409A-94A8-027DABDEA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5DAA-E2AF-485D-859A-90A63DC7D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3DD3-7BB2-4381-AAF6-35ABE007D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E235-D8D1-45A1-BC76-192572D42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602C-47FD-40CD-93FB-91980055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C5BC-88E8-4037-9C3E-3305B15B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7037-817B-44A4-A6FD-58A3D906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8DCA1-6EDD-4547-AB68-02F56F5B80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346560" y="2766960"/>
          <a:ext cx="5514840" cy="138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6560" y="2766960"/>
                    <a:ext cx="551484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146320" y="4179960"/>
            <a:ext cx="4854600" cy="2340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021040" y="1717560"/>
            <a:ext cx="5143320" cy="1816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6400" y="1182600"/>
            <a:ext cx="46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of a table describing f(x,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4440" y="3681360"/>
            <a:ext cx="23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sponding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02360" y="2295360"/>
            <a:ext cx="0" cy="22392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30640" y="2905200"/>
            <a:ext cx="295200" cy="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252200" y="2351160"/>
            <a:ext cx="16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0000" y="15080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56640" y="2087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48920" y="3317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3120" y="1609560"/>
            <a:ext cx="200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ds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95360" y="1920960"/>
            <a:ext cx="265320" cy="61920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95360" y="1909800"/>
            <a:ext cx="1200240" cy="1317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240" y="2282760"/>
            <a:ext cx="20811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=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 R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,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64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502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52400" y="354024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943600" y="3311640"/>
            <a:ext cx="385920" cy="3873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3:04Z</dcterms:created>
  <dc:creator>Spencer Smith</dc:creator>
  <dc:description/>
  <dc:language>en-US</dc:language>
  <cp:lastModifiedBy>Spencer Smith</cp:lastModifiedBy>
  <dcterms:modified xsi:type="dcterms:W3CDTF">2008-03-12T16:04:21Z</dcterms:modified>
  <cp:revision>1</cp:revision>
  <dc:subject/>
  <dc:title>PowerPoint Presentation</dc:title>
</cp:coreProperties>
</file>