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4E80-B859-4E9D-9D05-7E69F4F1B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295F-04A2-4842-AD52-041B72ED7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3AF3-2EF5-4F8B-8AF0-B00128220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95FC-F791-4344-9E39-801EE8F33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0778-3992-44F9-A973-03E83F184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FF90-8022-4606-A187-DDCAF16AC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3EF4-3009-4813-AC76-CC69D49E5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FF3B-8252-4EBC-B8A1-24DAC3125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4731-6FA5-4821-88B3-16A71ABFA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139A-830F-4A94-A8BB-C6BB9D9BC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A64A-A34F-4AE8-9F6F-F8E7DD21B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64BA-872E-4FB5-A663-C96EEAB62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CBDC3-E2A8-4F4A-BA6D-E1D3C7177B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>
            <a:off x="1692000" y="2778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606760" y="2701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758680" y="3921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673440" y="384480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92360" y="3844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1184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4972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5448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440440" y="4572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68880" y="4648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8:01Z</dcterms:modified>
  <cp:revision>2</cp:revision>
  <dc:subject/>
  <dc:title>PowerPoint Presentation</dc:title>
</cp:coreProperties>
</file>