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37FA-9EA9-4013-B1D8-C1D6512B2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71A2-7DDC-49B4-ABFC-E66207499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17E3-8F04-48F3-80DB-D179DCE46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0FBA-8D73-4505-A68C-B80B6C015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B228-17CC-4B4A-B418-274A39A5B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D17A-6BEC-49E6-BDF8-3FCF07E22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E780-90EB-4BFC-9CE7-B189D31AF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5150-5150-46BB-8D65-D7E1342E1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5D53-2BC4-4C9B-89EF-C3D4ACBBE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DA16-0A84-4DAA-BC22-CF274435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671D-0BC8-4B76-8573-1778FBB90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426C-ADB9-4EFF-8F04-67117D3A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06CFD-3DD6-46C3-A311-031E56700E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42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59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71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76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89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92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97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3868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111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114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127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130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53359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136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397548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900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503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871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7228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090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02428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610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8812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4220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58Z</dcterms:modified>
  <cp:revision>3</cp:revision>
  <dc:subject/>
  <dc:title>PowerPoint Presentation</dc:title>
</cp:coreProperties>
</file>