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1B9B-4C2E-4895-956B-95D56956C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FAE0-E24D-408B-BA5A-77F476D1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AA42-14ED-490E-BDC2-2BF8B0947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EA22-DF99-414A-AE6D-9887A4771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4171-3639-4C1D-B2E4-19482679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5CCF-AF0A-4ADB-AECD-47352AA8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C860-E018-4C7F-A092-8E9BC9DB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E2F5-72E0-4598-82E7-D4F92D5B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549D-7CEA-4533-BE06-9EF8B86C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3563-1EEF-46FC-A4D5-B539BBF9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EE97-029D-45FC-9CCF-9ADF29A3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54F0-23A7-40C3-ADAA-10E3162A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9803-FB41-4690-8805-8EB9407FB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08240" y="1168560"/>
            <a:ext cx="6629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47Z</dcterms:modified>
  <cp:revision>8</cp:revision>
  <dc:subject/>
  <dc:title>PowerPoint Presentation</dc:title>
</cp:coreProperties>
</file>