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E721-1169-4148-8E18-219089339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E42C-6989-48A0-B221-FAA9127C7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57B5-FD6D-4747-93C2-26B7CC2BF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6458-B284-4323-9E45-652663C75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652E-1932-4476-8EA3-6CA5EB642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3EAA-9833-41B3-809F-A631FF80C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89F2-954B-4008-9E9F-F5D67C010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9215-4090-4732-98E2-1CF6CB2D3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1D77-CB98-471D-B470-B687495BC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BDDB-1144-4419-9A2B-B982577A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5005-BFC0-448B-934E-0B6C7127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F7B9-3453-46D7-9942-1BC7B60F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704B8-15F1-4369-BA3A-EBDDCA1AB7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01Z</dcterms:modified>
  <cp:revision>2</cp:revision>
  <dc:subject/>
  <dc:title>PowerPoint Presentation</dc:title>
</cp:coreProperties>
</file>