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9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54.xml.rels" ContentType="application/vnd.openxmlformats-package.relationships+xml"/>
  <Override PartName="/ppt/slides/_rels/slide52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29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40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55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59E0-A7A2-4DDE-8E83-E9B8184D4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E59B-2A30-44E8-92E7-8ECD89DA4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DC58-F684-401E-B7DF-E1AF3A8B4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56FA-45BD-40A7-92C8-4A7FE4A67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5015-746B-4E5A-96FC-5A068BBA8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6025-0085-4C4C-B7A8-54BB287E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960C-05D6-46C3-9D85-F5F65751D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EB9A-9234-4373-9B55-B89EA1D66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5294-DF5C-49E2-AD1D-50E2C4AF8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D0F7-AD61-4942-B0B9-C8AC8604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619C-7823-49CF-ABA7-75CAB5CAA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2DC2-B223-4B72-A72D-ED4D96FB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64CFD-0160-4972-87C3-39870E2169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5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5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5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BE57-EC9A-4770-96B8-27E0A572F52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cise, unambiguous, cle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other example (from a real safety-critical syste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718920" y="2971800"/>
            <a:ext cx="7861680" cy="1922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message must be triplicated. The 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pies must be forwarded through thr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fferent physical channels. The recei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cepts the message on the basis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wo-out-of-three voting policy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9000" y="5334120"/>
            <a:ext cx="830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 message be accepted as soon as we receive 2 out of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dentical copies of message or do we need to wait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ceipt of the 3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C3B3-7351-4468-835A-1BA7E0F7AB9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-11520" y="1828800"/>
            <a:ext cx="955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0: Reserving F from inside E, which is not standing at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causes immediate update of L according to previous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312200" y="2971800"/>
            <a:ext cx="70412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F = insert_in_order(L, F,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6F10-E83E-402A-86CC-529D12053EED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635760" y="990720"/>
            <a:ext cx="598968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1: Effect of arrival of E at floor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779480" y="1523880"/>
            <a:ext cx="531468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 = first (L) and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= tail (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10640" y="3505320"/>
            <a:ext cx="4276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2: How list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323000" y="4038480"/>
            <a:ext cx="65376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BB1C-4054-4C63-9D2E-6128BAA09096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ystem can be simulated by providing a state (set of facts) and using rules to make de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2, 3, 5, 7)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levator 2 at floor 3 at least from instant 5 to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(2, empty, 5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(2, 8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(2, {8}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excluding other eve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2, up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 arrival (2, 8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*(8-3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9F5C-6B3C-4B22-A6BC-C15333D4FBF2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can be stated and proved via dedu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ll requests are served eventuall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EB2E-CA5E-4736-A049-6491D29A4C36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criptive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ystem and its properties are described in the same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ng properties, however, cannot be fully mechanized for mos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9F36-E8CB-4436-B863-A93948685759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eterogene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lgebr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erogeneous = more than 1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pecially useful to specify AD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48C4-B2FA-42F3-9EF1-025DD7FF5577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strings, with operations f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ing new, empty strings (operation n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ing strings (operation appe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ing a new character at the end of a string (operation ad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the length of a given string (operation leng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a string is empty (operation isEmp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two strings are equal (operation equ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D3DD-0557-4375-A004-14CD13B402A8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synta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"/>
          <p:cNvSpPr/>
          <p:nvPr/>
        </p:nvSpPr>
        <p:spPr>
          <a:xfrm>
            <a:off x="1398960" y="1676520"/>
            <a:ext cx="6249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: String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B4A6-34D4-4C06-A425-314B854774A7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proper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"/>
          <p:cNvSpPr/>
          <p:nvPr/>
        </p:nvSpPr>
        <p:spPr>
          <a:xfrm>
            <a:off x="380880" y="1289160"/>
            <a:ext cx="8251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, append, add, length, isEmpty, equal so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s, s1, s2: String; c: Char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new ())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add (s, c)) = length (s)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, new ()) = 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1, add (s2,c)) = add (append (s1,s2),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 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, c), new ()) = fals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1, c), add (s2, c) = equal (s1,s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C024-311E-42CD-B4D2-F10F4CFC0212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edito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es a new, empty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s whether a file is emp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s a string of characters to the end of a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s a string at a given position of a f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(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 rest of the file will be rewritten just after the inserted str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en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es two file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9E6D-11F8-4160-A4E7-10016794A2D0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ist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796680" y="2514600"/>
            <a:ext cx="7861680" cy="22885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whole text should be kept in l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f equa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ngth. The length is specifi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y the user. Unless the user gives 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plicit hyphenation comman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carriage return should occur on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 the end of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5280" y="5334120"/>
            <a:ext cx="81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hat if the length of a word exceeds the length of the li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BF48-A4DA-428B-852C-54375575636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235080" y="228600"/>
            <a:ext cx="8679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TextEdit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Text, String, Char, Bool,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F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: Tex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: Text, Na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lete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C: Text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This is an auxiliary operation that will be need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define addF and other operations on files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8855-E69F-441E-8AAF-CF7D87FE831B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670320" y="343080"/>
            <a:ext cx="7517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F, isEmptyF, addF, appendF, insertF, delete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 th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xtEditor generated by [newF, addFC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f, f1,f2: Text; s: String; c: Char; cursor: Na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addS (s, c)) = addFC (addF (f, s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newF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addFC (f, c)) = lengthF (f) +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, newF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1, addFC (f2, c)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C (appendF (f1, f2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 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, c), new ()) = fals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1, c1), addFC (f2, c2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f1, f2) and equalC (c1, c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 (f, cursor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(equalF (f, appendF (f1, f2)) and (lengthF (f1) = cursor - 1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insertF (f, cursor, s), appendF (addF (f1, s), f2)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d TextEdi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7BEB-902C-41C0-9B67-7B8782293424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for a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eparate functional specs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spec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-interface spe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 different vie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796B-36C3-4BDC-A4BA-E39CFF370603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view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cument produ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724120" y="23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705720" cy="381636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8760" y="1676520"/>
            <a:ext cx="474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view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BEE4-73A6-44E8-84D3-8DB82D1CBE9B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flow view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5486400" cy="45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4F25-DCD4-46EC-8485-9E6910229467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tatic architecture in terms of classes and associ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evolution can be described via Statecharts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ity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equential and parallel composition of method executions, and synchro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E432-AE3F-42EC-A5A5-7E56C8794C5D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ctivity diagr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"/>
          <p:cNvSpPr/>
          <p:nvPr/>
        </p:nvSpPr>
        <p:spPr>
          <a:xfrm>
            <a:off x="114300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380880" y="1447920"/>
          <a:ext cx="8229600" cy="52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229600" cy="52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8109-F473-4862-93CF-3C6C2B8EDB79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modular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ase of 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combine algebras taken from a lib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organize them in a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EC33-792F-4778-9D62-F7A4429CE9E4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"/>
          <p:cNvSpPr/>
          <p:nvPr/>
        </p:nvSpPr>
        <p:spPr>
          <a:xfrm>
            <a:off x="537480" y="857160"/>
            <a:ext cx="579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Bool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ru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als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: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nd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r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true, false, not, and, or, implies,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 generated by [true, false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a, b: Bool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true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false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and b = not (not (a) or not (b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implies b = not (a) or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oolAlg.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41C5-9A6E-4336-B4F4-9FC2531A6BF6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"/>
          <p:cNvSpPr/>
          <p:nvPr/>
        </p:nvSpPr>
        <p:spPr>
          <a:xfrm>
            <a:off x="1006920" y="1936800"/>
            <a:ext cx="3896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Nat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0: ()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: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+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-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=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0, Succ, +, -, =,...,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Numb generated by [0, Succ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NatNum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83800" y="2286000"/>
            <a:ext cx="336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har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har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’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’ 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harAl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06BF-F216-42F0-BE7A-60D3E4A1E15E}" type="slidenum">
              <a:t>1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nal complete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efine any new concept or terminology that it 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lossary helpful for this purpos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ocument all the needed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: when should one stop?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987D-2111-4555-B5A5-843A5BBD092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ingSpec revisi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"/>
          <p:cNvSpPr/>
          <p:nvPr/>
        </p:nvSpPr>
        <p:spPr>
          <a:xfrm>
            <a:off x="1342440" y="1981080"/>
            <a:ext cx="6351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BoolAlg, NatNumb, CharAl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183A-DFCD-47D2-A67E-16682F0568CE}" type="slidenum">
              <a:t>1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specification of an A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ant to target stacks, queues, s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from "container" and then progressively specialize 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another structuring cla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s inheritance relation among algeb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1A04-DCBC-42DA-84CD-A62AC49BDF08}" type="slidenum">
              <a:t>1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ainer algebr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"/>
          <p:cNvSpPr/>
          <p:nvPr/>
        </p:nvSpPr>
        <p:spPr>
          <a:xfrm>
            <a:off x="438840" y="1143000"/>
            <a:ext cx="79714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ontain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DataType, BoolAlg,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: Cont, Data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{Data is the sort of algebra DataType, to whi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lements to be stored in Cont belong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new, insert, isEmpty, size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 generated by [new, inser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c: Co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new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insert (c, d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new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ntain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09B6-BE52-43FC-BD36-2E8563AAF188}" type="slidenum">
              <a:t>1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abl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"/>
          <p:cNvSpPr/>
          <p:nvPr/>
        </p:nvSpPr>
        <p:spPr>
          <a:xfrm>
            <a:off x="478440" y="861840"/>
            <a:ext cx="62218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Tabl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: Table,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 Table, Data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rest, equalT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, d1, d2: Data; t, t1, t2: Tabl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t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insert (t, d)) = 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insert (t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insert (t,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t1,t2) = equalD(last (t1), last (t2)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rest (t1),rest (t2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, d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d),d) = delete (t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D(d1, d2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 d1), d2) = insert (delete (t, d2), d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Tabl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B7A9-1235-4CAF-BF15-62D199462C86}" type="slidenum">
              <a:t>1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u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"/>
          <p:cNvSpPr/>
          <p:nvPr/>
        </p:nvSpPr>
        <p:spPr>
          <a:xfrm>
            <a:off x="672120" y="762120"/>
            <a:ext cx="682524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Queu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 Que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: Queue ,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Queu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first, equalQ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q, q1, q2: Queu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q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new(), d) =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q, d)) = if not isEmpty (q) then first (q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insert (q, 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1, d1), insert (q2, d2)) = equalD (d1, d2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q1,q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new (), d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Q (q, new ()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q,d)) = insert (delete (q)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Queu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F3DD-81C3-455C-90CF-501C0CA7D28B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"/>
          <p:cNvSpPr/>
          <p:nvPr/>
        </p:nvSpPr>
        <p:spPr>
          <a:xfrm>
            <a:off x="368460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2873880" y="1647720"/>
            <a:ext cx="3199680" cy="4366440"/>
            <a:chOff x="2873880" y="1647720"/>
            <a:chExt cx="3199680" cy="4366440"/>
          </a:xfrm>
        </p:grpSpPr>
        <p:sp>
          <p:nvSpPr>
            <p:cNvPr id="590" name=""/>
            <p:cNvSpPr/>
            <p:nvPr/>
          </p:nvSpPr>
          <p:spPr>
            <a:xfrm>
              <a:off x="3992400" y="2946240"/>
              <a:ext cx="843120" cy="8892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114720" y="1647720"/>
              <a:ext cx="753840" cy="8683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192640" y="1746360"/>
              <a:ext cx="754200" cy="809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952720" y="4341960"/>
              <a:ext cx="754200" cy="8301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992400" y="4341960"/>
              <a:ext cx="771840" cy="850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84640" y="4381560"/>
              <a:ext cx="862200" cy="9097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3768840" y="2308320"/>
              <a:ext cx="573120" cy="630000"/>
              <a:chOff x="3768840" y="2308320"/>
              <a:chExt cx="573120" cy="630000"/>
            </a:xfrm>
          </p:grpSpPr>
          <p:sp>
            <p:nvSpPr>
              <p:cNvPr id="597" name=""/>
              <p:cNvSpPr/>
              <p:nvPr/>
            </p:nvSpPr>
            <p:spPr>
              <a:xfrm>
                <a:off x="4091040" y="2682720"/>
                <a:ext cx="250920" cy="255600"/>
              </a:xfrm>
              <a:custGeom>
                <a:avLst/>
                <a:gdLst/>
                <a:ahLst/>
                <a:rect l="l" t="t" r="r" b="b"/>
                <a:pathLst>
                  <a:path w="158" h="161">
                    <a:moveTo>
                      <a:pt x="158" y="161"/>
                    </a:moveTo>
                    <a:lnTo>
                      <a:pt x="0" y="49"/>
                    </a:lnTo>
                    <a:lnTo>
                      <a:pt x="34" y="24"/>
                    </a:lnTo>
                    <a:lnTo>
                      <a:pt x="79" y="0"/>
                    </a:lnTo>
                    <a:lnTo>
                      <a:pt x="158" y="1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768840" y="2308320"/>
                <a:ext cx="376200" cy="41256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4557600" y="2406600"/>
              <a:ext cx="627120" cy="550800"/>
              <a:chOff x="4557600" y="2406600"/>
              <a:chExt cx="627120" cy="550800"/>
            </a:xfrm>
          </p:grpSpPr>
          <p:sp>
            <p:nvSpPr>
              <p:cNvPr id="600" name=""/>
              <p:cNvSpPr/>
              <p:nvPr/>
            </p:nvSpPr>
            <p:spPr>
              <a:xfrm>
                <a:off x="4557600" y="2682720"/>
                <a:ext cx="322200" cy="274680"/>
              </a:xfrm>
              <a:custGeom>
                <a:avLst/>
                <a:gdLst/>
                <a:ahLst/>
                <a:rect l="l" t="t" r="r" b="b"/>
                <a:pathLst>
                  <a:path w="203" h="173">
                    <a:moveTo>
                      <a:pt x="0" y="173"/>
                    </a:moveTo>
                    <a:lnTo>
                      <a:pt x="101" y="0"/>
                    </a:lnTo>
                    <a:lnTo>
                      <a:pt x="146" y="24"/>
                    </a:lnTo>
                    <a:lnTo>
                      <a:pt x="203" y="62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4789440" y="2406600"/>
                <a:ext cx="395280" cy="31428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>
              <a:off x="5306040" y="187488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757480" y="187488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290920" y="211140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196080" y="1816200"/>
              <a:ext cx="60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750840" y="18162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195360" y="20527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062520" y="451152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428640" y="45115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051000" y="47480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026960" y="3173400"/>
              <a:ext cx="88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tai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825440" y="31734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036680" y="34099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94640" y="4471920"/>
              <a:ext cx="31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377960" y="44719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090680" y="47084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137200" y="4629240"/>
              <a:ext cx="93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Typ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66360" y="486576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202000" y="486576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873880" y="5554800"/>
              <a:ext cx="73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egend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379760" y="5554800"/>
              <a:ext cx="74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mpor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935240" y="5554800"/>
              <a:ext cx="100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392000" y="5770440"/>
              <a:ext cx="86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ssu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31080" y="5770440"/>
              <a:ext cx="83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5" name=""/>
            <p:cNvGrpSpPr/>
            <p:nvPr/>
          </p:nvGrpSpPr>
          <p:grpSpPr>
            <a:xfrm>
              <a:off x="3714840" y="5810400"/>
              <a:ext cx="555480" cy="196560"/>
              <a:chOff x="3714840" y="5810400"/>
              <a:chExt cx="555480" cy="196560"/>
            </a:xfrm>
          </p:grpSpPr>
          <p:sp>
            <p:nvSpPr>
              <p:cNvPr id="626" name=""/>
              <p:cNvSpPr/>
              <p:nvPr/>
            </p:nvSpPr>
            <p:spPr>
              <a:xfrm>
                <a:off x="4037040" y="5810400"/>
                <a:ext cx="233280" cy="196560"/>
              </a:xfrm>
              <a:custGeom>
                <a:avLst/>
                <a:gdLst/>
                <a:ahLst/>
                <a:rect l="l" t="t" r="r" b="b"/>
                <a:pathLst>
                  <a:path w="147" h="124">
                    <a:moveTo>
                      <a:pt x="147" y="62"/>
                    </a:moveTo>
                    <a:lnTo>
                      <a:pt x="0" y="124"/>
                    </a:lnTo>
                    <a:lnTo>
                      <a:pt x="0" y="62"/>
                    </a:lnTo>
                    <a:lnTo>
                      <a:pt x="0" y="0"/>
                    </a:lnTo>
                    <a:lnTo>
                      <a:pt x="147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714840" y="5908680"/>
                <a:ext cx="322200" cy="1440"/>
              </a:xfrm>
              <a:prstGeom prst="line">
                <a:avLst/>
              </a:prstGeom>
              <a:ln w="71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4341960" y="3822840"/>
              <a:ext cx="107640" cy="511200"/>
              <a:chOff x="4341960" y="3822840"/>
              <a:chExt cx="107640" cy="511200"/>
            </a:xfrm>
          </p:grpSpPr>
          <p:sp>
            <p:nvSpPr>
              <p:cNvPr id="629" name=""/>
              <p:cNvSpPr/>
              <p:nvPr/>
            </p:nvSpPr>
            <p:spPr>
              <a:xfrm>
                <a:off x="4341960" y="4138560"/>
                <a:ext cx="107640" cy="195480"/>
              </a:xfrm>
              <a:custGeom>
                <a:avLst/>
                <a:gdLst/>
                <a:ahLst/>
                <a:rect l="l" t="t" r="r" b="b"/>
                <a:pathLst>
                  <a:path w="68" h="123">
                    <a:moveTo>
                      <a:pt x="34" y="123"/>
                    </a:moveTo>
                    <a:lnTo>
                      <a:pt x="0" y="0"/>
                    </a:lnTo>
                    <a:lnTo>
                      <a:pt x="34" y="37"/>
                    </a:lnTo>
                    <a:lnTo>
                      <a:pt x="68" y="0"/>
                    </a:lnTo>
                    <a:lnTo>
                      <a:pt x="34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395960" y="3822840"/>
                <a:ext cx="1440" cy="3744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3554280" y="3705120"/>
              <a:ext cx="555480" cy="708120"/>
              <a:chOff x="3554280" y="3705120"/>
              <a:chExt cx="555480" cy="708120"/>
            </a:xfrm>
          </p:grpSpPr>
          <p:sp>
            <p:nvSpPr>
              <p:cNvPr id="632" name=""/>
              <p:cNvSpPr/>
              <p:nvPr/>
            </p:nvSpPr>
            <p:spPr>
              <a:xfrm>
                <a:off x="3554280" y="4237200"/>
                <a:ext cx="160560" cy="176040"/>
              </a:xfrm>
              <a:custGeom>
                <a:avLst/>
                <a:gdLst/>
                <a:ahLst/>
                <a:rect l="l" t="t" r="r" b="b"/>
                <a:pathLst>
                  <a:path w="101" h="111">
                    <a:moveTo>
                      <a:pt x="0" y="111"/>
                    </a:moveTo>
                    <a:lnTo>
                      <a:pt x="45" y="0"/>
                    </a:lnTo>
                    <a:lnTo>
                      <a:pt x="45" y="49"/>
                    </a:lnTo>
                    <a:lnTo>
                      <a:pt x="101" y="37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3625560" y="3705120"/>
                <a:ext cx="484200" cy="6098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4754520" y="3646440"/>
              <a:ext cx="536760" cy="766800"/>
              <a:chOff x="4754520" y="3646440"/>
              <a:chExt cx="536760" cy="766800"/>
            </a:xfrm>
          </p:grpSpPr>
          <p:sp>
            <p:nvSpPr>
              <p:cNvPr id="635" name=""/>
              <p:cNvSpPr/>
              <p:nvPr/>
            </p:nvSpPr>
            <p:spPr>
              <a:xfrm>
                <a:off x="5148360" y="4216320"/>
                <a:ext cx="142920" cy="196920"/>
              </a:xfrm>
              <a:custGeom>
                <a:avLst/>
                <a:gdLst/>
                <a:ahLst/>
                <a:rect l="l" t="t" r="r" b="b"/>
                <a:pathLst>
                  <a:path w="90" h="124">
                    <a:moveTo>
                      <a:pt x="90" y="124"/>
                    </a:moveTo>
                    <a:lnTo>
                      <a:pt x="0" y="50"/>
                    </a:lnTo>
                    <a:lnTo>
                      <a:pt x="45" y="62"/>
                    </a:lnTo>
                    <a:lnTo>
                      <a:pt x="45" y="0"/>
                    </a:lnTo>
                    <a:lnTo>
                      <a:pt x="9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754520" y="3646440"/>
                <a:ext cx="465120" cy="66852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3714840" y="5613480"/>
              <a:ext cx="573120" cy="117360"/>
              <a:chOff x="3714840" y="5613480"/>
              <a:chExt cx="573120" cy="117360"/>
            </a:xfrm>
          </p:grpSpPr>
          <p:sp>
            <p:nvSpPr>
              <p:cNvPr id="638" name=""/>
              <p:cNvSpPr/>
              <p:nvPr/>
            </p:nvSpPr>
            <p:spPr>
              <a:xfrm>
                <a:off x="4110120" y="5613480"/>
                <a:ext cx="177840" cy="117360"/>
              </a:xfrm>
              <a:custGeom>
                <a:avLst/>
                <a:gdLst/>
                <a:ahLst/>
                <a:rect l="l" t="t" r="r" b="b"/>
                <a:pathLst>
                  <a:path w="112" h="74">
                    <a:moveTo>
                      <a:pt x="112" y="37"/>
                    </a:moveTo>
                    <a:lnTo>
                      <a:pt x="0" y="74"/>
                    </a:lnTo>
                    <a:lnTo>
                      <a:pt x="33" y="37"/>
                    </a:lnTo>
                    <a:lnTo>
                      <a:pt x="0" y="0"/>
                    </a:lnTo>
                    <a:lnTo>
                      <a:pt x="112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714840" y="5672160"/>
                <a:ext cx="44748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BFD6-03B4-43D0-9ECE-4D63B8154D3F}" type="slidenum">
              <a:t>1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icher 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"/>
          <p:cNvSpPr/>
          <p:nvPr/>
        </p:nvSpPr>
        <p:spPr>
          <a:xfrm>
            <a:off x="321948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2514600" y="1295280"/>
            <a:ext cx="3741840" cy="477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FE18-0503-47BD-A897-CA228E44818B}" type="slidenum">
              <a:t>1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specs to an implem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 language described so far is based on the "Larch shared language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ral "interface languages" are available to help transitioning to an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ch/C++, Larch/Pas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5C2A-DFF6-4F0F-AB2B-A13906119AC8}" type="slidenum">
              <a:t>1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ing Larch/Pascal for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"/>
          <p:cNvSpPr/>
          <p:nvPr/>
        </p:nvSpPr>
        <p:spPr>
          <a:xfrm>
            <a:off x="7920" y="1523880"/>
            <a:ext cx="901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String exports isEmpty, add, appen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ased on Boolean, integer, chara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Empty (s: String) :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{i.e., it has no side effect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dd (var s : String; c : ch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mod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es only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tring parameter 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s: String) 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ppend (var s1, s2, s3: st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nly s3, the result of the operation, is modified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1706-055D-49E7-9A62-C207003AA9AF}" type="slidenum">
              <a:t>1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finite state mach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charts do th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ave been incorporated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provide the notion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compo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9B7F-D010-49BC-8798-83E376BA5FB6}" type="slidenum">
              <a:t>1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from a sketchy document and progressively add det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document is structured and can be understood in incre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6D87-EB03-4065-9F20-512C92E2644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decomposi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-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emical plant control example--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"/>
          <p:cNvSpPr/>
          <p:nvPr/>
        </p:nvSpPr>
        <p:spPr>
          <a:xfrm>
            <a:off x="201924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848720" cy="585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DE7D-9DD9-47DE-AF15-99589ACFB2BA}" type="slidenum">
              <a:t>1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"/>
          <p:cNvSpPr/>
          <p:nvPr/>
        </p:nvSpPr>
        <p:spPr>
          <a:xfrm>
            <a:off x="171468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382240" cy="558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89AB-87EF-4137-81AF-4263F8ED0654}" type="slidenum">
              <a:t>1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 state diagram using State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"/>
          <p:cNvSpPr/>
          <p:nvPr/>
        </p:nvSpPr>
        <p:spPr>
          <a:xfrm>
            <a:off x="168768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-534960" y="1828800"/>
            <a:ext cx="9129600" cy="3087720"/>
            <a:chOff x="-534960" y="1828800"/>
            <a:chExt cx="9129600" cy="3087720"/>
          </a:xfrm>
        </p:grpSpPr>
        <p:sp>
          <p:nvSpPr>
            <p:cNvPr id="658" name=""/>
            <p:cNvSpPr/>
            <p:nvPr/>
          </p:nvSpPr>
          <p:spPr>
            <a:xfrm>
              <a:off x="-534960" y="18288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766880" y="3411360"/>
              <a:ext cx="955800" cy="447840"/>
            </a:xfrm>
            <a:custGeom>
              <a:avLst/>
              <a:gdLst/>
              <a:ahLst/>
              <a:rect l="l" t="t" r="r" b="b"/>
              <a:pathLst>
                <a:path w="602" h="282">
                  <a:moveTo>
                    <a:pt x="37" y="0"/>
                  </a:moveTo>
                  <a:lnTo>
                    <a:pt x="29" y="1"/>
                  </a:lnTo>
                  <a:lnTo>
                    <a:pt x="22" y="3"/>
                  </a:lnTo>
                  <a:lnTo>
                    <a:pt x="10" y="10"/>
                  </a:lnTo>
                  <a:lnTo>
                    <a:pt x="3" y="22"/>
                  </a:lnTo>
                  <a:lnTo>
                    <a:pt x="2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2" y="253"/>
                  </a:lnTo>
                  <a:lnTo>
                    <a:pt x="3" y="260"/>
                  </a:lnTo>
                  <a:lnTo>
                    <a:pt x="10" y="272"/>
                  </a:lnTo>
                  <a:lnTo>
                    <a:pt x="22" y="279"/>
                  </a:lnTo>
                  <a:lnTo>
                    <a:pt x="29" y="282"/>
                  </a:lnTo>
                  <a:lnTo>
                    <a:pt x="37" y="282"/>
                  </a:lnTo>
                  <a:lnTo>
                    <a:pt x="564" y="282"/>
                  </a:lnTo>
                  <a:lnTo>
                    <a:pt x="571" y="282"/>
                  </a:lnTo>
                  <a:lnTo>
                    <a:pt x="578" y="279"/>
                  </a:lnTo>
                  <a:lnTo>
                    <a:pt x="591" y="272"/>
                  </a:lnTo>
                  <a:lnTo>
                    <a:pt x="599" y="260"/>
                  </a:lnTo>
                  <a:lnTo>
                    <a:pt x="602" y="253"/>
                  </a:lnTo>
                  <a:lnTo>
                    <a:pt x="602" y="246"/>
                  </a:lnTo>
                  <a:lnTo>
                    <a:pt x="602" y="36"/>
                  </a:lnTo>
                  <a:lnTo>
                    <a:pt x="602" y="29"/>
                  </a:lnTo>
                  <a:lnTo>
                    <a:pt x="599" y="22"/>
                  </a:lnTo>
                  <a:lnTo>
                    <a:pt x="591" y="10"/>
                  </a:lnTo>
                  <a:lnTo>
                    <a:pt x="578" y="3"/>
                  </a:lnTo>
                  <a:lnTo>
                    <a:pt x="571" y="1"/>
                  </a:lnTo>
                  <a:lnTo>
                    <a:pt x="56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018880" y="350208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598840" y="35020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090440" y="3546360"/>
              <a:ext cx="138240" cy="13824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3" name=""/>
            <p:cNvGrpSpPr/>
            <p:nvPr/>
          </p:nvGrpSpPr>
          <p:grpSpPr>
            <a:xfrm>
              <a:off x="1212840" y="3559320"/>
              <a:ext cx="565200" cy="141120"/>
              <a:chOff x="1212840" y="3559320"/>
              <a:chExt cx="565200" cy="141120"/>
            </a:xfrm>
          </p:grpSpPr>
          <p:sp>
            <p:nvSpPr>
              <p:cNvPr id="664" name=""/>
              <p:cNvSpPr/>
              <p:nvPr/>
            </p:nvSpPr>
            <p:spPr>
              <a:xfrm>
                <a:off x="1212840" y="3629160"/>
                <a:ext cx="5652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627200" y="3559320"/>
                <a:ext cx="150840" cy="141120"/>
              </a:xfrm>
              <a:custGeom>
                <a:avLst/>
                <a:gdLst/>
                <a:ahLst/>
                <a:rect l="l" t="t" r="r" b="b"/>
                <a:pathLst>
                  <a:path w="95" h="89">
                    <a:moveTo>
                      <a:pt x="0" y="89"/>
                    </a:moveTo>
                    <a:lnTo>
                      <a:pt x="95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6" name=""/>
            <p:cNvSpPr/>
            <p:nvPr/>
          </p:nvSpPr>
          <p:spPr>
            <a:xfrm>
              <a:off x="4808520" y="3411360"/>
              <a:ext cx="1203480" cy="447840"/>
            </a:xfrm>
            <a:custGeom>
              <a:avLst/>
              <a:gdLst/>
              <a:ahLst/>
              <a:rect l="l" t="t" r="r" b="b"/>
              <a:pathLst>
                <a:path w="758" h="282">
                  <a:moveTo>
                    <a:pt x="38" y="0"/>
                  </a:moveTo>
                  <a:lnTo>
                    <a:pt x="31" y="1"/>
                  </a:lnTo>
                  <a:lnTo>
                    <a:pt x="23" y="3"/>
                  </a:lnTo>
                  <a:lnTo>
                    <a:pt x="12" y="10"/>
                  </a:lnTo>
                  <a:lnTo>
                    <a:pt x="3" y="22"/>
                  </a:lnTo>
                  <a:lnTo>
                    <a:pt x="1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1" y="253"/>
                  </a:lnTo>
                  <a:lnTo>
                    <a:pt x="3" y="260"/>
                  </a:lnTo>
                  <a:lnTo>
                    <a:pt x="12" y="272"/>
                  </a:lnTo>
                  <a:lnTo>
                    <a:pt x="23" y="279"/>
                  </a:lnTo>
                  <a:lnTo>
                    <a:pt x="31" y="282"/>
                  </a:lnTo>
                  <a:lnTo>
                    <a:pt x="38" y="282"/>
                  </a:lnTo>
                  <a:lnTo>
                    <a:pt x="720" y="282"/>
                  </a:lnTo>
                  <a:lnTo>
                    <a:pt x="727" y="282"/>
                  </a:lnTo>
                  <a:lnTo>
                    <a:pt x="734" y="279"/>
                  </a:lnTo>
                  <a:lnTo>
                    <a:pt x="746" y="272"/>
                  </a:lnTo>
                  <a:lnTo>
                    <a:pt x="755" y="260"/>
                  </a:lnTo>
                  <a:lnTo>
                    <a:pt x="756" y="253"/>
                  </a:lnTo>
                  <a:lnTo>
                    <a:pt x="758" y="246"/>
                  </a:lnTo>
                  <a:lnTo>
                    <a:pt x="758" y="36"/>
                  </a:lnTo>
                  <a:lnTo>
                    <a:pt x="756" y="29"/>
                  </a:lnTo>
                  <a:lnTo>
                    <a:pt x="755" y="22"/>
                  </a:lnTo>
                  <a:lnTo>
                    <a:pt x="746" y="10"/>
                  </a:lnTo>
                  <a:lnTo>
                    <a:pt x="734" y="3"/>
                  </a:lnTo>
                  <a:lnTo>
                    <a:pt x="727" y="1"/>
                  </a:lnTo>
                  <a:lnTo>
                    <a:pt x="720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984200" y="3495600"/>
              <a:ext cx="901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Not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409360" y="374652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514840" y="37465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2719440" y="3476520"/>
              <a:ext cx="2085840" cy="141480"/>
              <a:chOff x="2719440" y="3476520"/>
              <a:chExt cx="2085840" cy="141480"/>
            </a:xfrm>
          </p:grpSpPr>
          <p:sp>
            <p:nvSpPr>
              <p:cNvPr id="671" name=""/>
              <p:cNvSpPr/>
              <p:nvPr/>
            </p:nvSpPr>
            <p:spPr>
              <a:xfrm>
                <a:off x="2719440" y="3546360"/>
                <a:ext cx="208584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656240" y="3476520"/>
                <a:ext cx="149040" cy="141480"/>
              </a:xfrm>
              <a:custGeom>
                <a:avLst/>
                <a:gdLst/>
                <a:ahLst/>
                <a:rect l="l" t="t" r="r" b="b"/>
                <a:pathLst>
                  <a:path w="94" h="89">
                    <a:moveTo>
                      <a:pt x="0" y="89"/>
                    </a:moveTo>
                    <a:lnTo>
                      <a:pt x="94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2719440" y="3625920"/>
              <a:ext cx="2085840" cy="141120"/>
              <a:chOff x="2719440" y="3625920"/>
              <a:chExt cx="2085840" cy="141120"/>
            </a:xfrm>
          </p:grpSpPr>
          <p:sp>
            <p:nvSpPr>
              <p:cNvPr id="674" name=""/>
              <p:cNvSpPr/>
              <p:nvPr/>
            </p:nvSpPr>
            <p:spPr>
              <a:xfrm flipH="1">
                <a:off x="2719440" y="3695760"/>
                <a:ext cx="208584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719440" y="3625920"/>
                <a:ext cx="154080" cy="141120"/>
              </a:xfrm>
              <a:custGeom>
                <a:avLst/>
                <a:gdLst/>
                <a:ahLst/>
                <a:rect l="l" t="t" r="r" b="b"/>
                <a:pathLst>
                  <a:path w="97" h="89">
                    <a:moveTo>
                      <a:pt x="97" y="0"/>
                    </a:moveTo>
                    <a:lnTo>
                      <a:pt x="0" y="46"/>
                    </a:lnTo>
                    <a:lnTo>
                      <a:pt x="97" y="89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>
              <a:off x="5437080" y="2685960"/>
              <a:ext cx="145116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646600" y="2751120"/>
              <a:ext cx="34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op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999040" y="27511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159600" y="3881520"/>
              <a:ext cx="145080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409080" y="394668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367400" y="39466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6440" y="4559400"/>
              <a:ext cx="46782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308480" y="4624560"/>
              <a:ext cx="3224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more than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564320" y="46245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278160" y="3216240"/>
              <a:ext cx="145116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527640" y="328140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486320" y="32814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597040" y="3743280"/>
              <a:ext cx="35816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930400" y="3809880"/>
              <a:ext cx="229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256000" y="38098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1" name=""/>
            <p:cNvGrpSpPr/>
            <p:nvPr/>
          </p:nvGrpSpPr>
          <p:grpSpPr>
            <a:xfrm>
              <a:off x="4970520" y="2836800"/>
              <a:ext cx="619200" cy="574560"/>
              <a:chOff x="4970520" y="2836800"/>
              <a:chExt cx="619200" cy="574560"/>
            </a:xfrm>
          </p:grpSpPr>
          <p:sp>
            <p:nvSpPr>
              <p:cNvPr id="692" name=""/>
              <p:cNvSpPr/>
              <p:nvPr/>
            </p:nvSpPr>
            <p:spPr>
              <a:xfrm>
                <a:off x="4970520" y="2836800"/>
                <a:ext cx="619200" cy="574560"/>
              </a:xfrm>
              <a:custGeom>
                <a:avLst/>
                <a:gdLst/>
                <a:ahLst/>
                <a:rect l="l" t="t" r="r" b="b"/>
                <a:pathLst>
                  <a:path w="390" h="362">
                    <a:moveTo>
                      <a:pt x="206" y="362"/>
                    </a:moveTo>
                    <a:lnTo>
                      <a:pt x="151" y="347"/>
                    </a:lnTo>
                    <a:lnTo>
                      <a:pt x="124" y="339"/>
                    </a:lnTo>
                    <a:lnTo>
                      <a:pt x="99" y="329"/>
                    </a:lnTo>
                    <a:lnTo>
                      <a:pt x="76" y="319"/>
                    </a:lnTo>
                    <a:lnTo>
                      <a:pt x="56" y="307"/>
                    </a:lnTo>
                    <a:lnTo>
                      <a:pt x="38" y="292"/>
                    </a:lnTo>
                    <a:lnTo>
                      <a:pt x="24" y="276"/>
                    </a:lnTo>
                    <a:lnTo>
                      <a:pt x="13" y="255"/>
                    </a:lnTo>
                    <a:lnTo>
                      <a:pt x="6" y="232"/>
                    </a:lnTo>
                    <a:lnTo>
                      <a:pt x="2" y="206"/>
                    </a:lnTo>
                    <a:lnTo>
                      <a:pt x="0" y="177"/>
                    </a:lnTo>
                    <a:lnTo>
                      <a:pt x="0" y="150"/>
                    </a:lnTo>
                    <a:lnTo>
                      <a:pt x="3" y="124"/>
                    </a:lnTo>
                    <a:lnTo>
                      <a:pt x="7" y="99"/>
                    </a:lnTo>
                    <a:lnTo>
                      <a:pt x="10" y="89"/>
                    </a:lnTo>
                    <a:lnTo>
                      <a:pt x="15" y="80"/>
                    </a:lnTo>
                    <a:lnTo>
                      <a:pt x="25" y="63"/>
                    </a:lnTo>
                    <a:lnTo>
                      <a:pt x="38" y="48"/>
                    </a:lnTo>
                    <a:lnTo>
                      <a:pt x="54" y="36"/>
                    </a:lnTo>
                    <a:lnTo>
                      <a:pt x="72" y="26"/>
                    </a:lnTo>
                    <a:lnTo>
                      <a:pt x="91" y="17"/>
                    </a:lnTo>
                    <a:lnTo>
                      <a:pt x="111" y="10"/>
                    </a:lnTo>
                    <a:lnTo>
                      <a:pt x="132" y="6"/>
                    </a:lnTo>
                    <a:lnTo>
                      <a:pt x="152" y="2"/>
                    </a:lnTo>
                    <a:lnTo>
                      <a:pt x="174" y="0"/>
                    </a:lnTo>
                    <a:lnTo>
                      <a:pt x="197" y="2"/>
                    </a:lnTo>
                    <a:lnTo>
                      <a:pt x="222" y="5"/>
                    </a:lnTo>
                    <a:lnTo>
                      <a:pt x="248" y="10"/>
                    </a:lnTo>
                    <a:lnTo>
                      <a:pt x="273" y="17"/>
                    </a:lnTo>
                    <a:lnTo>
                      <a:pt x="297" y="25"/>
                    </a:lnTo>
                    <a:lnTo>
                      <a:pt x="317" y="35"/>
                    </a:lnTo>
                    <a:lnTo>
                      <a:pt x="335" y="46"/>
                    </a:lnTo>
                    <a:lnTo>
                      <a:pt x="349" y="59"/>
                    </a:lnTo>
                    <a:lnTo>
                      <a:pt x="361" y="74"/>
                    </a:lnTo>
                    <a:lnTo>
                      <a:pt x="371" y="92"/>
                    </a:lnTo>
                    <a:lnTo>
                      <a:pt x="380" y="110"/>
                    </a:lnTo>
                    <a:lnTo>
                      <a:pt x="386" y="130"/>
                    </a:lnTo>
                    <a:lnTo>
                      <a:pt x="389" y="151"/>
                    </a:lnTo>
                    <a:lnTo>
                      <a:pt x="390" y="172"/>
                    </a:lnTo>
                    <a:lnTo>
                      <a:pt x="389" y="191"/>
                    </a:lnTo>
                    <a:lnTo>
                      <a:pt x="384" y="211"/>
                    </a:lnTo>
                    <a:lnTo>
                      <a:pt x="377" y="232"/>
                    </a:lnTo>
                    <a:lnTo>
                      <a:pt x="365" y="252"/>
                    </a:lnTo>
                    <a:lnTo>
                      <a:pt x="354" y="274"/>
                    </a:lnTo>
                    <a:lnTo>
                      <a:pt x="339" y="296"/>
                    </a:lnTo>
                    <a:lnTo>
                      <a:pt x="323" y="318"/>
                    </a:lnTo>
                    <a:lnTo>
                      <a:pt x="289" y="36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432400" y="3254400"/>
                <a:ext cx="147600" cy="156960"/>
              </a:xfrm>
              <a:custGeom>
                <a:avLst/>
                <a:gdLst/>
                <a:ahLst/>
                <a:rect l="l" t="t" r="r" b="b"/>
                <a:pathLst>
                  <a:path w="93" h="99">
                    <a:moveTo>
                      <a:pt x="14" y="0"/>
                    </a:moveTo>
                    <a:lnTo>
                      <a:pt x="0" y="99"/>
                    </a:lnTo>
                    <a:lnTo>
                      <a:pt x="93" y="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6008760" y="3295800"/>
              <a:ext cx="598320" cy="604800"/>
              <a:chOff x="6008760" y="3295800"/>
              <a:chExt cx="598320" cy="604800"/>
            </a:xfrm>
          </p:grpSpPr>
          <p:sp>
            <p:nvSpPr>
              <p:cNvPr id="695" name=""/>
              <p:cNvSpPr/>
              <p:nvPr/>
            </p:nvSpPr>
            <p:spPr>
              <a:xfrm>
                <a:off x="6008760" y="3295800"/>
                <a:ext cx="598320" cy="604800"/>
              </a:xfrm>
              <a:custGeom>
                <a:avLst/>
                <a:gdLst/>
                <a:ahLst/>
                <a:rect l="l" t="t" r="r" b="b"/>
                <a:pathLst>
                  <a:path w="377" h="381">
                    <a:moveTo>
                      <a:pt x="0" y="150"/>
                    </a:moveTo>
                    <a:lnTo>
                      <a:pt x="41" y="102"/>
                    </a:lnTo>
                    <a:lnTo>
                      <a:pt x="62" y="80"/>
                    </a:lnTo>
                    <a:lnTo>
                      <a:pt x="82" y="59"/>
                    </a:lnTo>
                    <a:lnTo>
                      <a:pt x="103" y="40"/>
                    </a:lnTo>
                    <a:lnTo>
                      <a:pt x="123" y="25"/>
                    </a:lnTo>
                    <a:lnTo>
                      <a:pt x="143" y="13"/>
                    </a:lnTo>
                    <a:lnTo>
                      <a:pt x="164" y="4"/>
                    </a:lnTo>
                    <a:lnTo>
                      <a:pt x="186" y="0"/>
                    </a:lnTo>
                    <a:lnTo>
                      <a:pt x="209" y="2"/>
                    </a:lnTo>
                    <a:lnTo>
                      <a:pt x="234" y="4"/>
                    </a:lnTo>
                    <a:lnTo>
                      <a:pt x="259" y="11"/>
                    </a:lnTo>
                    <a:lnTo>
                      <a:pt x="282" y="20"/>
                    </a:lnTo>
                    <a:lnTo>
                      <a:pt x="304" y="30"/>
                    </a:lnTo>
                    <a:lnTo>
                      <a:pt x="323" y="43"/>
                    </a:lnTo>
                    <a:lnTo>
                      <a:pt x="338" y="55"/>
                    </a:lnTo>
                    <a:lnTo>
                      <a:pt x="349" y="70"/>
                    </a:lnTo>
                    <a:lnTo>
                      <a:pt x="360" y="87"/>
                    </a:lnTo>
                    <a:lnTo>
                      <a:pt x="367" y="106"/>
                    </a:lnTo>
                    <a:lnTo>
                      <a:pt x="373" y="126"/>
                    </a:lnTo>
                    <a:lnTo>
                      <a:pt x="376" y="147"/>
                    </a:lnTo>
                    <a:lnTo>
                      <a:pt x="377" y="169"/>
                    </a:lnTo>
                    <a:lnTo>
                      <a:pt x="377" y="189"/>
                    </a:lnTo>
                    <a:lnTo>
                      <a:pt x="374" y="210"/>
                    </a:lnTo>
                    <a:lnTo>
                      <a:pt x="370" y="230"/>
                    </a:lnTo>
                    <a:lnTo>
                      <a:pt x="363" y="254"/>
                    </a:lnTo>
                    <a:lnTo>
                      <a:pt x="352" y="278"/>
                    </a:lnTo>
                    <a:lnTo>
                      <a:pt x="342" y="302"/>
                    </a:lnTo>
                    <a:lnTo>
                      <a:pt x="329" y="325"/>
                    </a:lnTo>
                    <a:lnTo>
                      <a:pt x="314" y="345"/>
                    </a:lnTo>
                    <a:lnTo>
                      <a:pt x="298" y="362"/>
                    </a:lnTo>
                    <a:lnTo>
                      <a:pt x="291" y="367"/>
                    </a:lnTo>
                    <a:lnTo>
                      <a:pt x="282" y="373"/>
                    </a:lnTo>
                    <a:lnTo>
                      <a:pt x="265" y="378"/>
                    </a:lnTo>
                    <a:lnTo>
                      <a:pt x="243" y="381"/>
                    </a:lnTo>
                    <a:lnTo>
                      <a:pt x="221" y="380"/>
                    </a:lnTo>
                    <a:lnTo>
                      <a:pt x="198" y="376"/>
                    </a:lnTo>
                    <a:lnTo>
                      <a:pt x="174" y="369"/>
                    </a:lnTo>
                    <a:lnTo>
                      <a:pt x="151" y="362"/>
                    </a:lnTo>
                    <a:lnTo>
                      <a:pt x="129" y="355"/>
                    </a:lnTo>
                    <a:lnTo>
                      <a:pt x="110" y="347"/>
                    </a:lnTo>
                    <a:lnTo>
                      <a:pt x="92" y="339"/>
                    </a:lnTo>
                    <a:lnTo>
                      <a:pt x="76" y="329"/>
                    </a:lnTo>
                    <a:lnTo>
                      <a:pt x="49" y="306"/>
                    </a:lnTo>
                    <a:lnTo>
                      <a:pt x="24" y="280"/>
                    </a:lnTo>
                    <a:lnTo>
                      <a:pt x="0" y="2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012000" y="3699000"/>
                <a:ext cx="155520" cy="152280"/>
              </a:xfrm>
              <a:custGeom>
                <a:avLst/>
                <a:gdLst/>
                <a:ahLst/>
                <a:rect l="l" t="t" r="r" b="b"/>
                <a:pathLst>
                  <a:path w="98" h="96">
                    <a:moveTo>
                      <a:pt x="98" y="37"/>
                    </a:moveTo>
                    <a:lnTo>
                      <a:pt x="0" y="0"/>
                    </a:lnTo>
                    <a:lnTo>
                      <a:pt x="26" y="96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4910040" y="3857760"/>
              <a:ext cx="790560" cy="733320"/>
              <a:chOff x="4910040" y="3857760"/>
              <a:chExt cx="790560" cy="733320"/>
            </a:xfrm>
          </p:grpSpPr>
          <p:sp>
            <p:nvSpPr>
              <p:cNvPr id="698" name=""/>
              <p:cNvSpPr/>
              <p:nvPr/>
            </p:nvSpPr>
            <p:spPr>
              <a:xfrm>
                <a:off x="4910040" y="3859200"/>
                <a:ext cx="790560" cy="731880"/>
              </a:xfrm>
              <a:custGeom>
                <a:avLst/>
                <a:gdLst/>
                <a:ahLst/>
                <a:rect l="l" t="t" r="r" b="b"/>
                <a:pathLst>
                  <a:path w="498" h="461">
                    <a:moveTo>
                      <a:pt x="181" y="0"/>
                    </a:moveTo>
                    <a:lnTo>
                      <a:pt x="124" y="37"/>
                    </a:lnTo>
                    <a:lnTo>
                      <a:pt x="98" y="55"/>
                    </a:lnTo>
                    <a:lnTo>
                      <a:pt x="73" y="74"/>
                    </a:lnTo>
                    <a:lnTo>
                      <a:pt x="50" y="94"/>
                    </a:lnTo>
                    <a:lnTo>
                      <a:pt x="32" y="116"/>
                    </a:lnTo>
                    <a:lnTo>
                      <a:pt x="18" y="138"/>
                    </a:lnTo>
                    <a:lnTo>
                      <a:pt x="8" y="163"/>
                    </a:lnTo>
                    <a:lnTo>
                      <a:pt x="2" y="190"/>
                    </a:lnTo>
                    <a:lnTo>
                      <a:pt x="0" y="222"/>
                    </a:lnTo>
                    <a:lnTo>
                      <a:pt x="2" y="255"/>
                    </a:lnTo>
                    <a:lnTo>
                      <a:pt x="8" y="289"/>
                    </a:lnTo>
                    <a:lnTo>
                      <a:pt x="16" y="323"/>
                    </a:lnTo>
                    <a:lnTo>
                      <a:pt x="29" y="353"/>
                    </a:lnTo>
                    <a:lnTo>
                      <a:pt x="44" y="381"/>
                    </a:lnTo>
                    <a:lnTo>
                      <a:pt x="53" y="393"/>
                    </a:lnTo>
                    <a:lnTo>
                      <a:pt x="62" y="403"/>
                    </a:lnTo>
                    <a:lnTo>
                      <a:pt x="72" y="411"/>
                    </a:lnTo>
                    <a:lnTo>
                      <a:pt x="85" y="419"/>
                    </a:lnTo>
                    <a:lnTo>
                      <a:pt x="114" y="434"/>
                    </a:lnTo>
                    <a:lnTo>
                      <a:pt x="146" y="445"/>
                    </a:lnTo>
                    <a:lnTo>
                      <a:pt x="183" y="455"/>
                    </a:lnTo>
                    <a:lnTo>
                      <a:pt x="219" y="460"/>
                    </a:lnTo>
                    <a:lnTo>
                      <a:pt x="254" y="461"/>
                    </a:lnTo>
                    <a:lnTo>
                      <a:pt x="288" y="459"/>
                    </a:lnTo>
                    <a:lnTo>
                      <a:pt x="317" y="453"/>
                    </a:lnTo>
                    <a:lnTo>
                      <a:pt x="330" y="449"/>
                    </a:lnTo>
                    <a:lnTo>
                      <a:pt x="345" y="442"/>
                    </a:lnTo>
                    <a:lnTo>
                      <a:pt x="358" y="434"/>
                    </a:lnTo>
                    <a:lnTo>
                      <a:pt x="371" y="425"/>
                    </a:lnTo>
                    <a:lnTo>
                      <a:pt x="397" y="404"/>
                    </a:lnTo>
                    <a:lnTo>
                      <a:pt x="422" y="378"/>
                    </a:lnTo>
                    <a:lnTo>
                      <a:pt x="446" y="352"/>
                    </a:lnTo>
                    <a:lnTo>
                      <a:pt x="465" y="325"/>
                    </a:lnTo>
                    <a:lnTo>
                      <a:pt x="481" y="299"/>
                    </a:lnTo>
                    <a:lnTo>
                      <a:pt x="491" y="274"/>
                    </a:lnTo>
                    <a:lnTo>
                      <a:pt x="497" y="251"/>
                    </a:lnTo>
                    <a:lnTo>
                      <a:pt x="498" y="227"/>
                    </a:lnTo>
                    <a:lnTo>
                      <a:pt x="495" y="203"/>
                    </a:lnTo>
                    <a:lnTo>
                      <a:pt x="489" y="178"/>
                    </a:lnTo>
                    <a:lnTo>
                      <a:pt x="481" y="155"/>
                    </a:lnTo>
                    <a:lnTo>
                      <a:pt x="470" y="133"/>
                    </a:lnTo>
                    <a:lnTo>
                      <a:pt x="459" y="112"/>
                    </a:lnTo>
                    <a:lnTo>
                      <a:pt x="446" y="94"/>
                    </a:lnTo>
                    <a:lnTo>
                      <a:pt x="432" y="78"/>
                    </a:lnTo>
                    <a:lnTo>
                      <a:pt x="416" y="64"/>
                    </a:lnTo>
                    <a:lnTo>
                      <a:pt x="397" y="51"/>
                    </a:lnTo>
                    <a:lnTo>
                      <a:pt x="378" y="40"/>
                    </a:lnTo>
                    <a:lnTo>
                      <a:pt x="336" y="19"/>
                    </a:lnTo>
                    <a:lnTo>
                      <a:pt x="291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372280" y="3857760"/>
                <a:ext cx="171360" cy="129960"/>
              </a:xfrm>
              <a:custGeom>
                <a:avLst/>
                <a:gdLst/>
                <a:ahLst/>
                <a:rect l="l" t="t" r="r" b="b"/>
                <a:pathLst>
                  <a:path w="108" h="82">
                    <a:moveTo>
                      <a:pt x="108" y="0"/>
                    </a:moveTo>
                    <a:lnTo>
                      <a:pt x="0" y="1"/>
                    </a:lnTo>
                    <a:lnTo>
                      <a:pt x="66" y="8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41B1-5542-42B3-8F2F-A5A0258ABC14}" type="slidenum">
              <a:t>1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logic specifications: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specified by describing state space, using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Z shem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of state space described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varia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edic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dicates written in first-order log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s define state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4B9D-3E6C-4775-BA03-87F38071431F}" type="slidenum">
              <a:t>1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elevator example in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1600200" y="762120"/>
            <a:ext cx="535608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F4A8-433A-429F-8A30-7DC4E9BB4237}" type="slidenum">
              <a:t>1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7308720" cy="192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FA63-012E-4FD9-B3B0-FF195DFF04F0}" type="slidenum">
              <a:t>1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533520" y="2017800"/>
            <a:ext cx="7619760" cy="447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AF8C-CE00-49F0-AD86-D4FAC5933E86}" type="slidenum">
              <a:t>1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1143000" y="1389240"/>
            <a:ext cx="6705720" cy="482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A5EC-C93F-43D1-A85C-54EA7E3E4281}" type="slidenum">
              <a:t>1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2819520" y="152280"/>
            <a:ext cx="4419360" cy="648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66BD-5C08-41B1-A140-01ECC6594CD7}" type="slidenum">
              <a:t>1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2411280" y="111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z5(2)" descr=""/>
          <p:cNvPicPr/>
          <p:nvPr/>
        </p:nvPicPr>
        <p:blipFill>
          <a:blip r:embed="rId1"/>
          <a:stretch/>
        </p:blipFill>
        <p:spPr>
          <a:xfrm>
            <a:off x="3200400" y="228600"/>
            <a:ext cx="5481720" cy="586728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D740-9EB0-4697-9682-EC5A8D843FFA}" type="slidenum">
              <a:t>1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pecification sty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l, semi-formal, form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specification in terms of some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described in terms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4BFA-2294-4FBB-A637-0C4A3E457C9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s for the    end-us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s should be used as common reference for producer and 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elp removing ambiguity, incompleteness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they be understood by end-us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the starting point for a proto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support some form of animation (e.g., see Petri ne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C36D-5B19-43C7-8B6F-58BF0E6BC9F0}" type="slidenum">
              <a:t>1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s describ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the users need from a system (requirements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design of a software system (design and architectur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eatures offered by a system (functional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erformance characteristics of a system (performanc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xternal behavior of a module (module interface specificatio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ternal structure of a module (internal structural specification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679E-48CC-4E35-BA71-E57AEAD0F2A8}" type="slidenum">
              <a:t>1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ons are given via suitable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“ideal” no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support communication and interaction between designers and us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9066-F896-4D2F-BA94-DB3A033DE9F7}" type="slidenum">
              <a:t>1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 of a geometric figure 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1050840" y="2438280"/>
            <a:ext cx="7102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 can be drawn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 two points P1 and P2 on a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 string of a certain length and fix its ends to P1 and 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sition a pencil as shown 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xt fig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ve the pen clockwise, keeping the string tightly stretched, until you reach the point where you started dra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36800" y="5562720"/>
            <a:ext cx="48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is is an operational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79C9-47FF-43B5-BFEB-208FDC67C3A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13200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0DBE-23C6-406E-A2B4-9B0093041F5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scriptiv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ometric figure E is describe by the following eq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x2 + by2 + c = 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a, b, and c are suitable consta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8D19-25D2-4019-B265-D4B87CDF5D7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et a be an array of n elements. The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sult of its sorting is an array b of n elements such that the first element of b is the minimum of a (if several elements of a have the same value, any one of them is acceptable); the second element of b is the minimum of the array of n-1 elements obtained from a by removing its minimum element; and so on until all n elements of a have been removed.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5181480"/>
            <a:ext cx="7467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result of sorting array a is an array b which is a permutation of a and is sorte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20574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52578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7640" y="23623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4760" y="55198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1491-7FC7-4103-93BA-2C99CCA331E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verify a specificatio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e” dynamic behavior of specified system (simulation, prototyping, “testing” spec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perties of the specified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ogy with traditional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themat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4B11-FFC2-45EC-8943-21291B0F443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of the term "specification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specif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Data Flow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(Some)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UML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Finite State Mach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tri Nets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Entity Relationship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ogic-based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ic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guages for modular specification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cha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2B7B-5395-4A5A-BDCF-BF1F746EF14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Diagrams (DFD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A semi-formal operational spec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System viewed as collection of data manipulated by “functions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be per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stored in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reposito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flow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represented by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fl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FDs have a graphica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6501-6B31-48D9-B165-65D052762BB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ical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bubbl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arc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data flo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open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persistent st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closed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I/O inte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261468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4191120"/>
            <a:ext cx="7574040" cy="175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A9F7-7E18-45CC-8DFC-E036457E64D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26290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762120" y="1066680"/>
            <a:ext cx="6096240" cy="5378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002920" y="2819520"/>
            <a:ext cx="336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es evalua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a + b) * (c + a * d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52A7-989D-4F2B-81F0-1699CCE6EA6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447920" y="3048120"/>
          <a:ext cx="6345000" cy="23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048120"/>
                    <a:ext cx="634500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1444320" y="1817640"/>
            <a:ext cx="68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Start from the “context”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2681-745F-42DC-A6FC-959CCA99F7F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52480" y="2133720"/>
          <a:ext cx="5867640" cy="449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133720"/>
                    <a:ext cx="58676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685800" y="9144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0960" indent="-480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Proceed by refinements until you reach        “elementary” functions (preserve balanc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579F-E881-4CF4-BF46-BEE21D5F35B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ibrary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371600" y="1027080"/>
          <a:ext cx="6248520" cy="551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027080"/>
                    <a:ext cx="624852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98D4-07D3-4CCB-9038-ED756408CD8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fine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“Get a book”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66680" y="1371600"/>
          <a:ext cx="7239240" cy="475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71600"/>
                    <a:ext cx="723924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EE15-55DF-4450-8138-403D29F9934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ient monitoring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527400" y="1219320"/>
            <a:ext cx="834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urpose is to monitor the patients’ vital factors--bloo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sure, temperature, …--reading them at specified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rom analog devices and storing readings in a DB. If readings f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tside the range specified for patient or device fails an ala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 be sent to a nurse. The system also provides repo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3880" y="3352680"/>
          <a:ext cx="6324840" cy="30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352680"/>
                    <a:ext cx="6324840" cy="30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6981-0BFF-4252-ADAD-AE637E145A4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85800" y="914400"/>
          <a:ext cx="8039160" cy="51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14400"/>
                    <a:ext cx="803916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29E3-A774-474E-9147-881017B0711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1371600"/>
          <a:ext cx="8001000" cy="46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8001000" cy="46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EAD9-CB49-457F-8CCF-47F1AFFEE79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road term that mean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at different stages of software development for different purpo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ly, a statement of agreement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ntrac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betwe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r and consumer of 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r and u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desirable qualities must be spec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3DB3-0CD6-4269-AF1A-DE2A89BE178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read, but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define leaf funct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herent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09480" y="3200400"/>
          <a:ext cx="3936960" cy="261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200400"/>
                    <a:ext cx="3936960" cy="26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4503960" y="396252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rom A, B, C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eed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or E and F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d at the same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B561-F46D-449D-B7B3-3B3C1766BD9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formation is abs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819520" y="2743200"/>
          <a:ext cx="2895480" cy="67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743200"/>
                    <a:ext cx="289548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42880" y="3538440"/>
            <a:ext cx="7959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interpret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duces datum, waits until B consumes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an read the datum many times with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in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ipe is inserted between A and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8B3D-7D49-41E1-BDAD-8DD71223086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malization/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ormaliz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ten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 (e.g., for real-time system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70044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133720" y="3809880"/>
            <a:ext cx="2976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91F5-B2B3-4F61-8E5D-E60BDFBF534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use-cas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functions on basis of actors and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217188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339560" y="2103480"/>
            <a:ext cx="6051960" cy="3882960"/>
            <a:chOff x="1339560" y="2103480"/>
            <a:chExt cx="6051960" cy="3882960"/>
          </a:xfrm>
        </p:grpSpPr>
        <p:sp>
          <p:nvSpPr>
            <p:cNvPr id="145" name=""/>
            <p:cNvSpPr/>
            <p:nvPr/>
          </p:nvSpPr>
          <p:spPr>
            <a:xfrm>
              <a:off x="1339560" y="21034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84360" y="4040280"/>
              <a:ext cx="187560" cy="198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81200" y="42307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51240" y="4381560"/>
              <a:ext cx="258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6840" y="4545000"/>
              <a:ext cx="266760" cy="20016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56120" y="4051440"/>
              <a:ext cx="187560" cy="20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52960" y="42451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23000" y="4395960"/>
              <a:ext cx="258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08600" y="4559400"/>
              <a:ext cx="266760" cy="19980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38400" y="2765520"/>
              <a:ext cx="2428920" cy="322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3360" y="2921040"/>
              <a:ext cx="1224000" cy="804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52080" y="3087720"/>
              <a:ext cx="63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rrow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34880" y="332424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33760" y="3324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81280" y="3978360"/>
              <a:ext cx="1222560" cy="803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08960" y="4148280"/>
              <a:ext cx="535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042800" y="438768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43120" y="43876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02160" y="4976640"/>
              <a:ext cx="1222200" cy="803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01760" y="5143680"/>
              <a:ext cx="59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01760" y="5380200"/>
              <a:ext cx="54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pd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30600" y="5380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2792520" y="3505320"/>
              <a:ext cx="836640" cy="74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00440" y="4416480"/>
              <a:ext cx="772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4745160" y="3470400"/>
              <a:ext cx="10080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4779720" y="4441680"/>
              <a:ext cx="911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4807080" y="4676760"/>
              <a:ext cx="898560" cy="58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7800" y="4383000"/>
              <a:ext cx="1233720" cy="123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47880" y="4451400"/>
              <a:ext cx="68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i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21440" y="44514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05040" y="4745160"/>
              <a:ext cx="1233360" cy="12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96200" y="4813200"/>
              <a:ext cx="74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usto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25560" y="4813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0F2B-E4B7-4AFC-9ACE-89FE85BD29E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sequenc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 how objects interact by exchanging mess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dynamic vi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1828800" y="132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8229600" cy="631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9D36-99A9-4372-BBA6-3830F3F8C15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collaboration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 object interactions and their or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ivalent to sequence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-838080" y="2895480"/>
            <a:ext cx="11353680" cy="373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4CF1-1C5C-4FF3-A1BB-A1A0386F4CF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ite state machines (FSM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696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specify control flow asp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384480" y="2971800"/>
            <a:ext cx="619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states, Q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inputs,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ransition function d : Q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 can be a partial fun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1488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181480" y="3747960"/>
            <a:ext cx="3048120" cy="253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1E72-F2E9-4820-989E-D4CB1DA6684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lam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34862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828800" y="1932120"/>
            <a:ext cx="5181480" cy="31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347A-DE0E-45D7-BD46-620386B18D0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lant control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600200" y="2133720"/>
          <a:ext cx="541008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33720"/>
                    <a:ext cx="541008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6FBF-60ED-4E1F-8797-0AB446B4BB2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295280" y="1371600"/>
          <a:ext cx="6629400" cy="427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371600"/>
                    <a:ext cx="6629400" cy="42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7FB8-653E-4815-AC53-40106D71FA4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ment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jor failures occur because of misunderstandings between the producer and the use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The hardest single part of building a softwa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ystem is deciding precisely what to buil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 (F. Brook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2244-27DF-4596-AA14-8656ABF5FC8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es of FS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rministic/nondeterminist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final st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transduc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set of outp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C1C2-7F9F-49A5-B097-CD0A2D9D0BC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252252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7155000" cy="27795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978640" y="5334120"/>
            <a:ext cx="237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is a fin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E1FD-DC44-451F-ADCB-216CFC8AE2F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284652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11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DBBE-4FA3-4029-B3DD-FC194504696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ite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explo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a number of FSMs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…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s, their composition is a FSM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…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rowth is exponential with the number of FSMs, not linear (we would like it to be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…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59FC-F28A-4030-AC5F-087B174086E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 explosion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057400" y="1371600"/>
          <a:ext cx="487512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371600"/>
                    <a:ext cx="487512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B41E-10BB-496C-9A11-BB8CBD0B61D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sulting F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278928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629400" cy="494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B183-09C1-45B0-B28F-CF4C79332F5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 quadruple (P,T,F,W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: places  T: transitions (P, T are finite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F: flow rela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}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                             W: weight func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: F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 – {0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roperties: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=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2) 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3)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)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4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W: 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N-{0}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ault value of W is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fined by marking: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: P 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9206-4D2C-4F24-B203-D347F4C2075B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1143000" y="914400"/>
          <a:ext cx="6172200" cy="471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14400"/>
                    <a:ext cx="617220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1" name=""/>
          <p:cNvGrpSpPr/>
          <p:nvPr/>
        </p:nvGrpSpPr>
        <p:grpSpPr>
          <a:xfrm>
            <a:off x="1219320" y="1981080"/>
            <a:ext cx="6400800" cy="4533840"/>
            <a:chOff x="1219320" y="1981080"/>
            <a:chExt cx="6400800" cy="4533840"/>
          </a:xfrm>
        </p:grpSpPr>
        <p:sp>
          <p:nvSpPr>
            <p:cNvPr id="222" name=""/>
            <p:cNvSpPr/>
            <p:nvPr/>
          </p:nvSpPr>
          <p:spPr>
            <a:xfrm>
              <a:off x="26701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32320" y="3143160"/>
              <a:ext cx="585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321000" y="4491000"/>
              <a:ext cx="687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3090960" y="3986280"/>
              <a:ext cx="536400" cy="458640"/>
              <a:chOff x="3090960" y="3986280"/>
              <a:chExt cx="536400" cy="458640"/>
            </a:xfrm>
          </p:grpSpPr>
          <p:sp>
            <p:nvSpPr>
              <p:cNvPr id="226" name=""/>
              <p:cNvSpPr/>
              <p:nvPr/>
            </p:nvSpPr>
            <p:spPr>
              <a:xfrm>
                <a:off x="3474360" y="4307400"/>
                <a:ext cx="153000" cy="13752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120" y="120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090960" y="3986280"/>
                <a:ext cx="408960" cy="36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3807000" y="3943440"/>
              <a:ext cx="508680" cy="501120"/>
              <a:chOff x="3807000" y="3943440"/>
              <a:chExt cx="508680" cy="501120"/>
            </a:xfrm>
          </p:grpSpPr>
          <p:sp>
            <p:nvSpPr>
              <p:cNvPr id="229" name=""/>
              <p:cNvSpPr/>
              <p:nvPr/>
            </p:nvSpPr>
            <p:spPr>
              <a:xfrm>
                <a:off x="3807000" y="4353480"/>
                <a:ext cx="10152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3857400" y="3943440"/>
                <a:ext cx="4582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3065760" y="4467240"/>
              <a:ext cx="434520" cy="410760"/>
              <a:chOff x="3065760" y="4467240"/>
              <a:chExt cx="434520" cy="410760"/>
            </a:xfrm>
          </p:grpSpPr>
          <p:sp>
            <p:nvSpPr>
              <p:cNvPr id="232" name=""/>
              <p:cNvSpPr/>
              <p:nvPr/>
            </p:nvSpPr>
            <p:spPr>
              <a:xfrm>
                <a:off x="3065760" y="4763880"/>
                <a:ext cx="76320" cy="114120"/>
              </a:xfrm>
              <a:custGeom>
                <a:avLst/>
                <a:gdLst/>
                <a:ahLst/>
                <a:rect l="l" t="t" r="r" b="b"/>
                <a:pathLst>
                  <a:path w="60" h="100">
                    <a:moveTo>
                      <a:pt x="0" y="100"/>
                    </a:moveTo>
                    <a:lnTo>
                      <a:pt x="40" y="0"/>
                    </a:lnTo>
                    <a:lnTo>
                      <a:pt x="40" y="40"/>
                    </a:lnTo>
                    <a:lnTo>
                      <a:pt x="60" y="60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3116520" y="4467240"/>
                <a:ext cx="38376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3143520" y="5106960"/>
              <a:ext cx="431280" cy="568080"/>
              <a:chOff x="3143520" y="5106960"/>
              <a:chExt cx="431280" cy="568080"/>
            </a:xfrm>
          </p:grpSpPr>
          <p:sp>
            <p:nvSpPr>
              <p:cNvPr id="235" name=""/>
              <p:cNvSpPr/>
              <p:nvPr/>
            </p:nvSpPr>
            <p:spPr>
              <a:xfrm>
                <a:off x="3448080" y="5538600"/>
                <a:ext cx="126720" cy="13644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4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143520" y="5106960"/>
                <a:ext cx="329760" cy="45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2963520" y="19810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339800" y="30747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92120" y="3598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43160" y="2666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28880" y="4491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50440" y="47401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628080" y="5148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17680" y="2822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830760" y="4605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117960" y="209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92440" y="3235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20640" y="3805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79320" y="4924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728880" y="5286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95680" y="3633840"/>
              <a:ext cx="4586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54560" y="3611520"/>
              <a:ext cx="459000" cy="409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48240" y="4911840"/>
              <a:ext cx="45864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345120" y="5697360"/>
              <a:ext cx="68868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07480" y="2308320"/>
              <a:ext cx="1024560" cy="392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4"/>
                  </a:moveTo>
                  <a:arcTo wR="10800" hR="10800" stAng="-17791" swAng="549282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4"/>
                  </a:moveTo>
                  <a:arcTo wR="10800" hR="10800" stAng="-17791" swAng="5492822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92600" y="5100120"/>
              <a:ext cx="510840" cy="113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3" y="21599"/>
                  </a:moveTo>
                  <a:arcTo wR="10800" hR="10800" stAng="5443603" swAng="537340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3" y="21599"/>
                  </a:moveTo>
                  <a:arcTo wR="10800" hR="10800" stAng="5443603" swAng="5373408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054760" y="4467240"/>
              <a:ext cx="689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4749840" y="4010040"/>
              <a:ext cx="534600" cy="456840"/>
              <a:chOff x="4749840" y="4010040"/>
              <a:chExt cx="534600" cy="456840"/>
            </a:xfrm>
          </p:grpSpPr>
          <p:sp>
            <p:nvSpPr>
              <p:cNvPr id="259" name=""/>
              <p:cNvSpPr/>
              <p:nvPr/>
            </p:nvSpPr>
            <p:spPr>
              <a:xfrm>
                <a:off x="5131800" y="4330800"/>
                <a:ext cx="152640" cy="136080"/>
              </a:xfrm>
              <a:custGeom>
                <a:avLst/>
                <a:gdLst/>
                <a:ahLst/>
                <a:rect l="l" t="t" r="r" b="b"/>
                <a:pathLst>
                  <a:path w="120" h="119">
                    <a:moveTo>
                      <a:pt x="120" y="119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749840" y="4010040"/>
                <a:ext cx="407520" cy="36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5411880" y="3943440"/>
              <a:ext cx="510840" cy="501120"/>
              <a:chOff x="5411880" y="3943440"/>
              <a:chExt cx="510840" cy="501120"/>
            </a:xfrm>
          </p:grpSpPr>
          <p:sp>
            <p:nvSpPr>
              <p:cNvPr id="262" name=""/>
              <p:cNvSpPr/>
              <p:nvPr/>
            </p:nvSpPr>
            <p:spPr>
              <a:xfrm>
                <a:off x="5411880" y="4353480"/>
                <a:ext cx="10224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5462640" y="3943440"/>
                <a:ext cx="4600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5438880" y="4467240"/>
              <a:ext cx="431280" cy="570960"/>
              <a:chOff x="5438880" y="4467240"/>
              <a:chExt cx="431280" cy="570960"/>
            </a:xfrm>
          </p:grpSpPr>
          <p:sp>
            <p:nvSpPr>
              <p:cNvPr id="265" name=""/>
              <p:cNvSpPr/>
              <p:nvPr/>
            </p:nvSpPr>
            <p:spPr>
              <a:xfrm>
                <a:off x="5743440" y="4901400"/>
                <a:ext cx="126720" cy="13680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2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438880" y="4467240"/>
                <a:ext cx="329760" cy="45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5807160" y="4935600"/>
              <a:ext cx="45900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79960" y="5697360"/>
              <a:ext cx="6890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8849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845320" y="3143160"/>
              <a:ext cx="5875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08680" y="3633840"/>
              <a:ext cx="4604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5513400" y="5262480"/>
              <a:ext cx="306000" cy="388800"/>
              <a:chOff x="5513400" y="5262480"/>
              <a:chExt cx="306000" cy="388800"/>
            </a:xfrm>
          </p:grpSpPr>
          <p:sp>
            <p:nvSpPr>
              <p:cNvPr id="273" name=""/>
              <p:cNvSpPr/>
              <p:nvPr/>
            </p:nvSpPr>
            <p:spPr>
              <a:xfrm>
                <a:off x="5513400" y="5445360"/>
                <a:ext cx="178560" cy="205920"/>
              </a:xfrm>
              <a:custGeom>
                <a:avLst/>
                <a:gdLst/>
                <a:ahLst/>
                <a:rect l="l" t="t" r="r" b="b"/>
                <a:pathLst>
                  <a:path w="140" h="180">
                    <a:moveTo>
                      <a:pt x="0" y="180"/>
                    </a:moveTo>
                    <a:lnTo>
                      <a:pt x="60" y="0"/>
                    </a:lnTo>
                    <a:lnTo>
                      <a:pt x="60" y="80"/>
                    </a:lnTo>
                    <a:lnTo>
                      <a:pt x="140" y="6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5589720" y="5262480"/>
                <a:ext cx="229680" cy="27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2786040" y="2757600"/>
              <a:ext cx="127080" cy="339120"/>
              <a:chOff x="2786040" y="2757600"/>
              <a:chExt cx="127080" cy="339120"/>
            </a:xfrm>
          </p:grpSpPr>
          <p:sp>
            <p:nvSpPr>
              <p:cNvPr id="276" name=""/>
              <p:cNvSpPr/>
              <p:nvPr/>
            </p:nvSpPr>
            <p:spPr>
              <a:xfrm>
                <a:off x="2786040" y="2893680"/>
                <a:ext cx="127080" cy="20304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862000" y="2757600"/>
                <a:ext cx="1440" cy="20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2786040" y="3097080"/>
              <a:ext cx="127080" cy="479520"/>
              <a:chOff x="2786040" y="3097080"/>
              <a:chExt cx="127080" cy="479520"/>
            </a:xfrm>
          </p:grpSpPr>
          <p:sp>
            <p:nvSpPr>
              <p:cNvPr id="279" name=""/>
              <p:cNvSpPr/>
              <p:nvPr/>
            </p:nvSpPr>
            <p:spPr>
              <a:xfrm>
                <a:off x="2786040" y="337104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862000" y="309708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6050160" y="2781360"/>
              <a:ext cx="127080" cy="361440"/>
              <a:chOff x="6050160" y="2781360"/>
              <a:chExt cx="127080" cy="361440"/>
            </a:xfrm>
          </p:grpSpPr>
          <p:sp>
            <p:nvSpPr>
              <p:cNvPr id="282" name=""/>
              <p:cNvSpPr/>
              <p:nvPr/>
            </p:nvSpPr>
            <p:spPr>
              <a:xfrm>
                <a:off x="6050160" y="2940120"/>
                <a:ext cx="127080" cy="20268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59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126120" y="2781360"/>
                <a:ext cx="1440" cy="22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6050160" y="3143160"/>
              <a:ext cx="127080" cy="479520"/>
              <a:chOff x="6050160" y="3143160"/>
              <a:chExt cx="127080" cy="479520"/>
            </a:xfrm>
          </p:grpSpPr>
          <p:sp>
            <p:nvSpPr>
              <p:cNvPr id="285" name=""/>
              <p:cNvSpPr/>
              <p:nvPr/>
            </p:nvSpPr>
            <p:spPr>
              <a:xfrm>
                <a:off x="6050160" y="341712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126120" y="314316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4443480" y="3965400"/>
              <a:ext cx="127080" cy="364680"/>
              <a:chOff x="4443480" y="3965400"/>
              <a:chExt cx="127080" cy="364680"/>
            </a:xfrm>
          </p:grpSpPr>
          <p:sp>
            <p:nvSpPr>
              <p:cNvPr id="288" name=""/>
              <p:cNvSpPr/>
              <p:nvPr/>
            </p:nvSpPr>
            <p:spPr>
              <a:xfrm>
                <a:off x="4443480" y="3965400"/>
                <a:ext cx="127080" cy="228240"/>
              </a:xfrm>
              <a:custGeom>
                <a:avLst/>
                <a:gdLst/>
                <a:ahLst/>
                <a:rect l="l" t="t" r="r" b="b"/>
                <a:pathLst>
                  <a:path w="100" h="200">
                    <a:moveTo>
                      <a:pt x="60" y="0"/>
                    </a:moveTo>
                    <a:lnTo>
                      <a:pt x="100" y="200"/>
                    </a:lnTo>
                    <a:lnTo>
                      <a:pt x="60" y="140"/>
                    </a:lnTo>
                    <a:lnTo>
                      <a:pt x="0" y="20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4519800" y="4124520"/>
                <a:ext cx="1080" cy="20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 flipH="1">
              <a:off x="6300360" y="2011320"/>
              <a:ext cx="12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07360" y="37368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354360" y="48783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6324120" y="2171520"/>
              <a:ext cx="9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579720" y="38973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427080" y="50594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508440" y="2982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44960" y="4284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44960" y="5492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30480" y="31208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966640" y="4421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66640" y="56070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459400" y="2573280"/>
              <a:ext cx="2160720" cy="3941640"/>
            </a:xfrm>
            <a:custGeom>
              <a:avLst/>
              <a:gdLst/>
              <a:ahLst/>
              <a:rect l="l" t="t" r="r" b="b"/>
              <a:pathLst>
                <a:path w="1088" h="2144">
                  <a:moveTo>
                    <a:pt x="8" y="1680"/>
                  </a:moveTo>
                  <a:cubicBezTo>
                    <a:pt x="4" y="1764"/>
                    <a:pt x="0" y="1848"/>
                    <a:pt x="56" y="1920"/>
                  </a:cubicBezTo>
                  <a:cubicBezTo>
                    <a:pt x="112" y="1992"/>
                    <a:pt x="208" y="2144"/>
                    <a:pt x="344" y="2112"/>
                  </a:cubicBezTo>
                  <a:cubicBezTo>
                    <a:pt x="480" y="2080"/>
                    <a:pt x="760" y="2032"/>
                    <a:pt x="872" y="1728"/>
                  </a:cubicBezTo>
                  <a:cubicBezTo>
                    <a:pt x="984" y="1424"/>
                    <a:pt x="1088" y="576"/>
                    <a:pt x="1016" y="288"/>
                  </a:cubicBezTo>
                  <a:cubicBezTo>
                    <a:pt x="944" y="0"/>
                    <a:pt x="692" y="0"/>
                    <a:pt x="44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18080" y="3984480"/>
              <a:ext cx="666720" cy="2354400"/>
            </a:xfrm>
            <a:custGeom>
              <a:avLst/>
              <a:gdLst/>
              <a:ahLst/>
              <a:rect l="l" t="t" r="r" b="b"/>
              <a:pathLst>
                <a:path w="336" h="1280">
                  <a:moveTo>
                    <a:pt x="336" y="912"/>
                  </a:moveTo>
                  <a:cubicBezTo>
                    <a:pt x="332" y="1064"/>
                    <a:pt x="328" y="1216"/>
                    <a:pt x="288" y="1248"/>
                  </a:cubicBezTo>
                  <a:cubicBezTo>
                    <a:pt x="248" y="1280"/>
                    <a:pt x="136" y="1208"/>
                    <a:pt x="96" y="1104"/>
                  </a:cubicBezTo>
                  <a:cubicBezTo>
                    <a:pt x="56" y="1000"/>
                    <a:pt x="64" y="808"/>
                    <a:pt x="48" y="624"/>
                  </a:cubicBezTo>
                  <a:cubicBezTo>
                    <a:pt x="32" y="440"/>
                    <a:pt x="16" y="22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19320" y="2573280"/>
              <a:ext cx="2351160" cy="3927600"/>
            </a:xfrm>
            <a:custGeom>
              <a:avLst/>
              <a:gdLst/>
              <a:ahLst/>
              <a:rect l="l" t="t" r="r" b="b"/>
              <a:pathLst>
                <a:path w="1184" h="2136">
                  <a:moveTo>
                    <a:pt x="1136" y="1680"/>
                  </a:moveTo>
                  <a:cubicBezTo>
                    <a:pt x="1160" y="1816"/>
                    <a:pt x="1184" y="1952"/>
                    <a:pt x="1088" y="2016"/>
                  </a:cubicBezTo>
                  <a:cubicBezTo>
                    <a:pt x="992" y="2080"/>
                    <a:pt x="704" y="2136"/>
                    <a:pt x="560" y="2064"/>
                  </a:cubicBezTo>
                  <a:cubicBezTo>
                    <a:pt x="416" y="1992"/>
                    <a:pt x="304" y="1856"/>
                    <a:pt x="224" y="1584"/>
                  </a:cubicBezTo>
                  <a:cubicBezTo>
                    <a:pt x="144" y="1312"/>
                    <a:pt x="0" y="696"/>
                    <a:pt x="80" y="432"/>
                  </a:cubicBezTo>
                  <a:cubicBezTo>
                    <a:pt x="160" y="168"/>
                    <a:pt x="432" y="84"/>
                    <a:pt x="70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2292480" y="228600"/>
            <a:ext cx="37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al 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8798-96A2-4069-96C4-2E3F3BA0522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mantics: dynamic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t is enabled if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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's input places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M(p)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 fires: produces a new marking M’ in places that are either t's input or output places or bo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input place: M'(p) = M(p) -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output place: M'(p) = M(p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both an input and an output place:        M'(p) = M(p) - W(&lt;p,t&gt;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1297-55DD-43B2-9213-90A07EA2B7E3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determini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 of the enabled transitions may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 does not specify which fires, nor when it fi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6E7B-E815-4ACF-845D-D39FAAB9EEFF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ment of the interface between the machine and the controlled environmen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rious undesirable effects can result due to misunderstandings between software engineers and domain experts about the phenomena affecting the control function to be implemented by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438C-FDBB-4271-A6CF-6D5966EA5A6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ing with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ces represent distributed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represent actions or events that may occur when system is in a certain st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occur as certain conditions hold on the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EF48-A580-4FA0-92B1-3754A773B4C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2" name=""/>
          <p:cNvGraphicFramePr/>
          <p:nvPr/>
        </p:nvGraphicFramePr>
        <p:xfrm>
          <a:off x="762120" y="609480"/>
          <a:ext cx="7983360" cy="662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609480"/>
                    <a:ext cx="7983360" cy="662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1267200" y="152280"/>
            <a:ext cx="69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(a) either (b) or (c) may occur, and then 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0B89-8002-4A47-807C-5DDF5ECDB76D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on c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and the firing of one does nor prevent the other from fi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l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but the firing of one prevents the other from f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odels a  shared resource between two proce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icy exists to resolve conflicts (known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nfai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edu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cess may never get a resource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352F-242F-48E4-9C0A-3F8B30491E58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avoid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51928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5559480" cy="47228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6056640" y="2666880"/>
            <a:ext cx="30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es alter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DCFB-AAC7-459C-9094-E29A59435B7B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flict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3124080" y="174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4730760" cy="54896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6571440" y="2014560"/>
            <a:ext cx="18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net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dloc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7664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6629400" y="3048120"/>
            <a:ext cx="1676520" cy="41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7521-B1D4-4FFB-AAF5-EF6A530DBBA5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adlock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312912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452592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2A9D-9F9F-42E9-8667-2BD925637730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of partial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3330720" y="246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195960" cy="480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3770-6DAC-4535-A281-BB19841F31BE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2286000" y="1066680"/>
          <a:ext cx="6019920" cy="53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066680"/>
                    <a:ext cx="601992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216000" y="3657600"/>
            <a:ext cx="29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AEB6-3EEE-4766-9D6B-F29C31F71791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3581280" y="762120"/>
          <a:ext cx="5050080" cy="584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762120"/>
                    <a:ext cx="5050080" cy="58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"/>
          <p:cNvSpPr/>
          <p:nvPr/>
        </p:nvSpPr>
        <p:spPr>
          <a:xfrm>
            <a:off x="624960" y="2971800"/>
            <a:ext cx="23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net for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9718-FBB8-42C6-B11B-811DFA6F1DF7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 and 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"/>
          <p:cNvSpPr/>
          <p:nvPr/>
        </p:nvSpPr>
        <p:spPr>
          <a:xfrm>
            <a:off x="3703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440320" cy="22413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106280" y="4495680"/>
            <a:ext cx="733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n represents a mess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You wish to say that the delivery channel dep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n cont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etri nets cannot specify selection poli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C06D-9FCA-4729-AEAA-FF07E5503ECC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of requirements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process is a chain of specification (i.e., definition)–implementation–verification step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s specification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ers to definition of external behavi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ign specification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esign specific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refers to definition of the software archite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B3F6-E9AF-4EC5-AEA0-AA70B1F66D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igning values to toke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have associated predicates and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dicate refers to values of tokens in input places selected for fi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define values of tokens produced in output pl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0342-D10A-4219-B2FC-BBDEBD1B21BB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317808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5434200" cy="35622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6051240" y="1523880"/>
            <a:ext cx="2832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2 &gt;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2 +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3 = P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3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P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5 := P2 + P3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72160" y="5334120"/>
            <a:ext cx="729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ring of t1 by using &lt;3,7&gt; would produc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alue 10 in P4.  t2 can then fire using &lt;4, 4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4E60-DA0D-42ED-9693-EE35F562378E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ior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iority function pri from transitions to natural numb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i: T </a:t>
            </a:r>
            <a:r>
              <a:rPr b="0" lang="it-IT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several transitions are enabled, only the ones with maximum priority are allowed to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ng them, the one to fire is chosen nondeterminis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8416-BFF8-45E0-ADE4-961538595CFA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d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air of constants &lt;tmin, tmax&gt; is associated with each transitio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ce a transition is enabled, it must wait for at least tmin to elapse before it can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 enabled, it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us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fire before tmax has elapsed, unless it is disabled by the firing of another transition before tma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5116-30F2-497B-BD30-B936082740AB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bining priorities and ti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"/>
          <p:cNvSpPr/>
          <p:nvPr/>
        </p:nvSpPr>
        <p:spPr>
          <a:xfrm>
            <a:off x="301464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6359400" cy="240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04FD-71EB-457B-BF49-41607DF38EDE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5113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6104160" cy="60246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5451480" y="388620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23DE-D6A3-4211-94AB-566ABEC2E31F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70972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376200" y="304920"/>
            <a:ext cx="5310360" cy="61261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4842000" y="380988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628B-62AC-490A-8479-575A93F1DDDE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n n elevator system to be installed in a building with m flo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atural language specs contain several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Formal specification using PNs removes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pecification will be provided in a stepwise fash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Will use modules, each encapsulating fragments of PNs which describe certain system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5BA3-04C6-4E12-961D-0652621820D1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476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informal specs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61800" y="1276200"/>
            <a:ext cx="851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 illumination is cancelled when the elevator visits the floor and is either moving in the desired direction, or ...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2 different interpretations (case of up ca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s the elevator arrives at the floor from below (obvious restrictions for 1st and last flo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fter the elevators starts movin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in practice you may observe the two case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43DE-38FE-4979-BFDB-FB0E8101FFF9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analysis of informal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The algorithm to decide which to service first should minimize the waiting time for both requests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what does this me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no other way can you satisfy either request in a short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minimizing for one may require longer for the o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um of both is mini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y the sum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1E5E-1942-45DA-A4FE-692BDDEAE364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ference point during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 maintenance only changes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and perfective maintenance occur because of requirements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ments specification must change according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AB48-3095-42E9-8B3B-134CB8AEC6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itial sketch of mov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275904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853240" cy="430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A1E9-E0AE-473E-B1A7-7E44FFFEA05C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tton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771560" y="1790640"/>
          <a:ext cx="582948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1560" y="1790640"/>
                    <a:ext cx="582948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ED91-CD19-41A6-9D62-D495B3EF6C3C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vator position (sketch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828800" y="838080"/>
          <a:ext cx="5297400" cy="545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838080"/>
                    <a:ext cx="5297400" cy="54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86EC-556B-492F-99F9-1CB2E77E0EB0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6037920" y="557856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j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31300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228600" y="784080"/>
            <a:ext cx="6907320" cy="563724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70200" y="228600"/>
            <a:ext cx="65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ecise description of elevator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CA31-1E34-419D-A546-04FE882D2CCF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internal button of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685800" y="1657440"/>
          <a:ext cx="7467480" cy="634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57440"/>
                    <a:ext cx="7467480" cy="63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D5EF-5868-43CD-9DB2-96E0BAE7C80E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681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external button off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990720" y="1295280"/>
            <a:ext cx="6573240" cy="4344840"/>
            <a:chOff x="990720" y="1295280"/>
            <a:chExt cx="6573240" cy="4344840"/>
          </a:xfrm>
        </p:grpSpPr>
        <p:sp>
          <p:nvSpPr>
            <p:cNvPr id="389" name=""/>
            <p:cNvSpPr/>
            <p:nvPr/>
          </p:nvSpPr>
          <p:spPr>
            <a:xfrm>
              <a:off x="1398240" y="1557360"/>
              <a:ext cx="679320" cy="6570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39824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09760" y="3520800"/>
              <a:ext cx="68076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82272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87440" y="2840040"/>
              <a:ext cx="677520" cy="39600"/>
            </a:xfrm>
            <a:custGeom>
              <a:avLst/>
              <a:gdLst/>
              <a:ahLst/>
              <a:rect l="l" t="t" r="r" b="b"/>
              <a:pathLst>
                <a:path w="427" h="25">
                  <a:moveTo>
                    <a:pt x="0" y="0"/>
                  </a:moveTo>
                  <a:lnTo>
                    <a:pt x="0" y="23"/>
                  </a:lnTo>
                  <a:lnTo>
                    <a:pt x="427" y="25"/>
                  </a:lnTo>
                  <a:lnTo>
                    <a:pt x="427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76560" y="25304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76560" y="44942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50960" y="2857320"/>
              <a:ext cx="131400" cy="255600"/>
            </a:xfrm>
            <a:custGeom>
              <a:avLst/>
              <a:gdLst/>
              <a:ahLst/>
              <a:rect l="l" t="t" r="r" b="b"/>
              <a:pathLst>
                <a:path w="83" h="161">
                  <a:moveTo>
                    <a:pt x="47" y="0"/>
                  </a:moveTo>
                  <a:lnTo>
                    <a:pt x="83" y="161"/>
                  </a:lnTo>
                  <a:lnTo>
                    <a:pt x="47" y="161"/>
                  </a:lnTo>
                  <a:lnTo>
                    <a:pt x="0" y="161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1725480" y="3112560"/>
              <a:ext cx="2880" cy="399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50960" y="2205000"/>
              <a:ext cx="131400" cy="253800"/>
            </a:xfrm>
            <a:custGeom>
              <a:avLst/>
              <a:gdLst/>
              <a:ahLst/>
              <a:rect l="l" t="t" r="r" b="b"/>
              <a:pathLst>
                <a:path w="83" h="160">
                  <a:moveTo>
                    <a:pt x="47" y="0"/>
                  </a:moveTo>
                  <a:lnTo>
                    <a:pt x="83" y="160"/>
                  </a:lnTo>
                  <a:lnTo>
                    <a:pt x="47" y="160"/>
                  </a:lnTo>
                  <a:lnTo>
                    <a:pt x="0" y="16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1725480" y="2458440"/>
              <a:ext cx="2880" cy="398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984640" y="2403360"/>
              <a:ext cx="37440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2280" y="2366640"/>
              <a:ext cx="4359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02280" y="2369880"/>
              <a:ext cx="32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568840" y="5259240"/>
              <a:ext cx="620280" cy="2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89560" y="5208480"/>
              <a:ext cx="17917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88840" y="521316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00440" y="5213160"/>
              <a:ext cx="227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..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740920" y="5213160"/>
              <a:ext cx="744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990720" y="2639880"/>
              <a:ext cx="190080" cy="25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011240" y="2603520"/>
              <a:ext cx="245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010520" y="260820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123560" y="2608200"/>
              <a:ext cx="41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160280" y="4186080"/>
              <a:ext cx="207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180800" y="4149720"/>
              <a:ext cx="28404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179360" y="4154400"/>
              <a:ext cx="182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238040" y="1330200"/>
              <a:ext cx="261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55680" y="1295280"/>
              <a:ext cx="3232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254240" y="1298520"/>
              <a:ext cx="22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89400" y="4295520"/>
              <a:ext cx="3376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306680" y="4259160"/>
              <a:ext cx="398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306680" y="426240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000560" y="4295520"/>
              <a:ext cx="3394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019640" y="4259160"/>
              <a:ext cx="37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20360" y="4262400"/>
              <a:ext cx="287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776480" y="3477960"/>
              <a:ext cx="245880" cy="198720"/>
            </a:xfrm>
            <a:custGeom>
              <a:avLst/>
              <a:gdLst/>
              <a:ahLst/>
              <a:rect l="l" t="t" r="r" b="b"/>
              <a:pathLst>
                <a:path w="155" h="125">
                  <a:moveTo>
                    <a:pt x="0" y="125"/>
                  </a:moveTo>
                  <a:lnTo>
                    <a:pt x="120" y="0"/>
                  </a:lnTo>
                  <a:lnTo>
                    <a:pt x="131" y="33"/>
                  </a:lnTo>
                  <a:lnTo>
                    <a:pt x="155" y="67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4984560" y="3020760"/>
              <a:ext cx="809280" cy="509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794200" y="2857320"/>
              <a:ext cx="264600" cy="181080"/>
            </a:xfrm>
            <a:custGeom>
              <a:avLst/>
              <a:gdLst/>
              <a:ahLst/>
              <a:rect l="l" t="t" r="r" b="b"/>
              <a:pathLst>
                <a:path w="167" h="114">
                  <a:moveTo>
                    <a:pt x="0" y="0"/>
                  </a:moveTo>
                  <a:lnTo>
                    <a:pt x="167" y="34"/>
                  </a:lnTo>
                  <a:lnTo>
                    <a:pt x="142" y="69"/>
                  </a:lnTo>
                  <a:lnTo>
                    <a:pt x="12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 flipV="1">
              <a:off x="6019200" y="2966400"/>
              <a:ext cx="960120" cy="546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567480" y="4003560"/>
              <a:ext cx="244080" cy="218880"/>
            </a:xfrm>
            <a:custGeom>
              <a:avLst/>
              <a:gdLst/>
              <a:ahLst/>
              <a:rect l="l" t="t" r="r" b="b"/>
              <a:pathLst>
                <a:path w="154" h="138">
                  <a:moveTo>
                    <a:pt x="154" y="0"/>
                  </a:moveTo>
                  <a:lnTo>
                    <a:pt x="60" y="138"/>
                  </a:lnTo>
                  <a:lnTo>
                    <a:pt x="35" y="103"/>
                  </a:lnTo>
                  <a:lnTo>
                    <a:pt x="0" y="8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5793840" y="4167000"/>
              <a:ext cx="828360" cy="820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532120" y="4624200"/>
              <a:ext cx="261720" cy="198360"/>
            </a:xfrm>
            <a:custGeom>
              <a:avLst/>
              <a:gdLst/>
              <a:ahLst/>
              <a:rect l="l" t="t" r="r" b="b"/>
              <a:pathLst>
                <a:path w="165" h="125">
                  <a:moveTo>
                    <a:pt x="165" y="125"/>
                  </a:moveTo>
                  <a:lnTo>
                    <a:pt x="0" y="80"/>
                  </a:lnTo>
                  <a:lnTo>
                    <a:pt x="23" y="45"/>
                  </a:lnTo>
                  <a:lnTo>
                    <a:pt x="35" y="0"/>
                  </a:lnTo>
                  <a:lnTo>
                    <a:pt x="165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 flipV="1">
              <a:off x="4606560" y="4166640"/>
              <a:ext cx="961560" cy="52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895400" y="2695320"/>
              <a:ext cx="1080" cy="162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18954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03360" y="2205000"/>
              <a:ext cx="42382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6420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75440" y="3240000"/>
              <a:ext cx="131400" cy="272880"/>
            </a:xfrm>
            <a:custGeom>
              <a:avLst/>
              <a:gdLst/>
              <a:ahLst/>
              <a:rect l="l" t="t" r="r" b="b"/>
              <a:pathLst>
                <a:path w="83" h="172">
                  <a:moveTo>
                    <a:pt x="47" y="172"/>
                  </a:moveTo>
                  <a:lnTo>
                    <a:pt x="0" y="0"/>
                  </a:lnTo>
                  <a:lnTo>
                    <a:pt x="47" y="0"/>
                  </a:lnTo>
                  <a:lnTo>
                    <a:pt x="83" y="0"/>
                  </a:lnTo>
                  <a:lnTo>
                    <a:pt x="47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49960" y="2695320"/>
              <a:ext cx="2880" cy="54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895400" y="4167000"/>
              <a:ext cx="263160" cy="182520"/>
            </a:xfrm>
            <a:custGeom>
              <a:avLst/>
              <a:gdLst/>
              <a:ahLst/>
              <a:rect l="l" t="t" r="r" b="b"/>
              <a:pathLst>
                <a:path w="166" h="115">
                  <a:moveTo>
                    <a:pt x="0" y="0"/>
                  </a:moveTo>
                  <a:lnTo>
                    <a:pt x="166" y="46"/>
                  </a:lnTo>
                  <a:lnTo>
                    <a:pt x="142" y="81"/>
                  </a:lnTo>
                  <a:lnTo>
                    <a:pt x="120" y="1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120760" y="4295520"/>
              <a:ext cx="1130040" cy="692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532120" y="4913280"/>
              <a:ext cx="261720" cy="128520"/>
            </a:xfrm>
            <a:custGeom>
              <a:avLst/>
              <a:gdLst/>
              <a:ahLst/>
              <a:rect l="l" t="t" r="r" b="b"/>
              <a:pathLst>
                <a:path w="165" h="81">
                  <a:moveTo>
                    <a:pt x="165" y="47"/>
                  </a:moveTo>
                  <a:lnTo>
                    <a:pt x="0" y="81"/>
                  </a:lnTo>
                  <a:lnTo>
                    <a:pt x="0" y="47"/>
                  </a:lnTo>
                  <a:lnTo>
                    <a:pt x="0" y="0"/>
                  </a:lnTo>
                  <a:lnTo>
                    <a:pt x="16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251160" y="4987800"/>
              <a:ext cx="22806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2403360" y="3841560"/>
              <a:ext cx="16948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1800000" y="1457280"/>
              <a:ext cx="5763960" cy="4182840"/>
              <a:chOff x="1800000" y="1457280"/>
              <a:chExt cx="5763960" cy="4182840"/>
            </a:xfrm>
          </p:grpSpPr>
          <p:sp>
            <p:nvSpPr>
              <p:cNvPr id="444" name=""/>
              <p:cNvSpPr/>
              <p:nvPr/>
            </p:nvSpPr>
            <p:spPr>
              <a:xfrm>
                <a:off x="1800000" y="2857320"/>
                <a:ext cx="169920" cy="255600"/>
              </a:xfrm>
              <a:custGeom>
                <a:avLst/>
                <a:gdLst/>
                <a:ahLst/>
                <a:rect l="l" t="t" r="r" b="b"/>
                <a:pathLst>
                  <a:path w="107" h="161">
                    <a:moveTo>
                      <a:pt x="0" y="0"/>
                    </a:moveTo>
                    <a:lnTo>
                      <a:pt x="107" y="127"/>
                    </a:lnTo>
                    <a:lnTo>
                      <a:pt x="71" y="138"/>
                    </a:lnTo>
                    <a:lnTo>
                      <a:pt x="36" y="1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 flipV="1">
                <a:off x="1912680" y="3076200"/>
                <a:ext cx="395280" cy="7650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665160" y="1549080"/>
                <a:ext cx="338040" cy="3764160"/>
              </a:xfrm>
              <a:custGeom>
                <a:avLst/>
                <a:gdLst/>
                <a:ahLst/>
                <a:rect l="l" t="t" r="r" b="b"/>
                <a:pathLst>
                  <a:path w="213" h="2371">
                    <a:moveTo>
                      <a:pt x="213" y="0"/>
                    </a:moveTo>
                    <a:lnTo>
                      <a:pt x="0" y="205"/>
                    </a:lnTo>
                    <a:lnTo>
                      <a:pt x="0" y="2371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665160" y="1549080"/>
                <a:ext cx="3898800" cy="4091040"/>
              </a:xfrm>
              <a:custGeom>
                <a:avLst/>
                <a:gdLst/>
                <a:ahLst/>
                <a:rect l="l" t="t" r="r" b="b"/>
                <a:pathLst>
                  <a:path w="2456" h="2577">
                    <a:moveTo>
                      <a:pt x="0" y="2371"/>
                    </a:moveTo>
                    <a:lnTo>
                      <a:pt x="213" y="2577"/>
                    </a:lnTo>
                    <a:lnTo>
                      <a:pt x="2242" y="2577"/>
                    </a:lnTo>
                    <a:lnTo>
                      <a:pt x="2349" y="2475"/>
                    </a:lnTo>
                    <a:lnTo>
                      <a:pt x="2456" y="2371"/>
                    </a:lnTo>
                    <a:lnTo>
                      <a:pt x="2456" y="205"/>
                    </a:lnTo>
                    <a:lnTo>
                      <a:pt x="2242" y="0"/>
                    </a:lnTo>
                    <a:lnTo>
                      <a:pt x="21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268440" y="1493640"/>
                <a:ext cx="396720" cy="25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288960" y="1457280"/>
                <a:ext cx="47304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287160" y="1460520"/>
                <a:ext cx="351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UPj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1" name=""/>
          <p:cNvSpPr/>
          <p:nvPr/>
        </p:nvSpPr>
        <p:spPr>
          <a:xfrm>
            <a:off x="173880" y="5486400"/>
            <a:ext cx="52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time need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erson to enter + pushing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86F0-E9E6-4BBF-BD99-786BDAEB5975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6672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olic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1150920" y="3135240"/>
          <a:ext cx="6896160" cy="664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3135240"/>
                    <a:ext cx="6896160" cy="66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"/>
          <p:cNvSpPr/>
          <p:nvPr/>
        </p:nvSpPr>
        <p:spPr>
          <a:xfrm>
            <a:off x="461160" y="1219320"/>
            <a:ext cx="798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“fair” 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eep the direction unchanged as long as there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lls that require elevator to go in that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09840" y="334008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726680" y="315612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325760" y="26384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354560" y="51530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395720" y="5762520"/>
            <a:ext cx="67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7, t8, t9 have higher priority than t10, t11, t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07C9-FEC4-42AD-9224-DDEB993FA8F8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eneral schedu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37306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3814920" cy="246708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457200" y="403848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h transition has predicate OK(Schedu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 in SCHEDULER stores information about the state of the system that is useful fo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cheduling transi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o f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oken is “permanent”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oduc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the firing of any trans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04FF-E7BC-49F9-A0AE-0C8A0BDD580F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larative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diagrams: semiformal spe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CC3B-9689-4E41-8920-0EA720151547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R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used as a complement to DFD to describe conceptual data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entities, relationships, attribu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the ancestors of class diagrams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5879-B91D-48F6-8110-E72DDE9D0376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cise, clear, unambiguo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le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0D69-C829-42D4-B257-15D513FC917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3200400" y="1981080"/>
          <a:ext cx="2400480" cy="375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981080"/>
                    <a:ext cx="2400480" cy="37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4E12-C28E-4C34-8AE4-49AAC87D0D7A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part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annotated to def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3886200" y="3200400"/>
          <a:ext cx="4572000" cy="294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200400"/>
                    <a:ext cx="4572000" cy="29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202D-9446-4B3C-8D05-EA1DACE678C8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 binary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762120" y="2057400"/>
          <a:ext cx="742932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4293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3D3A-A568-4187-9ACB-90C4675A3E1E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amples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-order theory (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mul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y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= y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y =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, y, z (x &gt; y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+ 1 &lt; x –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(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ist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(y = x + z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3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lt; -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5AAC-B077-4DD0-8481-473773FC45E9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omplete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perty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, or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,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or P is specified as a formula of the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"/>
          <p:cNvSpPr/>
          <p:nvPr/>
        </p:nvSpPr>
        <p:spPr>
          <a:xfrm>
            <a:off x="1610640" y="3048120"/>
            <a:ext cx="624636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re (i1, i2,..., in)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ost (o1, o2,..., om, i1, i2,..., in)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66000" y="5181480"/>
            <a:ext cx="29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: pre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: post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08A4-C783-4253-A425-822C36A9E241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to compute greatest common divi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"/>
          <p:cNvSpPr/>
          <p:nvPr/>
        </p:nvSpPr>
        <p:spPr>
          <a:xfrm>
            <a:off x="1062000" y="3125880"/>
            <a:ext cx="7331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i1 &gt; 0 and i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(exists z1, z2 (i1 = o *  z1 and i2 = o * z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not (exists 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exists z1, z2 (i1 = h * z1 and i2 = h * z2) and h &gt; o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EAD6-2F68-49CB-A6CD-0681E429E6C0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oced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"/>
          <p:cNvSpPr/>
          <p:nvPr/>
        </p:nvSpPr>
        <p:spPr>
          <a:xfrm>
            <a:off x="917640" y="2057400"/>
            <a:ext cx="753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} -- n is a constan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search (table: in integer_array; n: in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: in integer; found: out Boolea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und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exists i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 and table (i) = element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915120" y="4114800"/>
            <a:ext cx="77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reverse (a: in out integer_array; n: in integ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r all i (1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) implies (a (i) =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ld–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(n - i +1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B9A5-B345-4C7E-B03B-65294CDFF5C9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las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predicates and pre/post conditions for each meth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of invariant specifying an array implementing ADT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>
            <a:off x="862920" y="4191120"/>
            <a:ext cx="751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i, j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j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i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 IMPL[i]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[j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o duplicates are sto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5A01-307F-412F-8F36-185473EC292F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non-terminating behavi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ducer+consumer+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specifies that whatever has been produced is the concatenation of what has been taken from the buffer and what is kept in the 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"/>
          <p:cNvSpPr/>
          <p:nvPr/>
        </p:nvSpPr>
        <p:spPr>
          <a:xfrm>
            <a:off x="969840" y="4648320"/>
            <a:ext cx="660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put_sequence = append (output_sequenc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ents(CHAR_BUFFER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2223-3093-43D4-83DC-7DE4042C2098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-study using 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outline the elevator 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t (E, F, T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is at floor F at time 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rt (E, F, T, up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left floor F at time T moving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at (E, F, T) and on (EB,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T) and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&gt; F) implies start (E, F, T,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FD35-8FD1-40BE-ACC8-9EB8BFDAC816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ear, unambiguous, understandab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>
            <a:off x="1100160" y="2819520"/>
            <a:ext cx="7495920" cy="2654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ing is the process of designa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s of the document that you want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ork on. Most editing and format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tions require two steps: first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 what you want to work 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ch as text or graphics; then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itiate the appropriate action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9520" y="5715000"/>
            <a:ext cx="36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n area be scatte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6DAB-6560-4D40-8E6A-98036E001D2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 and ev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 are partitioned i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s, having non-null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nding(E, F, T1, T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95444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umption: closed at left, open at r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ntaneous (caused state change occurs at same tim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resented by predicates that hold only at a particular time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rived (E, F, 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simplicity, we as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ero decis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imultaneous ev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150E-EC76-44B2-8FFC-6E45379AAE1A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rrival (E, F, T)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(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initial tim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does not say if it will stop or will proceed, nor where it comes fr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departure(E, F, D, T)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D in {up, down}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stop (E, F, T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 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specifies stop to serve an internal or external re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6CBD-D8AA-4E0A-9A4C-79CFC5E25529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new_list (E, L, T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 in [1..n], L in [1.. m]</a:t>
            </a:r>
            <a:r>
              <a:rPr b="0" lang="en-AU" sz="28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,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ahoma"/>
              </a:rPr>
              <a:t>0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 is the list of floors to visit associated with elevator (scheduling is performed by the control component of the sys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call(F, D, T)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xternal call  (with restriction for 1, 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request(E, F, T)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internal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4EE8-C707-430A-B25F-D5A6AC1970A1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ng (E, F, D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ing (E, F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 (E, L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mplicitly assume that state predicates hold for any sub- interval (i.e., the rules that describe this are assumed to be automatically add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hing prevents that it holds for larger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239F-DBD4-4ABC-B049-CBAFA7063EA9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ules relating events and 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"/>
          <p:cNvSpPr/>
          <p:nvPr/>
        </p:nvSpPr>
        <p:spPr>
          <a:xfrm>
            <a:off x="-74880" y="1744560"/>
            <a:ext cx="9522360" cy="1607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:When E arrives at floor F, it continues to move if ther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o request for service from F and the list is 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floor to serve is higher, it moves upward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otherwise it moves downw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32080" y="346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613960" y="3387600"/>
            <a:ext cx="3169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5600" y="5638680"/>
            <a:ext cx="68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milar rule describes downward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E563-3B0A-4E1E-A9FE-BFB3A9AB1E63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217440" y="452520"/>
            <a:ext cx="857592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2: Upon arrival at F, E stops if F must be serviced (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ppears as first of the l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739160" y="1440000"/>
            <a:ext cx="28033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=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85480" y="3657600"/>
            <a:ext cx="7993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3: E stops at F if it gets there with an empty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752480" y="4343400"/>
            <a:ext cx="57308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CA4B-B0A4-4AC9-BE4E-3966678272D6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-258480" y="297000"/>
            <a:ext cx="993384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4: Assume that elevators have a fixed time to service a flo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list is not empty at the end of such interva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he elevator leaves the floor immediat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643040" y="1523880"/>
            <a:ext cx="37926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-235440" y="3657600"/>
            <a:ext cx="942480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5: If the elevator has no floors to service, it stops until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ist becomes non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887840" y="4495680"/>
            <a:ext cx="6355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7E33-0D08-4FE3-98D9-75AA35D6DC7F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-82800" y="1058760"/>
            <a:ext cx="951804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6: Assume that the time to move from on floor to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ext is known and fixed. The rule describes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748880" y="2049480"/>
            <a:ext cx="323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 + 1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-111960" y="3809880"/>
            <a:ext cx="961236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7: The event of stopping initiates standing for at least D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74000" y="4495680"/>
            <a:ext cx="34178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, T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9483-1264-4F33-BE1D-6CF31BFA125A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-114480" y="677880"/>
            <a:ext cx="955728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8: At the end of the minimum stop interval Dts, E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nding if there are no floors to ser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599480" y="1557360"/>
            <a:ext cx="33858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04840" y="3657600"/>
            <a:ext cx="54486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9: Departure causes mo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91280" y="4259160"/>
            <a:ext cx="352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D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moving (E, F, D, T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7C78-A672-4597-957C-10A47D43281F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"/>
          <p:cNvSpPr/>
          <p:nvPr/>
        </p:nvSpPr>
        <p:spPr>
          <a:xfrm>
            <a:off x="387000" y="1744560"/>
            <a:ext cx="8494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ress the scheduling strategy (by describing “new_list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 and “list”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quests are inserted in the list from curr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or to top if the elevator is moving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alls are inserted in the list of the closest 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is moving in the correct direction, or in a stan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33AF-542F-4EF1-953F-E58C29E129E2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1:06:23Z</dcterms:created>
  <dc:creator>Carlo Ghezzi</dc:creator>
  <dc:description/>
  <dc:language>en-US</dc:language>
  <cp:lastModifiedBy>jazayeri</cp:lastModifiedBy>
  <dcterms:modified xsi:type="dcterms:W3CDTF">2002-02-20T10:06:32Z</dcterms:modified>
  <cp:revision>18</cp:revision>
  <dc:subject/>
  <dc:title>Specification</dc:title>
</cp:coreProperties>
</file>