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9B9FC-439E-4B83-8439-8DDCB29AF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8D1FF-CD3F-4EB6-9482-1B767CC5A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09A3A-B419-40C6-8B22-F30C06C24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FB862-9F7D-4EB9-9156-9D6BA8476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2C502-428E-48A6-9532-10E3F3E55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A9A17-9AA2-4295-BED5-FFD90A1E5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71F57-EE6B-4DC9-9B55-DDA6F24E7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226BE-DEAC-4F1D-B560-EDED4E033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ECF57-EF1C-4FCF-9C02-9EDC1BB87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58C86-B776-4DF3-AAC6-589EDC043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E7E66-4DDD-4A4E-84CE-C51868E3A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AEA47-E732-46C1-8DAB-00EA5E633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7F328-058C-48C4-9E1B-1A625A9369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838080" y="838080"/>
          <a:ext cx="7543800" cy="4864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838080"/>
                    <a:ext cx="7543800" cy="486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9T02:21:02Z</dcterms:created>
  <dc:creator>Spencer Smith</dc:creator>
  <dc:description/>
  <dc:language>en-US</dc:language>
  <cp:lastModifiedBy>Spencer Smith</cp:lastModifiedBy>
  <dcterms:modified xsi:type="dcterms:W3CDTF">2008-02-29T02:27:26Z</dcterms:modified>
  <cp:revision>4</cp:revision>
  <dc:subject/>
  <dc:title>PowerPoint Presentation</dc:title>
</cp:coreProperties>
</file>