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7C4CB-27F5-4555-A12A-68860DCD7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F9399-43CA-4542-A8E3-770A669EF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A4D69-1D32-435F-B456-912B16842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7D34D-C7B9-47ED-BC90-FF71CC008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E30F0-DC9C-4729-BC05-B4A9C6AD8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64D78-29C6-46DB-8DBC-21054DFCA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B9FF8-6129-41C1-AC31-3B2285D6C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EA500-2BBC-463E-816D-E4144C4AB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A24DE-71D0-477D-BDD6-63002F309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96667-F676-41A1-8EBB-B93931BE3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3510A-AEAF-4E59-8B22-5F35FA7FE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BE681-9913-4C70-A6AC-3260805F3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A4DF2-15EE-4308-8196-6322CED8BF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762120" y="2819520"/>
            <a:ext cx="7548480" cy="32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19:55Z</dcterms:modified>
  <cp:revision>4</cp:revision>
  <dc:subject/>
  <dc:title>PowerPoint Presentation</dc:title>
</cp:coreProperties>
</file>