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DC84-F191-4C7B-86FC-7148F4408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7190-D205-46BB-BAA6-868E6917D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31DD-CAA5-4741-B289-54EDDEDD0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E11C-0E86-425E-BD4D-EBC32FEB7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68D0-8DD4-49B9-9B4C-0F472841B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790A-D304-4862-BC84-72AF40524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F662-2690-463E-85FE-390D4D978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5467-8E48-42AE-8534-73D725D76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DFFE-1C2A-4922-9261-EEC4AADD6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D39D-0A50-46B2-9BB9-791F9363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2203-BA5B-4A93-8A85-E66D53F1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D06B-029F-4725-80D2-C9F42D08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1D5B6-4FDD-40E1-9AD1-B4684EE92B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280" y="1430280"/>
            <a:ext cx="3602160" cy="1079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22400" y="3274920"/>
            <a:ext cx="3720960" cy="1065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42920" y="5183280"/>
            <a:ext cx="4451400" cy="1226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775040" y="1338120"/>
            <a:ext cx="4232520" cy="3127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957920" y="5102280"/>
            <a:ext cx="4049640" cy="1165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60" y="111276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9080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b900"/>
                </a:solidFill>
                <a:latin typeface="Times New Roman"/>
              </a:rPr>
              <a:t>Inve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0" y="47102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39080" y="11224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65040" y="466884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5c00"/>
                </a:solidFill>
                <a:latin typeface="Times New Roman"/>
              </a:rPr>
              <a:t>Generalized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934760" y="108432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965000" y="481176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0600" y="63882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94680" y="28224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179520" y="6329160"/>
            <a:ext cx="112680" cy="21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2997000" y="2539800"/>
            <a:ext cx="161640" cy="35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260880" y="3057480"/>
            <a:ext cx="204480" cy="2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7862760" y="1252440"/>
            <a:ext cx="12384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7873560" y="5010120"/>
            <a:ext cx="13356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108080"/>
            <a:ext cx="4308480" cy="1736640"/>
          </a:xfrm>
          <a:prstGeom prst="rect">
            <a:avLst/>
          </a:prstGeom>
          <a:solidFill>
            <a:srgbClr val="bbe0e3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865600"/>
            <a:ext cx="4308480" cy="1747800"/>
          </a:xfrm>
          <a:prstGeom prst="rect">
            <a:avLst/>
          </a:prstGeom>
          <a:solidFill>
            <a:srgbClr val="3333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622760"/>
            <a:ext cx="4794120" cy="1979640"/>
          </a:xfrm>
          <a:prstGeom prst="rect">
            <a:avLst/>
          </a:prstGeom>
          <a:solidFill>
            <a:srgbClr val="cdffc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5280" y="4632480"/>
            <a:ext cx="4338720" cy="1962000"/>
          </a:xfrm>
          <a:prstGeom prst="rect">
            <a:avLst/>
          </a:prstGeom>
          <a:solidFill>
            <a:srgbClr val="b4b9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08480" y="1087560"/>
            <a:ext cx="4835520" cy="3535200"/>
          </a:xfrm>
          <a:prstGeom prst="rect">
            <a:avLst/>
          </a:prstGeom>
          <a:solidFill>
            <a:srgbClr val="0099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17320" y="6287760"/>
            <a:ext cx="2786040" cy="297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8:55Z</dcterms:modified>
  <cp:revision>3</cp:revision>
  <dc:subject/>
  <dc:title>PowerPoint Presentation</dc:title>
</cp:coreProperties>
</file>