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7B36-3D91-482E-AF63-7DA905368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ED49-2CD5-4AB9-BFD6-83F8E9AA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1163-773D-4768-B283-003AB2301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A7FA-313D-4CEF-98C7-81F454305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8384-FFE8-48AF-B710-F7E0D06A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1BE4-8BF8-4ACB-BB7F-65EC80DA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A014-04FF-4A3F-8167-5BDA845F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57A4-7B8A-4CF4-9519-2A1BC9F6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1492-18C6-4FD0-A495-4ED93C00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0598-39B0-4DDF-8DF6-E2B511B6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E6BB-845D-486E-AE1E-CC4FA344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E0D7-FFF8-4B74-9F17-E14FAE5B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AF76-E547-4669-9B2B-F4046E9A7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46560" y="2766960"/>
          <a:ext cx="551484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766960"/>
                    <a:ext cx="55148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46320" y="4179960"/>
            <a:ext cx="485460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21040" y="1717560"/>
            <a:ext cx="514332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400" y="1182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table describing f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440" y="3681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2360" y="2295360"/>
            <a:ext cx="0" cy="22392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30640" y="2905200"/>
            <a:ext cx="295200" cy="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52200" y="235116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0000" y="1508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56640" y="208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892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1609560"/>
            <a:ext cx="20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s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5360" y="1920960"/>
            <a:ext cx="265320" cy="61920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95360" y="1909800"/>
            <a:ext cx="1200240" cy="1317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240" y="2282760"/>
            <a:ext cx="2081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64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02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2400" y="3540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3311640"/>
            <a:ext cx="385920" cy="3873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3:04Z</dcterms:created>
  <dc:creator>Spencer Smith</dc:creator>
  <dc:description/>
  <dc:language>en-US</dc:language>
  <cp:lastModifiedBy>Spencer Smith</cp:lastModifiedBy>
  <dcterms:modified xsi:type="dcterms:W3CDTF">2008-03-12T16:04:21Z</dcterms:modified>
  <cp:revision>1</cp:revision>
  <dc:subject/>
  <dc:title>PowerPoint Presentation</dc:title>
</cp:coreProperties>
</file>